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CBE-7F91-492F-A6B5-E7ED877A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6EE-EFE9-444E-ACC5-8F1D2F7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9EB-2560-4254-8A86-3A24EE3A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9D9-C166-4D2E-B6A7-F757F068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830-34EF-489A-A8BE-B4D7536D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830-088A-4A16-B13A-3557CB20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DC6F-E157-4EFB-BBC6-BD0265C2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D39C-A68C-46CC-B3FE-7F91B998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9D4-6E4F-46CC-AA4E-A026E3E3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1CAA-126E-4BB1-9A48-8CCEE447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8DE1-5C9C-4969-9A90-F533BFD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729-7503-45A7-A96F-87978085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FAA0-07C8-4B3E-BDB0-2151833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B2E1-8E0D-4DA0-A9E3-FCC0FF6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6C74-8F1B-4BB8-B236-E5478254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69D7-F4BF-4458-9E82-07B647A5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5314-54A3-47CB-88E2-DA36AF36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5A5-3326-49B3-8F0A-0EF07717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847-C485-4CBD-B501-57060A40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58B-E160-4AD3-9E3E-898748A4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B0C-2683-4F13-9D06-69E805F4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6278-C1FC-44CA-BD33-8958634D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0A4-7711-4250-B93C-BD51D2A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2CF-EB6F-43C2-93B1-0B1E66A0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8409-7339-44D9-8709-8F3BBD87B72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20CD-1B32-40FE-8141-08094AD3F4D4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3733920"/>
            <a:ext cx="4572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sef Al-Ohal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er Science Dep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IS – King Sau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faculty.ksu.edu.sa/YAloh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ax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is a long extension from the soma that transmits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uron has only one ax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carries action potentials from the  soma to the synap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synap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801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synapses are the connections made by an axon to another neuron. They ar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y gaps between axons and dendrites (with chemical bridges) that transmit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ynapse is called excitatory if it raises the local membrane potential of the post synaptic ce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hibitory if the potential is low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26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43: McCulloch and Pitts proposed a model of a neuron --&gt; Perceptr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0s: Widrow and Hoff explored Perceptron networks (which they called “Adalines”) and the delta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2: Rosenblatt proved the convergence of the perceptron training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9: Minsky and Papert showed that the Perceptron cannot deal with nonlinearly-separable data sets---even those that represent simple function such as X-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70-1985: Very little research o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86: Invention of Backpropagation [Rumelhart and McClelland, but also Parker and earlier on: Werbos] which can learn from nonlinearly-separable data set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1985: A lot of research i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Neu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signals to a unit are combined by summing their weighte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function: Activation functions include Step function, Linear function, Sigmoid function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90720" y="4373640"/>
            <a:ext cx="7543800" cy="1800360"/>
            <a:chOff x="990720" y="4373640"/>
            <a:chExt cx="7543800" cy="1800360"/>
          </a:xfrm>
        </p:grpSpPr>
        <p:sp>
          <p:nvSpPr>
            <p:cNvPr id="237" name=""/>
            <p:cNvSpPr/>
            <p:nvPr/>
          </p:nvSpPr>
          <p:spPr>
            <a:xfrm rot="5400000">
              <a:off x="3200400" y="5059440"/>
              <a:ext cx="1524240" cy="5335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62720" y="5135760"/>
              <a:ext cx="30492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362320" y="53640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10040" y="53643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10040" y="49831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0" y="46022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"/>
            <p:cNvCxnSpPr>
              <a:stCxn id="237" idx="0"/>
              <a:endCxn id="238" idx="2"/>
            </p:cNvCxnSpPr>
            <p:nvPr/>
          </p:nvCxnSpPr>
          <p:spPr>
            <a:xfrm>
              <a:off x="4229280" y="5325840"/>
              <a:ext cx="133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8" idx="6"/>
            </p:cNvCxnSpPr>
            <p:nvPr/>
          </p:nvCxnSpPr>
          <p:spPr>
            <a:xfrm flipV="1">
              <a:off x="5867640" y="5287680"/>
              <a:ext cx="83880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5" name=""/>
            <p:cNvSpPr/>
            <p:nvPr/>
          </p:nvSpPr>
          <p:spPr>
            <a:xfrm>
              <a:off x="2133720" y="58975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810240" y="513576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5410440" y="4678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720" y="4907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82040" y="50594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=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6040" y="54403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840" y="43736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840" y="46022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9520" y="559296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60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atio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6575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28800" y="2352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3526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2809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114800" y="250524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250524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2263680"/>
            <a:ext cx="609480" cy="419040"/>
          </a:xfrm>
          <a:custGeom>
            <a:avLst/>
            <a:gdLst/>
            <a:ahLst/>
            <a:rect l="l" t="t" r="r" b="b"/>
            <a:pathLst>
              <a:path w="384" h="264">
                <a:moveTo>
                  <a:pt x="0" y="248"/>
                </a:moveTo>
                <a:cubicBezTo>
                  <a:pt x="52" y="256"/>
                  <a:pt x="104" y="264"/>
                  <a:pt x="144" y="248"/>
                </a:cubicBezTo>
                <a:cubicBezTo>
                  <a:pt x="184" y="232"/>
                  <a:pt x="224" y="184"/>
                  <a:pt x="240" y="152"/>
                </a:cubicBezTo>
                <a:cubicBezTo>
                  <a:pt x="256" y="120"/>
                  <a:pt x="232" y="80"/>
                  <a:pt x="240" y="56"/>
                </a:cubicBezTo>
                <a:cubicBezTo>
                  <a:pt x="248" y="32"/>
                  <a:pt x="264" y="16"/>
                  <a:pt x="288" y="8"/>
                </a:cubicBezTo>
                <a:cubicBezTo>
                  <a:pt x="312" y="0"/>
                  <a:pt x="368" y="8"/>
                  <a:pt x="384" y="8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97840" y="32320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360" y="31910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19104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moi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istic)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200" y="3797280"/>
            <a:ext cx="33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(x) = 1, if x &gt;=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 if x &lt; thresh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n picture above, threshold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7080" y="3724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(x) = +1, if x &gt;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, if x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71360" y="411480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moid(x) = 1/(1+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7520" y="4984920"/>
            <a:ext cx="7691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n extra input with activati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and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 (called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ias 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 having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 at t.  This way we can always assume a 0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4680" y="21337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246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18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8001000" y="2286000"/>
            <a:ext cx="7621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3124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26480" y="40384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(x) 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vs. Artificial Neur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26320" y="1943280"/>
            <a:ext cx="8470440" cy="5143320"/>
            <a:chOff x="526320" y="1943280"/>
            <a:chExt cx="8470440" cy="5143320"/>
          </a:xfrm>
        </p:grpSpPr>
        <p:sp>
          <p:nvSpPr>
            <p:cNvPr id="288" name=""/>
            <p:cNvSpPr/>
            <p:nvPr/>
          </p:nvSpPr>
          <p:spPr>
            <a:xfrm>
              <a:off x="1461960" y="2686320"/>
              <a:ext cx="1632240" cy="1133280"/>
            </a:xfrm>
            <a:custGeom>
              <a:avLst/>
              <a:gdLst/>
              <a:ahLst/>
              <a:rect l="l" t="t" r="r" b="b"/>
              <a:pathLst>
                <a:path w="1028" h="714">
                  <a:moveTo>
                    <a:pt x="150" y="162"/>
                  </a:moveTo>
                  <a:cubicBezTo>
                    <a:pt x="228" y="188"/>
                    <a:pt x="302" y="160"/>
                    <a:pt x="366" y="117"/>
                  </a:cubicBezTo>
                  <a:cubicBezTo>
                    <a:pt x="382" y="93"/>
                    <a:pt x="391" y="83"/>
                    <a:pt x="402" y="54"/>
                  </a:cubicBezTo>
                  <a:cubicBezTo>
                    <a:pt x="409" y="36"/>
                    <a:pt x="420" y="0"/>
                    <a:pt x="420" y="0"/>
                  </a:cubicBezTo>
                  <a:cubicBezTo>
                    <a:pt x="432" y="86"/>
                    <a:pt x="432" y="106"/>
                    <a:pt x="519" y="135"/>
                  </a:cubicBezTo>
                  <a:cubicBezTo>
                    <a:pt x="573" y="132"/>
                    <a:pt x="627" y="131"/>
                    <a:pt x="681" y="126"/>
                  </a:cubicBezTo>
                  <a:cubicBezTo>
                    <a:pt x="696" y="125"/>
                    <a:pt x="715" y="106"/>
                    <a:pt x="726" y="117"/>
                  </a:cubicBezTo>
                  <a:cubicBezTo>
                    <a:pt x="735" y="126"/>
                    <a:pt x="708" y="135"/>
                    <a:pt x="699" y="144"/>
                  </a:cubicBezTo>
                  <a:cubicBezTo>
                    <a:pt x="712" y="270"/>
                    <a:pt x="715" y="311"/>
                    <a:pt x="807" y="387"/>
                  </a:cubicBezTo>
                  <a:cubicBezTo>
                    <a:pt x="836" y="411"/>
                    <a:pt x="849" y="410"/>
                    <a:pt x="888" y="423"/>
                  </a:cubicBezTo>
                  <a:cubicBezTo>
                    <a:pt x="911" y="431"/>
                    <a:pt x="983" y="449"/>
                    <a:pt x="960" y="441"/>
                  </a:cubicBezTo>
                  <a:cubicBezTo>
                    <a:pt x="846" y="403"/>
                    <a:pt x="1028" y="466"/>
                    <a:pt x="906" y="414"/>
                  </a:cubicBezTo>
                  <a:cubicBezTo>
                    <a:pt x="858" y="394"/>
                    <a:pt x="795" y="388"/>
                    <a:pt x="744" y="378"/>
                  </a:cubicBezTo>
                  <a:cubicBezTo>
                    <a:pt x="672" y="386"/>
                    <a:pt x="654" y="378"/>
                    <a:pt x="618" y="432"/>
                  </a:cubicBezTo>
                  <a:cubicBezTo>
                    <a:pt x="606" y="479"/>
                    <a:pt x="613" y="521"/>
                    <a:pt x="627" y="567"/>
                  </a:cubicBezTo>
                  <a:cubicBezTo>
                    <a:pt x="632" y="585"/>
                    <a:pt x="645" y="621"/>
                    <a:pt x="645" y="621"/>
                  </a:cubicBezTo>
                  <a:cubicBezTo>
                    <a:pt x="648" y="648"/>
                    <a:pt x="654" y="675"/>
                    <a:pt x="654" y="702"/>
                  </a:cubicBezTo>
                  <a:cubicBezTo>
                    <a:pt x="654" y="714"/>
                    <a:pt x="647" y="678"/>
                    <a:pt x="645" y="666"/>
                  </a:cubicBezTo>
                  <a:cubicBezTo>
                    <a:pt x="643" y="656"/>
                    <a:pt x="629" y="538"/>
                    <a:pt x="618" y="522"/>
                  </a:cubicBezTo>
                  <a:cubicBezTo>
                    <a:pt x="613" y="514"/>
                    <a:pt x="599" y="517"/>
                    <a:pt x="591" y="513"/>
                  </a:cubicBezTo>
                  <a:cubicBezTo>
                    <a:pt x="581" y="508"/>
                    <a:pt x="574" y="499"/>
                    <a:pt x="564" y="495"/>
                  </a:cubicBezTo>
                  <a:cubicBezTo>
                    <a:pt x="547" y="487"/>
                    <a:pt x="510" y="477"/>
                    <a:pt x="510" y="477"/>
                  </a:cubicBezTo>
                  <a:cubicBezTo>
                    <a:pt x="465" y="482"/>
                    <a:pt x="439" y="479"/>
                    <a:pt x="402" y="495"/>
                  </a:cubicBezTo>
                  <a:cubicBezTo>
                    <a:pt x="302" y="538"/>
                    <a:pt x="224" y="629"/>
                    <a:pt x="114" y="666"/>
                  </a:cubicBezTo>
                  <a:cubicBezTo>
                    <a:pt x="165" y="683"/>
                    <a:pt x="175" y="646"/>
                    <a:pt x="222" y="630"/>
                  </a:cubicBezTo>
                  <a:cubicBezTo>
                    <a:pt x="283" y="569"/>
                    <a:pt x="268" y="600"/>
                    <a:pt x="285" y="549"/>
                  </a:cubicBezTo>
                  <a:cubicBezTo>
                    <a:pt x="281" y="510"/>
                    <a:pt x="289" y="465"/>
                    <a:pt x="267" y="432"/>
                  </a:cubicBezTo>
                  <a:cubicBezTo>
                    <a:pt x="259" y="421"/>
                    <a:pt x="206" y="357"/>
                    <a:pt x="195" y="351"/>
                  </a:cubicBezTo>
                  <a:cubicBezTo>
                    <a:pt x="178" y="342"/>
                    <a:pt x="157" y="344"/>
                    <a:pt x="141" y="333"/>
                  </a:cubicBezTo>
                  <a:cubicBezTo>
                    <a:pt x="104" y="309"/>
                    <a:pt x="66" y="298"/>
                    <a:pt x="24" y="288"/>
                  </a:cubicBezTo>
                  <a:cubicBezTo>
                    <a:pt x="60" y="276"/>
                    <a:pt x="96" y="273"/>
                    <a:pt x="132" y="261"/>
                  </a:cubicBezTo>
                  <a:cubicBezTo>
                    <a:pt x="105" y="243"/>
                    <a:pt x="78" y="234"/>
                    <a:pt x="51" y="216"/>
                  </a:cubicBezTo>
                  <a:cubicBezTo>
                    <a:pt x="45" y="207"/>
                    <a:pt x="40" y="197"/>
                    <a:pt x="33" y="189"/>
                  </a:cubicBezTo>
                  <a:cubicBezTo>
                    <a:pt x="25" y="179"/>
                    <a:pt x="0" y="173"/>
                    <a:pt x="6" y="162"/>
                  </a:cubicBezTo>
                  <a:cubicBezTo>
                    <a:pt x="12" y="151"/>
                    <a:pt x="30" y="167"/>
                    <a:pt x="42" y="171"/>
                  </a:cubicBezTo>
                  <a:cubicBezTo>
                    <a:pt x="60" y="176"/>
                    <a:pt x="96" y="189"/>
                    <a:pt x="96" y="189"/>
                  </a:cubicBezTo>
                  <a:cubicBezTo>
                    <a:pt x="111" y="186"/>
                    <a:pt x="133" y="193"/>
                    <a:pt x="141" y="180"/>
                  </a:cubicBezTo>
                  <a:cubicBezTo>
                    <a:pt x="149" y="167"/>
                    <a:pt x="121" y="146"/>
                    <a:pt x="132" y="135"/>
                  </a:cubicBezTo>
                  <a:cubicBezTo>
                    <a:pt x="141" y="126"/>
                    <a:pt x="152" y="151"/>
                    <a:pt x="159" y="162"/>
                  </a:cubicBezTo>
                  <a:cubicBezTo>
                    <a:pt x="161" y="164"/>
                    <a:pt x="153" y="162"/>
                    <a:pt x="150" y="16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79360" y="3743280"/>
              <a:ext cx="463680" cy="300240"/>
            </a:xfrm>
            <a:custGeom>
              <a:avLst/>
              <a:gdLst/>
              <a:ahLst/>
              <a:rect l="l" t="t" r="r" b="b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43160" y="3843360"/>
              <a:ext cx="85680" cy="314280"/>
            </a:xfrm>
            <a:custGeom>
              <a:avLst/>
              <a:gdLst/>
              <a:ahLst/>
              <a:rect l="l" t="t" r="r" b="b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28880" y="3814920"/>
              <a:ext cx="428400" cy="100080"/>
            </a:xfrm>
            <a:custGeom>
              <a:avLst/>
              <a:gdLst/>
              <a:ahLst/>
              <a:rect l="l" t="t" r="r" b="b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66680" y="3257640"/>
              <a:ext cx="463680" cy="299880"/>
            </a:xfrm>
            <a:custGeom>
              <a:avLst/>
              <a:gdLst/>
              <a:ahLst/>
              <a:rect l="l" t="t" r="r" b="b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30480" y="3357720"/>
              <a:ext cx="85680" cy="314280"/>
            </a:xfrm>
            <a:custGeom>
              <a:avLst/>
              <a:gdLst/>
              <a:ahLst/>
              <a:rect l="l" t="t" r="r" b="b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6680" y="3181320"/>
              <a:ext cx="428760" cy="100080"/>
            </a:xfrm>
            <a:custGeom>
              <a:avLst/>
              <a:gdLst/>
              <a:ahLst/>
              <a:rect l="l" t="t" r="r" b="b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28760" y="3800520"/>
              <a:ext cx="285840" cy="343080"/>
            </a:xfrm>
            <a:custGeom>
              <a:avLst/>
              <a:gdLst/>
              <a:ahLst/>
              <a:rect l="l" t="t" r="r" b="b"/>
              <a:pathLst>
                <a:path w="180" h="216">
                  <a:moveTo>
                    <a:pt x="180" y="0"/>
                  </a:moveTo>
                  <a:cubicBezTo>
                    <a:pt x="173" y="39"/>
                    <a:pt x="170" y="61"/>
                    <a:pt x="162" y="99"/>
                  </a:cubicBezTo>
                  <a:cubicBezTo>
                    <a:pt x="159" y="111"/>
                    <a:pt x="162" y="127"/>
                    <a:pt x="153" y="135"/>
                  </a:cubicBezTo>
                  <a:cubicBezTo>
                    <a:pt x="110" y="173"/>
                    <a:pt x="41" y="175"/>
                    <a:pt x="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57280" y="3986280"/>
              <a:ext cx="142920" cy="357120"/>
            </a:xfrm>
            <a:custGeom>
              <a:avLst/>
              <a:gdLst/>
              <a:ahLst/>
              <a:rect l="l" t="t" r="r" b="b"/>
              <a:pathLst>
                <a:path w="90" h="225">
                  <a:moveTo>
                    <a:pt x="90" y="0"/>
                  </a:moveTo>
                  <a:cubicBezTo>
                    <a:pt x="84" y="38"/>
                    <a:pt x="82" y="91"/>
                    <a:pt x="63" y="126"/>
                  </a:cubicBezTo>
                  <a:cubicBezTo>
                    <a:pt x="44" y="161"/>
                    <a:pt x="18" y="190"/>
                    <a:pt x="0" y="2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86160" y="3943440"/>
              <a:ext cx="290520" cy="457200"/>
            </a:xfrm>
            <a:custGeom>
              <a:avLst/>
              <a:gdLst/>
              <a:ahLst/>
              <a:rect l="l" t="t" r="r" b="b"/>
              <a:pathLst>
                <a:path w="183" h="288">
                  <a:moveTo>
                    <a:pt x="0" y="0"/>
                  </a:moveTo>
                  <a:cubicBezTo>
                    <a:pt x="91" y="71"/>
                    <a:pt x="57" y="39"/>
                    <a:pt x="108" y="90"/>
                  </a:cubicBezTo>
                  <a:cubicBezTo>
                    <a:pt x="120" y="126"/>
                    <a:pt x="131" y="141"/>
                    <a:pt x="162" y="162"/>
                  </a:cubicBezTo>
                  <a:cubicBezTo>
                    <a:pt x="168" y="171"/>
                    <a:pt x="183" y="179"/>
                    <a:pt x="180" y="189"/>
                  </a:cubicBezTo>
                  <a:cubicBezTo>
                    <a:pt x="175" y="203"/>
                    <a:pt x="155" y="205"/>
                    <a:pt x="144" y="216"/>
                  </a:cubicBezTo>
                  <a:cubicBezTo>
                    <a:pt x="125" y="235"/>
                    <a:pt x="102" y="264"/>
                    <a:pt x="9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1468000">
              <a:off x="2514600" y="2647800"/>
              <a:ext cx="463680" cy="299880"/>
            </a:xfrm>
            <a:custGeom>
              <a:avLst/>
              <a:gdLst/>
              <a:ahLst/>
              <a:rect l="l" t="t" r="r" b="b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3360200">
              <a:off x="2781360" y="2609280"/>
              <a:ext cx="85680" cy="314280"/>
            </a:xfrm>
            <a:custGeom>
              <a:avLst/>
              <a:gdLst/>
              <a:ahLst/>
              <a:rect l="l" t="t" r="r" b="b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2054000">
              <a:off x="2590920" y="2876040"/>
              <a:ext cx="428400" cy="99720"/>
            </a:xfrm>
            <a:custGeom>
              <a:avLst/>
              <a:gdLst/>
              <a:ahLst/>
              <a:rect l="l" t="t" r="r" b="b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9320" y="2648160"/>
              <a:ext cx="314280" cy="371520"/>
            </a:xfrm>
            <a:custGeom>
              <a:avLst/>
              <a:gdLst/>
              <a:ahLst/>
              <a:rect l="l" t="t" r="r" b="b"/>
              <a:pathLst>
                <a:path w="198" h="234">
                  <a:moveTo>
                    <a:pt x="0" y="0"/>
                  </a:moveTo>
                  <a:cubicBezTo>
                    <a:pt x="64" y="16"/>
                    <a:pt x="125" y="43"/>
                    <a:pt x="162" y="99"/>
                  </a:cubicBezTo>
                  <a:cubicBezTo>
                    <a:pt x="171" y="145"/>
                    <a:pt x="177" y="192"/>
                    <a:pt x="198" y="2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66680" y="2724120"/>
              <a:ext cx="446040" cy="233640"/>
            </a:xfrm>
            <a:custGeom>
              <a:avLst/>
              <a:gdLst/>
              <a:ahLst/>
              <a:rect l="l" t="t" r="r" b="b"/>
              <a:pathLst>
                <a:path w="281" h="147">
                  <a:moveTo>
                    <a:pt x="0" y="36"/>
                  </a:moveTo>
                  <a:cubicBezTo>
                    <a:pt x="12" y="33"/>
                    <a:pt x="24" y="29"/>
                    <a:pt x="36" y="27"/>
                  </a:cubicBezTo>
                  <a:cubicBezTo>
                    <a:pt x="69" y="23"/>
                    <a:pt x="102" y="24"/>
                    <a:pt x="135" y="18"/>
                  </a:cubicBezTo>
                  <a:cubicBezTo>
                    <a:pt x="154" y="15"/>
                    <a:pt x="189" y="0"/>
                    <a:pt x="189" y="0"/>
                  </a:cubicBezTo>
                  <a:cubicBezTo>
                    <a:pt x="204" y="8"/>
                    <a:pt x="246" y="24"/>
                    <a:pt x="252" y="45"/>
                  </a:cubicBezTo>
                  <a:cubicBezTo>
                    <a:pt x="281" y="147"/>
                    <a:pt x="226" y="144"/>
                    <a:pt x="27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5280" y="2571840"/>
              <a:ext cx="295560" cy="385920"/>
            </a:xfrm>
            <a:custGeom>
              <a:avLst/>
              <a:gdLst/>
              <a:ahLst/>
              <a:rect l="l" t="t" r="r" b="b"/>
              <a:pathLst>
                <a:path w="186" h="243">
                  <a:moveTo>
                    <a:pt x="0" y="0"/>
                  </a:moveTo>
                  <a:cubicBezTo>
                    <a:pt x="36" y="6"/>
                    <a:pt x="56" y="8"/>
                    <a:pt x="90" y="18"/>
                  </a:cubicBezTo>
                  <a:cubicBezTo>
                    <a:pt x="108" y="23"/>
                    <a:pt x="144" y="36"/>
                    <a:pt x="144" y="36"/>
                  </a:cubicBezTo>
                  <a:cubicBezTo>
                    <a:pt x="186" y="98"/>
                    <a:pt x="144" y="173"/>
                    <a:pt x="14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22560" y="2268720"/>
              <a:ext cx="177840" cy="446040"/>
            </a:xfrm>
            <a:custGeom>
              <a:avLst/>
              <a:gdLst/>
              <a:ahLst/>
              <a:rect l="l" t="t" r="r" b="b"/>
              <a:pathLst>
                <a:path w="112" h="281">
                  <a:moveTo>
                    <a:pt x="13" y="281"/>
                  </a:moveTo>
                  <a:cubicBezTo>
                    <a:pt x="23" y="117"/>
                    <a:pt x="0" y="131"/>
                    <a:pt x="85" y="29"/>
                  </a:cubicBezTo>
                  <a:cubicBezTo>
                    <a:pt x="110" y="0"/>
                    <a:pt x="91" y="2"/>
                    <a:pt x="112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43280" y="2214720"/>
              <a:ext cx="214200" cy="485640"/>
            </a:xfrm>
            <a:custGeom>
              <a:avLst/>
              <a:gdLst/>
              <a:ahLst/>
              <a:rect l="l" t="t" r="r" b="b"/>
              <a:pathLst>
                <a:path w="135" h="306">
                  <a:moveTo>
                    <a:pt x="135" y="306"/>
                  </a:moveTo>
                  <a:cubicBezTo>
                    <a:pt x="125" y="265"/>
                    <a:pt x="105" y="225"/>
                    <a:pt x="81" y="189"/>
                  </a:cubicBezTo>
                  <a:cubicBezTo>
                    <a:pt x="72" y="155"/>
                    <a:pt x="62" y="80"/>
                    <a:pt x="45" y="54"/>
                  </a:cubicBezTo>
                  <a:cubicBezTo>
                    <a:pt x="38" y="43"/>
                    <a:pt x="26" y="37"/>
                    <a:pt x="18" y="27"/>
                  </a:cubicBezTo>
                  <a:cubicBezTo>
                    <a:pt x="11" y="19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71880" y="2284560"/>
              <a:ext cx="539640" cy="430200"/>
            </a:xfrm>
            <a:custGeom>
              <a:avLst/>
              <a:gdLst/>
              <a:ahLst/>
              <a:rect l="l" t="t" r="r" b="b"/>
              <a:pathLst>
                <a:path w="340" h="271">
                  <a:moveTo>
                    <a:pt x="0" y="271"/>
                  </a:moveTo>
                  <a:cubicBezTo>
                    <a:pt x="1" y="266"/>
                    <a:pt x="13" y="216"/>
                    <a:pt x="18" y="208"/>
                  </a:cubicBezTo>
                  <a:cubicBezTo>
                    <a:pt x="59" y="146"/>
                    <a:pt x="145" y="73"/>
                    <a:pt x="216" y="46"/>
                  </a:cubicBezTo>
                  <a:cubicBezTo>
                    <a:pt x="340" y="0"/>
                    <a:pt x="216" y="60"/>
                    <a:pt x="279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86200" y="3175200"/>
              <a:ext cx="3068640" cy="396720"/>
            </a:xfrm>
            <a:custGeom>
              <a:avLst/>
              <a:gdLst/>
              <a:ahLst/>
              <a:rect l="l" t="t" r="r" b="b"/>
              <a:pathLst>
                <a:path w="1933" h="250">
                  <a:moveTo>
                    <a:pt x="0" y="142"/>
                  </a:moveTo>
                  <a:cubicBezTo>
                    <a:pt x="170" y="108"/>
                    <a:pt x="514" y="170"/>
                    <a:pt x="702" y="187"/>
                  </a:cubicBezTo>
                  <a:cubicBezTo>
                    <a:pt x="774" y="201"/>
                    <a:pt x="846" y="211"/>
                    <a:pt x="918" y="223"/>
                  </a:cubicBezTo>
                  <a:cubicBezTo>
                    <a:pt x="999" y="220"/>
                    <a:pt x="1080" y="219"/>
                    <a:pt x="1161" y="214"/>
                  </a:cubicBezTo>
                  <a:cubicBezTo>
                    <a:pt x="1208" y="211"/>
                    <a:pt x="1243" y="197"/>
                    <a:pt x="1287" y="187"/>
                  </a:cubicBezTo>
                  <a:cubicBezTo>
                    <a:pt x="1398" y="163"/>
                    <a:pt x="1508" y="143"/>
                    <a:pt x="1620" y="124"/>
                  </a:cubicBezTo>
                  <a:cubicBezTo>
                    <a:pt x="1660" y="117"/>
                    <a:pt x="1713" y="86"/>
                    <a:pt x="1746" y="70"/>
                  </a:cubicBezTo>
                  <a:cubicBezTo>
                    <a:pt x="1774" y="56"/>
                    <a:pt x="1806" y="53"/>
                    <a:pt x="1836" y="43"/>
                  </a:cubicBezTo>
                  <a:cubicBezTo>
                    <a:pt x="1899" y="22"/>
                    <a:pt x="1821" y="49"/>
                    <a:pt x="1899" y="16"/>
                  </a:cubicBezTo>
                  <a:cubicBezTo>
                    <a:pt x="1908" y="12"/>
                    <a:pt x="1933" y="0"/>
                    <a:pt x="1926" y="7"/>
                  </a:cubicBezTo>
                  <a:cubicBezTo>
                    <a:pt x="1874" y="59"/>
                    <a:pt x="1786" y="89"/>
                    <a:pt x="1719" y="106"/>
                  </a:cubicBezTo>
                  <a:cubicBezTo>
                    <a:pt x="1688" y="114"/>
                    <a:pt x="1669" y="134"/>
                    <a:pt x="1638" y="142"/>
                  </a:cubicBezTo>
                  <a:cubicBezTo>
                    <a:pt x="1550" y="164"/>
                    <a:pt x="1468" y="179"/>
                    <a:pt x="1377" y="187"/>
                  </a:cubicBezTo>
                  <a:cubicBezTo>
                    <a:pt x="1335" y="198"/>
                    <a:pt x="1294" y="219"/>
                    <a:pt x="1251" y="223"/>
                  </a:cubicBezTo>
                  <a:cubicBezTo>
                    <a:pt x="1161" y="232"/>
                    <a:pt x="1071" y="237"/>
                    <a:pt x="981" y="250"/>
                  </a:cubicBezTo>
                  <a:cubicBezTo>
                    <a:pt x="651" y="235"/>
                    <a:pt x="331" y="156"/>
                    <a:pt x="0" y="14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8080" y="2129040"/>
              <a:ext cx="699840" cy="1057320"/>
            </a:xfrm>
            <a:custGeom>
              <a:avLst/>
              <a:gdLst/>
              <a:ahLst/>
              <a:rect l="l" t="t" r="r" b="b"/>
              <a:pathLst>
                <a:path w="441" h="666">
                  <a:moveTo>
                    <a:pt x="0" y="666"/>
                  </a:moveTo>
                  <a:cubicBezTo>
                    <a:pt x="31" y="635"/>
                    <a:pt x="53" y="600"/>
                    <a:pt x="90" y="576"/>
                  </a:cubicBezTo>
                  <a:cubicBezTo>
                    <a:pt x="123" y="526"/>
                    <a:pt x="176" y="488"/>
                    <a:pt x="198" y="432"/>
                  </a:cubicBezTo>
                  <a:cubicBezTo>
                    <a:pt x="247" y="310"/>
                    <a:pt x="218" y="204"/>
                    <a:pt x="306" y="99"/>
                  </a:cubicBezTo>
                  <a:cubicBezTo>
                    <a:pt x="321" y="81"/>
                    <a:pt x="333" y="51"/>
                    <a:pt x="351" y="36"/>
                  </a:cubicBezTo>
                  <a:cubicBezTo>
                    <a:pt x="364" y="25"/>
                    <a:pt x="423" y="0"/>
                    <a:pt x="44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86520" y="2428920"/>
              <a:ext cx="814320" cy="728640"/>
            </a:xfrm>
            <a:custGeom>
              <a:avLst/>
              <a:gdLst/>
              <a:ahLst/>
              <a:rect l="l" t="t" r="r" b="b"/>
              <a:pathLst>
                <a:path w="513" h="459">
                  <a:moveTo>
                    <a:pt x="0" y="459"/>
                  </a:moveTo>
                  <a:cubicBezTo>
                    <a:pt x="52" y="433"/>
                    <a:pt x="88" y="397"/>
                    <a:pt x="144" y="378"/>
                  </a:cubicBezTo>
                  <a:cubicBezTo>
                    <a:pt x="193" y="329"/>
                    <a:pt x="186" y="271"/>
                    <a:pt x="198" y="207"/>
                  </a:cubicBezTo>
                  <a:cubicBezTo>
                    <a:pt x="211" y="139"/>
                    <a:pt x="219" y="115"/>
                    <a:pt x="252" y="63"/>
                  </a:cubicBezTo>
                  <a:cubicBezTo>
                    <a:pt x="276" y="24"/>
                    <a:pt x="280" y="15"/>
                    <a:pt x="324" y="0"/>
                  </a:cubicBezTo>
                  <a:cubicBezTo>
                    <a:pt x="385" y="15"/>
                    <a:pt x="450" y="45"/>
                    <a:pt x="513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14960" y="2686320"/>
              <a:ext cx="800280" cy="471240"/>
            </a:xfrm>
            <a:custGeom>
              <a:avLst/>
              <a:gdLst/>
              <a:ahLst/>
              <a:rect l="l" t="t" r="r" b="b"/>
              <a:pathLst>
                <a:path w="504" h="297">
                  <a:moveTo>
                    <a:pt x="0" y="297"/>
                  </a:moveTo>
                  <a:cubicBezTo>
                    <a:pt x="51" y="288"/>
                    <a:pt x="104" y="277"/>
                    <a:pt x="153" y="261"/>
                  </a:cubicBezTo>
                  <a:cubicBezTo>
                    <a:pt x="156" y="225"/>
                    <a:pt x="155" y="189"/>
                    <a:pt x="162" y="153"/>
                  </a:cubicBezTo>
                  <a:cubicBezTo>
                    <a:pt x="166" y="131"/>
                    <a:pt x="184" y="112"/>
                    <a:pt x="189" y="90"/>
                  </a:cubicBezTo>
                  <a:cubicBezTo>
                    <a:pt x="193" y="72"/>
                    <a:pt x="191" y="53"/>
                    <a:pt x="198" y="36"/>
                  </a:cubicBezTo>
                  <a:cubicBezTo>
                    <a:pt x="210" y="10"/>
                    <a:pt x="229" y="8"/>
                    <a:pt x="252" y="0"/>
                  </a:cubicBezTo>
                  <a:cubicBezTo>
                    <a:pt x="300" y="16"/>
                    <a:pt x="314" y="66"/>
                    <a:pt x="351" y="99"/>
                  </a:cubicBezTo>
                  <a:cubicBezTo>
                    <a:pt x="385" y="130"/>
                    <a:pt x="430" y="146"/>
                    <a:pt x="468" y="171"/>
                  </a:cubicBezTo>
                  <a:cubicBezTo>
                    <a:pt x="479" y="192"/>
                    <a:pt x="487" y="226"/>
                    <a:pt x="50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2120" y="3157560"/>
              <a:ext cx="789120" cy="843120"/>
            </a:xfrm>
            <a:custGeom>
              <a:avLst/>
              <a:gdLst/>
              <a:ahLst/>
              <a:rect l="l" t="t" r="r" b="b"/>
              <a:pathLst>
                <a:path w="497" h="531">
                  <a:moveTo>
                    <a:pt x="0" y="36"/>
                  </a:moveTo>
                  <a:cubicBezTo>
                    <a:pt x="9" y="30"/>
                    <a:pt x="17" y="22"/>
                    <a:pt x="27" y="18"/>
                  </a:cubicBezTo>
                  <a:cubicBezTo>
                    <a:pt x="44" y="10"/>
                    <a:pt x="81" y="0"/>
                    <a:pt x="81" y="0"/>
                  </a:cubicBezTo>
                  <a:cubicBezTo>
                    <a:pt x="99" y="3"/>
                    <a:pt x="119" y="0"/>
                    <a:pt x="135" y="9"/>
                  </a:cubicBezTo>
                  <a:cubicBezTo>
                    <a:pt x="167" y="27"/>
                    <a:pt x="209" y="87"/>
                    <a:pt x="234" y="117"/>
                  </a:cubicBezTo>
                  <a:cubicBezTo>
                    <a:pt x="260" y="148"/>
                    <a:pt x="254" y="166"/>
                    <a:pt x="288" y="189"/>
                  </a:cubicBezTo>
                  <a:cubicBezTo>
                    <a:pt x="327" y="176"/>
                    <a:pt x="362" y="176"/>
                    <a:pt x="396" y="153"/>
                  </a:cubicBezTo>
                  <a:cubicBezTo>
                    <a:pt x="423" y="156"/>
                    <a:pt x="454" y="147"/>
                    <a:pt x="477" y="162"/>
                  </a:cubicBezTo>
                  <a:cubicBezTo>
                    <a:pt x="493" y="172"/>
                    <a:pt x="494" y="197"/>
                    <a:pt x="495" y="216"/>
                  </a:cubicBezTo>
                  <a:cubicBezTo>
                    <a:pt x="497" y="282"/>
                    <a:pt x="491" y="348"/>
                    <a:pt x="486" y="414"/>
                  </a:cubicBezTo>
                  <a:cubicBezTo>
                    <a:pt x="484" y="438"/>
                    <a:pt x="475" y="479"/>
                    <a:pt x="468" y="504"/>
                  </a:cubicBezTo>
                  <a:cubicBezTo>
                    <a:pt x="465" y="513"/>
                    <a:pt x="459" y="531"/>
                    <a:pt x="459" y="5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964120" y="1943280"/>
              <a:ext cx="319320" cy="1285920"/>
            </a:xfrm>
            <a:custGeom>
              <a:avLst/>
              <a:gdLst/>
              <a:ahLst/>
              <a:rect l="l" t="t" r="r" b="b"/>
              <a:pathLst>
                <a:path w="201" h="810">
                  <a:moveTo>
                    <a:pt x="41" y="810"/>
                  </a:moveTo>
                  <a:cubicBezTo>
                    <a:pt x="99" y="752"/>
                    <a:pt x="131" y="676"/>
                    <a:pt x="167" y="603"/>
                  </a:cubicBezTo>
                  <a:cubicBezTo>
                    <a:pt x="173" y="573"/>
                    <a:pt x="179" y="543"/>
                    <a:pt x="185" y="513"/>
                  </a:cubicBezTo>
                  <a:cubicBezTo>
                    <a:pt x="201" y="434"/>
                    <a:pt x="130" y="323"/>
                    <a:pt x="77" y="270"/>
                  </a:cubicBezTo>
                  <a:cubicBezTo>
                    <a:pt x="59" y="252"/>
                    <a:pt x="35" y="240"/>
                    <a:pt x="14" y="225"/>
                  </a:cubicBezTo>
                  <a:cubicBezTo>
                    <a:pt x="0" y="168"/>
                    <a:pt x="23" y="139"/>
                    <a:pt x="50" y="90"/>
                  </a:cubicBezTo>
                  <a:cubicBezTo>
                    <a:pt x="57" y="78"/>
                    <a:pt x="60" y="64"/>
                    <a:pt x="68" y="54"/>
                  </a:cubicBezTo>
                  <a:cubicBezTo>
                    <a:pt x="84" y="34"/>
                    <a:pt x="122" y="0"/>
                    <a:pt x="12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7320" y="284652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x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83600" y="39895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46120" y="231300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8642600">
              <a:off x="6896160" y="3828600"/>
              <a:ext cx="228600" cy="30492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43840" y="3837240"/>
              <a:ext cx="900000" cy="263520"/>
            </a:xfrm>
            <a:custGeom>
              <a:avLst/>
              <a:gdLst/>
              <a:ahLst/>
              <a:rect l="l" t="t" r="r" b="b"/>
              <a:pathLst>
                <a:path w="567" h="166">
                  <a:moveTo>
                    <a:pt x="0" y="166"/>
                  </a:moveTo>
                  <a:cubicBezTo>
                    <a:pt x="66" y="160"/>
                    <a:pt x="110" y="165"/>
                    <a:pt x="162" y="130"/>
                  </a:cubicBezTo>
                  <a:cubicBezTo>
                    <a:pt x="190" y="87"/>
                    <a:pt x="217" y="69"/>
                    <a:pt x="261" y="40"/>
                  </a:cubicBezTo>
                  <a:cubicBezTo>
                    <a:pt x="283" y="25"/>
                    <a:pt x="333" y="4"/>
                    <a:pt x="333" y="4"/>
                  </a:cubicBezTo>
                  <a:cubicBezTo>
                    <a:pt x="427" y="10"/>
                    <a:pt x="500" y="0"/>
                    <a:pt x="567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642600">
              <a:off x="2629080" y="2228400"/>
              <a:ext cx="228600" cy="30456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7680" y="2028960"/>
              <a:ext cx="542880" cy="471600"/>
            </a:xfrm>
            <a:custGeom>
              <a:avLst/>
              <a:gdLst/>
              <a:ahLst/>
              <a:rect l="l" t="t" r="r" b="b"/>
              <a:pathLst>
                <a:path w="342" h="297">
                  <a:moveTo>
                    <a:pt x="0" y="297"/>
                  </a:moveTo>
                  <a:cubicBezTo>
                    <a:pt x="60" y="290"/>
                    <a:pt x="123" y="289"/>
                    <a:pt x="180" y="270"/>
                  </a:cubicBezTo>
                  <a:cubicBezTo>
                    <a:pt x="235" y="197"/>
                    <a:pt x="202" y="147"/>
                    <a:pt x="234" y="72"/>
                  </a:cubicBezTo>
                  <a:cubicBezTo>
                    <a:pt x="248" y="38"/>
                    <a:pt x="283" y="23"/>
                    <a:pt x="315" y="9"/>
                  </a:cubicBezTo>
                  <a:cubicBezTo>
                    <a:pt x="324" y="5"/>
                    <a:pt x="342" y="0"/>
                    <a:pt x="34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648560" y="3456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ynap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98280" y="292284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5248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66880" y="5467320"/>
              <a:ext cx="26672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412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48520" y="546732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4400" y="485784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914400" y="577224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9640" y="45230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6320" y="5970600"/>
              <a:ext cx="45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77280" y="452304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87640" y="6046920"/>
              <a:ext cx="529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84560" y="5970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1981080" y="5238720"/>
                  <a:ext cx="6098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34" name=""/>
            <p:cNvSpPr/>
            <p:nvPr/>
          </p:nvSpPr>
          <p:spPr>
            <a:xfrm>
              <a:off x="5791320" y="5162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34120" y="5543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0080" y="5543640"/>
              <a:ext cx="3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791320" y="523836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91320" y="523872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36640" y="5208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3200400" y="4552920"/>
                  <a:ext cx="99072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2971800" y="5695920"/>
                  <a:ext cx="37209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0 o/w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5409360" y="46292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Threshold un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urons as Universal computing mach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43, McCulloch and Pitts showed that a synchronous assembly of such neurons is a universal computing machine. That is, any Boolean function can be implemented with threshold (step function)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057320" y="1951200"/>
            <a:ext cx="7812720" cy="4086000"/>
            <a:chOff x="1057320" y="1951200"/>
            <a:chExt cx="7812720" cy="4086000"/>
          </a:xfrm>
        </p:grpSpPr>
        <p:sp>
          <p:nvSpPr>
            <p:cNvPr id="347" name="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7920" y="297180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47920" y="388620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57320" y="2637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73160" y="40845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15880" y="332280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"/>
                <p:cNvSpPr txBox="1"/>
                <p:nvPr/>
              </p:nvSpPr>
              <p:spPr>
                <a:xfrm>
                  <a:off x="2819520" y="5181480"/>
                  <a:ext cx="409572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64" name=""/>
            <p:cNvSpPr/>
            <p:nvPr/>
          </p:nvSpPr>
          <p:spPr>
            <a:xfrm>
              <a:off x="179604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72360" y="4160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0280" y="1951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21240" y="263700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lligent System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II: Neural 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23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61760" y="1905120"/>
            <a:ext cx="7812720" cy="3903480"/>
            <a:chOff x="761760" y="1905120"/>
            <a:chExt cx="7812720" cy="3903480"/>
          </a:xfrm>
        </p:grpSpPr>
        <p:sp>
          <p:nvSpPr>
            <p:cNvPr id="371" name=""/>
            <p:cNvSpPr/>
            <p:nvPr/>
          </p:nvSpPr>
          <p:spPr>
            <a:xfrm>
              <a:off x="199044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4840" y="3535200"/>
              <a:ext cx="26665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7172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86120" y="3535200"/>
              <a:ext cx="9140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52360" y="2925720"/>
              <a:ext cx="91404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1152360" y="3840120"/>
              <a:ext cx="91404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1760" y="259092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600" y="403848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22520" y="40384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2219040" y="3306600"/>
                  <a:ext cx="6091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"/>
            <p:cNvSpPr/>
            <p:nvPr/>
          </p:nvSpPr>
          <p:spPr>
            <a:xfrm>
              <a:off x="6028920" y="3230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71720" y="361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48040" y="3611520"/>
              <a:ext cx="380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8920" y="330624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28920" y="33066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20320" y="327672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0048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7644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95360" y="254484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24720" y="1905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50160" y="25909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40920" y="4983120"/>
              <a:ext cx="427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(x1,x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 if –0.5 + x1 + x2 &gt;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0 otherw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N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539640" y="2179800"/>
            <a:ext cx="7964640" cy="3476520"/>
            <a:chOff x="539640" y="2179800"/>
            <a:chExt cx="7964640" cy="3476520"/>
          </a:xfrm>
        </p:grpSpPr>
        <p:sp>
          <p:nvSpPr>
            <p:cNvPr id="395" name="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3657600"/>
              <a:ext cx="10666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9640" y="3429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4280" y="3322800"/>
              <a:ext cx="81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45760" y="312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60480" y="26370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-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96600" y="2179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2494080" y="4800600"/>
                  <a:ext cx="291780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more complex Boolea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58760" y="2057400"/>
            <a:ext cx="8672760" cy="3177000"/>
            <a:chOff x="158760" y="2057400"/>
            <a:chExt cx="8672760" cy="3177000"/>
          </a:xfrm>
        </p:grpSpPr>
        <p:sp>
          <p:nvSpPr>
            <p:cNvPr id="416" name=""/>
            <p:cNvSpPr/>
            <p:nvPr/>
          </p:nvSpPr>
          <p:spPr>
            <a:xfrm>
              <a:off x="1143000" y="2971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" name=""/>
                <p:cNvSpPr txBox="1"/>
                <p:nvPr/>
              </p:nvSpPr>
              <p:spPr>
                <a:xfrm>
                  <a:off x="1219320" y="3047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8" name=""/>
            <p:cNvSpPr/>
            <p:nvPr/>
          </p:nvSpPr>
          <p:spPr>
            <a:xfrm>
              <a:off x="1600200" y="3276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33720" y="2971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33720" y="33526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38280" y="31240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438280" y="3124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609480" y="342864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9480" y="28954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1600" y="2590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3200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8880" y="26366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8760" y="3398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29360" y="2560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6720" y="31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42520" y="2484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7160" y="20574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22360" y="2712960"/>
              <a:ext cx="114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52880" y="4114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5029200" y="4190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36" name=""/>
            <p:cNvSpPr/>
            <p:nvPr/>
          </p:nvSpPr>
          <p:spPr>
            <a:xfrm>
              <a:off x="5410080" y="4419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43600" y="4114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943600" y="4495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8520" y="42670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248520" y="4267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419720" y="457164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19720" y="4038480"/>
              <a:ext cx="5331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3733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29400" y="43430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68640" y="4541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39240" y="370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86960" y="431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27920" y="3627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1280" y="320004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40480" y="4724280"/>
              <a:ext cx="229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and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50720" y="3276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ing ANN, we have to def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ficial Neur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Feedforw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are unidirectional, and there are no cycles, i.e., the network is a directed acyclic graph (DAG).  Units are arranged in layers, and each unit is linked only to units in the next layer.  There is no internal state other than the weigh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Recur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can form arbitrary topologies, which can implement memory.  Behavior can become unstable, oscillatory, or chao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053040" y="1771200"/>
            <a:ext cx="1718640" cy="2494800"/>
            <a:chOff x="6053040" y="1771200"/>
            <a:chExt cx="1718640" cy="2494800"/>
          </a:xfrm>
        </p:grpSpPr>
        <p:grpSp>
          <p:nvGrpSpPr>
            <p:cNvPr id="459" name=""/>
            <p:cNvGrpSpPr/>
            <p:nvPr/>
          </p:nvGrpSpPr>
          <p:grpSpPr>
            <a:xfrm>
              <a:off x="6053040" y="2629080"/>
              <a:ext cx="1718640" cy="233280"/>
              <a:chOff x="6053040" y="2629080"/>
              <a:chExt cx="1718640" cy="233280"/>
            </a:xfrm>
          </p:grpSpPr>
          <p:sp>
            <p:nvSpPr>
              <p:cNvPr id="460" name=""/>
              <p:cNvSpPr/>
              <p:nvPr/>
            </p:nvSpPr>
            <p:spPr>
              <a:xfrm>
                <a:off x="60530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1448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77592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3700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002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053040" y="3175560"/>
              <a:ext cx="1718640" cy="233280"/>
              <a:chOff x="6053040" y="3175560"/>
              <a:chExt cx="1718640" cy="233280"/>
            </a:xfrm>
          </p:grpSpPr>
          <p:sp>
            <p:nvSpPr>
              <p:cNvPr id="466" name=""/>
              <p:cNvSpPr/>
              <p:nvPr/>
            </p:nvSpPr>
            <p:spPr>
              <a:xfrm>
                <a:off x="60530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414480" y="317556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7772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3880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002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414120" y="2084040"/>
              <a:ext cx="995760" cy="233280"/>
              <a:chOff x="6414120" y="2084040"/>
              <a:chExt cx="995760" cy="233280"/>
            </a:xfrm>
          </p:grpSpPr>
          <p:sp>
            <p:nvSpPr>
              <p:cNvPr id="472" name=""/>
              <p:cNvSpPr/>
              <p:nvPr/>
            </p:nvSpPr>
            <p:spPr>
              <a:xfrm>
                <a:off x="641412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7520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38440" y="20840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6186600" y="2315880"/>
              <a:ext cx="1449360" cy="312120"/>
              <a:chOff x="6186600" y="2315880"/>
              <a:chExt cx="1449360" cy="31212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6186600" y="2317320"/>
                <a:ext cx="1449000" cy="310680"/>
                <a:chOff x="6186600" y="2317320"/>
                <a:chExt cx="1449000" cy="3106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911640" y="231732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911640" y="231732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6549840" y="231732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6186600" y="231732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911640" y="231732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6186600" y="2315880"/>
                <a:ext cx="1449000" cy="312120"/>
                <a:chOff x="6186600" y="2315880"/>
                <a:chExt cx="1449000" cy="3121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655020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5020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5020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618660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186960" y="2315880"/>
                <a:ext cx="1449000" cy="312120"/>
                <a:chOff x="6186960" y="2315880"/>
                <a:chExt cx="1449000" cy="312120"/>
              </a:xfrm>
            </p:grpSpPr>
            <p:sp>
              <p:nvSpPr>
                <p:cNvPr id="489" name=""/>
                <p:cNvSpPr/>
                <p:nvPr/>
              </p:nvSpPr>
              <p:spPr>
                <a:xfrm flipH="1">
                  <a:off x="691128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618696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27236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27272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6186600" y="2862720"/>
              <a:ext cx="1449360" cy="312120"/>
              <a:chOff x="6186600" y="2862720"/>
              <a:chExt cx="1449360" cy="3121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6186960" y="2862720"/>
                <a:ext cx="1448640" cy="311760"/>
                <a:chOff x="6186960" y="2862720"/>
                <a:chExt cx="1448640" cy="311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691164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27272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63560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4804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618696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618696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1164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748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18660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9112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727452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18696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4804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18660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54768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18696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4984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18660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654948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8696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618660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186600" y="3409560"/>
              <a:ext cx="1449360" cy="312120"/>
              <a:chOff x="6186600" y="3409560"/>
              <a:chExt cx="1449360" cy="31212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186600" y="3409560"/>
                <a:ext cx="1449000" cy="310680"/>
                <a:chOff x="6186600" y="3409560"/>
                <a:chExt cx="1449000" cy="310680"/>
              </a:xfrm>
            </p:grpSpPr>
            <p:sp>
              <p:nvSpPr>
                <p:cNvPr id="523" name=""/>
                <p:cNvSpPr/>
                <p:nvPr/>
              </p:nvSpPr>
              <p:spPr>
                <a:xfrm flipV="1">
                  <a:off x="6911640" y="340956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6911640" y="340956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>
                  <a:off x="6549840" y="340956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 flipV="1">
                  <a:off x="6186600" y="340956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6911640" y="340956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186600" y="3409560"/>
                <a:ext cx="1449000" cy="312120"/>
                <a:chOff x="6186600" y="3409560"/>
                <a:chExt cx="1449000" cy="312120"/>
              </a:xfrm>
            </p:grpSpPr>
            <p:sp>
              <p:nvSpPr>
                <p:cNvPr id="529" name=""/>
                <p:cNvSpPr/>
                <p:nvPr/>
              </p:nvSpPr>
              <p:spPr>
                <a:xfrm flipV="1">
                  <a:off x="655020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V="1">
                  <a:off x="655020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655020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 flipV="1">
                  <a:off x="618660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186960" y="3409560"/>
                <a:ext cx="1449000" cy="312120"/>
                <a:chOff x="6186960" y="3409560"/>
                <a:chExt cx="1449000" cy="312120"/>
              </a:xfrm>
            </p:grpSpPr>
            <p:sp>
              <p:nvSpPr>
                <p:cNvPr id="535" name=""/>
                <p:cNvSpPr/>
                <p:nvPr/>
              </p:nvSpPr>
              <p:spPr>
                <a:xfrm flipH="1" flipV="1">
                  <a:off x="691128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618696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727236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727272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6414120" y="3720240"/>
              <a:ext cx="995760" cy="233280"/>
              <a:chOff x="6414120" y="3720240"/>
              <a:chExt cx="995760" cy="233280"/>
            </a:xfrm>
          </p:grpSpPr>
          <p:sp>
            <p:nvSpPr>
              <p:cNvPr id="541" name=""/>
              <p:cNvSpPr/>
              <p:nvPr/>
            </p:nvSpPr>
            <p:spPr>
              <a:xfrm>
                <a:off x="641412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7520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138440" y="37202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550200" y="3953880"/>
              <a:ext cx="724320" cy="312120"/>
              <a:chOff x="6550200" y="3953880"/>
              <a:chExt cx="724320" cy="31212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655020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691344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27452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550200" y="1771200"/>
              <a:ext cx="724320" cy="312120"/>
              <a:chOff x="6550200" y="1771200"/>
              <a:chExt cx="724320" cy="312120"/>
            </a:xfrm>
          </p:grpSpPr>
          <p:sp>
            <p:nvSpPr>
              <p:cNvPr id="549" name=""/>
              <p:cNvSpPr/>
              <p:nvPr/>
            </p:nvSpPr>
            <p:spPr>
              <a:xfrm flipV="1">
                <a:off x="655020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691344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727452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5334120" y="4648320"/>
            <a:ext cx="3429000" cy="1295280"/>
            <a:chOff x="5334120" y="4648320"/>
            <a:chExt cx="3429000" cy="1295280"/>
          </a:xfrm>
        </p:grpSpPr>
        <p:sp>
          <p:nvSpPr>
            <p:cNvPr id="553" name=""/>
            <p:cNvSpPr/>
            <p:nvPr/>
          </p:nvSpPr>
          <p:spPr>
            <a:xfrm>
              <a:off x="5334120" y="510552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8224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56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6760" y="5410080"/>
              <a:ext cx="838080" cy="53352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86760" y="5410080"/>
              <a:ext cx="2971800" cy="533520"/>
            </a:xfrm>
            <a:custGeom>
              <a:avLst/>
              <a:gdLst/>
              <a:ahLst/>
              <a:rect l="l" t="t" r="r" b="b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6760" y="5334120"/>
              <a:ext cx="1676160" cy="469800"/>
            </a:xfrm>
            <a:custGeom>
              <a:avLst/>
              <a:gdLst/>
              <a:ahLst/>
              <a:rect l="l" t="t" r="r" b="b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62720" y="4724280"/>
              <a:ext cx="762120" cy="3812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01160" y="4648320"/>
              <a:ext cx="213336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6292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44160" y="5181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08200" y="2228760"/>
            <a:ext cx="8151480" cy="4019760"/>
            <a:chOff x="808200" y="2228760"/>
            <a:chExt cx="8151480" cy="4019760"/>
          </a:xfrm>
        </p:grpSpPr>
        <p:grpSp>
          <p:nvGrpSpPr>
            <p:cNvPr id="565" name=""/>
            <p:cNvGrpSpPr/>
            <p:nvPr/>
          </p:nvGrpSpPr>
          <p:grpSpPr>
            <a:xfrm>
              <a:off x="808200" y="2228760"/>
              <a:ext cx="1656720" cy="2663280"/>
              <a:chOff x="808200" y="2228760"/>
              <a:chExt cx="1656720" cy="266328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808200" y="3143880"/>
                <a:ext cx="1656720" cy="249120"/>
                <a:chOff x="808200" y="3143880"/>
                <a:chExt cx="1656720" cy="2491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808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5668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50480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85328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203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808200" y="3727440"/>
                <a:ext cx="1656720" cy="249120"/>
                <a:chOff x="808200" y="3727440"/>
                <a:chExt cx="1656720" cy="2491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808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56680" y="372744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5066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85508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203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1156320" y="2562480"/>
                <a:ext cx="960120" cy="249120"/>
                <a:chOff x="1156320" y="2562480"/>
                <a:chExt cx="960120" cy="2491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115632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150444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854720" y="25624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937080" y="2809800"/>
                <a:ext cx="1396800" cy="333360"/>
                <a:chOff x="937080" y="2809800"/>
                <a:chExt cx="1396800" cy="33336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937080" y="2811240"/>
                  <a:ext cx="1396440" cy="331920"/>
                  <a:chOff x="937080" y="2811240"/>
                  <a:chExt cx="1396440" cy="33192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1635480" y="28112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635480" y="28112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1287000" y="28112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937080" y="28112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635480" y="28112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937080" y="2809800"/>
                  <a:ext cx="1396080" cy="333360"/>
                  <a:chOff x="937080" y="2809800"/>
                  <a:chExt cx="1396080" cy="3333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2870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28700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2870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28700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93708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937800" y="2809800"/>
                  <a:ext cx="1396080" cy="333360"/>
                  <a:chOff x="937800" y="2809800"/>
                  <a:chExt cx="1396080" cy="33336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flipH="1">
                    <a:off x="16362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128808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9378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198396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198396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" name=""/>
              <p:cNvGrpSpPr/>
              <p:nvPr/>
            </p:nvGrpSpPr>
            <p:grpSpPr>
              <a:xfrm>
                <a:off x="936720" y="3393720"/>
                <a:ext cx="1397160" cy="333360"/>
                <a:chOff x="936720" y="3393720"/>
                <a:chExt cx="1397160" cy="33336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937080" y="3393720"/>
                  <a:ext cx="1396440" cy="333000"/>
                  <a:chOff x="937080" y="3393720"/>
                  <a:chExt cx="1396440" cy="3330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163548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9836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33352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2852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93708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9370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63584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8576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>
                  <a:off x="93672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 flipH="1"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16354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flipH="1">
                  <a:off x="198540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63584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H="1"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H="1"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163548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H="1"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937080" y="3977640"/>
                <a:ext cx="1396800" cy="333360"/>
                <a:chOff x="937080" y="3977640"/>
                <a:chExt cx="1396800" cy="333360"/>
              </a:xfrm>
            </p:grpSpPr>
            <p:grpSp>
              <p:nvGrpSpPr>
                <p:cNvPr id="629" name=""/>
                <p:cNvGrpSpPr/>
                <p:nvPr/>
              </p:nvGrpSpPr>
              <p:grpSpPr>
                <a:xfrm>
                  <a:off x="937080" y="3977640"/>
                  <a:ext cx="1396440" cy="331920"/>
                  <a:chOff x="937080" y="3977640"/>
                  <a:chExt cx="1396440" cy="33192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 flipV="1">
                    <a:off x="1635480" y="39776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V="1">
                    <a:off x="1635480" y="39776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 flipV="1">
                    <a:off x="1287000" y="39776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flipV="1">
                    <a:off x="937080" y="39776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V="1">
                    <a:off x="1635480" y="39776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937080" y="3977640"/>
                  <a:ext cx="1396080" cy="333360"/>
                  <a:chOff x="937080" y="3977640"/>
                  <a:chExt cx="1396080" cy="33336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 flipV="1">
                    <a:off x="12870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V="1">
                    <a:off x="128700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>
                    <a:off x="12870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128700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 flipV="1">
                    <a:off x="93708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937800" y="3977640"/>
                  <a:ext cx="1396080" cy="333360"/>
                  <a:chOff x="937800" y="3977640"/>
                  <a:chExt cx="1396080" cy="33336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H="1" flipV="1">
                    <a:off x="16362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 flipV="1">
                    <a:off x="128808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flipV="1">
                    <a:off x="9378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>
                    <a:off x="198396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V="1">
                    <a:off x="198396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1156320" y="4309200"/>
                <a:ext cx="960120" cy="249120"/>
                <a:chOff x="1156320" y="4309200"/>
                <a:chExt cx="960120" cy="2491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15632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50444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854720" y="430920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1287360" y="4558680"/>
                <a:ext cx="698400" cy="333360"/>
                <a:chOff x="1287360" y="4558680"/>
                <a:chExt cx="698400" cy="333360"/>
              </a:xfrm>
            </p:grpSpPr>
            <p:sp>
              <p:nvSpPr>
                <p:cNvPr id="652" name=""/>
                <p:cNvSpPr/>
                <p:nvPr/>
              </p:nvSpPr>
              <p:spPr>
                <a:xfrm flipV="1">
                  <a:off x="12873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163764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V="1">
                  <a:off x="19857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1287360" y="2228760"/>
                <a:ext cx="698400" cy="333360"/>
                <a:chOff x="1287360" y="2228760"/>
                <a:chExt cx="698400" cy="333360"/>
              </a:xfrm>
            </p:grpSpPr>
            <p:sp>
              <p:nvSpPr>
                <p:cNvPr id="656" name=""/>
                <p:cNvSpPr/>
                <p:nvPr/>
              </p:nvSpPr>
              <p:spPr>
                <a:xfrm flipV="1">
                  <a:off x="12873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163764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V="1">
                  <a:off x="19857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9" name=""/>
            <p:cNvGrpSpPr/>
            <p:nvPr/>
          </p:nvGrpSpPr>
          <p:grpSpPr>
            <a:xfrm>
              <a:off x="5343840" y="4460760"/>
              <a:ext cx="1090080" cy="1787760"/>
              <a:chOff x="5343840" y="4460760"/>
              <a:chExt cx="1090080" cy="1787760"/>
            </a:xfrm>
          </p:grpSpPr>
          <p:sp>
            <p:nvSpPr>
              <p:cNvPr id="660" name=""/>
              <p:cNvSpPr/>
              <p:nvPr/>
            </p:nvSpPr>
            <p:spPr>
              <a:xfrm>
                <a:off x="5343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7280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0212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03108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61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43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57280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03560" y="5466600"/>
                <a:ext cx="17172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03252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261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7280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021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0325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88160" y="48520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88160" y="485208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88160" y="485208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65884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58840" y="485064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58840" y="485064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5428440" y="485064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88816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5658480" y="485064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8816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117480" y="524376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34788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2844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542808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8816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887800" y="5242680"/>
                <a:ext cx="4597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5884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65848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28440" y="5243760"/>
                <a:ext cx="91944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888160" y="563364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5658840" y="5633640"/>
                <a:ext cx="22896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5428080" y="563364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658840" y="563400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65884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658840" y="563400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5428440" y="563400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65848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117480" y="56340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7280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021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0325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565884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588960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611892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565884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588960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11892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5343840" y="2300400"/>
              <a:ext cx="1090080" cy="1787400"/>
              <a:chOff x="5343840" y="2300400"/>
              <a:chExt cx="1090080" cy="178740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343840" y="2914560"/>
                <a:ext cx="1090080" cy="167400"/>
                <a:chOff x="5343840" y="2914560"/>
                <a:chExt cx="1090080" cy="1674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343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57316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80248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0314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261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5343840" y="3305880"/>
                <a:ext cx="1090080" cy="167400"/>
                <a:chOff x="5343840" y="3305880"/>
                <a:chExt cx="1090080" cy="1674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5343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573160" y="330588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80356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03252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261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5572800" y="2524320"/>
                <a:ext cx="631440" cy="167400"/>
                <a:chOff x="5572800" y="2524320"/>
                <a:chExt cx="631440" cy="1674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557280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80176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032160" y="25243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428440" y="2690280"/>
                <a:ext cx="919440" cy="223920"/>
                <a:chOff x="5428440" y="2690280"/>
                <a:chExt cx="919440" cy="223920"/>
              </a:xfrm>
            </p:grpSpPr>
            <p:grpSp>
              <p:nvGrpSpPr>
                <p:cNvPr id="730" name=""/>
                <p:cNvGrpSpPr/>
                <p:nvPr/>
              </p:nvGrpSpPr>
              <p:grpSpPr>
                <a:xfrm>
                  <a:off x="5428440" y="2691360"/>
                  <a:ext cx="919440" cy="222840"/>
                  <a:chOff x="5428440" y="2691360"/>
                  <a:chExt cx="919440" cy="22284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5888520" y="26913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5888520" y="269136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H="1">
                    <a:off x="5659200" y="269136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5428440" y="269136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888520" y="269136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565920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56592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65920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>
                    <a:off x="542880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H="1">
                    <a:off x="588816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>
                    <a:off x="54288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11712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11712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8" name=""/>
              <p:cNvGrpSpPr/>
              <p:nvPr/>
            </p:nvGrpSpPr>
            <p:grpSpPr>
              <a:xfrm>
                <a:off x="5428440" y="3081960"/>
                <a:ext cx="919440" cy="223920"/>
                <a:chOff x="5428440" y="3081960"/>
                <a:chExt cx="919440" cy="223920"/>
              </a:xfrm>
            </p:grpSpPr>
            <p:grpSp>
              <p:nvGrpSpPr>
                <p:cNvPr id="749" name=""/>
                <p:cNvGrpSpPr/>
                <p:nvPr/>
              </p:nvGrpSpPr>
              <p:grpSpPr>
                <a:xfrm>
                  <a:off x="5428800" y="3081960"/>
                  <a:ext cx="919080" cy="223920"/>
                  <a:chOff x="5428800" y="3081960"/>
                  <a:chExt cx="919080" cy="2239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588852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611748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634788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65776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42880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5884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565848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4288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65776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542844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56574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42880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6588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54284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565848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42880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542844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5428440" y="3473280"/>
                <a:ext cx="919440" cy="223920"/>
                <a:chOff x="5428440" y="3473280"/>
                <a:chExt cx="919440" cy="223920"/>
              </a:xfrm>
            </p:grpSpPr>
            <p:grpSp>
              <p:nvGrpSpPr>
                <p:cNvPr id="776" name=""/>
                <p:cNvGrpSpPr/>
                <p:nvPr/>
              </p:nvGrpSpPr>
              <p:grpSpPr>
                <a:xfrm>
                  <a:off x="5428440" y="3473280"/>
                  <a:ext cx="919440" cy="222840"/>
                  <a:chOff x="5428440" y="3473280"/>
                  <a:chExt cx="919440" cy="222840"/>
                </a:xfrm>
              </p:grpSpPr>
              <p:sp>
                <p:nvSpPr>
                  <p:cNvPr id="777" name=""/>
                  <p:cNvSpPr/>
                  <p:nvPr/>
                </p:nvSpPr>
                <p:spPr>
                  <a:xfrm flipV="1">
                    <a:off x="5888520" y="347328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V="1">
                    <a:off x="5888520" y="347328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5659200" y="347328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5428440" y="347328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V="1">
                    <a:off x="5888520" y="347328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" name="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 flipV="1">
                    <a:off x="565920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V="1">
                    <a:off x="56592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V="1">
                    <a:off x="565920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542880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588816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54288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V="1">
                    <a:off x="611712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V="1">
                    <a:off x="611712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4" name=""/>
              <p:cNvGrpSpPr/>
              <p:nvPr/>
            </p:nvGrpSpPr>
            <p:grpSpPr>
              <a:xfrm>
                <a:off x="5572800" y="3696120"/>
                <a:ext cx="631440" cy="167400"/>
                <a:chOff x="5572800" y="3696120"/>
                <a:chExt cx="631440" cy="1674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557280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80176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032160" y="36961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5658840" y="3863880"/>
                <a:ext cx="459720" cy="223920"/>
                <a:chOff x="5658840" y="3863880"/>
                <a:chExt cx="459720" cy="223920"/>
              </a:xfrm>
            </p:grpSpPr>
            <p:sp>
              <p:nvSpPr>
                <p:cNvPr id="799" name=""/>
                <p:cNvSpPr/>
                <p:nvPr/>
              </p:nvSpPr>
              <p:spPr>
                <a:xfrm flipV="1">
                  <a:off x="56588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58892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V="1">
                  <a:off x="611856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658840" y="2300400"/>
                <a:ext cx="459720" cy="223920"/>
                <a:chOff x="5658840" y="2300400"/>
                <a:chExt cx="459720" cy="223920"/>
              </a:xfrm>
            </p:grpSpPr>
            <p:sp>
              <p:nvSpPr>
                <p:cNvPr id="803" name=""/>
                <p:cNvSpPr/>
                <p:nvPr/>
              </p:nvSpPr>
              <p:spPr>
                <a:xfrm flipV="1">
                  <a:off x="56588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V="1">
                  <a:off x="58892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V="1">
                  <a:off x="611856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6" name=""/>
            <p:cNvSpPr/>
            <p:nvPr/>
          </p:nvSpPr>
          <p:spPr>
            <a:xfrm>
              <a:off x="2719440" y="2516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Output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12600" y="431640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Input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30040" y="337968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Hidden la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06080" y="301932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fully conn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07880" y="5108400"/>
              <a:ext cx="225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sparsely conn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35989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formation flow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Multi-Layer Perceptron (ML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adial Basis Function (R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Kohonen Self-Organising Map (S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324480" y="1904760"/>
            <a:ext cx="1794600" cy="2666160"/>
            <a:chOff x="6324480" y="1904760"/>
            <a:chExt cx="1794600" cy="2666160"/>
          </a:xfrm>
        </p:grpSpPr>
        <p:grpSp>
          <p:nvGrpSpPr>
            <p:cNvPr id="814" name=""/>
            <p:cNvGrpSpPr/>
            <p:nvPr/>
          </p:nvGrpSpPr>
          <p:grpSpPr>
            <a:xfrm>
              <a:off x="6324480" y="2821320"/>
              <a:ext cx="1794600" cy="249480"/>
              <a:chOff x="6324480" y="2821320"/>
              <a:chExt cx="1794600" cy="249480"/>
            </a:xfrm>
          </p:grpSpPr>
          <p:sp>
            <p:nvSpPr>
              <p:cNvPr id="815" name=""/>
              <p:cNvSpPr/>
              <p:nvPr/>
            </p:nvSpPr>
            <p:spPr>
              <a:xfrm>
                <a:off x="63244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0212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07940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4566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83576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6324480" y="3405240"/>
              <a:ext cx="1794600" cy="249480"/>
              <a:chOff x="6324480" y="3405240"/>
              <a:chExt cx="1794600" cy="249480"/>
            </a:xfrm>
          </p:grpSpPr>
          <p:sp>
            <p:nvSpPr>
              <p:cNvPr id="821" name=""/>
              <p:cNvSpPr/>
              <p:nvPr/>
            </p:nvSpPr>
            <p:spPr>
              <a:xfrm>
                <a:off x="6324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702120" y="340524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8120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58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83576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6701760" y="2239200"/>
              <a:ext cx="1040400" cy="249480"/>
              <a:chOff x="6701760" y="2239200"/>
              <a:chExt cx="1040400" cy="249480"/>
            </a:xfrm>
          </p:grpSpPr>
          <p:sp>
            <p:nvSpPr>
              <p:cNvPr id="827" name=""/>
              <p:cNvSpPr/>
              <p:nvPr/>
            </p:nvSpPr>
            <p:spPr>
              <a:xfrm>
                <a:off x="670176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7904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458480" y="223920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463800" y="2486880"/>
              <a:ext cx="1513440" cy="333720"/>
              <a:chOff x="6463800" y="2486880"/>
              <a:chExt cx="1513440" cy="33372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6464160" y="2488320"/>
                <a:ext cx="1512720" cy="332280"/>
                <a:chOff x="6464160" y="2488320"/>
                <a:chExt cx="1512720" cy="33228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7220880" y="248832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220880" y="248832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6843240" y="248832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6464160" y="248832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220880" y="248832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6463800" y="2486880"/>
                <a:ext cx="1512720" cy="333720"/>
                <a:chOff x="6463800" y="2486880"/>
                <a:chExt cx="1512720" cy="33372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684324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84324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84324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84324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646380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464520" y="2486880"/>
                <a:ext cx="1512720" cy="333720"/>
                <a:chOff x="6464520" y="2486880"/>
                <a:chExt cx="1512720" cy="333720"/>
              </a:xfrm>
            </p:grpSpPr>
            <p:sp>
              <p:nvSpPr>
                <p:cNvPr id="844" name=""/>
                <p:cNvSpPr/>
                <p:nvPr/>
              </p:nvSpPr>
              <p:spPr>
                <a:xfrm flipH="1">
                  <a:off x="722088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684396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646452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9780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59816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9" name=""/>
            <p:cNvGrpSpPr/>
            <p:nvPr/>
          </p:nvGrpSpPr>
          <p:grpSpPr>
            <a:xfrm>
              <a:off x="6463800" y="3071160"/>
              <a:ext cx="1513440" cy="333720"/>
              <a:chOff x="6463800" y="3071160"/>
              <a:chExt cx="1513440" cy="333720"/>
            </a:xfrm>
          </p:grpSpPr>
          <p:grpSp>
            <p:nvGrpSpPr>
              <p:cNvPr id="850" name=""/>
              <p:cNvGrpSpPr/>
              <p:nvPr/>
            </p:nvGrpSpPr>
            <p:grpSpPr>
              <a:xfrm>
                <a:off x="6464160" y="3071160"/>
                <a:ext cx="1512720" cy="333360"/>
                <a:chOff x="6464160" y="3071160"/>
                <a:chExt cx="1512720" cy="3333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7220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59780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976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84108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46416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64641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84324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22088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5999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4638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84288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722052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5996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22088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722052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46416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646380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6463800" y="3655800"/>
              <a:ext cx="1513440" cy="333720"/>
              <a:chOff x="6463800" y="3655800"/>
              <a:chExt cx="1513440" cy="333720"/>
            </a:xfrm>
          </p:grpSpPr>
          <p:grpSp>
            <p:nvGrpSpPr>
              <p:cNvPr id="877" name=""/>
              <p:cNvGrpSpPr/>
              <p:nvPr/>
            </p:nvGrpSpPr>
            <p:grpSpPr>
              <a:xfrm>
                <a:off x="6464160" y="3655800"/>
                <a:ext cx="1512720" cy="332280"/>
                <a:chOff x="6464160" y="3655800"/>
                <a:chExt cx="1512720" cy="332280"/>
              </a:xfrm>
            </p:grpSpPr>
            <p:sp>
              <p:nvSpPr>
                <p:cNvPr id="878" name=""/>
                <p:cNvSpPr/>
                <p:nvPr/>
              </p:nvSpPr>
              <p:spPr>
                <a:xfrm flipV="1">
                  <a:off x="7220880" y="365580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7220880" y="365580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 flipV="1">
                  <a:off x="6843240" y="365580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flipV="1">
                  <a:off x="6464160" y="365580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7220880" y="365580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6463800" y="3655800"/>
                <a:ext cx="1512720" cy="333720"/>
                <a:chOff x="6463800" y="3655800"/>
                <a:chExt cx="1512720" cy="33372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84324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684324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684324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684324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flipV="1">
                  <a:off x="646380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6464520" y="3655800"/>
                <a:ext cx="1512720" cy="333720"/>
                <a:chOff x="6464520" y="3655800"/>
                <a:chExt cx="1512720" cy="333720"/>
              </a:xfrm>
            </p:grpSpPr>
            <p:sp>
              <p:nvSpPr>
                <p:cNvPr id="890" name=""/>
                <p:cNvSpPr/>
                <p:nvPr/>
              </p:nvSpPr>
              <p:spPr>
                <a:xfrm flipH="1" flipV="1">
                  <a:off x="722088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flipV="1">
                  <a:off x="684396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646452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V="1">
                  <a:off x="759780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759816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"/>
            <p:cNvGrpSpPr/>
            <p:nvPr/>
          </p:nvGrpSpPr>
          <p:grpSpPr>
            <a:xfrm>
              <a:off x="6701760" y="3987720"/>
              <a:ext cx="1040400" cy="249480"/>
              <a:chOff x="6701760" y="3987720"/>
              <a:chExt cx="1040400" cy="249480"/>
            </a:xfrm>
          </p:grpSpPr>
          <p:sp>
            <p:nvSpPr>
              <p:cNvPr id="896" name=""/>
              <p:cNvSpPr/>
              <p:nvPr/>
            </p:nvSpPr>
            <p:spPr>
              <a:xfrm>
                <a:off x="670176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7904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58480" y="398772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6843600" y="4237200"/>
              <a:ext cx="756720" cy="333720"/>
              <a:chOff x="6843600" y="4237200"/>
              <a:chExt cx="756720" cy="333720"/>
            </a:xfrm>
          </p:grpSpPr>
          <p:sp>
            <p:nvSpPr>
              <p:cNvPr id="900" name=""/>
              <p:cNvSpPr/>
              <p:nvPr/>
            </p:nvSpPr>
            <p:spPr>
              <a:xfrm flipV="1">
                <a:off x="684360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722304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760032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6843600" y="1904760"/>
              <a:ext cx="756720" cy="333720"/>
              <a:chOff x="6843600" y="1904760"/>
              <a:chExt cx="756720" cy="33372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684360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722304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760032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urrent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41544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Feedback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Hopfield Neural Networks: Associativ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Adaptive Resonance Theory (A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930920" y="2133720"/>
            <a:ext cx="2079000" cy="2410200"/>
            <a:chOff x="4930920" y="2133720"/>
            <a:chExt cx="2079000" cy="2410200"/>
          </a:xfrm>
        </p:grpSpPr>
        <p:grpSp>
          <p:nvGrpSpPr>
            <p:cNvPr id="911" name=""/>
            <p:cNvGrpSpPr/>
            <p:nvPr/>
          </p:nvGrpSpPr>
          <p:grpSpPr>
            <a:xfrm>
              <a:off x="5109480" y="2133720"/>
              <a:ext cx="1691280" cy="2410200"/>
              <a:chOff x="5109480" y="2133720"/>
              <a:chExt cx="1691280" cy="241020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5109480" y="2962440"/>
                <a:ext cx="1691280" cy="225000"/>
                <a:chOff x="5109480" y="2962440"/>
                <a:chExt cx="1691280" cy="22500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510948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46516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82084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17616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53364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5109480" y="3490200"/>
                <a:ext cx="1691280" cy="225360"/>
                <a:chOff x="5109480" y="3490200"/>
                <a:chExt cx="1691280" cy="22536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510948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465160" y="3490200"/>
                  <a:ext cx="26676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822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17796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533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5464800" y="2435760"/>
                <a:ext cx="979920" cy="225000"/>
                <a:chOff x="5464800" y="2435760"/>
                <a:chExt cx="979920" cy="2250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546480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582012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177600" y="243576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240520" y="2660040"/>
                <a:ext cx="1427040" cy="301320"/>
                <a:chOff x="5240520" y="2660040"/>
                <a:chExt cx="1427040" cy="301320"/>
              </a:xfrm>
            </p:grpSpPr>
            <p:grpSp>
              <p:nvGrpSpPr>
                <p:cNvPr id="929" name=""/>
                <p:cNvGrpSpPr/>
                <p:nvPr/>
              </p:nvGrpSpPr>
              <p:grpSpPr>
                <a:xfrm>
                  <a:off x="5240520" y="2661480"/>
                  <a:ext cx="1426320" cy="299880"/>
                  <a:chOff x="5240520" y="2661480"/>
                  <a:chExt cx="1426320" cy="299880"/>
                </a:xfrm>
              </p:grpSpPr>
              <p:sp>
                <p:nvSpPr>
                  <p:cNvPr id="930" name=""/>
                  <p:cNvSpPr/>
                  <p:nvPr/>
                </p:nvSpPr>
                <p:spPr>
                  <a:xfrm>
                    <a:off x="5954040" y="266148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5954040" y="2661480"/>
                    <a:ext cx="3571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5598000" y="2661480"/>
                    <a:ext cx="3553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 flipH="1">
                    <a:off x="5240520" y="2661480"/>
                    <a:ext cx="71316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5954040" y="2661480"/>
                    <a:ext cx="71280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5240520" y="2660040"/>
                  <a:ext cx="1426320" cy="301320"/>
                  <a:chOff x="5240520" y="2660040"/>
                  <a:chExt cx="1426320" cy="30132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559836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59836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59836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59836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>
                    <a:off x="524052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5241240" y="2660040"/>
                  <a:ext cx="1426320" cy="301320"/>
                  <a:chOff x="5241240" y="2660040"/>
                  <a:chExt cx="1426320" cy="30132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 flipH="1">
                    <a:off x="595440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559908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H="1">
                    <a:off x="524124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630972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31008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"/>
              <p:cNvGrpSpPr/>
              <p:nvPr/>
            </p:nvGrpSpPr>
            <p:grpSpPr>
              <a:xfrm>
                <a:off x="5240520" y="3187800"/>
                <a:ext cx="1426680" cy="301680"/>
                <a:chOff x="5240520" y="3187800"/>
                <a:chExt cx="1426680" cy="30168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5240880" y="3187800"/>
                  <a:ext cx="1425960" cy="301320"/>
                  <a:chOff x="5240880" y="3187800"/>
                  <a:chExt cx="1425960" cy="30132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>
                    <a:off x="59540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630972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66668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59620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24088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4" name=""/>
                <p:cNvSpPr/>
                <p:nvPr/>
              </p:nvSpPr>
              <p:spPr>
                <a:xfrm>
                  <a:off x="524088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59800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95440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311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5240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559764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>
                  <a:off x="595404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631116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24088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59800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524052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>
                  <a:off x="559764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5240520" y="3716640"/>
                <a:ext cx="1427040" cy="300960"/>
                <a:chOff x="5240520" y="3716640"/>
                <a:chExt cx="1427040" cy="300960"/>
              </a:xfrm>
            </p:grpSpPr>
            <p:grpSp>
              <p:nvGrpSpPr>
                <p:cNvPr id="975" name=""/>
                <p:cNvGrpSpPr/>
                <p:nvPr/>
              </p:nvGrpSpPr>
              <p:grpSpPr>
                <a:xfrm>
                  <a:off x="5240520" y="3716640"/>
                  <a:ext cx="1426320" cy="299520"/>
                  <a:chOff x="5240520" y="3716640"/>
                  <a:chExt cx="1426320" cy="29952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 flipV="1">
                    <a:off x="5954040" y="371664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V="1">
                    <a:off x="5954040" y="3716640"/>
                    <a:ext cx="357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H="1" flipV="1">
                    <a:off x="5598000" y="3716640"/>
                    <a:ext cx="3553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H="1" flipV="1">
                    <a:off x="5240520" y="3716640"/>
                    <a:ext cx="71316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V="1">
                    <a:off x="5954040" y="3716640"/>
                    <a:ext cx="71280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5240520" y="3716640"/>
                  <a:ext cx="1426320" cy="300960"/>
                  <a:chOff x="5240520" y="3716640"/>
                  <a:chExt cx="1426320" cy="30096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 flipV="1">
                    <a:off x="559836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V="1">
                    <a:off x="559836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V="1">
                    <a:off x="559836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V="1">
                    <a:off x="559836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 flipV="1">
                    <a:off x="524052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5241240" y="3716640"/>
                  <a:ext cx="1426320" cy="300960"/>
                  <a:chOff x="5241240" y="3716640"/>
                  <a:chExt cx="1426320" cy="3009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flipH="1" flipV="1">
                    <a:off x="595440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 flipV="1">
                    <a:off x="559908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 flipV="1">
                    <a:off x="524124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V="1">
                    <a:off x="630972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V="1">
                    <a:off x="631008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"/>
              <p:cNvGrpSpPr/>
              <p:nvPr/>
            </p:nvGrpSpPr>
            <p:grpSpPr>
              <a:xfrm>
                <a:off x="5464800" y="4016520"/>
                <a:ext cx="979920" cy="225000"/>
                <a:chOff x="5464800" y="4016520"/>
                <a:chExt cx="979920" cy="2250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46480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82012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177600" y="401652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5598720" y="4242240"/>
                <a:ext cx="712800" cy="301680"/>
                <a:chOff x="5598720" y="4242240"/>
                <a:chExt cx="712800" cy="301680"/>
              </a:xfrm>
            </p:grpSpPr>
            <p:sp>
              <p:nvSpPr>
                <p:cNvPr id="998" name=""/>
                <p:cNvSpPr/>
                <p:nvPr/>
              </p:nvSpPr>
              <p:spPr>
                <a:xfrm flipV="1">
                  <a:off x="55987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V="1">
                  <a:off x="595620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3115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5598720" y="2133720"/>
                <a:ext cx="712800" cy="301680"/>
                <a:chOff x="5598720" y="2133720"/>
                <a:chExt cx="712800" cy="301680"/>
              </a:xfrm>
            </p:grpSpPr>
            <p:sp>
              <p:nvSpPr>
                <p:cNvPr id="1002" name=""/>
                <p:cNvSpPr/>
                <p:nvPr/>
              </p:nvSpPr>
              <p:spPr>
                <a:xfrm flipV="1">
                  <a:off x="55987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595620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V="1">
                  <a:off x="63115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5" name=""/>
            <p:cNvSpPr/>
            <p:nvPr/>
          </p:nvSpPr>
          <p:spPr>
            <a:xfrm>
              <a:off x="4930920" y="2435760"/>
              <a:ext cx="534600" cy="1657440"/>
            </a:xfrm>
            <a:custGeom>
              <a:avLst/>
              <a:gdLst/>
              <a:ahLst/>
              <a:rect l="l" t="t" r="r" b="b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86240" y="2512080"/>
              <a:ext cx="178920" cy="526320"/>
            </a:xfrm>
            <a:custGeom>
              <a:avLst/>
              <a:gdLst/>
              <a:ahLst/>
              <a:rect l="l" t="t" r="r" b="b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19480" y="3113280"/>
              <a:ext cx="90000" cy="453240"/>
            </a:xfrm>
            <a:custGeom>
              <a:avLst/>
              <a:gdLst/>
              <a:ahLst/>
              <a:rect l="l" t="t" r="r" b="b"/>
              <a:pathLst>
                <a:path w="46" h="273">
                  <a:moveTo>
                    <a:pt x="46" y="0"/>
                  </a:moveTo>
                  <a:cubicBezTo>
                    <a:pt x="23" y="46"/>
                    <a:pt x="0" y="92"/>
                    <a:pt x="0" y="137"/>
                  </a:cubicBezTo>
                  <a:cubicBezTo>
                    <a:pt x="0" y="182"/>
                    <a:pt x="23" y="227"/>
                    <a:pt x="46" y="2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257080" y="3942000"/>
              <a:ext cx="296640" cy="315360"/>
            </a:xfrm>
            <a:custGeom>
              <a:avLst/>
              <a:gdLst/>
              <a:ahLst/>
              <a:rect l="l" t="t" r="r" b="b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6713280" y="2872440"/>
              <a:ext cx="296640" cy="315360"/>
            </a:xfrm>
            <a:custGeom>
              <a:avLst/>
              <a:gdLst/>
              <a:ahLst/>
              <a:rect l="l" t="t" r="r" b="b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181480" y="4952880"/>
            <a:ext cx="3429000" cy="1295280"/>
            <a:chOff x="5181480" y="4952880"/>
            <a:chExt cx="3429000" cy="1295280"/>
          </a:xfrm>
        </p:grpSpPr>
        <p:sp>
          <p:nvSpPr>
            <p:cNvPr id="1011" name=""/>
            <p:cNvSpPr/>
            <p:nvPr/>
          </p:nvSpPr>
          <p:spPr>
            <a:xfrm>
              <a:off x="5181480" y="541008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22960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01992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4120" y="5714640"/>
              <a:ext cx="838080" cy="533520"/>
            </a:xfrm>
            <a:custGeom>
              <a:avLst/>
              <a:gdLst/>
              <a:ahLst/>
              <a:rect l="l" t="t" r="r" b="b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34120" y="5714640"/>
              <a:ext cx="2971800" cy="533520"/>
            </a:xfrm>
            <a:custGeom>
              <a:avLst/>
              <a:gdLst/>
              <a:ahLst/>
              <a:rect l="l" t="t" r="r" b="b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34120" y="5638680"/>
              <a:ext cx="1676160" cy="469800"/>
            </a:xfrm>
            <a:custGeom>
              <a:avLst/>
              <a:gdLst/>
              <a:ahLst/>
              <a:rect l="l" t="t" r="r" b="b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10080" y="5028840"/>
              <a:ext cx="762120" cy="381240"/>
            </a:xfrm>
            <a:custGeom>
              <a:avLst/>
              <a:gdLst/>
              <a:ahLst/>
              <a:rect l="l" t="t" r="r" b="b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48520" y="4952880"/>
              <a:ext cx="2133360" cy="457200"/>
            </a:xfrm>
            <a:custGeom>
              <a:avLst/>
              <a:gdLst/>
              <a:ahLst/>
              <a:rect l="l" t="t" r="r" b="b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10280" y="548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391520" y="54860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aradig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782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Teacher presents ANN input-output pair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ANN weights adjusted according to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unction approxi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Associative mem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Un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no teac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ust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rtificial Neural Network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icial Neural Networks are crude attempts to model the highly massive parallel and distributed processing we believe takes place in the br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wo main areas of activit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logical:    Try to model biological neural syste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utational: develop powerful application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802480" y="3541680"/>
          <a:ext cx="300024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2480" y="3541680"/>
                    <a:ext cx="30002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1906200" y="3676680"/>
            <a:ext cx="2662560" cy="1656720"/>
            <a:chOff x="1906200" y="3676680"/>
            <a:chExt cx="2662560" cy="1656720"/>
          </a:xfrm>
        </p:grpSpPr>
        <p:grpSp>
          <p:nvGrpSpPr>
            <p:cNvPr id="108" name=""/>
            <p:cNvGrpSpPr/>
            <p:nvPr/>
          </p:nvGrpSpPr>
          <p:grpSpPr>
            <a:xfrm>
              <a:off x="3404160" y="3676680"/>
              <a:ext cx="249120" cy="1656720"/>
              <a:chOff x="3404160" y="3676680"/>
              <a:chExt cx="249120" cy="1656720"/>
            </a:xfrm>
          </p:grpSpPr>
          <p:sp>
            <p:nvSpPr>
              <p:cNvPr id="109" name=""/>
              <p:cNvSpPr/>
              <p:nvPr/>
            </p:nvSpPr>
            <p:spPr>
              <a:xfrm rot="5400000">
                <a:off x="33976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33980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5400000">
                <a:off x="3398040" y="437940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5400000">
                <a:off x="3397680" y="47278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5400000">
                <a:off x="33976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820960" y="3676680"/>
              <a:ext cx="249120" cy="1656720"/>
              <a:chOff x="2820960" y="3676680"/>
              <a:chExt cx="249120" cy="1656720"/>
            </a:xfrm>
          </p:grpSpPr>
          <p:sp>
            <p:nvSpPr>
              <p:cNvPr id="115" name=""/>
              <p:cNvSpPr/>
              <p:nvPr/>
            </p:nvSpPr>
            <p:spPr>
              <a:xfrm rot="5400000">
                <a:off x="28144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5400000">
                <a:off x="28148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400000">
                <a:off x="2814480" y="43812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400000">
                <a:off x="2814480" y="47296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28144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985920" y="4024800"/>
              <a:ext cx="249120" cy="960120"/>
              <a:chOff x="3985920" y="4024800"/>
              <a:chExt cx="249120" cy="960120"/>
            </a:xfrm>
          </p:grpSpPr>
          <p:sp>
            <p:nvSpPr>
              <p:cNvPr id="121" name=""/>
              <p:cNvSpPr/>
              <p:nvPr/>
            </p:nvSpPr>
            <p:spPr>
              <a:xfrm rot="5400000">
                <a:off x="397980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5400000">
                <a:off x="397980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5400000">
                <a:off x="397944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654000" y="3805560"/>
              <a:ext cx="333360" cy="1396800"/>
              <a:chOff x="3654000" y="3805560"/>
              <a:chExt cx="333360" cy="13968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3654000" y="3805560"/>
                <a:ext cx="331920" cy="1396440"/>
                <a:chOff x="3654000" y="3805560"/>
                <a:chExt cx="331920" cy="139644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36540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36540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36540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36540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36540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654000" y="3805560"/>
                <a:ext cx="333360" cy="1396080"/>
                <a:chOff x="3654000" y="3805560"/>
                <a:chExt cx="333360" cy="139608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365400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365400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365400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365400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365400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654000" y="3806280"/>
                <a:ext cx="333360" cy="1396080"/>
                <a:chOff x="3654000" y="3806280"/>
                <a:chExt cx="333360" cy="1396080"/>
              </a:xfrm>
            </p:grpSpPr>
            <p:sp>
              <p:nvSpPr>
                <p:cNvPr id="138" name=""/>
                <p:cNvSpPr/>
                <p:nvPr/>
              </p:nvSpPr>
              <p:spPr>
                <a:xfrm flipH="1" flipV="1">
                  <a:off x="365400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 flipV="1">
                  <a:off x="365400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365400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365400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365400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070800" y="3805200"/>
              <a:ext cx="333000" cy="1397160"/>
              <a:chOff x="3070800" y="3805200"/>
              <a:chExt cx="333000" cy="139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3071160" y="3805560"/>
                <a:ext cx="332640" cy="1396440"/>
                <a:chOff x="3071160" y="3805560"/>
                <a:chExt cx="332640" cy="139644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3072600" y="45039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71160" y="48520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72600" y="520200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3071160" y="41536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071160" y="38055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 flipH="1">
                <a:off x="3070800" y="38055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070800" y="450432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070800" y="485424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3070800" y="380520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3070800" y="45039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3070800" y="485388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070800" y="450432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3070800" y="450396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flipV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 flipV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486160" y="3805560"/>
              <a:ext cx="333360" cy="1396800"/>
              <a:chOff x="2486160" y="3805560"/>
              <a:chExt cx="333360" cy="13968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487600" y="3805560"/>
                <a:ext cx="331920" cy="1396440"/>
                <a:chOff x="2487600" y="3805560"/>
                <a:chExt cx="331920" cy="1396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876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4876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V="1">
                  <a:off x="24876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24876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876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486160" y="3805560"/>
                <a:ext cx="333360" cy="1396080"/>
                <a:chOff x="2486160" y="3805560"/>
                <a:chExt cx="333360" cy="13960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48616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48616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48616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48616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248616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486160" y="3806280"/>
                <a:ext cx="333360" cy="1396080"/>
                <a:chOff x="2486160" y="3806280"/>
                <a:chExt cx="333360" cy="1396080"/>
              </a:xfrm>
            </p:grpSpPr>
            <p:sp>
              <p:nvSpPr>
                <p:cNvPr id="184" name=""/>
                <p:cNvSpPr/>
                <p:nvPr/>
              </p:nvSpPr>
              <p:spPr>
                <a:xfrm flipV="1">
                  <a:off x="248616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248616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V="1">
                  <a:off x="248616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48616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48616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2239200" y="4024800"/>
              <a:ext cx="249120" cy="960120"/>
              <a:chOff x="2239200" y="4024800"/>
              <a:chExt cx="249120" cy="960120"/>
            </a:xfrm>
          </p:grpSpPr>
          <p:sp>
            <p:nvSpPr>
              <p:cNvPr id="190" name=""/>
              <p:cNvSpPr/>
              <p:nvPr/>
            </p:nvSpPr>
            <p:spPr>
              <a:xfrm rot="5400000">
                <a:off x="223308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400000">
                <a:off x="223308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5400000">
                <a:off x="223272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906200" y="4155840"/>
              <a:ext cx="333000" cy="698400"/>
              <a:chOff x="1906200" y="4155840"/>
              <a:chExt cx="333000" cy="698400"/>
            </a:xfrm>
          </p:grpSpPr>
          <p:sp>
            <p:nvSpPr>
              <p:cNvPr id="194" name=""/>
              <p:cNvSpPr/>
              <p:nvPr/>
            </p:nvSpPr>
            <p:spPr>
              <a:xfrm>
                <a:off x="190620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0620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0620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235760" y="4155840"/>
              <a:ext cx="333000" cy="698400"/>
              <a:chOff x="4235760" y="4155840"/>
              <a:chExt cx="333000" cy="698400"/>
            </a:xfrm>
          </p:grpSpPr>
          <p:sp>
            <p:nvSpPr>
              <p:cNvPr id="198" name=""/>
              <p:cNvSpPr/>
              <p:nvPr/>
            </p:nvSpPr>
            <p:spPr>
              <a:xfrm>
                <a:off x="423576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3576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3576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Approximate rea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Generalisation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Nois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Parallel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Distributed knowledge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roblems with AN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Contrary to Expert sytems, with ANN the Knowledge base is not transparent (black bo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 sometimes difficult/s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imited storage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applications of AN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nunciation: NETtalk program (Sejnowski &amp; Rosenberg 1987) is a neural network that learns to pronounce written text: maps characters strings into phonemes (basic sound elements) for learning speech from t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written character recognition:a network designed  to read zip codes on hand-addressed envelo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VINN (Pomerleau) is a neural network used to control vehicles steering direction so as to follow road by staying in the middle of its l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ckgammon learning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casting e.g.,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AN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 is high-dimensional discrete or real-valued (e.g. raw sensor inpu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s can be highly correlated or independ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discrete or real valu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a vector of val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Possibly noisy data. Data may contain 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orm of target function is unkn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Long training time are accep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ast evaluation of target function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Human readability of learned target function is unimport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⇒ </a:t>
            </a:r>
            <a:r>
              <a:rPr b="1" lang="pt-PT" sz="1600" spc="-1" strike="noStrike">
                <a:solidFill>
                  <a:srgbClr val="000000"/>
                </a:solidFill>
                <a:latin typeface="Tahoma"/>
              </a:rPr>
              <a:t>ANN is much like a black-bo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ural nets can be used to answer the following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ttern recognition: Does that image contain a face?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ification problems: Is this cell defective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diction: Given these symptoms, the patient has disease 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casting: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ndwriting: is character recognized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timization: Find the shortest path for the TSP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867280" y="2400480"/>
          <a:ext cx="300060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400480"/>
                    <a:ext cx="30006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67480" y="4724280"/>
          <a:ext cx="242424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67480" y="4724280"/>
                    <a:ext cx="24242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ngth and Weaknesses of AN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 may be described by a large number of attributes (e.g., pixels in an imag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Data may contain erro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he time for training may be extremely lo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Evaluating the network for a new example is relatively fa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terpretability of the final hypothesis is not relevant (the NN is treated as a black box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gical Neu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82600" y="2017800"/>
            <a:ext cx="689472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uron receives nerve impulses through its dendrites. It then sends the nerve impulses through its  axon to the terminal buttons where neurotransmitters are released to simulate other neur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09480" y="4038480"/>
            <a:ext cx="8193240" cy="2703600"/>
            <a:chOff x="609480" y="4038480"/>
            <a:chExt cx="8193240" cy="27036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609480" y="4038480"/>
              <a:ext cx="8193240" cy="27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609480" y="4038480"/>
              <a:ext cx="8193240" cy="270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nique component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body or soma which contains the nucl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ap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392720" y="2362320"/>
            <a:ext cx="330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dendr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short fibers (surrounding the cell body) that receive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very receptive to connections from other neu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carry signals from the synapses to the so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8:21:39Z</dcterms:created>
  <dc:creator>mbatouche</dc:creator>
  <dc:description/>
  <dc:language>en-US</dc:language>
  <cp:lastModifiedBy> </cp:lastModifiedBy>
  <dcterms:modified xsi:type="dcterms:W3CDTF">2009-03-10T08:06:28Z</dcterms:modified>
  <cp:revision>2</cp:revision>
  <dc:subject/>
  <dc:title>Artificial Intelligence  CSC 361</dc:title>
</cp:coreProperties>
</file>