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7C59-F2D8-4433-8261-8D7BF478F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BAC9-8535-4D60-816D-07B2F359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6B4C-7613-4703-8A5E-62F292953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B864-7DF7-438A-B477-78AFDD98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A492-1B3E-4F13-869C-CE2ABB50E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3806-D1BA-442C-B6DC-E583F1DB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3A3D-4349-4136-8EE2-BD73EBA6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259A-76FB-4463-A026-C68DA2D3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2D15-3968-4C9C-99EB-3F6B5573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66FB-5557-4973-8802-86F42171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77B3-A501-495B-A9CA-14C07F44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77CA-FAE0-40A2-8630-074176DD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84D7-F905-4C52-B97F-C8EA2108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FB59-79E2-46D0-AF51-4685556E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5041-4EB9-4EC4-AFB9-691D3047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DD52-C016-4FD7-B2BA-EED409AB1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EAB0-C567-42B6-8109-744619735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2BF2-79CE-41E7-ACB4-4FBFAD32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BEA4-216D-4D0A-83C4-C9E6CDAC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7811-269D-43CF-B3A1-D9FE84B4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2F98-7C8A-46D9-8BAA-42B04462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2D1D-8179-4CCD-BE3A-1020842A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EF99-641B-48CE-9E26-BD38A91F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104C-939F-42CE-B9FE-EAD38025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BDE5-968A-4A21-B229-EBDE17D63C1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7AD4-1926-42AD-8BFF-31267410732E}" type="slidenum">
              <a:rPr b="0" lang="ar-SA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yousef@ccis.edu.sa" TargetMode="External"/><Relationship Id="rId2" Type="http://schemas.openxmlformats.org/officeDocument/2006/relationships/hyperlink" Target="http://faculty.ksu.edu.sa/YAlohali/" TargetMode="External"/><Relationship Id="rId3" Type="http://schemas.openxmlformats.org/officeDocument/2006/relationships/hyperlink" Target="http://faculty.ksu.edu.sa/YAlohali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rtificial Intelligence </a:t>
            </a: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SC 36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3733920"/>
            <a:ext cx="45720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ousef Al-Ohal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uter Science Depar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CIS – King Saud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udi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yousef@ccis.edu.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faculty.ksu.edu.sa/YAloh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euron - ax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xon is a long extension from the soma that transmits messag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uron has only one ax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xon carries action potentials from the  soma to the synap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129280" y="3200400"/>
            <a:ext cx="4091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euron - synap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438012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synapses are the connections made by an axon to another neuron. They ar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ny gaps between axons and dendrites (with chemical bridges) that transmit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synapse is called excitatory if it raises the local membrane potential of the post synaptic cel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hibitory if the potential is lower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486400" y="3505320"/>
            <a:ext cx="3352680" cy="2681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ificial Neural Net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story of AN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ry of Artificial Neural Net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943: McCulloch and Pitts proposed a model of a neuron --&gt; Perceptr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960s: Widrow and Hoff explored Perceptron networks (which they called “Adalines”) and the delta ru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962: Rosenblatt proved the convergence of the perceptron training ru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969: Minsky and Papert showed that the Perceptron cannot deal with nonlinearly-separable data sets---even those that represent simple function such as X-O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970-1985: Very little research on Neural Ne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986: Invention of Backpropagation [Rumelhart and McClelland, but also Parker and earlier on: Werbos] which can learn from nonlinearly-separable data set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nce 1985: A lot of research in Neural Ne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ificial Neural Net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Neur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ificial Neur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8487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signals to a unit are combined by summing their weighte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 function: Activation functions include Step function, Linear function, Sigmoid function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990720" y="4373640"/>
            <a:ext cx="7543800" cy="1800360"/>
            <a:chOff x="990720" y="4373640"/>
            <a:chExt cx="7543800" cy="1800360"/>
          </a:xfrm>
        </p:grpSpPr>
        <p:sp>
          <p:nvSpPr>
            <p:cNvPr id="237" name=""/>
            <p:cNvSpPr/>
            <p:nvPr/>
          </p:nvSpPr>
          <p:spPr>
            <a:xfrm rot="5400000">
              <a:off x="3200400" y="5059440"/>
              <a:ext cx="1524240" cy="5335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62720" y="5135760"/>
              <a:ext cx="304920" cy="3808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362320" y="5364000"/>
              <a:ext cx="12952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10040" y="536436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10040" y="4983120"/>
              <a:ext cx="14475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86000" y="4602240"/>
              <a:ext cx="1371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3" name=""/>
            <p:cNvCxnSpPr>
              <a:stCxn id="237" idx="0"/>
              <a:endCxn id="238" idx="2"/>
            </p:cNvCxnSpPr>
            <p:nvPr/>
          </p:nvCxnSpPr>
          <p:spPr>
            <a:xfrm>
              <a:off x="4229280" y="5325840"/>
              <a:ext cx="1334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4" name=""/>
            <p:cNvCxnSpPr>
              <a:stCxn id="238" idx="6"/>
            </p:cNvCxnSpPr>
            <p:nvPr/>
          </p:nvCxnSpPr>
          <p:spPr>
            <a:xfrm flipV="1">
              <a:off x="5867640" y="5287680"/>
              <a:ext cx="838800" cy="3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5" name=""/>
            <p:cNvSpPr/>
            <p:nvPr/>
          </p:nvSpPr>
          <p:spPr>
            <a:xfrm>
              <a:off x="2133720" y="589752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3810240" y="5135760"/>
                  <a:ext cx="349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7" name=""/>
            <p:cNvSpPr/>
            <p:nvPr/>
          </p:nvSpPr>
          <p:spPr>
            <a:xfrm>
              <a:off x="5410440" y="46785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(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90720" y="49071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82040" y="505944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utput=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(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96040" y="544032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52840" y="437364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76520" y="528804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95840" y="460224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19520" y="559296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14600" y="528804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tivation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2200320"/>
            <a:ext cx="914400" cy="838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828800" y="227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71600" y="2657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265752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1828800" y="235224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28800" y="235260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657600" y="2200320"/>
            <a:ext cx="914400" cy="838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114800" y="227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57600" y="2657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33920" y="28098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114800" y="2505240"/>
            <a:ext cx="0" cy="304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250524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67280" y="2200320"/>
            <a:ext cx="914400" cy="838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324480" y="227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867280" y="2657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43600" y="2263680"/>
            <a:ext cx="609480" cy="419040"/>
          </a:xfrm>
          <a:custGeom>
            <a:avLst/>
            <a:gdLst/>
            <a:ahLst/>
            <a:rect l="l" t="t" r="r" b="b"/>
            <a:pathLst>
              <a:path w="384" h="264">
                <a:moveTo>
                  <a:pt x="0" y="248"/>
                </a:moveTo>
                <a:cubicBezTo>
                  <a:pt x="52" y="256"/>
                  <a:pt x="104" y="264"/>
                  <a:pt x="144" y="248"/>
                </a:cubicBezTo>
                <a:cubicBezTo>
                  <a:pt x="184" y="232"/>
                  <a:pt x="224" y="184"/>
                  <a:pt x="240" y="152"/>
                </a:cubicBezTo>
                <a:cubicBezTo>
                  <a:pt x="256" y="120"/>
                  <a:pt x="232" y="80"/>
                  <a:pt x="240" y="56"/>
                </a:cubicBezTo>
                <a:cubicBezTo>
                  <a:pt x="248" y="32"/>
                  <a:pt x="264" y="16"/>
                  <a:pt x="288" y="8"/>
                </a:cubicBezTo>
                <a:cubicBezTo>
                  <a:pt x="312" y="0"/>
                  <a:pt x="368" y="8"/>
                  <a:pt x="384" y="8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97840" y="32320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360" y="319104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562720" y="319104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moi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gistic)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04200" y="3797280"/>
            <a:ext cx="331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ep(x) = 1, if x &gt;= thresh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, if x &lt; thresh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in picture above, threshold =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77080" y="3724200"/>
            <a:ext cx="22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gn(x) = +1, if x &gt;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1, if x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71360" y="4114800"/>
            <a:ext cx="22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gmoid(x) = 1/(1+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-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87520" y="4984920"/>
            <a:ext cx="76910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ng an extra input with activati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1 and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,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 (called th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ias we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equivalent to having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shold at t.  This way we can always assume a 0 thresh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924680" y="2133720"/>
            <a:ext cx="914400" cy="838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924680" y="2590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81880" y="2133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8001000" y="2286000"/>
            <a:ext cx="7621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62920" y="31240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926480" y="403848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(x) =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l vs. Artificial Neur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26320" y="1943280"/>
            <a:ext cx="8470440" cy="5143320"/>
            <a:chOff x="526320" y="1943280"/>
            <a:chExt cx="8470440" cy="5143320"/>
          </a:xfrm>
        </p:grpSpPr>
        <p:sp>
          <p:nvSpPr>
            <p:cNvPr id="288" name=""/>
            <p:cNvSpPr/>
            <p:nvPr/>
          </p:nvSpPr>
          <p:spPr>
            <a:xfrm>
              <a:off x="1461960" y="2686320"/>
              <a:ext cx="1632240" cy="1133280"/>
            </a:xfrm>
            <a:custGeom>
              <a:avLst/>
              <a:gdLst/>
              <a:ahLst/>
              <a:rect l="l" t="t" r="r" b="b"/>
              <a:pathLst>
                <a:path w="1028" h="714">
                  <a:moveTo>
                    <a:pt x="150" y="162"/>
                  </a:moveTo>
                  <a:cubicBezTo>
                    <a:pt x="228" y="188"/>
                    <a:pt x="302" y="160"/>
                    <a:pt x="366" y="117"/>
                  </a:cubicBezTo>
                  <a:cubicBezTo>
                    <a:pt x="382" y="93"/>
                    <a:pt x="391" y="83"/>
                    <a:pt x="402" y="54"/>
                  </a:cubicBezTo>
                  <a:cubicBezTo>
                    <a:pt x="409" y="36"/>
                    <a:pt x="420" y="0"/>
                    <a:pt x="420" y="0"/>
                  </a:cubicBezTo>
                  <a:cubicBezTo>
                    <a:pt x="432" y="86"/>
                    <a:pt x="432" y="106"/>
                    <a:pt x="519" y="135"/>
                  </a:cubicBezTo>
                  <a:cubicBezTo>
                    <a:pt x="573" y="132"/>
                    <a:pt x="627" y="131"/>
                    <a:pt x="681" y="126"/>
                  </a:cubicBezTo>
                  <a:cubicBezTo>
                    <a:pt x="696" y="125"/>
                    <a:pt x="715" y="106"/>
                    <a:pt x="726" y="117"/>
                  </a:cubicBezTo>
                  <a:cubicBezTo>
                    <a:pt x="735" y="126"/>
                    <a:pt x="708" y="135"/>
                    <a:pt x="699" y="144"/>
                  </a:cubicBezTo>
                  <a:cubicBezTo>
                    <a:pt x="712" y="270"/>
                    <a:pt x="715" y="311"/>
                    <a:pt x="807" y="387"/>
                  </a:cubicBezTo>
                  <a:cubicBezTo>
                    <a:pt x="836" y="411"/>
                    <a:pt x="849" y="410"/>
                    <a:pt x="888" y="423"/>
                  </a:cubicBezTo>
                  <a:cubicBezTo>
                    <a:pt x="911" y="431"/>
                    <a:pt x="983" y="449"/>
                    <a:pt x="960" y="441"/>
                  </a:cubicBezTo>
                  <a:cubicBezTo>
                    <a:pt x="846" y="403"/>
                    <a:pt x="1028" y="466"/>
                    <a:pt x="906" y="414"/>
                  </a:cubicBezTo>
                  <a:cubicBezTo>
                    <a:pt x="858" y="394"/>
                    <a:pt x="795" y="388"/>
                    <a:pt x="744" y="378"/>
                  </a:cubicBezTo>
                  <a:cubicBezTo>
                    <a:pt x="672" y="386"/>
                    <a:pt x="654" y="378"/>
                    <a:pt x="618" y="432"/>
                  </a:cubicBezTo>
                  <a:cubicBezTo>
                    <a:pt x="606" y="479"/>
                    <a:pt x="613" y="521"/>
                    <a:pt x="627" y="567"/>
                  </a:cubicBezTo>
                  <a:cubicBezTo>
                    <a:pt x="632" y="585"/>
                    <a:pt x="645" y="621"/>
                    <a:pt x="645" y="621"/>
                  </a:cubicBezTo>
                  <a:cubicBezTo>
                    <a:pt x="648" y="648"/>
                    <a:pt x="654" y="675"/>
                    <a:pt x="654" y="702"/>
                  </a:cubicBezTo>
                  <a:cubicBezTo>
                    <a:pt x="654" y="714"/>
                    <a:pt x="647" y="678"/>
                    <a:pt x="645" y="666"/>
                  </a:cubicBezTo>
                  <a:cubicBezTo>
                    <a:pt x="643" y="656"/>
                    <a:pt x="629" y="538"/>
                    <a:pt x="618" y="522"/>
                  </a:cubicBezTo>
                  <a:cubicBezTo>
                    <a:pt x="613" y="514"/>
                    <a:pt x="599" y="517"/>
                    <a:pt x="591" y="513"/>
                  </a:cubicBezTo>
                  <a:cubicBezTo>
                    <a:pt x="581" y="508"/>
                    <a:pt x="574" y="499"/>
                    <a:pt x="564" y="495"/>
                  </a:cubicBezTo>
                  <a:cubicBezTo>
                    <a:pt x="547" y="487"/>
                    <a:pt x="510" y="477"/>
                    <a:pt x="510" y="477"/>
                  </a:cubicBezTo>
                  <a:cubicBezTo>
                    <a:pt x="465" y="482"/>
                    <a:pt x="439" y="479"/>
                    <a:pt x="402" y="495"/>
                  </a:cubicBezTo>
                  <a:cubicBezTo>
                    <a:pt x="302" y="538"/>
                    <a:pt x="224" y="629"/>
                    <a:pt x="114" y="666"/>
                  </a:cubicBezTo>
                  <a:cubicBezTo>
                    <a:pt x="165" y="683"/>
                    <a:pt x="175" y="646"/>
                    <a:pt x="222" y="630"/>
                  </a:cubicBezTo>
                  <a:cubicBezTo>
                    <a:pt x="283" y="569"/>
                    <a:pt x="268" y="600"/>
                    <a:pt x="285" y="549"/>
                  </a:cubicBezTo>
                  <a:cubicBezTo>
                    <a:pt x="281" y="510"/>
                    <a:pt x="289" y="465"/>
                    <a:pt x="267" y="432"/>
                  </a:cubicBezTo>
                  <a:cubicBezTo>
                    <a:pt x="259" y="421"/>
                    <a:pt x="206" y="357"/>
                    <a:pt x="195" y="351"/>
                  </a:cubicBezTo>
                  <a:cubicBezTo>
                    <a:pt x="178" y="342"/>
                    <a:pt x="157" y="344"/>
                    <a:pt x="141" y="333"/>
                  </a:cubicBezTo>
                  <a:cubicBezTo>
                    <a:pt x="104" y="309"/>
                    <a:pt x="66" y="298"/>
                    <a:pt x="24" y="288"/>
                  </a:cubicBezTo>
                  <a:cubicBezTo>
                    <a:pt x="60" y="276"/>
                    <a:pt x="96" y="273"/>
                    <a:pt x="132" y="261"/>
                  </a:cubicBezTo>
                  <a:cubicBezTo>
                    <a:pt x="105" y="243"/>
                    <a:pt x="78" y="234"/>
                    <a:pt x="51" y="216"/>
                  </a:cubicBezTo>
                  <a:cubicBezTo>
                    <a:pt x="45" y="207"/>
                    <a:pt x="40" y="197"/>
                    <a:pt x="33" y="189"/>
                  </a:cubicBezTo>
                  <a:cubicBezTo>
                    <a:pt x="25" y="179"/>
                    <a:pt x="0" y="173"/>
                    <a:pt x="6" y="162"/>
                  </a:cubicBezTo>
                  <a:cubicBezTo>
                    <a:pt x="12" y="151"/>
                    <a:pt x="30" y="167"/>
                    <a:pt x="42" y="171"/>
                  </a:cubicBezTo>
                  <a:cubicBezTo>
                    <a:pt x="60" y="176"/>
                    <a:pt x="96" y="189"/>
                    <a:pt x="96" y="189"/>
                  </a:cubicBezTo>
                  <a:cubicBezTo>
                    <a:pt x="111" y="186"/>
                    <a:pt x="133" y="193"/>
                    <a:pt x="141" y="180"/>
                  </a:cubicBezTo>
                  <a:cubicBezTo>
                    <a:pt x="149" y="167"/>
                    <a:pt x="121" y="146"/>
                    <a:pt x="132" y="135"/>
                  </a:cubicBezTo>
                  <a:cubicBezTo>
                    <a:pt x="141" y="126"/>
                    <a:pt x="152" y="151"/>
                    <a:pt x="159" y="162"/>
                  </a:cubicBezTo>
                  <a:cubicBezTo>
                    <a:pt x="161" y="164"/>
                    <a:pt x="153" y="162"/>
                    <a:pt x="150" y="162"/>
                  </a:cubicBez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179360" y="3743280"/>
              <a:ext cx="463680" cy="300240"/>
            </a:xfrm>
            <a:custGeom>
              <a:avLst/>
              <a:gdLst/>
              <a:ahLst/>
              <a:rect l="l" t="t" r="r" b="b"/>
              <a:pathLst>
                <a:path w="292" h="189">
                  <a:moveTo>
                    <a:pt x="292" y="0"/>
                  </a:moveTo>
                  <a:cubicBezTo>
                    <a:pt x="244" y="12"/>
                    <a:pt x="187" y="21"/>
                    <a:pt x="148" y="54"/>
                  </a:cubicBezTo>
                  <a:cubicBezTo>
                    <a:pt x="119" y="78"/>
                    <a:pt x="106" y="113"/>
                    <a:pt x="76" y="135"/>
                  </a:cubicBezTo>
                  <a:cubicBezTo>
                    <a:pt x="0" y="189"/>
                    <a:pt x="70" y="123"/>
                    <a:pt x="22" y="17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343160" y="3843360"/>
              <a:ext cx="85680" cy="314280"/>
            </a:xfrm>
            <a:custGeom>
              <a:avLst/>
              <a:gdLst/>
              <a:ahLst/>
              <a:rect l="l" t="t" r="r" b="b"/>
              <a:pathLst>
                <a:path w="54" h="198">
                  <a:moveTo>
                    <a:pt x="54" y="0"/>
                  </a:moveTo>
                  <a:cubicBezTo>
                    <a:pt x="15" y="39"/>
                    <a:pt x="13" y="49"/>
                    <a:pt x="0" y="99"/>
                  </a:cubicBezTo>
                  <a:cubicBezTo>
                    <a:pt x="11" y="174"/>
                    <a:pt x="9" y="141"/>
                    <a:pt x="9" y="19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28880" y="3814920"/>
              <a:ext cx="428400" cy="100080"/>
            </a:xfrm>
            <a:custGeom>
              <a:avLst/>
              <a:gdLst/>
              <a:ahLst/>
              <a:rect l="l" t="t" r="r" b="b"/>
              <a:pathLst>
                <a:path w="270" h="63">
                  <a:moveTo>
                    <a:pt x="270" y="0"/>
                  </a:moveTo>
                  <a:cubicBezTo>
                    <a:pt x="235" y="53"/>
                    <a:pt x="197" y="54"/>
                    <a:pt x="135" y="63"/>
                  </a:cubicBezTo>
                  <a:cubicBezTo>
                    <a:pt x="86" y="53"/>
                    <a:pt x="37" y="55"/>
                    <a:pt x="0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66680" y="3257640"/>
              <a:ext cx="463680" cy="299880"/>
            </a:xfrm>
            <a:custGeom>
              <a:avLst/>
              <a:gdLst/>
              <a:ahLst/>
              <a:rect l="l" t="t" r="r" b="b"/>
              <a:pathLst>
                <a:path w="292" h="189">
                  <a:moveTo>
                    <a:pt x="292" y="0"/>
                  </a:moveTo>
                  <a:cubicBezTo>
                    <a:pt x="244" y="12"/>
                    <a:pt x="187" y="21"/>
                    <a:pt x="148" y="54"/>
                  </a:cubicBezTo>
                  <a:cubicBezTo>
                    <a:pt x="119" y="78"/>
                    <a:pt x="106" y="113"/>
                    <a:pt x="76" y="135"/>
                  </a:cubicBezTo>
                  <a:cubicBezTo>
                    <a:pt x="0" y="189"/>
                    <a:pt x="70" y="123"/>
                    <a:pt x="22" y="17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30480" y="3357720"/>
              <a:ext cx="85680" cy="314280"/>
            </a:xfrm>
            <a:custGeom>
              <a:avLst/>
              <a:gdLst/>
              <a:ahLst/>
              <a:rect l="l" t="t" r="r" b="b"/>
              <a:pathLst>
                <a:path w="54" h="198">
                  <a:moveTo>
                    <a:pt x="54" y="0"/>
                  </a:moveTo>
                  <a:cubicBezTo>
                    <a:pt x="15" y="39"/>
                    <a:pt x="13" y="49"/>
                    <a:pt x="0" y="99"/>
                  </a:cubicBezTo>
                  <a:cubicBezTo>
                    <a:pt x="11" y="174"/>
                    <a:pt x="9" y="141"/>
                    <a:pt x="9" y="19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66680" y="3181320"/>
              <a:ext cx="428760" cy="100080"/>
            </a:xfrm>
            <a:custGeom>
              <a:avLst/>
              <a:gdLst/>
              <a:ahLst/>
              <a:rect l="l" t="t" r="r" b="b"/>
              <a:pathLst>
                <a:path w="270" h="63">
                  <a:moveTo>
                    <a:pt x="270" y="0"/>
                  </a:moveTo>
                  <a:cubicBezTo>
                    <a:pt x="235" y="53"/>
                    <a:pt x="197" y="54"/>
                    <a:pt x="135" y="63"/>
                  </a:cubicBezTo>
                  <a:cubicBezTo>
                    <a:pt x="86" y="53"/>
                    <a:pt x="37" y="55"/>
                    <a:pt x="0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28760" y="3800520"/>
              <a:ext cx="285840" cy="343080"/>
            </a:xfrm>
            <a:custGeom>
              <a:avLst/>
              <a:gdLst/>
              <a:ahLst/>
              <a:rect l="l" t="t" r="r" b="b"/>
              <a:pathLst>
                <a:path w="180" h="216">
                  <a:moveTo>
                    <a:pt x="180" y="0"/>
                  </a:moveTo>
                  <a:cubicBezTo>
                    <a:pt x="173" y="39"/>
                    <a:pt x="170" y="61"/>
                    <a:pt x="162" y="99"/>
                  </a:cubicBezTo>
                  <a:cubicBezTo>
                    <a:pt x="159" y="111"/>
                    <a:pt x="162" y="127"/>
                    <a:pt x="153" y="135"/>
                  </a:cubicBezTo>
                  <a:cubicBezTo>
                    <a:pt x="110" y="173"/>
                    <a:pt x="41" y="175"/>
                    <a:pt x="0" y="2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357280" y="3986280"/>
              <a:ext cx="142920" cy="357120"/>
            </a:xfrm>
            <a:custGeom>
              <a:avLst/>
              <a:gdLst/>
              <a:ahLst/>
              <a:rect l="l" t="t" r="r" b="b"/>
              <a:pathLst>
                <a:path w="90" h="225">
                  <a:moveTo>
                    <a:pt x="90" y="0"/>
                  </a:moveTo>
                  <a:cubicBezTo>
                    <a:pt x="84" y="38"/>
                    <a:pt x="82" y="91"/>
                    <a:pt x="63" y="126"/>
                  </a:cubicBezTo>
                  <a:cubicBezTo>
                    <a:pt x="44" y="161"/>
                    <a:pt x="18" y="190"/>
                    <a:pt x="0" y="22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486160" y="3943440"/>
              <a:ext cx="290520" cy="457200"/>
            </a:xfrm>
            <a:custGeom>
              <a:avLst/>
              <a:gdLst/>
              <a:ahLst/>
              <a:rect l="l" t="t" r="r" b="b"/>
              <a:pathLst>
                <a:path w="183" h="288">
                  <a:moveTo>
                    <a:pt x="0" y="0"/>
                  </a:moveTo>
                  <a:cubicBezTo>
                    <a:pt x="91" y="71"/>
                    <a:pt x="57" y="39"/>
                    <a:pt x="108" y="90"/>
                  </a:cubicBezTo>
                  <a:cubicBezTo>
                    <a:pt x="120" y="126"/>
                    <a:pt x="131" y="141"/>
                    <a:pt x="162" y="162"/>
                  </a:cubicBezTo>
                  <a:cubicBezTo>
                    <a:pt x="168" y="171"/>
                    <a:pt x="183" y="179"/>
                    <a:pt x="180" y="189"/>
                  </a:cubicBezTo>
                  <a:cubicBezTo>
                    <a:pt x="175" y="203"/>
                    <a:pt x="155" y="205"/>
                    <a:pt x="144" y="216"/>
                  </a:cubicBezTo>
                  <a:cubicBezTo>
                    <a:pt x="125" y="235"/>
                    <a:pt x="102" y="264"/>
                    <a:pt x="90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21468000">
              <a:off x="2514600" y="2647800"/>
              <a:ext cx="463680" cy="299880"/>
            </a:xfrm>
            <a:custGeom>
              <a:avLst/>
              <a:gdLst/>
              <a:ahLst/>
              <a:rect l="l" t="t" r="r" b="b"/>
              <a:pathLst>
                <a:path w="292" h="189">
                  <a:moveTo>
                    <a:pt x="292" y="0"/>
                  </a:moveTo>
                  <a:cubicBezTo>
                    <a:pt x="244" y="12"/>
                    <a:pt x="187" y="21"/>
                    <a:pt x="148" y="54"/>
                  </a:cubicBezTo>
                  <a:cubicBezTo>
                    <a:pt x="119" y="78"/>
                    <a:pt x="106" y="113"/>
                    <a:pt x="76" y="135"/>
                  </a:cubicBezTo>
                  <a:cubicBezTo>
                    <a:pt x="0" y="189"/>
                    <a:pt x="70" y="123"/>
                    <a:pt x="22" y="17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3360200">
              <a:off x="2781360" y="2609280"/>
              <a:ext cx="85680" cy="314280"/>
            </a:xfrm>
            <a:custGeom>
              <a:avLst/>
              <a:gdLst/>
              <a:ahLst/>
              <a:rect l="l" t="t" r="r" b="b"/>
              <a:pathLst>
                <a:path w="54" h="198">
                  <a:moveTo>
                    <a:pt x="54" y="0"/>
                  </a:moveTo>
                  <a:cubicBezTo>
                    <a:pt x="15" y="39"/>
                    <a:pt x="13" y="49"/>
                    <a:pt x="0" y="99"/>
                  </a:cubicBezTo>
                  <a:cubicBezTo>
                    <a:pt x="11" y="174"/>
                    <a:pt x="9" y="141"/>
                    <a:pt x="9" y="19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2054000">
              <a:off x="2590920" y="2876040"/>
              <a:ext cx="428400" cy="99720"/>
            </a:xfrm>
            <a:custGeom>
              <a:avLst/>
              <a:gdLst/>
              <a:ahLst/>
              <a:rect l="l" t="t" r="r" b="b"/>
              <a:pathLst>
                <a:path w="270" h="63">
                  <a:moveTo>
                    <a:pt x="270" y="0"/>
                  </a:moveTo>
                  <a:cubicBezTo>
                    <a:pt x="235" y="53"/>
                    <a:pt x="197" y="54"/>
                    <a:pt x="135" y="63"/>
                  </a:cubicBezTo>
                  <a:cubicBezTo>
                    <a:pt x="86" y="53"/>
                    <a:pt x="37" y="55"/>
                    <a:pt x="0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9320" y="2648160"/>
              <a:ext cx="314280" cy="371520"/>
            </a:xfrm>
            <a:custGeom>
              <a:avLst/>
              <a:gdLst/>
              <a:ahLst/>
              <a:rect l="l" t="t" r="r" b="b"/>
              <a:pathLst>
                <a:path w="198" h="234">
                  <a:moveTo>
                    <a:pt x="0" y="0"/>
                  </a:moveTo>
                  <a:cubicBezTo>
                    <a:pt x="64" y="16"/>
                    <a:pt x="125" y="43"/>
                    <a:pt x="162" y="99"/>
                  </a:cubicBezTo>
                  <a:cubicBezTo>
                    <a:pt x="171" y="145"/>
                    <a:pt x="177" y="192"/>
                    <a:pt x="198" y="2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066680" y="2724120"/>
              <a:ext cx="446040" cy="233640"/>
            </a:xfrm>
            <a:custGeom>
              <a:avLst/>
              <a:gdLst/>
              <a:ahLst/>
              <a:rect l="l" t="t" r="r" b="b"/>
              <a:pathLst>
                <a:path w="281" h="147">
                  <a:moveTo>
                    <a:pt x="0" y="36"/>
                  </a:moveTo>
                  <a:cubicBezTo>
                    <a:pt x="12" y="33"/>
                    <a:pt x="24" y="29"/>
                    <a:pt x="36" y="27"/>
                  </a:cubicBezTo>
                  <a:cubicBezTo>
                    <a:pt x="69" y="23"/>
                    <a:pt x="102" y="24"/>
                    <a:pt x="135" y="18"/>
                  </a:cubicBezTo>
                  <a:cubicBezTo>
                    <a:pt x="154" y="15"/>
                    <a:pt x="189" y="0"/>
                    <a:pt x="189" y="0"/>
                  </a:cubicBezTo>
                  <a:cubicBezTo>
                    <a:pt x="204" y="8"/>
                    <a:pt x="246" y="24"/>
                    <a:pt x="252" y="45"/>
                  </a:cubicBezTo>
                  <a:cubicBezTo>
                    <a:pt x="281" y="147"/>
                    <a:pt x="226" y="144"/>
                    <a:pt x="27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295280" y="2571840"/>
              <a:ext cx="295560" cy="385920"/>
            </a:xfrm>
            <a:custGeom>
              <a:avLst/>
              <a:gdLst/>
              <a:ahLst/>
              <a:rect l="l" t="t" r="r" b="b"/>
              <a:pathLst>
                <a:path w="186" h="243">
                  <a:moveTo>
                    <a:pt x="0" y="0"/>
                  </a:moveTo>
                  <a:cubicBezTo>
                    <a:pt x="36" y="6"/>
                    <a:pt x="56" y="8"/>
                    <a:pt x="90" y="18"/>
                  </a:cubicBezTo>
                  <a:cubicBezTo>
                    <a:pt x="108" y="23"/>
                    <a:pt x="144" y="36"/>
                    <a:pt x="144" y="36"/>
                  </a:cubicBezTo>
                  <a:cubicBezTo>
                    <a:pt x="186" y="98"/>
                    <a:pt x="144" y="173"/>
                    <a:pt x="144" y="24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122560" y="2268720"/>
              <a:ext cx="177840" cy="446040"/>
            </a:xfrm>
            <a:custGeom>
              <a:avLst/>
              <a:gdLst/>
              <a:ahLst/>
              <a:rect l="l" t="t" r="r" b="b"/>
              <a:pathLst>
                <a:path w="112" h="281">
                  <a:moveTo>
                    <a:pt x="13" y="281"/>
                  </a:moveTo>
                  <a:cubicBezTo>
                    <a:pt x="23" y="117"/>
                    <a:pt x="0" y="131"/>
                    <a:pt x="85" y="29"/>
                  </a:cubicBezTo>
                  <a:cubicBezTo>
                    <a:pt x="110" y="0"/>
                    <a:pt x="91" y="2"/>
                    <a:pt x="112" y="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43280" y="2214720"/>
              <a:ext cx="214200" cy="485640"/>
            </a:xfrm>
            <a:custGeom>
              <a:avLst/>
              <a:gdLst/>
              <a:ahLst/>
              <a:rect l="l" t="t" r="r" b="b"/>
              <a:pathLst>
                <a:path w="135" h="306">
                  <a:moveTo>
                    <a:pt x="135" y="306"/>
                  </a:moveTo>
                  <a:cubicBezTo>
                    <a:pt x="125" y="265"/>
                    <a:pt x="105" y="225"/>
                    <a:pt x="81" y="189"/>
                  </a:cubicBezTo>
                  <a:cubicBezTo>
                    <a:pt x="72" y="155"/>
                    <a:pt x="62" y="80"/>
                    <a:pt x="45" y="54"/>
                  </a:cubicBezTo>
                  <a:cubicBezTo>
                    <a:pt x="38" y="43"/>
                    <a:pt x="26" y="37"/>
                    <a:pt x="18" y="27"/>
                  </a:cubicBezTo>
                  <a:cubicBezTo>
                    <a:pt x="11" y="19"/>
                    <a:pt x="0" y="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71880" y="2284560"/>
              <a:ext cx="539640" cy="430200"/>
            </a:xfrm>
            <a:custGeom>
              <a:avLst/>
              <a:gdLst/>
              <a:ahLst/>
              <a:rect l="l" t="t" r="r" b="b"/>
              <a:pathLst>
                <a:path w="340" h="271">
                  <a:moveTo>
                    <a:pt x="0" y="271"/>
                  </a:moveTo>
                  <a:cubicBezTo>
                    <a:pt x="1" y="266"/>
                    <a:pt x="13" y="216"/>
                    <a:pt x="18" y="208"/>
                  </a:cubicBezTo>
                  <a:cubicBezTo>
                    <a:pt x="59" y="146"/>
                    <a:pt x="145" y="73"/>
                    <a:pt x="216" y="46"/>
                  </a:cubicBezTo>
                  <a:cubicBezTo>
                    <a:pt x="340" y="0"/>
                    <a:pt x="216" y="60"/>
                    <a:pt x="279" y="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86200" y="3175200"/>
              <a:ext cx="3068640" cy="396720"/>
            </a:xfrm>
            <a:custGeom>
              <a:avLst/>
              <a:gdLst/>
              <a:ahLst/>
              <a:rect l="l" t="t" r="r" b="b"/>
              <a:pathLst>
                <a:path w="1933" h="250">
                  <a:moveTo>
                    <a:pt x="0" y="142"/>
                  </a:moveTo>
                  <a:cubicBezTo>
                    <a:pt x="170" y="108"/>
                    <a:pt x="514" y="170"/>
                    <a:pt x="702" y="187"/>
                  </a:cubicBezTo>
                  <a:cubicBezTo>
                    <a:pt x="774" y="201"/>
                    <a:pt x="846" y="211"/>
                    <a:pt x="918" y="223"/>
                  </a:cubicBezTo>
                  <a:cubicBezTo>
                    <a:pt x="999" y="220"/>
                    <a:pt x="1080" y="219"/>
                    <a:pt x="1161" y="214"/>
                  </a:cubicBezTo>
                  <a:cubicBezTo>
                    <a:pt x="1208" y="211"/>
                    <a:pt x="1243" y="197"/>
                    <a:pt x="1287" y="187"/>
                  </a:cubicBezTo>
                  <a:cubicBezTo>
                    <a:pt x="1398" y="163"/>
                    <a:pt x="1508" y="143"/>
                    <a:pt x="1620" y="124"/>
                  </a:cubicBezTo>
                  <a:cubicBezTo>
                    <a:pt x="1660" y="117"/>
                    <a:pt x="1713" y="86"/>
                    <a:pt x="1746" y="70"/>
                  </a:cubicBezTo>
                  <a:cubicBezTo>
                    <a:pt x="1774" y="56"/>
                    <a:pt x="1806" y="53"/>
                    <a:pt x="1836" y="43"/>
                  </a:cubicBezTo>
                  <a:cubicBezTo>
                    <a:pt x="1899" y="22"/>
                    <a:pt x="1821" y="49"/>
                    <a:pt x="1899" y="16"/>
                  </a:cubicBezTo>
                  <a:cubicBezTo>
                    <a:pt x="1908" y="12"/>
                    <a:pt x="1933" y="0"/>
                    <a:pt x="1926" y="7"/>
                  </a:cubicBezTo>
                  <a:cubicBezTo>
                    <a:pt x="1874" y="59"/>
                    <a:pt x="1786" y="89"/>
                    <a:pt x="1719" y="106"/>
                  </a:cubicBezTo>
                  <a:cubicBezTo>
                    <a:pt x="1688" y="114"/>
                    <a:pt x="1669" y="134"/>
                    <a:pt x="1638" y="142"/>
                  </a:cubicBezTo>
                  <a:cubicBezTo>
                    <a:pt x="1550" y="164"/>
                    <a:pt x="1468" y="179"/>
                    <a:pt x="1377" y="187"/>
                  </a:cubicBezTo>
                  <a:cubicBezTo>
                    <a:pt x="1335" y="198"/>
                    <a:pt x="1294" y="219"/>
                    <a:pt x="1251" y="223"/>
                  </a:cubicBezTo>
                  <a:cubicBezTo>
                    <a:pt x="1161" y="232"/>
                    <a:pt x="1071" y="237"/>
                    <a:pt x="981" y="250"/>
                  </a:cubicBezTo>
                  <a:cubicBezTo>
                    <a:pt x="651" y="235"/>
                    <a:pt x="331" y="156"/>
                    <a:pt x="0" y="142"/>
                  </a:cubicBez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58080" y="2129040"/>
              <a:ext cx="699840" cy="1057320"/>
            </a:xfrm>
            <a:custGeom>
              <a:avLst/>
              <a:gdLst/>
              <a:ahLst/>
              <a:rect l="l" t="t" r="r" b="b"/>
              <a:pathLst>
                <a:path w="441" h="666">
                  <a:moveTo>
                    <a:pt x="0" y="666"/>
                  </a:moveTo>
                  <a:cubicBezTo>
                    <a:pt x="31" y="635"/>
                    <a:pt x="53" y="600"/>
                    <a:pt x="90" y="576"/>
                  </a:cubicBezTo>
                  <a:cubicBezTo>
                    <a:pt x="123" y="526"/>
                    <a:pt x="176" y="488"/>
                    <a:pt x="198" y="432"/>
                  </a:cubicBezTo>
                  <a:cubicBezTo>
                    <a:pt x="247" y="310"/>
                    <a:pt x="218" y="204"/>
                    <a:pt x="306" y="99"/>
                  </a:cubicBezTo>
                  <a:cubicBezTo>
                    <a:pt x="321" y="81"/>
                    <a:pt x="333" y="51"/>
                    <a:pt x="351" y="36"/>
                  </a:cubicBezTo>
                  <a:cubicBezTo>
                    <a:pt x="364" y="25"/>
                    <a:pt x="423" y="0"/>
                    <a:pt x="441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86520" y="2428920"/>
              <a:ext cx="814320" cy="728640"/>
            </a:xfrm>
            <a:custGeom>
              <a:avLst/>
              <a:gdLst/>
              <a:ahLst/>
              <a:rect l="l" t="t" r="r" b="b"/>
              <a:pathLst>
                <a:path w="513" h="459">
                  <a:moveTo>
                    <a:pt x="0" y="459"/>
                  </a:moveTo>
                  <a:cubicBezTo>
                    <a:pt x="52" y="433"/>
                    <a:pt x="88" y="397"/>
                    <a:pt x="144" y="378"/>
                  </a:cubicBezTo>
                  <a:cubicBezTo>
                    <a:pt x="193" y="329"/>
                    <a:pt x="186" y="271"/>
                    <a:pt x="198" y="207"/>
                  </a:cubicBezTo>
                  <a:cubicBezTo>
                    <a:pt x="211" y="139"/>
                    <a:pt x="219" y="115"/>
                    <a:pt x="252" y="63"/>
                  </a:cubicBezTo>
                  <a:cubicBezTo>
                    <a:pt x="276" y="24"/>
                    <a:pt x="280" y="15"/>
                    <a:pt x="324" y="0"/>
                  </a:cubicBezTo>
                  <a:cubicBezTo>
                    <a:pt x="385" y="15"/>
                    <a:pt x="450" y="45"/>
                    <a:pt x="513" y="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114960" y="2686320"/>
              <a:ext cx="800280" cy="471240"/>
            </a:xfrm>
            <a:custGeom>
              <a:avLst/>
              <a:gdLst/>
              <a:ahLst/>
              <a:rect l="l" t="t" r="r" b="b"/>
              <a:pathLst>
                <a:path w="504" h="297">
                  <a:moveTo>
                    <a:pt x="0" y="297"/>
                  </a:moveTo>
                  <a:cubicBezTo>
                    <a:pt x="51" y="288"/>
                    <a:pt x="104" y="277"/>
                    <a:pt x="153" y="261"/>
                  </a:cubicBezTo>
                  <a:cubicBezTo>
                    <a:pt x="156" y="225"/>
                    <a:pt x="155" y="189"/>
                    <a:pt x="162" y="153"/>
                  </a:cubicBezTo>
                  <a:cubicBezTo>
                    <a:pt x="166" y="131"/>
                    <a:pt x="184" y="112"/>
                    <a:pt x="189" y="90"/>
                  </a:cubicBezTo>
                  <a:cubicBezTo>
                    <a:pt x="193" y="72"/>
                    <a:pt x="191" y="53"/>
                    <a:pt x="198" y="36"/>
                  </a:cubicBezTo>
                  <a:cubicBezTo>
                    <a:pt x="210" y="10"/>
                    <a:pt x="229" y="8"/>
                    <a:pt x="252" y="0"/>
                  </a:cubicBezTo>
                  <a:cubicBezTo>
                    <a:pt x="300" y="16"/>
                    <a:pt x="314" y="66"/>
                    <a:pt x="351" y="99"/>
                  </a:cubicBezTo>
                  <a:cubicBezTo>
                    <a:pt x="385" y="130"/>
                    <a:pt x="430" y="146"/>
                    <a:pt x="468" y="171"/>
                  </a:cubicBezTo>
                  <a:cubicBezTo>
                    <a:pt x="479" y="192"/>
                    <a:pt x="487" y="226"/>
                    <a:pt x="504" y="24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72120" y="3157560"/>
              <a:ext cx="789120" cy="843120"/>
            </a:xfrm>
            <a:custGeom>
              <a:avLst/>
              <a:gdLst/>
              <a:ahLst/>
              <a:rect l="l" t="t" r="r" b="b"/>
              <a:pathLst>
                <a:path w="497" h="531">
                  <a:moveTo>
                    <a:pt x="0" y="36"/>
                  </a:moveTo>
                  <a:cubicBezTo>
                    <a:pt x="9" y="30"/>
                    <a:pt x="17" y="22"/>
                    <a:pt x="27" y="18"/>
                  </a:cubicBezTo>
                  <a:cubicBezTo>
                    <a:pt x="44" y="10"/>
                    <a:pt x="81" y="0"/>
                    <a:pt x="81" y="0"/>
                  </a:cubicBezTo>
                  <a:cubicBezTo>
                    <a:pt x="99" y="3"/>
                    <a:pt x="119" y="0"/>
                    <a:pt x="135" y="9"/>
                  </a:cubicBezTo>
                  <a:cubicBezTo>
                    <a:pt x="167" y="27"/>
                    <a:pt x="209" y="87"/>
                    <a:pt x="234" y="117"/>
                  </a:cubicBezTo>
                  <a:cubicBezTo>
                    <a:pt x="260" y="148"/>
                    <a:pt x="254" y="166"/>
                    <a:pt x="288" y="189"/>
                  </a:cubicBezTo>
                  <a:cubicBezTo>
                    <a:pt x="327" y="176"/>
                    <a:pt x="362" y="176"/>
                    <a:pt x="396" y="153"/>
                  </a:cubicBezTo>
                  <a:cubicBezTo>
                    <a:pt x="423" y="156"/>
                    <a:pt x="454" y="147"/>
                    <a:pt x="477" y="162"/>
                  </a:cubicBezTo>
                  <a:cubicBezTo>
                    <a:pt x="493" y="172"/>
                    <a:pt x="494" y="197"/>
                    <a:pt x="495" y="216"/>
                  </a:cubicBezTo>
                  <a:cubicBezTo>
                    <a:pt x="497" y="282"/>
                    <a:pt x="491" y="348"/>
                    <a:pt x="486" y="414"/>
                  </a:cubicBezTo>
                  <a:cubicBezTo>
                    <a:pt x="484" y="438"/>
                    <a:pt x="475" y="479"/>
                    <a:pt x="468" y="504"/>
                  </a:cubicBezTo>
                  <a:cubicBezTo>
                    <a:pt x="465" y="513"/>
                    <a:pt x="459" y="531"/>
                    <a:pt x="459" y="5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964120" y="1943280"/>
              <a:ext cx="319320" cy="1285920"/>
            </a:xfrm>
            <a:custGeom>
              <a:avLst/>
              <a:gdLst/>
              <a:ahLst/>
              <a:rect l="l" t="t" r="r" b="b"/>
              <a:pathLst>
                <a:path w="201" h="810">
                  <a:moveTo>
                    <a:pt x="41" y="810"/>
                  </a:moveTo>
                  <a:cubicBezTo>
                    <a:pt x="99" y="752"/>
                    <a:pt x="131" y="676"/>
                    <a:pt x="167" y="603"/>
                  </a:cubicBezTo>
                  <a:cubicBezTo>
                    <a:pt x="173" y="573"/>
                    <a:pt x="179" y="543"/>
                    <a:pt x="185" y="513"/>
                  </a:cubicBezTo>
                  <a:cubicBezTo>
                    <a:pt x="201" y="434"/>
                    <a:pt x="130" y="323"/>
                    <a:pt x="77" y="270"/>
                  </a:cubicBezTo>
                  <a:cubicBezTo>
                    <a:pt x="59" y="252"/>
                    <a:pt x="35" y="240"/>
                    <a:pt x="14" y="225"/>
                  </a:cubicBezTo>
                  <a:cubicBezTo>
                    <a:pt x="0" y="168"/>
                    <a:pt x="23" y="139"/>
                    <a:pt x="50" y="90"/>
                  </a:cubicBezTo>
                  <a:cubicBezTo>
                    <a:pt x="57" y="78"/>
                    <a:pt x="60" y="64"/>
                    <a:pt x="68" y="54"/>
                  </a:cubicBezTo>
                  <a:cubicBezTo>
                    <a:pt x="84" y="34"/>
                    <a:pt x="122" y="0"/>
                    <a:pt x="12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47320" y="2846520"/>
              <a:ext cx="88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x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83600" y="398952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endr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46120" y="231300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endr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8642600">
              <a:off x="6896160" y="3828600"/>
              <a:ext cx="228600" cy="304920"/>
            </a:xfrm>
            <a:prstGeom prst="flowChartMerg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143840" y="3837240"/>
              <a:ext cx="900000" cy="263520"/>
            </a:xfrm>
            <a:custGeom>
              <a:avLst/>
              <a:gdLst/>
              <a:ahLst/>
              <a:rect l="l" t="t" r="r" b="b"/>
              <a:pathLst>
                <a:path w="567" h="166">
                  <a:moveTo>
                    <a:pt x="0" y="166"/>
                  </a:moveTo>
                  <a:cubicBezTo>
                    <a:pt x="66" y="160"/>
                    <a:pt x="110" y="165"/>
                    <a:pt x="162" y="130"/>
                  </a:cubicBezTo>
                  <a:cubicBezTo>
                    <a:pt x="190" y="87"/>
                    <a:pt x="217" y="69"/>
                    <a:pt x="261" y="40"/>
                  </a:cubicBezTo>
                  <a:cubicBezTo>
                    <a:pt x="283" y="25"/>
                    <a:pt x="333" y="4"/>
                    <a:pt x="333" y="4"/>
                  </a:cubicBezTo>
                  <a:cubicBezTo>
                    <a:pt x="427" y="10"/>
                    <a:pt x="500" y="0"/>
                    <a:pt x="567" y="6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8642600">
              <a:off x="2629080" y="2228400"/>
              <a:ext cx="228600" cy="304560"/>
            </a:xfrm>
            <a:prstGeom prst="flowChartMerg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57680" y="2028960"/>
              <a:ext cx="542880" cy="471600"/>
            </a:xfrm>
            <a:custGeom>
              <a:avLst/>
              <a:gdLst/>
              <a:ahLst/>
              <a:rect l="l" t="t" r="r" b="b"/>
              <a:pathLst>
                <a:path w="342" h="297">
                  <a:moveTo>
                    <a:pt x="0" y="297"/>
                  </a:moveTo>
                  <a:cubicBezTo>
                    <a:pt x="60" y="290"/>
                    <a:pt x="123" y="289"/>
                    <a:pt x="180" y="270"/>
                  </a:cubicBezTo>
                  <a:cubicBezTo>
                    <a:pt x="235" y="197"/>
                    <a:pt x="202" y="147"/>
                    <a:pt x="234" y="72"/>
                  </a:cubicBezTo>
                  <a:cubicBezTo>
                    <a:pt x="248" y="38"/>
                    <a:pt x="283" y="23"/>
                    <a:pt x="315" y="9"/>
                  </a:cubicBezTo>
                  <a:cubicBezTo>
                    <a:pt x="324" y="5"/>
                    <a:pt x="342" y="0"/>
                    <a:pt x="34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648560" y="3456000"/>
              <a:ext cx="13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ynap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898280" y="2922840"/>
              <a:ext cx="6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752480" y="5086440"/>
              <a:ext cx="914400" cy="8380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666880" y="5467320"/>
              <a:ext cx="266724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34120" y="5086440"/>
              <a:ext cx="914400" cy="8380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48520" y="5467320"/>
              <a:ext cx="91440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914400" y="4857840"/>
              <a:ext cx="914400" cy="38088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914400" y="5772240"/>
              <a:ext cx="914400" cy="45720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39640" y="4523040"/>
              <a:ext cx="44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26320" y="5970600"/>
              <a:ext cx="45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77280" y="4523040"/>
              <a:ext cx="520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187640" y="6046920"/>
              <a:ext cx="529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184560" y="59706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3" name=""/>
                <p:cNvSpPr txBox="1"/>
                <p:nvPr/>
              </p:nvSpPr>
              <p:spPr>
                <a:xfrm>
                  <a:off x="1981080" y="5238720"/>
                  <a:ext cx="60984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34" name=""/>
            <p:cNvSpPr/>
            <p:nvPr/>
          </p:nvSpPr>
          <p:spPr>
            <a:xfrm>
              <a:off x="5791320" y="51627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334120" y="55436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10080" y="5543640"/>
              <a:ext cx="3812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791320" y="523836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791320" y="5238720"/>
              <a:ext cx="304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136640" y="52088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0" name=""/>
                <p:cNvSpPr txBox="1"/>
                <p:nvPr/>
              </p:nvSpPr>
              <p:spPr>
                <a:xfrm>
                  <a:off x="3200400" y="4552920"/>
                  <a:ext cx="990720" cy="90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2971800" y="5695920"/>
                  <a:ext cx="3720960" cy="13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o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 if 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 and 0 o/w</m:t>
                          </m: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42" name=""/>
            <p:cNvSpPr/>
            <p:nvPr/>
          </p:nvSpPr>
          <p:spPr>
            <a:xfrm>
              <a:off x="5409360" y="4629240"/>
              <a:ext cx="24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Threshold un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urons as Universal computing mach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1943, McCulloch and Pitts showed that a synchronous assembly of such neurons is a universal computing machine. That is, any Boolean function can be implemented with threshold (step function) uni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lementing A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057320" y="1951200"/>
            <a:ext cx="7812720" cy="4086000"/>
            <a:chOff x="1057320" y="1951200"/>
            <a:chExt cx="7812720" cy="4086000"/>
          </a:xfrm>
        </p:grpSpPr>
        <p:sp>
          <p:nvSpPr>
            <p:cNvPr id="347" name=""/>
            <p:cNvSpPr/>
            <p:nvPr/>
          </p:nvSpPr>
          <p:spPr>
            <a:xfrm>
              <a:off x="2286000" y="3200400"/>
              <a:ext cx="914400" cy="8380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200400" y="3581280"/>
              <a:ext cx="266688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867280" y="3200400"/>
              <a:ext cx="914400" cy="8380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781680" y="3581280"/>
              <a:ext cx="91440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47920" y="2971800"/>
              <a:ext cx="914400" cy="38088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1447920" y="3886200"/>
              <a:ext cx="914400" cy="45720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57320" y="2637000"/>
              <a:ext cx="44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73160" y="4084560"/>
              <a:ext cx="44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18080" y="40845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6" name=""/>
                <p:cNvSpPr txBox="1"/>
                <p:nvPr/>
              </p:nvSpPr>
              <p:spPr>
                <a:xfrm>
                  <a:off x="2514600" y="3352680"/>
                  <a:ext cx="60948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57" name=""/>
            <p:cNvSpPr/>
            <p:nvPr/>
          </p:nvSpPr>
          <p:spPr>
            <a:xfrm>
              <a:off x="6324480" y="32767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867280" y="36576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43600" y="365760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324480" y="33523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324480" y="335268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715880" y="3322800"/>
              <a:ext cx="1154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(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,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3" name=""/>
                <p:cNvSpPr txBox="1"/>
                <p:nvPr/>
              </p:nvSpPr>
              <p:spPr>
                <a:xfrm>
                  <a:off x="2819520" y="5181480"/>
                  <a:ext cx="4095720" cy="85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o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 if 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 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0 otherwise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64" name=""/>
            <p:cNvSpPr/>
            <p:nvPr/>
          </p:nvSpPr>
          <p:spPr>
            <a:xfrm>
              <a:off x="1796040" y="263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872360" y="4160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90920" y="2590920"/>
              <a:ext cx="0" cy="609480"/>
            </a:xfrm>
            <a:prstGeom prst="line">
              <a:avLst/>
            </a:prstGeom>
            <a:ln w="7632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420280" y="19512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721240" y="2637000"/>
              <a:ext cx="106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W=1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lligent System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t II: Neural Ne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23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lementing 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761760" y="1905120"/>
            <a:ext cx="7812720" cy="3903480"/>
            <a:chOff x="761760" y="1905120"/>
            <a:chExt cx="7812720" cy="3903480"/>
          </a:xfrm>
        </p:grpSpPr>
        <p:sp>
          <p:nvSpPr>
            <p:cNvPr id="371" name=""/>
            <p:cNvSpPr/>
            <p:nvPr/>
          </p:nvSpPr>
          <p:spPr>
            <a:xfrm>
              <a:off x="1990440" y="3154320"/>
              <a:ext cx="914040" cy="8380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904840" y="3535200"/>
              <a:ext cx="266652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571720" y="3154320"/>
              <a:ext cx="914040" cy="8380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86120" y="3535200"/>
              <a:ext cx="91404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152360" y="2925720"/>
              <a:ext cx="914040" cy="38088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1152360" y="3840120"/>
              <a:ext cx="914040" cy="45720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61760" y="2590920"/>
              <a:ext cx="44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77600" y="4038480"/>
              <a:ext cx="44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422520" y="4038480"/>
              <a:ext cx="183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0" name=""/>
                <p:cNvSpPr txBox="1"/>
                <p:nvPr/>
              </p:nvSpPr>
              <p:spPr>
                <a:xfrm>
                  <a:off x="2219040" y="3306600"/>
                  <a:ext cx="60912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81" name=""/>
            <p:cNvSpPr/>
            <p:nvPr/>
          </p:nvSpPr>
          <p:spPr>
            <a:xfrm>
              <a:off x="6028920" y="3230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571720" y="3611520"/>
              <a:ext cx="9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648040" y="3611520"/>
              <a:ext cx="380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028920" y="330624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028920" y="3306600"/>
              <a:ext cx="304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420320" y="3276720"/>
              <a:ext cx="1154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(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,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500480" y="2590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576440" y="4114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95360" y="2544840"/>
              <a:ext cx="0" cy="609480"/>
            </a:xfrm>
            <a:prstGeom prst="line">
              <a:avLst/>
            </a:prstGeom>
            <a:ln w="7632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124720" y="19051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450160" y="2590920"/>
              <a:ext cx="106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W=0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140920" y="4983120"/>
              <a:ext cx="4275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(x1,x2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1 if –0.5 + x1 + x2 &gt;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0 otherwi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lementing NO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539640" y="2179800"/>
            <a:ext cx="7964640" cy="3476520"/>
            <a:chOff x="539640" y="2179800"/>
            <a:chExt cx="7964640" cy="3476520"/>
          </a:xfrm>
        </p:grpSpPr>
        <p:sp>
          <p:nvSpPr>
            <p:cNvPr id="395" name=""/>
            <p:cNvSpPr/>
            <p:nvPr/>
          </p:nvSpPr>
          <p:spPr>
            <a:xfrm>
              <a:off x="2286000" y="3200400"/>
              <a:ext cx="914400" cy="8380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00400" y="3581280"/>
              <a:ext cx="266688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67280" y="3200400"/>
              <a:ext cx="914400" cy="8380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781680" y="3581280"/>
              <a:ext cx="91440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3657600"/>
              <a:ext cx="106668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39640" y="3429000"/>
              <a:ext cx="44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18080" y="40845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2" name=""/>
                <p:cNvSpPr txBox="1"/>
                <p:nvPr/>
              </p:nvSpPr>
              <p:spPr>
                <a:xfrm>
                  <a:off x="2514600" y="3352680"/>
                  <a:ext cx="60948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403" name=""/>
            <p:cNvSpPr/>
            <p:nvPr/>
          </p:nvSpPr>
          <p:spPr>
            <a:xfrm>
              <a:off x="6324480" y="32767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867280" y="36576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943600" y="365760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324480" y="33523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324480" y="335268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94280" y="3322800"/>
              <a:ext cx="81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(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445760" y="31240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90920" y="2590920"/>
              <a:ext cx="0" cy="609480"/>
            </a:xfrm>
            <a:prstGeom prst="line">
              <a:avLst/>
            </a:prstGeom>
            <a:ln w="7632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760480" y="2637000"/>
              <a:ext cx="116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W=-0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96600" y="21798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2494080" y="4800600"/>
                  <a:ext cx="2917800" cy="85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o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 if 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    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0 otherwise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lementing more complex Boolean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158760" y="2057400"/>
            <a:ext cx="8672760" cy="3177000"/>
            <a:chOff x="158760" y="2057400"/>
            <a:chExt cx="8672760" cy="3177000"/>
          </a:xfrm>
        </p:grpSpPr>
        <p:sp>
          <p:nvSpPr>
            <p:cNvPr id="416" name=""/>
            <p:cNvSpPr/>
            <p:nvPr/>
          </p:nvSpPr>
          <p:spPr>
            <a:xfrm>
              <a:off x="1143000" y="2971440"/>
              <a:ext cx="533520" cy="5331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7" name=""/>
                <p:cNvSpPr txBox="1"/>
                <p:nvPr/>
              </p:nvSpPr>
              <p:spPr>
                <a:xfrm>
                  <a:off x="1219320" y="3047760"/>
                  <a:ext cx="457200" cy="39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418" name=""/>
            <p:cNvSpPr/>
            <p:nvPr/>
          </p:nvSpPr>
          <p:spPr>
            <a:xfrm>
              <a:off x="1600200" y="32763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33720" y="2971440"/>
              <a:ext cx="685800" cy="5331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33720" y="335268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38280" y="312408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2438280" y="3124080"/>
              <a:ext cx="0" cy="228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609480" y="3428640"/>
              <a:ext cx="5335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9480" y="2895480"/>
              <a:ext cx="53352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71600" y="259056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819520" y="320004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18880" y="2636640"/>
              <a:ext cx="44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58760" y="3398760"/>
              <a:ext cx="44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29360" y="2560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76720" y="3170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442520" y="248436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0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17160" y="20574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222360" y="2712960"/>
              <a:ext cx="1140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r 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952880" y="4114440"/>
              <a:ext cx="533520" cy="5331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5029200" y="4190760"/>
                  <a:ext cx="457200" cy="39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436" name=""/>
            <p:cNvSpPr/>
            <p:nvPr/>
          </p:nvSpPr>
          <p:spPr>
            <a:xfrm>
              <a:off x="5410080" y="44193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943600" y="4114440"/>
              <a:ext cx="685800" cy="5331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943600" y="449568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248520" y="426708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6248520" y="4267080"/>
              <a:ext cx="0" cy="228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419720" y="4571640"/>
              <a:ext cx="533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419720" y="4038480"/>
              <a:ext cx="53316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181480" y="373356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629400" y="43430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968640" y="4541760"/>
              <a:ext cx="44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539240" y="3703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386960" y="4313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227920" y="362736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581280" y="3200040"/>
              <a:ext cx="8384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540480" y="4724280"/>
              <a:ext cx="2291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r 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) and 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50720" y="327636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ificial Neural Net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ing ANN, we have to defin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ificial Neur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N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rn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ificial Neural Net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N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N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Feedforwar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nks are unidirectional, and there are no cycles, i.e., the network is a directed acyclic graph (DAG).  Units are arranged in layers, and each unit is linked only to units in the next layer.  There is no internal state other than the weigh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Recurr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nks can form arbitrary topologies, which can implement memory.  Behavior can become unstable, oscillatory, or chaoti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6053040" y="1771200"/>
            <a:ext cx="1718640" cy="2494800"/>
            <a:chOff x="6053040" y="1771200"/>
            <a:chExt cx="1718640" cy="2494800"/>
          </a:xfrm>
        </p:grpSpPr>
        <p:grpSp>
          <p:nvGrpSpPr>
            <p:cNvPr id="459" name=""/>
            <p:cNvGrpSpPr/>
            <p:nvPr/>
          </p:nvGrpSpPr>
          <p:grpSpPr>
            <a:xfrm>
              <a:off x="6053040" y="2629080"/>
              <a:ext cx="1718640" cy="233280"/>
              <a:chOff x="6053040" y="2629080"/>
              <a:chExt cx="1718640" cy="233280"/>
            </a:xfrm>
          </p:grpSpPr>
          <p:sp>
            <p:nvSpPr>
              <p:cNvPr id="460" name=""/>
              <p:cNvSpPr/>
              <p:nvPr/>
            </p:nvSpPr>
            <p:spPr>
              <a:xfrm>
                <a:off x="6053040" y="2629080"/>
                <a:ext cx="27144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14480" y="2629080"/>
                <a:ext cx="27108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775920" y="2629080"/>
                <a:ext cx="27108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137000" y="2629080"/>
                <a:ext cx="27144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500240" y="2629080"/>
                <a:ext cx="27144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6053040" y="3175560"/>
              <a:ext cx="1718640" cy="233280"/>
              <a:chOff x="6053040" y="3175560"/>
              <a:chExt cx="1718640" cy="233280"/>
            </a:xfrm>
          </p:grpSpPr>
          <p:sp>
            <p:nvSpPr>
              <p:cNvPr id="466" name=""/>
              <p:cNvSpPr/>
              <p:nvPr/>
            </p:nvSpPr>
            <p:spPr>
              <a:xfrm>
                <a:off x="6053040" y="3175560"/>
                <a:ext cx="27144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414480" y="3175560"/>
                <a:ext cx="27108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77720" y="3175560"/>
                <a:ext cx="27144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138800" y="3175560"/>
                <a:ext cx="27144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500240" y="3175560"/>
                <a:ext cx="27144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6414120" y="2084040"/>
              <a:ext cx="995760" cy="233280"/>
              <a:chOff x="6414120" y="2084040"/>
              <a:chExt cx="995760" cy="233280"/>
            </a:xfrm>
          </p:grpSpPr>
          <p:sp>
            <p:nvSpPr>
              <p:cNvPr id="472" name=""/>
              <p:cNvSpPr/>
              <p:nvPr/>
            </p:nvSpPr>
            <p:spPr>
              <a:xfrm>
                <a:off x="6414120" y="2084040"/>
                <a:ext cx="27108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775200" y="2084040"/>
                <a:ext cx="27108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138440" y="2084040"/>
                <a:ext cx="27144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6186600" y="2315880"/>
              <a:ext cx="1449360" cy="312120"/>
              <a:chOff x="6186600" y="2315880"/>
              <a:chExt cx="1449360" cy="31212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6186600" y="2317320"/>
                <a:ext cx="1449000" cy="310680"/>
                <a:chOff x="6186600" y="2317320"/>
                <a:chExt cx="1449000" cy="31068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6911640" y="2317320"/>
                  <a:ext cx="0" cy="31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911640" y="2317320"/>
                  <a:ext cx="362880" cy="31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H="1">
                  <a:off x="6549840" y="2317320"/>
                  <a:ext cx="361080" cy="31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flipH="1">
                  <a:off x="6186600" y="2317320"/>
                  <a:ext cx="724680" cy="31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6911640" y="2317320"/>
                  <a:ext cx="723960" cy="31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6186600" y="2315880"/>
                <a:ext cx="1449000" cy="312120"/>
                <a:chOff x="6186600" y="2315880"/>
                <a:chExt cx="1449000" cy="31212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6550200" y="2315880"/>
                  <a:ext cx="36108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550200" y="2315880"/>
                  <a:ext cx="72216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550200" y="2315880"/>
                  <a:ext cx="108540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550200" y="2315880"/>
                  <a:ext cx="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H="1">
                  <a:off x="6186600" y="2315880"/>
                  <a:ext cx="36324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186960" y="2315880"/>
                <a:ext cx="1449000" cy="312120"/>
                <a:chOff x="6186960" y="2315880"/>
                <a:chExt cx="1449000" cy="312120"/>
              </a:xfrm>
            </p:grpSpPr>
            <p:sp>
              <p:nvSpPr>
                <p:cNvPr id="489" name=""/>
                <p:cNvSpPr/>
                <p:nvPr/>
              </p:nvSpPr>
              <p:spPr>
                <a:xfrm flipH="1">
                  <a:off x="6911280" y="2315880"/>
                  <a:ext cx="36108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H="1">
                  <a:off x="6550200" y="2315880"/>
                  <a:ext cx="72216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H="1">
                  <a:off x="6186960" y="2315880"/>
                  <a:ext cx="108540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272360" y="2315880"/>
                  <a:ext cx="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272720" y="2315880"/>
                  <a:ext cx="36324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4" name=""/>
            <p:cNvGrpSpPr/>
            <p:nvPr/>
          </p:nvGrpSpPr>
          <p:grpSpPr>
            <a:xfrm>
              <a:off x="6186600" y="2862720"/>
              <a:ext cx="1449360" cy="312120"/>
              <a:chOff x="6186600" y="2862720"/>
              <a:chExt cx="1449360" cy="312120"/>
            </a:xfrm>
          </p:grpSpPr>
          <p:grpSp>
            <p:nvGrpSpPr>
              <p:cNvPr id="495" name=""/>
              <p:cNvGrpSpPr/>
              <p:nvPr/>
            </p:nvGrpSpPr>
            <p:grpSpPr>
              <a:xfrm>
                <a:off x="6186960" y="2862720"/>
                <a:ext cx="1448640" cy="311760"/>
                <a:chOff x="6186960" y="2862720"/>
                <a:chExt cx="1448640" cy="31176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6911640" y="2862720"/>
                  <a:ext cx="0" cy="310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7272720" y="2864160"/>
                  <a:ext cx="0" cy="310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7635600" y="2862720"/>
                  <a:ext cx="0" cy="310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548040" y="2864160"/>
                  <a:ext cx="0" cy="310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6186960" y="2864160"/>
                  <a:ext cx="0" cy="310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1" name=""/>
              <p:cNvSpPr/>
              <p:nvPr/>
            </p:nvSpPr>
            <p:spPr>
              <a:xfrm>
                <a:off x="6186960" y="2862720"/>
                <a:ext cx="36108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549840" y="2862720"/>
                <a:ext cx="36144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911640" y="2862720"/>
                <a:ext cx="36108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274880" y="2862720"/>
                <a:ext cx="36108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6186600" y="2862720"/>
                <a:ext cx="36108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>
                <a:off x="6549840" y="2862720"/>
                <a:ext cx="36144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6911280" y="2862720"/>
                <a:ext cx="36108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7274520" y="2862720"/>
                <a:ext cx="36108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186960" y="2862720"/>
                <a:ext cx="72468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548040" y="2862720"/>
                <a:ext cx="72468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911640" y="2862720"/>
                <a:ext cx="72432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>
                <a:off x="6186600" y="2862720"/>
                <a:ext cx="72468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6547680" y="2862720"/>
                <a:ext cx="72468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6911640" y="2862720"/>
                <a:ext cx="72432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186960" y="2864520"/>
                <a:ext cx="1086120" cy="31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549840" y="2864520"/>
                <a:ext cx="1086120" cy="31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>
                <a:off x="6186600" y="2864520"/>
                <a:ext cx="1086120" cy="31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6549480" y="2864520"/>
                <a:ext cx="1086120" cy="31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186960" y="2864520"/>
                <a:ext cx="1449000" cy="31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6186600" y="2864520"/>
                <a:ext cx="1449000" cy="31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6186600" y="3409560"/>
              <a:ext cx="1449360" cy="312120"/>
              <a:chOff x="6186600" y="3409560"/>
              <a:chExt cx="1449360" cy="312120"/>
            </a:xfrm>
          </p:grpSpPr>
          <p:grpSp>
            <p:nvGrpSpPr>
              <p:cNvPr id="522" name=""/>
              <p:cNvGrpSpPr/>
              <p:nvPr/>
            </p:nvGrpSpPr>
            <p:grpSpPr>
              <a:xfrm>
                <a:off x="6186600" y="3409560"/>
                <a:ext cx="1449000" cy="310680"/>
                <a:chOff x="6186600" y="3409560"/>
                <a:chExt cx="1449000" cy="310680"/>
              </a:xfrm>
            </p:grpSpPr>
            <p:sp>
              <p:nvSpPr>
                <p:cNvPr id="523" name=""/>
                <p:cNvSpPr/>
                <p:nvPr/>
              </p:nvSpPr>
              <p:spPr>
                <a:xfrm flipV="1">
                  <a:off x="6911640" y="3409560"/>
                  <a:ext cx="0" cy="31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V="1">
                  <a:off x="6911640" y="3409560"/>
                  <a:ext cx="362880" cy="31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H="1" flipV="1">
                  <a:off x="6549840" y="3409560"/>
                  <a:ext cx="361080" cy="31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flipH="1" flipV="1">
                  <a:off x="6186600" y="3409560"/>
                  <a:ext cx="724680" cy="31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flipV="1">
                  <a:off x="6911640" y="3409560"/>
                  <a:ext cx="723960" cy="31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6186600" y="3409560"/>
                <a:ext cx="1449000" cy="312120"/>
                <a:chOff x="6186600" y="3409560"/>
                <a:chExt cx="1449000" cy="312120"/>
              </a:xfrm>
            </p:grpSpPr>
            <p:sp>
              <p:nvSpPr>
                <p:cNvPr id="529" name=""/>
                <p:cNvSpPr/>
                <p:nvPr/>
              </p:nvSpPr>
              <p:spPr>
                <a:xfrm flipV="1">
                  <a:off x="6550200" y="3409560"/>
                  <a:ext cx="36108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V="1">
                  <a:off x="6550200" y="3409560"/>
                  <a:ext cx="72216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flipV="1">
                  <a:off x="6550200" y="3409560"/>
                  <a:ext cx="108540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flipV="1">
                  <a:off x="6550200" y="3409560"/>
                  <a:ext cx="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flipH="1" flipV="1">
                  <a:off x="6186600" y="3409560"/>
                  <a:ext cx="36324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4" name=""/>
              <p:cNvGrpSpPr/>
              <p:nvPr/>
            </p:nvGrpSpPr>
            <p:grpSpPr>
              <a:xfrm>
                <a:off x="6186960" y="3409560"/>
                <a:ext cx="1449000" cy="312120"/>
                <a:chOff x="6186960" y="3409560"/>
                <a:chExt cx="1449000" cy="312120"/>
              </a:xfrm>
            </p:grpSpPr>
            <p:sp>
              <p:nvSpPr>
                <p:cNvPr id="535" name=""/>
                <p:cNvSpPr/>
                <p:nvPr/>
              </p:nvSpPr>
              <p:spPr>
                <a:xfrm flipH="1" flipV="1">
                  <a:off x="6911280" y="3409560"/>
                  <a:ext cx="36108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H="1" flipV="1">
                  <a:off x="6550200" y="3409560"/>
                  <a:ext cx="72216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H="1" flipV="1">
                  <a:off x="6186960" y="3409560"/>
                  <a:ext cx="108540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V="1">
                  <a:off x="7272360" y="3409560"/>
                  <a:ext cx="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flipV="1">
                  <a:off x="7272720" y="3409560"/>
                  <a:ext cx="36324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0" name=""/>
            <p:cNvGrpSpPr/>
            <p:nvPr/>
          </p:nvGrpSpPr>
          <p:grpSpPr>
            <a:xfrm>
              <a:off x="6414120" y="3720240"/>
              <a:ext cx="995760" cy="233280"/>
              <a:chOff x="6414120" y="3720240"/>
              <a:chExt cx="995760" cy="233280"/>
            </a:xfrm>
          </p:grpSpPr>
          <p:sp>
            <p:nvSpPr>
              <p:cNvPr id="541" name=""/>
              <p:cNvSpPr/>
              <p:nvPr/>
            </p:nvSpPr>
            <p:spPr>
              <a:xfrm>
                <a:off x="6414120" y="3720240"/>
                <a:ext cx="27108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775200" y="3720240"/>
                <a:ext cx="27108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138440" y="3720240"/>
                <a:ext cx="27144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6550200" y="3953880"/>
              <a:ext cx="724320" cy="312120"/>
              <a:chOff x="6550200" y="3953880"/>
              <a:chExt cx="724320" cy="312120"/>
            </a:xfrm>
          </p:grpSpPr>
          <p:sp>
            <p:nvSpPr>
              <p:cNvPr id="545" name=""/>
              <p:cNvSpPr/>
              <p:nvPr/>
            </p:nvSpPr>
            <p:spPr>
              <a:xfrm flipV="1">
                <a:off x="6550200" y="3953880"/>
                <a:ext cx="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6913440" y="3953880"/>
                <a:ext cx="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7274520" y="3953880"/>
                <a:ext cx="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6550200" y="1771200"/>
              <a:ext cx="724320" cy="312120"/>
              <a:chOff x="6550200" y="1771200"/>
              <a:chExt cx="724320" cy="312120"/>
            </a:xfrm>
          </p:grpSpPr>
          <p:sp>
            <p:nvSpPr>
              <p:cNvPr id="549" name=""/>
              <p:cNvSpPr/>
              <p:nvPr/>
            </p:nvSpPr>
            <p:spPr>
              <a:xfrm flipV="1">
                <a:off x="6550200" y="1771200"/>
                <a:ext cx="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6913440" y="1771200"/>
                <a:ext cx="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7274520" y="1771200"/>
                <a:ext cx="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2" name=""/>
          <p:cNvGrpSpPr/>
          <p:nvPr/>
        </p:nvGrpSpPr>
        <p:grpSpPr>
          <a:xfrm>
            <a:off x="5334120" y="4648320"/>
            <a:ext cx="3429000" cy="1295280"/>
            <a:chOff x="5334120" y="4648320"/>
            <a:chExt cx="3429000" cy="1295280"/>
          </a:xfrm>
        </p:grpSpPr>
        <p:sp>
          <p:nvSpPr>
            <p:cNvPr id="553" name=""/>
            <p:cNvSpPr/>
            <p:nvPr/>
          </p:nvSpPr>
          <p:spPr>
            <a:xfrm>
              <a:off x="5334120" y="5105520"/>
              <a:ext cx="381240" cy="3045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382240" y="5105520"/>
              <a:ext cx="380880" cy="3045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72560" y="5105520"/>
              <a:ext cx="380880" cy="3045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486760" y="5410080"/>
              <a:ext cx="838080" cy="533520"/>
            </a:xfrm>
            <a:custGeom>
              <a:avLst/>
              <a:gdLst/>
              <a:ahLst/>
              <a:rect l="l" t="t" r="r" b="b"/>
              <a:pathLst>
                <a:path w="528" h="336">
                  <a:moveTo>
                    <a:pt x="0" y="0"/>
                  </a:moveTo>
                  <a:cubicBezTo>
                    <a:pt x="100" y="168"/>
                    <a:pt x="200" y="336"/>
                    <a:pt x="288" y="336"/>
                  </a:cubicBezTo>
                  <a:cubicBezTo>
                    <a:pt x="376" y="336"/>
                    <a:pt x="488" y="56"/>
                    <a:pt x="52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486760" y="5410080"/>
              <a:ext cx="2971800" cy="533520"/>
            </a:xfrm>
            <a:custGeom>
              <a:avLst/>
              <a:gdLst/>
              <a:ahLst/>
              <a:rect l="l" t="t" r="r" b="b"/>
              <a:pathLst>
                <a:path w="1872" h="336">
                  <a:moveTo>
                    <a:pt x="0" y="0"/>
                  </a:moveTo>
                  <a:cubicBezTo>
                    <a:pt x="348" y="168"/>
                    <a:pt x="696" y="336"/>
                    <a:pt x="1008" y="336"/>
                  </a:cubicBezTo>
                  <a:cubicBezTo>
                    <a:pt x="1320" y="336"/>
                    <a:pt x="1728" y="56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486760" y="5334120"/>
              <a:ext cx="1676160" cy="469800"/>
            </a:xfrm>
            <a:custGeom>
              <a:avLst/>
              <a:gdLst/>
              <a:ahLst/>
              <a:rect l="l" t="t" r="r" b="b"/>
              <a:pathLst>
                <a:path w="1056" h="296">
                  <a:moveTo>
                    <a:pt x="0" y="48"/>
                  </a:moveTo>
                  <a:cubicBezTo>
                    <a:pt x="320" y="172"/>
                    <a:pt x="640" y="296"/>
                    <a:pt x="816" y="288"/>
                  </a:cubicBezTo>
                  <a:cubicBezTo>
                    <a:pt x="992" y="280"/>
                    <a:pt x="1016" y="48"/>
                    <a:pt x="10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562720" y="4724280"/>
              <a:ext cx="762120" cy="381240"/>
            </a:xfrm>
            <a:custGeom>
              <a:avLst/>
              <a:gdLst/>
              <a:ahLst/>
              <a:rect l="l" t="t" r="r" b="b"/>
              <a:pathLst>
                <a:path w="480" h="240">
                  <a:moveTo>
                    <a:pt x="480" y="240"/>
                  </a:moveTo>
                  <a:cubicBezTo>
                    <a:pt x="400" y="120"/>
                    <a:pt x="320" y="0"/>
                    <a:pt x="240" y="0"/>
                  </a:cubicBezTo>
                  <a:cubicBezTo>
                    <a:pt x="160" y="0"/>
                    <a:pt x="80" y="120"/>
                    <a:pt x="0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401160" y="4648320"/>
              <a:ext cx="2133360" cy="457200"/>
            </a:xfrm>
            <a:custGeom>
              <a:avLst/>
              <a:gdLst/>
              <a:ahLst/>
              <a:rect l="l" t="t" r="r" b="b"/>
              <a:pathLst>
                <a:path w="1344" h="288">
                  <a:moveTo>
                    <a:pt x="0" y="288"/>
                  </a:moveTo>
                  <a:cubicBezTo>
                    <a:pt x="152" y="144"/>
                    <a:pt x="304" y="0"/>
                    <a:pt x="528" y="0"/>
                  </a:cubicBezTo>
                  <a:cubicBezTo>
                    <a:pt x="752" y="0"/>
                    <a:pt x="1048" y="144"/>
                    <a:pt x="134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162920" y="5181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544160" y="51814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ificial Neural Network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eedforward Net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808200" y="2228760"/>
            <a:ext cx="8151480" cy="4019760"/>
            <a:chOff x="808200" y="2228760"/>
            <a:chExt cx="8151480" cy="4019760"/>
          </a:xfrm>
        </p:grpSpPr>
        <p:grpSp>
          <p:nvGrpSpPr>
            <p:cNvPr id="565" name=""/>
            <p:cNvGrpSpPr/>
            <p:nvPr/>
          </p:nvGrpSpPr>
          <p:grpSpPr>
            <a:xfrm>
              <a:off x="808200" y="2228760"/>
              <a:ext cx="1656720" cy="2663280"/>
              <a:chOff x="808200" y="2228760"/>
              <a:chExt cx="1656720" cy="2663280"/>
            </a:xfrm>
          </p:grpSpPr>
          <p:grpSp>
            <p:nvGrpSpPr>
              <p:cNvPr id="566" name=""/>
              <p:cNvGrpSpPr/>
              <p:nvPr/>
            </p:nvGrpSpPr>
            <p:grpSpPr>
              <a:xfrm>
                <a:off x="808200" y="3143880"/>
                <a:ext cx="1656720" cy="249120"/>
                <a:chOff x="808200" y="3143880"/>
                <a:chExt cx="1656720" cy="24912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808200" y="3143880"/>
                  <a:ext cx="26172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156680" y="3143880"/>
                  <a:ext cx="26136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504800" y="3143880"/>
                  <a:ext cx="26136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853280" y="3143880"/>
                  <a:ext cx="26172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2203200" y="3143880"/>
                  <a:ext cx="26172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808200" y="3727440"/>
                <a:ext cx="1656720" cy="249120"/>
                <a:chOff x="808200" y="3727440"/>
                <a:chExt cx="1656720" cy="24912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808200" y="3727440"/>
                  <a:ext cx="26172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156680" y="3727440"/>
                  <a:ext cx="26136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1506600" y="3727440"/>
                  <a:ext cx="26172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1855080" y="3727440"/>
                  <a:ext cx="26172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2203200" y="3727440"/>
                  <a:ext cx="26172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1156320" y="2562480"/>
                <a:ext cx="960120" cy="249120"/>
                <a:chOff x="1156320" y="2562480"/>
                <a:chExt cx="960120" cy="24912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1156320" y="2562480"/>
                  <a:ext cx="26136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1504440" y="2562480"/>
                  <a:ext cx="26136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1854720" y="2562480"/>
                  <a:ext cx="26172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937080" y="2809800"/>
                <a:ext cx="1396800" cy="333360"/>
                <a:chOff x="937080" y="2809800"/>
                <a:chExt cx="1396800" cy="333360"/>
              </a:xfrm>
            </p:grpSpPr>
            <p:grpSp>
              <p:nvGrpSpPr>
                <p:cNvPr id="583" name=""/>
                <p:cNvGrpSpPr/>
                <p:nvPr/>
              </p:nvGrpSpPr>
              <p:grpSpPr>
                <a:xfrm>
                  <a:off x="937080" y="2811240"/>
                  <a:ext cx="1396440" cy="331920"/>
                  <a:chOff x="937080" y="2811240"/>
                  <a:chExt cx="1396440" cy="331920"/>
                </a:xfrm>
              </p:grpSpPr>
              <p:sp>
                <p:nvSpPr>
                  <p:cNvPr id="584" name=""/>
                  <p:cNvSpPr/>
                  <p:nvPr/>
                </p:nvSpPr>
                <p:spPr>
                  <a:xfrm>
                    <a:off x="1635480" y="2811240"/>
                    <a:ext cx="0" cy="33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1635480" y="2811240"/>
                    <a:ext cx="349920" cy="33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flipH="1">
                    <a:off x="1287000" y="2811240"/>
                    <a:ext cx="348120" cy="33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 flipH="1">
                    <a:off x="937080" y="2811240"/>
                    <a:ext cx="698400" cy="33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1635480" y="2811240"/>
                    <a:ext cx="698040" cy="33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9" name=""/>
                <p:cNvGrpSpPr/>
                <p:nvPr/>
              </p:nvGrpSpPr>
              <p:grpSpPr>
                <a:xfrm>
                  <a:off x="937080" y="2809800"/>
                  <a:ext cx="1396080" cy="333360"/>
                  <a:chOff x="937080" y="2809800"/>
                  <a:chExt cx="1396080" cy="33336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>
                    <a:off x="1287000" y="2809800"/>
                    <a:ext cx="34776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1287000" y="2809800"/>
                    <a:ext cx="69588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1287000" y="2809800"/>
                    <a:ext cx="104616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1287000" y="280980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flipH="1">
                    <a:off x="937080" y="2809800"/>
                    <a:ext cx="34992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5" name=""/>
                <p:cNvGrpSpPr/>
                <p:nvPr/>
              </p:nvGrpSpPr>
              <p:grpSpPr>
                <a:xfrm>
                  <a:off x="937800" y="2809800"/>
                  <a:ext cx="1396080" cy="333360"/>
                  <a:chOff x="937800" y="2809800"/>
                  <a:chExt cx="1396080" cy="333360"/>
                </a:xfrm>
              </p:grpSpPr>
              <p:sp>
                <p:nvSpPr>
                  <p:cNvPr id="596" name=""/>
                  <p:cNvSpPr/>
                  <p:nvPr/>
                </p:nvSpPr>
                <p:spPr>
                  <a:xfrm flipH="1">
                    <a:off x="1636200" y="2809800"/>
                    <a:ext cx="34776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 flipH="1">
                    <a:off x="1288080" y="2809800"/>
                    <a:ext cx="69588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flipH="1">
                    <a:off x="937800" y="2809800"/>
                    <a:ext cx="104616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1983960" y="280980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1983960" y="2809800"/>
                    <a:ext cx="34992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1" name=""/>
              <p:cNvGrpSpPr/>
              <p:nvPr/>
            </p:nvGrpSpPr>
            <p:grpSpPr>
              <a:xfrm>
                <a:off x="936720" y="3393720"/>
                <a:ext cx="1397160" cy="333360"/>
                <a:chOff x="936720" y="3393720"/>
                <a:chExt cx="1397160" cy="333360"/>
              </a:xfrm>
            </p:grpSpPr>
            <p:grpSp>
              <p:nvGrpSpPr>
                <p:cNvPr id="602" name=""/>
                <p:cNvGrpSpPr/>
                <p:nvPr/>
              </p:nvGrpSpPr>
              <p:grpSpPr>
                <a:xfrm>
                  <a:off x="937080" y="3393720"/>
                  <a:ext cx="1396440" cy="333000"/>
                  <a:chOff x="937080" y="3393720"/>
                  <a:chExt cx="1396440" cy="33300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>
                    <a:off x="1635480" y="3393720"/>
                    <a:ext cx="0" cy="331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1983600" y="3395160"/>
                    <a:ext cx="0" cy="331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2333520" y="3393720"/>
                    <a:ext cx="0" cy="331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1285200" y="3395160"/>
                    <a:ext cx="0" cy="331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937080" y="3395160"/>
                    <a:ext cx="0" cy="331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8" name=""/>
                <p:cNvSpPr/>
                <p:nvPr/>
              </p:nvSpPr>
              <p:spPr>
                <a:xfrm>
                  <a:off x="937080" y="3393720"/>
                  <a:ext cx="34812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287000" y="3393720"/>
                  <a:ext cx="34848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635840" y="3393720"/>
                  <a:ext cx="34812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985760" y="3393720"/>
                  <a:ext cx="34812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H="1">
                  <a:off x="936720" y="3393720"/>
                  <a:ext cx="34812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flipH="1">
                  <a:off x="1287000" y="3393720"/>
                  <a:ext cx="34848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H="1">
                  <a:off x="1635480" y="3393720"/>
                  <a:ext cx="34812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flipH="1">
                  <a:off x="1985400" y="3393720"/>
                  <a:ext cx="34812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937080" y="3393720"/>
                  <a:ext cx="69840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285200" y="3393720"/>
                  <a:ext cx="69840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1635840" y="3393720"/>
                  <a:ext cx="69804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flipH="1">
                  <a:off x="937080" y="3393720"/>
                  <a:ext cx="69840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flipH="1">
                  <a:off x="1285200" y="3393720"/>
                  <a:ext cx="69840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 flipH="1">
                  <a:off x="1635480" y="3393720"/>
                  <a:ext cx="69804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937080" y="3395520"/>
                  <a:ext cx="1046880" cy="33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1287000" y="3395520"/>
                  <a:ext cx="1046880" cy="33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flipH="1">
                  <a:off x="937080" y="3395520"/>
                  <a:ext cx="1046880" cy="33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 flipH="1">
                  <a:off x="1287000" y="3395520"/>
                  <a:ext cx="1046880" cy="33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937080" y="3395520"/>
                  <a:ext cx="1396800" cy="33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 flipH="1">
                  <a:off x="937080" y="3395520"/>
                  <a:ext cx="1396800" cy="33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937080" y="3977640"/>
                <a:ext cx="1396800" cy="333360"/>
                <a:chOff x="937080" y="3977640"/>
                <a:chExt cx="1396800" cy="333360"/>
              </a:xfrm>
            </p:grpSpPr>
            <p:grpSp>
              <p:nvGrpSpPr>
                <p:cNvPr id="629" name=""/>
                <p:cNvGrpSpPr/>
                <p:nvPr/>
              </p:nvGrpSpPr>
              <p:grpSpPr>
                <a:xfrm>
                  <a:off x="937080" y="3977640"/>
                  <a:ext cx="1396440" cy="331920"/>
                  <a:chOff x="937080" y="3977640"/>
                  <a:chExt cx="1396440" cy="331920"/>
                </a:xfrm>
              </p:grpSpPr>
              <p:sp>
                <p:nvSpPr>
                  <p:cNvPr id="630" name=""/>
                  <p:cNvSpPr/>
                  <p:nvPr/>
                </p:nvSpPr>
                <p:spPr>
                  <a:xfrm flipV="1">
                    <a:off x="1635480" y="3977640"/>
                    <a:ext cx="0" cy="33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 flipV="1">
                    <a:off x="1635480" y="3977640"/>
                    <a:ext cx="349920" cy="33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 flipH="1" flipV="1">
                    <a:off x="1287000" y="3977640"/>
                    <a:ext cx="348120" cy="33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 flipH="1" flipV="1">
                    <a:off x="937080" y="3977640"/>
                    <a:ext cx="698400" cy="33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 flipV="1">
                    <a:off x="1635480" y="3977640"/>
                    <a:ext cx="698040" cy="33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5" name=""/>
                <p:cNvGrpSpPr/>
                <p:nvPr/>
              </p:nvGrpSpPr>
              <p:grpSpPr>
                <a:xfrm>
                  <a:off x="937080" y="3977640"/>
                  <a:ext cx="1396080" cy="333360"/>
                  <a:chOff x="937080" y="3977640"/>
                  <a:chExt cx="1396080" cy="333360"/>
                </a:xfrm>
              </p:grpSpPr>
              <p:sp>
                <p:nvSpPr>
                  <p:cNvPr id="636" name=""/>
                  <p:cNvSpPr/>
                  <p:nvPr/>
                </p:nvSpPr>
                <p:spPr>
                  <a:xfrm flipV="1">
                    <a:off x="1287000" y="3977640"/>
                    <a:ext cx="34776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 flipV="1">
                    <a:off x="1287000" y="3977640"/>
                    <a:ext cx="69588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flipV="1">
                    <a:off x="1287000" y="3977640"/>
                    <a:ext cx="104616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flipV="1">
                    <a:off x="1287000" y="397764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flipH="1" flipV="1">
                    <a:off x="937080" y="3977640"/>
                    <a:ext cx="34992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1" name=""/>
                <p:cNvGrpSpPr/>
                <p:nvPr/>
              </p:nvGrpSpPr>
              <p:grpSpPr>
                <a:xfrm>
                  <a:off x="937800" y="3977640"/>
                  <a:ext cx="1396080" cy="333360"/>
                  <a:chOff x="937800" y="3977640"/>
                  <a:chExt cx="1396080" cy="333360"/>
                </a:xfrm>
              </p:grpSpPr>
              <p:sp>
                <p:nvSpPr>
                  <p:cNvPr id="642" name=""/>
                  <p:cNvSpPr/>
                  <p:nvPr/>
                </p:nvSpPr>
                <p:spPr>
                  <a:xfrm flipH="1" flipV="1">
                    <a:off x="1636200" y="3977640"/>
                    <a:ext cx="34776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flipH="1" flipV="1">
                    <a:off x="1288080" y="3977640"/>
                    <a:ext cx="69588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flipH="1" flipV="1">
                    <a:off x="937800" y="3977640"/>
                    <a:ext cx="104616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flipV="1">
                    <a:off x="1983960" y="397764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 flipV="1">
                    <a:off x="1983960" y="3977640"/>
                    <a:ext cx="34992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7" name=""/>
              <p:cNvGrpSpPr/>
              <p:nvPr/>
            </p:nvGrpSpPr>
            <p:grpSpPr>
              <a:xfrm>
                <a:off x="1156320" y="4309200"/>
                <a:ext cx="960120" cy="249120"/>
                <a:chOff x="1156320" y="4309200"/>
                <a:chExt cx="960120" cy="24912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1156320" y="4309200"/>
                  <a:ext cx="26136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504440" y="4309200"/>
                  <a:ext cx="26136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854720" y="4309200"/>
                  <a:ext cx="26172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1" name=""/>
              <p:cNvGrpSpPr/>
              <p:nvPr/>
            </p:nvGrpSpPr>
            <p:grpSpPr>
              <a:xfrm>
                <a:off x="1287360" y="4558680"/>
                <a:ext cx="698400" cy="333360"/>
                <a:chOff x="1287360" y="4558680"/>
                <a:chExt cx="698400" cy="333360"/>
              </a:xfrm>
            </p:grpSpPr>
            <p:sp>
              <p:nvSpPr>
                <p:cNvPr id="652" name=""/>
                <p:cNvSpPr/>
                <p:nvPr/>
              </p:nvSpPr>
              <p:spPr>
                <a:xfrm flipV="1">
                  <a:off x="1287360" y="4558680"/>
                  <a:ext cx="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V="1">
                  <a:off x="1637640" y="4558680"/>
                  <a:ext cx="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 flipV="1">
                  <a:off x="1985760" y="4558680"/>
                  <a:ext cx="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1287360" y="2228760"/>
                <a:ext cx="698400" cy="333360"/>
                <a:chOff x="1287360" y="2228760"/>
                <a:chExt cx="698400" cy="333360"/>
              </a:xfrm>
            </p:grpSpPr>
            <p:sp>
              <p:nvSpPr>
                <p:cNvPr id="656" name=""/>
                <p:cNvSpPr/>
                <p:nvPr/>
              </p:nvSpPr>
              <p:spPr>
                <a:xfrm flipV="1">
                  <a:off x="1287360" y="2228760"/>
                  <a:ext cx="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V="1">
                  <a:off x="1637640" y="2228760"/>
                  <a:ext cx="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V="1">
                  <a:off x="1985760" y="2228760"/>
                  <a:ext cx="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9" name=""/>
            <p:cNvGrpSpPr/>
            <p:nvPr/>
          </p:nvGrpSpPr>
          <p:grpSpPr>
            <a:xfrm>
              <a:off x="5343840" y="4460760"/>
              <a:ext cx="1090080" cy="1787760"/>
              <a:chOff x="5343840" y="4460760"/>
              <a:chExt cx="1090080" cy="1787760"/>
            </a:xfrm>
          </p:grpSpPr>
          <p:sp>
            <p:nvSpPr>
              <p:cNvPr id="660" name=""/>
              <p:cNvSpPr/>
              <p:nvPr/>
            </p:nvSpPr>
            <p:spPr>
              <a:xfrm>
                <a:off x="5343840" y="507492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572800" y="507492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802120" y="507492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031080" y="507492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261840" y="507492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343840" y="546660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572800" y="546660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803560" y="5466600"/>
                <a:ext cx="17172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032520" y="546660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261840" y="546660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572800" y="468468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802120" y="468468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032520" y="468468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888160" y="4852080"/>
                <a:ext cx="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888160" y="4852080"/>
                <a:ext cx="23040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888160" y="4852080"/>
                <a:ext cx="45972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658840" y="4850640"/>
                <a:ext cx="22896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658840" y="4850640"/>
                <a:ext cx="68868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658840" y="485064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5428440" y="4850640"/>
                <a:ext cx="23040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5888160" y="4850640"/>
                <a:ext cx="22896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5658480" y="4850640"/>
                <a:ext cx="45828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888160" y="5242680"/>
                <a:ext cx="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117480" y="5243760"/>
                <a:ext cx="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347880" y="5242680"/>
                <a:ext cx="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428440" y="5242680"/>
                <a:ext cx="22932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658840" y="5242680"/>
                <a:ext cx="22896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>
                <a:off x="5428080" y="5242680"/>
                <a:ext cx="22932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5658840" y="5242680"/>
                <a:ext cx="22896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5888160" y="5242680"/>
                <a:ext cx="22896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H="1">
                <a:off x="5887800" y="5242680"/>
                <a:ext cx="45972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658840" y="5243760"/>
                <a:ext cx="68868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5658480" y="5243760"/>
                <a:ext cx="68868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28440" y="5243760"/>
                <a:ext cx="91944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5888160" y="5633640"/>
                <a:ext cx="23040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 flipV="1">
                <a:off x="5658840" y="5633640"/>
                <a:ext cx="22896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 flipV="1">
                <a:off x="5428080" y="5633640"/>
                <a:ext cx="45972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5658840" y="5634000"/>
                <a:ext cx="22896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5658840" y="5634000"/>
                <a:ext cx="45828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5658840" y="5634000"/>
                <a:ext cx="68868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 flipV="1">
                <a:off x="5428440" y="5634000"/>
                <a:ext cx="23040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 flipV="1">
                <a:off x="5658480" y="5634000"/>
                <a:ext cx="45828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6117480" y="563400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572800" y="585684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802120" y="585684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032520" y="585684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5658840" y="602460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5889600" y="602460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6118920" y="602460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5658840" y="446076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5889600" y="446076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6118920" y="446076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5343840" y="2300400"/>
              <a:ext cx="1090080" cy="1787400"/>
              <a:chOff x="5343840" y="2300400"/>
              <a:chExt cx="1090080" cy="1787400"/>
            </a:xfrm>
          </p:grpSpPr>
          <p:grpSp>
            <p:nvGrpSpPr>
              <p:cNvPr id="713" name=""/>
              <p:cNvGrpSpPr/>
              <p:nvPr/>
            </p:nvGrpSpPr>
            <p:grpSpPr>
              <a:xfrm>
                <a:off x="5343840" y="2914560"/>
                <a:ext cx="1090080" cy="167400"/>
                <a:chOff x="5343840" y="2914560"/>
                <a:chExt cx="1090080" cy="16740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5343840" y="2914560"/>
                  <a:ext cx="17208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5573160" y="2914560"/>
                  <a:ext cx="17172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5802480" y="2914560"/>
                  <a:ext cx="17172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031440" y="2914560"/>
                  <a:ext cx="17208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6261840" y="2914560"/>
                  <a:ext cx="17208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9" name=""/>
              <p:cNvGrpSpPr/>
              <p:nvPr/>
            </p:nvGrpSpPr>
            <p:grpSpPr>
              <a:xfrm>
                <a:off x="5343840" y="3305880"/>
                <a:ext cx="1090080" cy="167400"/>
                <a:chOff x="5343840" y="3305880"/>
                <a:chExt cx="1090080" cy="16740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5343840" y="3305880"/>
                  <a:ext cx="17208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5573160" y="3305880"/>
                  <a:ext cx="17172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803560" y="3305880"/>
                  <a:ext cx="17208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032520" y="3305880"/>
                  <a:ext cx="17208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6261840" y="3305880"/>
                  <a:ext cx="17208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5" name=""/>
              <p:cNvGrpSpPr/>
              <p:nvPr/>
            </p:nvGrpSpPr>
            <p:grpSpPr>
              <a:xfrm>
                <a:off x="5572800" y="2524320"/>
                <a:ext cx="631440" cy="167400"/>
                <a:chOff x="5572800" y="2524320"/>
                <a:chExt cx="631440" cy="16740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5572800" y="2524320"/>
                  <a:ext cx="17172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5801760" y="2524320"/>
                  <a:ext cx="17172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032160" y="2524320"/>
                  <a:ext cx="17208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5428440" y="2690280"/>
                <a:ext cx="919440" cy="223920"/>
                <a:chOff x="5428440" y="2690280"/>
                <a:chExt cx="919440" cy="223920"/>
              </a:xfrm>
            </p:grpSpPr>
            <p:grpSp>
              <p:nvGrpSpPr>
                <p:cNvPr id="730" name=""/>
                <p:cNvGrpSpPr/>
                <p:nvPr/>
              </p:nvGrpSpPr>
              <p:grpSpPr>
                <a:xfrm>
                  <a:off x="5428440" y="2691360"/>
                  <a:ext cx="919440" cy="222840"/>
                  <a:chOff x="5428440" y="2691360"/>
                  <a:chExt cx="919440" cy="222840"/>
                </a:xfrm>
              </p:grpSpPr>
              <p:sp>
                <p:nvSpPr>
                  <p:cNvPr id="731" name=""/>
                  <p:cNvSpPr/>
                  <p:nvPr/>
                </p:nvSpPr>
                <p:spPr>
                  <a:xfrm>
                    <a:off x="5888520" y="2691360"/>
                    <a:ext cx="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5888520" y="2691360"/>
                    <a:ext cx="23004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 flipH="1">
                    <a:off x="5659200" y="2691360"/>
                    <a:ext cx="22896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 flipH="1">
                    <a:off x="5428440" y="2691360"/>
                    <a:ext cx="45972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5888520" y="2691360"/>
                    <a:ext cx="45936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6" name=""/>
                <p:cNvGrpSpPr/>
                <p:nvPr/>
              </p:nvGrpSpPr>
              <p:grpSpPr>
                <a:xfrm>
                  <a:off x="5428800" y="2690280"/>
                  <a:ext cx="918720" cy="223920"/>
                  <a:chOff x="5428800" y="2690280"/>
                  <a:chExt cx="918720" cy="223920"/>
                </a:xfrm>
              </p:grpSpPr>
              <p:sp>
                <p:nvSpPr>
                  <p:cNvPr id="737" name=""/>
                  <p:cNvSpPr/>
                  <p:nvPr/>
                </p:nvSpPr>
                <p:spPr>
                  <a:xfrm>
                    <a:off x="5659200" y="2690280"/>
                    <a:ext cx="22896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5659200" y="2690280"/>
                    <a:ext cx="45792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5659200" y="2690280"/>
                    <a:ext cx="68832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5659200" y="2690280"/>
                    <a:ext cx="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 flipH="1">
                    <a:off x="5428800" y="2690280"/>
                    <a:ext cx="23040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2" name=""/>
                <p:cNvGrpSpPr/>
                <p:nvPr/>
              </p:nvGrpSpPr>
              <p:grpSpPr>
                <a:xfrm>
                  <a:off x="5428800" y="2690280"/>
                  <a:ext cx="918720" cy="223920"/>
                  <a:chOff x="5428800" y="2690280"/>
                  <a:chExt cx="918720" cy="223920"/>
                </a:xfrm>
              </p:grpSpPr>
              <p:sp>
                <p:nvSpPr>
                  <p:cNvPr id="743" name=""/>
                  <p:cNvSpPr/>
                  <p:nvPr/>
                </p:nvSpPr>
                <p:spPr>
                  <a:xfrm flipH="1">
                    <a:off x="5888160" y="2690280"/>
                    <a:ext cx="22896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 flipH="1">
                    <a:off x="5659200" y="2690280"/>
                    <a:ext cx="45792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 flipH="1">
                    <a:off x="5428800" y="2690280"/>
                    <a:ext cx="68832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6117120" y="2690280"/>
                    <a:ext cx="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6117120" y="2690280"/>
                    <a:ext cx="23040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8" name=""/>
              <p:cNvGrpSpPr/>
              <p:nvPr/>
            </p:nvGrpSpPr>
            <p:grpSpPr>
              <a:xfrm>
                <a:off x="5428440" y="3081960"/>
                <a:ext cx="919440" cy="223920"/>
                <a:chOff x="5428440" y="3081960"/>
                <a:chExt cx="919440" cy="223920"/>
              </a:xfrm>
            </p:grpSpPr>
            <p:grpSp>
              <p:nvGrpSpPr>
                <p:cNvPr id="749" name=""/>
                <p:cNvGrpSpPr/>
                <p:nvPr/>
              </p:nvGrpSpPr>
              <p:grpSpPr>
                <a:xfrm>
                  <a:off x="5428800" y="3081960"/>
                  <a:ext cx="919080" cy="223920"/>
                  <a:chOff x="5428800" y="3081960"/>
                  <a:chExt cx="919080" cy="223920"/>
                </a:xfrm>
              </p:grpSpPr>
              <p:sp>
                <p:nvSpPr>
                  <p:cNvPr id="750" name=""/>
                  <p:cNvSpPr/>
                  <p:nvPr/>
                </p:nvSpPr>
                <p:spPr>
                  <a:xfrm>
                    <a:off x="5888520" y="3081960"/>
                    <a:ext cx="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6117480" y="3083040"/>
                    <a:ext cx="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6347880" y="3081960"/>
                    <a:ext cx="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5657760" y="3083040"/>
                    <a:ext cx="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5428800" y="3083040"/>
                    <a:ext cx="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5" name=""/>
                <p:cNvSpPr/>
                <p:nvPr/>
              </p:nvSpPr>
              <p:spPr>
                <a:xfrm>
                  <a:off x="5428800" y="3081960"/>
                  <a:ext cx="22896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5658840" y="3081960"/>
                  <a:ext cx="22932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5888520" y="3081960"/>
                  <a:ext cx="22896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6118560" y="3081960"/>
                  <a:ext cx="22896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flipH="1">
                  <a:off x="5428800" y="3081960"/>
                  <a:ext cx="22896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flipH="1">
                  <a:off x="5658480" y="3081960"/>
                  <a:ext cx="22932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flipH="1">
                  <a:off x="5888520" y="3081960"/>
                  <a:ext cx="22896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flipH="1">
                  <a:off x="6118560" y="3081960"/>
                  <a:ext cx="22896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5428800" y="3081960"/>
                  <a:ext cx="45972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5657760" y="3081960"/>
                  <a:ext cx="45972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888520" y="3081960"/>
                  <a:ext cx="45936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H="1">
                  <a:off x="5428440" y="3081960"/>
                  <a:ext cx="45972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flipH="1">
                  <a:off x="5657400" y="3081960"/>
                  <a:ext cx="45972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 flipH="1">
                  <a:off x="5888520" y="3081960"/>
                  <a:ext cx="45936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5428800" y="3083040"/>
                  <a:ext cx="688680" cy="22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5658840" y="3083040"/>
                  <a:ext cx="688680" cy="22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 flipH="1">
                  <a:off x="5428440" y="3083040"/>
                  <a:ext cx="688680" cy="22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H="1">
                  <a:off x="5658480" y="3083040"/>
                  <a:ext cx="688680" cy="22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5428800" y="3083040"/>
                  <a:ext cx="919080" cy="22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flipH="1">
                  <a:off x="5428440" y="3083040"/>
                  <a:ext cx="919080" cy="22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5428440" y="3473280"/>
                <a:ext cx="919440" cy="223920"/>
                <a:chOff x="5428440" y="3473280"/>
                <a:chExt cx="919440" cy="223920"/>
              </a:xfrm>
            </p:grpSpPr>
            <p:grpSp>
              <p:nvGrpSpPr>
                <p:cNvPr id="776" name=""/>
                <p:cNvGrpSpPr/>
                <p:nvPr/>
              </p:nvGrpSpPr>
              <p:grpSpPr>
                <a:xfrm>
                  <a:off x="5428440" y="3473280"/>
                  <a:ext cx="919440" cy="222840"/>
                  <a:chOff x="5428440" y="3473280"/>
                  <a:chExt cx="919440" cy="222840"/>
                </a:xfrm>
              </p:grpSpPr>
              <p:sp>
                <p:nvSpPr>
                  <p:cNvPr id="777" name=""/>
                  <p:cNvSpPr/>
                  <p:nvPr/>
                </p:nvSpPr>
                <p:spPr>
                  <a:xfrm flipV="1">
                    <a:off x="5888520" y="3473280"/>
                    <a:ext cx="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 flipV="1">
                    <a:off x="5888520" y="3473280"/>
                    <a:ext cx="23004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 flipH="1" flipV="1">
                    <a:off x="5659200" y="3473280"/>
                    <a:ext cx="22896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 flipH="1" flipV="1">
                    <a:off x="5428440" y="3473280"/>
                    <a:ext cx="45972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 flipV="1">
                    <a:off x="5888520" y="3473280"/>
                    <a:ext cx="45936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2" name=""/>
                <p:cNvGrpSpPr/>
                <p:nvPr/>
              </p:nvGrpSpPr>
              <p:grpSpPr>
                <a:xfrm>
                  <a:off x="5428800" y="3473280"/>
                  <a:ext cx="918720" cy="223920"/>
                  <a:chOff x="5428800" y="3473280"/>
                  <a:chExt cx="918720" cy="223920"/>
                </a:xfrm>
              </p:grpSpPr>
              <p:sp>
                <p:nvSpPr>
                  <p:cNvPr id="783" name=""/>
                  <p:cNvSpPr/>
                  <p:nvPr/>
                </p:nvSpPr>
                <p:spPr>
                  <a:xfrm flipV="1">
                    <a:off x="5659200" y="3473280"/>
                    <a:ext cx="22896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 flipV="1">
                    <a:off x="5659200" y="3473280"/>
                    <a:ext cx="45792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 flipV="1">
                    <a:off x="5659200" y="3473280"/>
                    <a:ext cx="68832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 flipV="1">
                    <a:off x="5659200" y="3473280"/>
                    <a:ext cx="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 flipH="1" flipV="1">
                    <a:off x="5428800" y="3473280"/>
                    <a:ext cx="23040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8" name=""/>
                <p:cNvGrpSpPr/>
                <p:nvPr/>
              </p:nvGrpSpPr>
              <p:grpSpPr>
                <a:xfrm>
                  <a:off x="5428800" y="3473280"/>
                  <a:ext cx="918720" cy="223920"/>
                  <a:chOff x="5428800" y="3473280"/>
                  <a:chExt cx="918720" cy="223920"/>
                </a:xfrm>
              </p:grpSpPr>
              <p:sp>
                <p:nvSpPr>
                  <p:cNvPr id="789" name=""/>
                  <p:cNvSpPr/>
                  <p:nvPr/>
                </p:nvSpPr>
                <p:spPr>
                  <a:xfrm flipH="1" flipV="1">
                    <a:off x="5888160" y="3473280"/>
                    <a:ext cx="22896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 flipH="1" flipV="1">
                    <a:off x="5659200" y="3473280"/>
                    <a:ext cx="45792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 flipH="1" flipV="1">
                    <a:off x="5428800" y="3473280"/>
                    <a:ext cx="68832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 flipV="1">
                    <a:off x="6117120" y="3473280"/>
                    <a:ext cx="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 flipV="1">
                    <a:off x="6117120" y="3473280"/>
                    <a:ext cx="23040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94" name=""/>
              <p:cNvGrpSpPr/>
              <p:nvPr/>
            </p:nvGrpSpPr>
            <p:grpSpPr>
              <a:xfrm>
                <a:off x="5572800" y="3696120"/>
                <a:ext cx="631440" cy="167400"/>
                <a:chOff x="5572800" y="3696120"/>
                <a:chExt cx="631440" cy="16740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5572800" y="3696120"/>
                  <a:ext cx="17172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5801760" y="3696120"/>
                  <a:ext cx="17172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6032160" y="3696120"/>
                  <a:ext cx="17208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8" name=""/>
              <p:cNvGrpSpPr/>
              <p:nvPr/>
            </p:nvGrpSpPr>
            <p:grpSpPr>
              <a:xfrm>
                <a:off x="5658840" y="3863880"/>
                <a:ext cx="459720" cy="223920"/>
                <a:chOff x="5658840" y="3863880"/>
                <a:chExt cx="459720" cy="223920"/>
              </a:xfrm>
            </p:grpSpPr>
            <p:sp>
              <p:nvSpPr>
                <p:cNvPr id="799" name=""/>
                <p:cNvSpPr/>
                <p:nvPr/>
              </p:nvSpPr>
              <p:spPr>
                <a:xfrm flipV="1">
                  <a:off x="5658840" y="3863880"/>
                  <a:ext cx="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flipV="1">
                  <a:off x="5889240" y="3863880"/>
                  <a:ext cx="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 flipV="1">
                  <a:off x="6118560" y="3863880"/>
                  <a:ext cx="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5658840" y="2300400"/>
                <a:ext cx="459720" cy="223920"/>
                <a:chOff x="5658840" y="2300400"/>
                <a:chExt cx="459720" cy="223920"/>
              </a:xfrm>
            </p:grpSpPr>
            <p:sp>
              <p:nvSpPr>
                <p:cNvPr id="803" name=""/>
                <p:cNvSpPr/>
                <p:nvPr/>
              </p:nvSpPr>
              <p:spPr>
                <a:xfrm flipV="1">
                  <a:off x="5658840" y="2300400"/>
                  <a:ext cx="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 flipV="1">
                  <a:off x="5889240" y="2300400"/>
                  <a:ext cx="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 flipV="1">
                  <a:off x="6118560" y="2300400"/>
                  <a:ext cx="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6" name=""/>
            <p:cNvSpPr/>
            <p:nvPr/>
          </p:nvSpPr>
          <p:spPr>
            <a:xfrm>
              <a:off x="2719440" y="251604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Bookman Old Style"/>
                </a:rPr>
                <a:t>Output lay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712600" y="4316400"/>
              <a:ext cx="135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Bookman Old Style"/>
                </a:rPr>
                <a:t>Input lay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930040" y="3379680"/>
              <a:ext cx="16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Bookman Old Style"/>
                </a:rPr>
                <a:t>Hidden lay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706080" y="3019320"/>
              <a:ext cx="182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Bookman Old Style"/>
                </a:rPr>
                <a:t>fully connec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707880" y="5108400"/>
              <a:ext cx="225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Bookman Old Style"/>
                </a:rPr>
                <a:t>sparsely connec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ificial Neural Network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eedForward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469520" y="2363760"/>
            <a:ext cx="359892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Information flow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Multi-Layer Perceptron (ML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Radial Basis Function (RB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Kohonen Self-Organising Map (SO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6324480" y="1904760"/>
            <a:ext cx="1794600" cy="2666160"/>
            <a:chOff x="6324480" y="1904760"/>
            <a:chExt cx="1794600" cy="2666160"/>
          </a:xfrm>
        </p:grpSpPr>
        <p:grpSp>
          <p:nvGrpSpPr>
            <p:cNvPr id="814" name=""/>
            <p:cNvGrpSpPr/>
            <p:nvPr/>
          </p:nvGrpSpPr>
          <p:grpSpPr>
            <a:xfrm>
              <a:off x="6324480" y="2821320"/>
              <a:ext cx="1794600" cy="249480"/>
              <a:chOff x="6324480" y="2821320"/>
              <a:chExt cx="1794600" cy="249480"/>
            </a:xfrm>
          </p:grpSpPr>
          <p:sp>
            <p:nvSpPr>
              <p:cNvPr id="815" name=""/>
              <p:cNvSpPr/>
              <p:nvPr/>
            </p:nvSpPr>
            <p:spPr>
              <a:xfrm>
                <a:off x="6324480" y="2821320"/>
                <a:ext cx="28332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702120" y="2821320"/>
                <a:ext cx="28296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079400" y="2821320"/>
                <a:ext cx="28296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456680" y="2821320"/>
                <a:ext cx="28332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835760" y="2821320"/>
                <a:ext cx="28332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6324480" y="3405240"/>
              <a:ext cx="1794600" cy="249480"/>
              <a:chOff x="6324480" y="3405240"/>
              <a:chExt cx="1794600" cy="249480"/>
            </a:xfrm>
          </p:grpSpPr>
          <p:sp>
            <p:nvSpPr>
              <p:cNvPr id="821" name=""/>
              <p:cNvSpPr/>
              <p:nvPr/>
            </p:nvSpPr>
            <p:spPr>
              <a:xfrm>
                <a:off x="6324480" y="3405240"/>
                <a:ext cx="28332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702120" y="3405240"/>
                <a:ext cx="28296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081200" y="3405240"/>
                <a:ext cx="28332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458480" y="3405240"/>
                <a:ext cx="28332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835760" y="3405240"/>
                <a:ext cx="28332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"/>
            <p:cNvGrpSpPr/>
            <p:nvPr/>
          </p:nvGrpSpPr>
          <p:grpSpPr>
            <a:xfrm>
              <a:off x="6701760" y="2239200"/>
              <a:ext cx="1040400" cy="249480"/>
              <a:chOff x="6701760" y="2239200"/>
              <a:chExt cx="1040400" cy="249480"/>
            </a:xfrm>
          </p:grpSpPr>
          <p:sp>
            <p:nvSpPr>
              <p:cNvPr id="827" name=""/>
              <p:cNvSpPr/>
              <p:nvPr/>
            </p:nvSpPr>
            <p:spPr>
              <a:xfrm>
                <a:off x="6701760" y="2239200"/>
                <a:ext cx="28332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079040" y="2239200"/>
                <a:ext cx="28332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458480" y="2239200"/>
                <a:ext cx="28368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6463800" y="2486880"/>
              <a:ext cx="1513440" cy="333720"/>
              <a:chOff x="6463800" y="2486880"/>
              <a:chExt cx="1513440" cy="333720"/>
            </a:xfrm>
          </p:grpSpPr>
          <p:grpSp>
            <p:nvGrpSpPr>
              <p:cNvPr id="831" name=""/>
              <p:cNvGrpSpPr/>
              <p:nvPr/>
            </p:nvGrpSpPr>
            <p:grpSpPr>
              <a:xfrm>
                <a:off x="6464160" y="2488320"/>
                <a:ext cx="1512720" cy="332280"/>
                <a:chOff x="6464160" y="2488320"/>
                <a:chExt cx="1512720" cy="332280"/>
              </a:xfrm>
            </p:grpSpPr>
            <p:sp>
              <p:nvSpPr>
                <p:cNvPr id="832" name=""/>
                <p:cNvSpPr/>
                <p:nvPr/>
              </p:nvSpPr>
              <p:spPr>
                <a:xfrm>
                  <a:off x="7220880" y="2488320"/>
                  <a:ext cx="0" cy="33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7220880" y="2488320"/>
                  <a:ext cx="378720" cy="33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 flipH="1">
                  <a:off x="6843240" y="2488320"/>
                  <a:ext cx="376920" cy="33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 flipH="1">
                  <a:off x="6464160" y="2488320"/>
                  <a:ext cx="756720" cy="33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220880" y="2488320"/>
                  <a:ext cx="756000" cy="33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7" name=""/>
              <p:cNvGrpSpPr/>
              <p:nvPr/>
            </p:nvGrpSpPr>
            <p:grpSpPr>
              <a:xfrm>
                <a:off x="6463800" y="2486880"/>
                <a:ext cx="1512720" cy="333720"/>
                <a:chOff x="6463800" y="2486880"/>
                <a:chExt cx="1512720" cy="333720"/>
              </a:xfrm>
            </p:grpSpPr>
            <p:sp>
              <p:nvSpPr>
                <p:cNvPr id="838" name=""/>
                <p:cNvSpPr/>
                <p:nvPr/>
              </p:nvSpPr>
              <p:spPr>
                <a:xfrm>
                  <a:off x="6843240" y="2486880"/>
                  <a:ext cx="37692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6843240" y="2486880"/>
                  <a:ext cx="75384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6843240" y="2486880"/>
                  <a:ext cx="113328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6843240" y="2486880"/>
                  <a:ext cx="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 flipH="1">
                  <a:off x="6463800" y="2486880"/>
                  <a:ext cx="37908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3" name=""/>
              <p:cNvGrpSpPr/>
              <p:nvPr/>
            </p:nvGrpSpPr>
            <p:grpSpPr>
              <a:xfrm>
                <a:off x="6464520" y="2486880"/>
                <a:ext cx="1512720" cy="333720"/>
                <a:chOff x="6464520" y="2486880"/>
                <a:chExt cx="1512720" cy="333720"/>
              </a:xfrm>
            </p:grpSpPr>
            <p:sp>
              <p:nvSpPr>
                <p:cNvPr id="844" name=""/>
                <p:cNvSpPr/>
                <p:nvPr/>
              </p:nvSpPr>
              <p:spPr>
                <a:xfrm flipH="1">
                  <a:off x="7220880" y="2486880"/>
                  <a:ext cx="37692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 flipH="1">
                  <a:off x="6843960" y="2486880"/>
                  <a:ext cx="75384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 flipH="1">
                  <a:off x="6464520" y="2486880"/>
                  <a:ext cx="113328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7597800" y="2486880"/>
                  <a:ext cx="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7598160" y="2486880"/>
                  <a:ext cx="37908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9" name=""/>
            <p:cNvGrpSpPr/>
            <p:nvPr/>
          </p:nvGrpSpPr>
          <p:grpSpPr>
            <a:xfrm>
              <a:off x="6463800" y="3071160"/>
              <a:ext cx="1513440" cy="333720"/>
              <a:chOff x="6463800" y="3071160"/>
              <a:chExt cx="1513440" cy="333720"/>
            </a:xfrm>
          </p:grpSpPr>
          <p:grpSp>
            <p:nvGrpSpPr>
              <p:cNvPr id="850" name=""/>
              <p:cNvGrpSpPr/>
              <p:nvPr/>
            </p:nvGrpSpPr>
            <p:grpSpPr>
              <a:xfrm>
                <a:off x="6464160" y="3071160"/>
                <a:ext cx="1512720" cy="333360"/>
                <a:chOff x="6464160" y="3071160"/>
                <a:chExt cx="1512720" cy="33336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7220880" y="3071160"/>
                  <a:ext cx="0" cy="33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597800" y="3072600"/>
                  <a:ext cx="0" cy="33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7976880" y="3071160"/>
                  <a:ext cx="0" cy="33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6841080" y="3072600"/>
                  <a:ext cx="0" cy="33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6464160" y="3072600"/>
                  <a:ext cx="0" cy="33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6" name=""/>
              <p:cNvSpPr/>
              <p:nvPr/>
            </p:nvSpPr>
            <p:spPr>
              <a:xfrm>
                <a:off x="6464160" y="3071160"/>
                <a:ext cx="37692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843240" y="3071160"/>
                <a:ext cx="37764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220880" y="3071160"/>
                <a:ext cx="37692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599960" y="3071160"/>
                <a:ext cx="37692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6463800" y="3071160"/>
                <a:ext cx="37692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>
                <a:off x="6842880" y="3071160"/>
                <a:ext cx="37764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>
                <a:off x="7220520" y="3071160"/>
                <a:ext cx="37692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7599600" y="3071160"/>
                <a:ext cx="37692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464160" y="3071160"/>
                <a:ext cx="75672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841080" y="3071160"/>
                <a:ext cx="75672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220880" y="3071160"/>
                <a:ext cx="75636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6464160" y="3071160"/>
                <a:ext cx="75672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6841080" y="3071160"/>
                <a:ext cx="75672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>
                <a:off x="7220520" y="3071160"/>
                <a:ext cx="75636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464160" y="3072960"/>
                <a:ext cx="1134000" cy="33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843240" y="3072960"/>
                <a:ext cx="1134000" cy="33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>
                <a:off x="6464160" y="3072960"/>
                <a:ext cx="1134000" cy="33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H="1">
                <a:off x="6843240" y="3072960"/>
                <a:ext cx="1134000" cy="33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6464160" y="3072960"/>
                <a:ext cx="1513080" cy="33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H="1">
                <a:off x="6463800" y="3072960"/>
                <a:ext cx="1513080" cy="33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6463800" y="3655800"/>
              <a:ext cx="1513440" cy="333720"/>
              <a:chOff x="6463800" y="3655800"/>
              <a:chExt cx="1513440" cy="333720"/>
            </a:xfrm>
          </p:grpSpPr>
          <p:grpSp>
            <p:nvGrpSpPr>
              <p:cNvPr id="877" name=""/>
              <p:cNvGrpSpPr/>
              <p:nvPr/>
            </p:nvGrpSpPr>
            <p:grpSpPr>
              <a:xfrm>
                <a:off x="6464160" y="3655800"/>
                <a:ext cx="1512720" cy="332280"/>
                <a:chOff x="6464160" y="3655800"/>
                <a:chExt cx="1512720" cy="332280"/>
              </a:xfrm>
            </p:grpSpPr>
            <p:sp>
              <p:nvSpPr>
                <p:cNvPr id="878" name=""/>
                <p:cNvSpPr/>
                <p:nvPr/>
              </p:nvSpPr>
              <p:spPr>
                <a:xfrm flipV="1">
                  <a:off x="7220880" y="3655800"/>
                  <a:ext cx="0" cy="33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V="1">
                  <a:off x="7220880" y="3655800"/>
                  <a:ext cx="378720" cy="33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 flipH="1" flipV="1">
                  <a:off x="6843240" y="3655800"/>
                  <a:ext cx="376920" cy="33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flipH="1" flipV="1">
                  <a:off x="6464160" y="3655800"/>
                  <a:ext cx="756720" cy="33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V="1">
                  <a:off x="7220880" y="3655800"/>
                  <a:ext cx="756000" cy="33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6463800" y="3655800"/>
                <a:ext cx="1512720" cy="333720"/>
                <a:chOff x="6463800" y="3655800"/>
                <a:chExt cx="1512720" cy="333720"/>
              </a:xfrm>
            </p:grpSpPr>
            <p:sp>
              <p:nvSpPr>
                <p:cNvPr id="884" name=""/>
                <p:cNvSpPr/>
                <p:nvPr/>
              </p:nvSpPr>
              <p:spPr>
                <a:xfrm flipV="1">
                  <a:off x="6843240" y="3655800"/>
                  <a:ext cx="37692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V="1">
                  <a:off x="6843240" y="3655800"/>
                  <a:ext cx="75384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flipV="1">
                  <a:off x="6843240" y="3655800"/>
                  <a:ext cx="113328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 flipV="1">
                  <a:off x="6843240" y="3655800"/>
                  <a:ext cx="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H="1" flipV="1">
                  <a:off x="6463800" y="3655800"/>
                  <a:ext cx="37908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6464520" y="3655800"/>
                <a:ext cx="1512720" cy="333720"/>
                <a:chOff x="6464520" y="3655800"/>
                <a:chExt cx="1512720" cy="333720"/>
              </a:xfrm>
            </p:grpSpPr>
            <p:sp>
              <p:nvSpPr>
                <p:cNvPr id="890" name=""/>
                <p:cNvSpPr/>
                <p:nvPr/>
              </p:nvSpPr>
              <p:spPr>
                <a:xfrm flipH="1" flipV="1">
                  <a:off x="7220880" y="3655800"/>
                  <a:ext cx="37692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 flipV="1">
                  <a:off x="6843960" y="3655800"/>
                  <a:ext cx="75384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H="1" flipV="1">
                  <a:off x="6464520" y="3655800"/>
                  <a:ext cx="113328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 flipV="1">
                  <a:off x="7597800" y="3655800"/>
                  <a:ext cx="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V="1">
                  <a:off x="7598160" y="3655800"/>
                  <a:ext cx="37908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5" name=""/>
            <p:cNvGrpSpPr/>
            <p:nvPr/>
          </p:nvGrpSpPr>
          <p:grpSpPr>
            <a:xfrm>
              <a:off x="6701760" y="3987720"/>
              <a:ext cx="1040400" cy="249480"/>
              <a:chOff x="6701760" y="3987720"/>
              <a:chExt cx="1040400" cy="249480"/>
            </a:xfrm>
          </p:grpSpPr>
          <p:sp>
            <p:nvSpPr>
              <p:cNvPr id="896" name=""/>
              <p:cNvSpPr/>
              <p:nvPr/>
            </p:nvSpPr>
            <p:spPr>
              <a:xfrm>
                <a:off x="6701760" y="3987720"/>
                <a:ext cx="28332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079040" y="3987720"/>
                <a:ext cx="28332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458480" y="3987720"/>
                <a:ext cx="28368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6843600" y="4237200"/>
              <a:ext cx="756720" cy="333720"/>
              <a:chOff x="6843600" y="4237200"/>
              <a:chExt cx="756720" cy="333720"/>
            </a:xfrm>
          </p:grpSpPr>
          <p:sp>
            <p:nvSpPr>
              <p:cNvPr id="900" name=""/>
              <p:cNvSpPr/>
              <p:nvPr/>
            </p:nvSpPr>
            <p:spPr>
              <a:xfrm flipV="1">
                <a:off x="6843600" y="4237200"/>
                <a:ext cx="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V="1">
                <a:off x="7223040" y="4237200"/>
                <a:ext cx="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V="1">
                <a:off x="7600320" y="4237200"/>
                <a:ext cx="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6843600" y="1904760"/>
              <a:ext cx="756720" cy="333720"/>
              <a:chOff x="6843600" y="1904760"/>
              <a:chExt cx="756720" cy="333720"/>
            </a:xfrm>
          </p:grpSpPr>
          <p:sp>
            <p:nvSpPr>
              <p:cNvPr id="904" name=""/>
              <p:cNvSpPr/>
              <p:nvPr/>
            </p:nvSpPr>
            <p:spPr>
              <a:xfrm flipV="1">
                <a:off x="6843600" y="1904760"/>
                <a:ext cx="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V="1">
                <a:off x="7223040" y="1904760"/>
                <a:ext cx="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flipV="1">
                <a:off x="7600320" y="1904760"/>
                <a:ext cx="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07" name="" descr=""/>
          <p:cNvPicPr/>
          <p:nvPr/>
        </p:nvPicPr>
        <p:blipFill>
          <a:blip r:embed="rId1"/>
          <a:stretch/>
        </p:blipFill>
        <p:spPr>
          <a:xfrm>
            <a:off x="5334120" y="4800600"/>
            <a:ext cx="32004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ificial Neural Network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current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4154400" cy="37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ahoma"/>
              </a:rPr>
              <a:t>Feedback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ahoma"/>
              </a:rPr>
              <a:t>Hopfield Neural Networks: Associative mem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ahoma"/>
              </a:rPr>
              <a:t>Adaptive Resonance Theory (AR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4930920" y="2133720"/>
            <a:ext cx="2079000" cy="2410200"/>
            <a:chOff x="4930920" y="2133720"/>
            <a:chExt cx="2079000" cy="2410200"/>
          </a:xfrm>
        </p:grpSpPr>
        <p:grpSp>
          <p:nvGrpSpPr>
            <p:cNvPr id="911" name=""/>
            <p:cNvGrpSpPr/>
            <p:nvPr/>
          </p:nvGrpSpPr>
          <p:grpSpPr>
            <a:xfrm>
              <a:off x="5109480" y="2133720"/>
              <a:ext cx="1691280" cy="2410200"/>
              <a:chOff x="5109480" y="2133720"/>
              <a:chExt cx="1691280" cy="2410200"/>
            </a:xfrm>
          </p:grpSpPr>
          <p:grpSp>
            <p:nvGrpSpPr>
              <p:cNvPr id="912" name=""/>
              <p:cNvGrpSpPr/>
              <p:nvPr/>
            </p:nvGrpSpPr>
            <p:grpSpPr>
              <a:xfrm>
                <a:off x="5109480" y="2962440"/>
                <a:ext cx="1691280" cy="225000"/>
                <a:chOff x="5109480" y="2962440"/>
                <a:chExt cx="1691280" cy="22500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5109480" y="2962440"/>
                  <a:ext cx="267120" cy="225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5465160" y="2962440"/>
                  <a:ext cx="266760" cy="225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5820840" y="2962440"/>
                  <a:ext cx="266760" cy="225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6176160" y="2962440"/>
                  <a:ext cx="267120" cy="225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6533640" y="2962440"/>
                  <a:ext cx="267120" cy="225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8" name=""/>
              <p:cNvGrpSpPr/>
              <p:nvPr/>
            </p:nvGrpSpPr>
            <p:grpSpPr>
              <a:xfrm>
                <a:off x="5109480" y="3490200"/>
                <a:ext cx="1691280" cy="225360"/>
                <a:chOff x="5109480" y="3490200"/>
                <a:chExt cx="1691280" cy="225360"/>
              </a:xfrm>
            </p:grpSpPr>
            <p:sp>
              <p:nvSpPr>
                <p:cNvPr id="919" name=""/>
                <p:cNvSpPr/>
                <p:nvPr/>
              </p:nvSpPr>
              <p:spPr>
                <a:xfrm>
                  <a:off x="5109480" y="3490200"/>
                  <a:ext cx="267120" cy="2253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5465160" y="3490200"/>
                  <a:ext cx="266760" cy="2253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5822640" y="3490200"/>
                  <a:ext cx="267120" cy="2253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6177960" y="3490200"/>
                  <a:ext cx="267120" cy="2253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6533640" y="3490200"/>
                  <a:ext cx="267120" cy="2253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4" name=""/>
              <p:cNvGrpSpPr/>
              <p:nvPr/>
            </p:nvGrpSpPr>
            <p:grpSpPr>
              <a:xfrm>
                <a:off x="5464800" y="2435760"/>
                <a:ext cx="979920" cy="225000"/>
                <a:chOff x="5464800" y="2435760"/>
                <a:chExt cx="979920" cy="22500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5464800" y="2435760"/>
                  <a:ext cx="266760" cy="225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5820120" y="2435760"/>
                  <a:ext cx="266760" cy="225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6177600" y="2435760"/>
                  <a:ext cx="267120" cy="225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5240520" y="2660040"/>
                <a:ext cx="1427040" cy="301320"/>
                <a:chOff x="5240520" y="2660040"/>
                <a:chExt cx="1427040" cy="301320"/>
              </a:xfrm>
            </p:grpSpPr>
            <p:grpSp>
              <p:nvGrpSpPr>
                <p:cNvPr id="929" name=""/>
                <p:cNvGrpSpPr/>
                <p:nvPr/>
              </p:nvGrpSpPr>
              <p:grpSpPr>
                <a:xfrm>
                  <a:off x="5240520" y="2661480"/>
                  <a:ext cx="1426320" cy="299880"/>
                  <a:chOff x="5240520" y="2661480"/>
                  <a:chExt cx="1426320" cy="299880"/>
                </a:xfrm>
              </p:grpSpPr>
              <p:sp>
                <p:nvSpPr>
                  <p:cNvPr id="930" name=""/>
                  <p:cNvSpPr/>
                  <p:nvPr/>
                </p:nvSpPr>
                <p:spPr>
                  <a:xfrm>
                    <a:off x="5954040" y="2661480"/>
                    <a:ext cx="0" cy="29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5954040" y="2661480"/>
                    <a:ext cx="357120" cy="29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 flipH="1">
                    <a:off x="5598000" y="2661480"/>
                    <a:ext cx="355320" cy="29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 flipH="1">
                    <a:off x="5240520" y="2661480"/>
                    <a:ext cx="713160" cy="29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5954040" y="2661480"/>
                    <a:ext cx="712800" cy="29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5" name=""/>
                <p:cNvGrpSpPr/>
                <p:nvPr/>
              </p:nvGrpSpPr>
              <p:grpSpPr>
                <a:xfrm>
                  <a:off x="5240520" y="2660040"/>
                  <a:ext cx="1426320" cy="301320"/>
                  <a:chOff x="5240520" y="2660040"/>
                  <a:chExt cx="1426320" cy="301320"/>
                </a:xfrm>
              </p:grpSpPr>
              <p:sp>
                <p:nvSpPr>
                  <p:cNvPr id="936" name=""/>
                  <p:cNvSpPr/>
                  <p:nvPr/>
                </p:nvSpPr>
                <p:spPr>
                  <a:xfrm>
                    <a:off x="5598360" y="2660040"/>
                    <a:ext cx="355320" cy="30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5598360" y="2660040"/>
                    <a:ext cx="710640" cy="30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5598360" y="2660040"/>
                    <a:ext cx="1068480" cy="30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5598360" y="2660040"/>
                    <a:ext cx="0" cy="30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 flipH="1">
                    <a:off x="5240520" y="2660040"/>
                    <a:ext cx="357480" cy="30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1" name=""/>
                <p:cNvGrpSpPr/>
                <p:nvPr/>
              </p:nvGrpSpPr>
              <p:grpSpPr>
                <a:xfrm>
                  <a:off x="5241240" y="2660040"/>
                  <a:ext cx="1426320" cy="301320"/>
                  <a:chOff x="5241240" y="2660040"/>
                  <a:chExt cx="1426320" cy="301320"/>
                </a:xfrm>
              </p:grpSpPr>
              <p:sp>
                <p:nvSpPr>
                  <p:cNvPr id="942" name=""/>
                  <p:cNvSpPr/>
                  <p:nvPr/>
                </p:nvSpPr>
                <p:spPr>
                  <a:xfrm flipH="1">
                    <a:off x="5954400" y="2660040"/>
                    <a:ext cx="355320" cy="30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 flipH="1">
                    <a:off x="5599080" y="2660040"/>
                    <a:ext cx="710640" cy="30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 flipH="1">
                    <a:off x="5241240" y="2660040"/>
                    <a:ext cx="1068480" cy="30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6309720" y="2660040"/>
                    <a:ext cx="0" cy="30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6310080" y="2660040"/>
                    <a:ext cx="357480" cy="30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7" name=""/>
              <p:cNvGrpSpPr/>
              <p:nvPr/>
            </p:nvGrpSpPr>
            <p:grpSpPr>
              <a:xfrm>
                <a:off x="5240520" y="3187800"/>
                <a:ext cx="1426680" cy="301680"/>
                <a:chOff x="5240520" y="3187800"/>
                <a:chExt cx="1426680" cy="301680"/>
              </a:xfrm>
            </p:grpSpPr>
            <p:grpSp>
              <p:nvGrpSpPr>
                <p:cNvPr id="948" name=""/>
                <p:cNvGrpSpPr/>
                <p:nvPr/>
              </p:nvGrpSpPr>
              <p:grpSpPr>
                <a:xfrm>
                  <a:off x="5240880" y="3187800"/>
                  <a:ext cx="1425960" cy="301320"/>
                  <a:chOff x="5240880" y="3187800"/>
                  <a:chExt cx="1425960" cy="301320"/>
                </a:xfrm>
              </p:grpSpPr>
              <p:sp>
                <p:nvSpPr>
                  <p:cNvPr id="949" name=""/>
                  <p:cNvSpPr/>
                  <p:nvPr/>
                </p:nvSpPr>
                <p:spPr>
                  <a:xfrm>
                    <a:off x="5954040" y="3187800"/>
                    <a:ext cx="0" cy="29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6309720" y="3189240"/>
                    <a:ext cx="0" cy="29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6666840" y="3187800"/>
                    <a:ext cx="0" cy="29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5596200" y="3189240"/>
                    <a:ext cx="0" cy="29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5240880" y="3189240"/>
                    <a:ext cx="0" cy="29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54" name=""/>
                <p:cNvSpPr/>
                <p:nvPr/>
              </p:nvSpPr>
              <p:spPr>
                <a:xfrm>
                  <a:off x="5240880" y="3187800"/>
                  <a:ext cx="35532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5598000" y="3187800"/>
                  <a:ext cx="35604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5954400" y="3187800"/>
                  <a:ext cx="35532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6311520" y="3187800"/>
                  <a:ext cx="35532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 flipH="1">
                  <a:off x="5240520" y="3187800"/>
                  <a:ext cx="35532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 flipH="1">
                  <a:off x="5597640" y="3187800"/>
                  <a:ext cx="35604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 flipH="1">
                  <a:off x="5954040" y="3187800"/>
                  <a:ext cx="35532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 flipH="1">
                  <a:off x="6311160" y="3187800"/>
                  <a:ext cx="35532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240880" y="3187800"/>
                  <a:ext cx="71352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596200" y="3187800"/>
                  <a:ext cx="71352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954400" y="3187800"/>
                  <a:ext cx="71280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 flipH="1">
                  <a:off x="5240880" y="3187800"/>
                  <a:ext cx="71352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 flipH="1">
                  <a:off x="5596200" y="3187800"/>
                  <a:ext cx="71352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H="1">
                  <a:off x="5954400" y="3187800"/>
                  <a:ext cx="71280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240880" y="3189600"/>
                  <a:ext cx="1068840" cy="29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5598000" y="3189600"/>
                  <a:ext cx="1068840" cy="29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 flipH="1">
                  <a:off x="5240520" y="3189600"/>
                  <a:ext cx="1068840" cy="29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 flipH="1">
                  <a:off x="5597640" y="3189600"/>
                  <a:ext cx="1068840" cy="29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5240880" y="3189600"/>
                  <a:ext cx="1426320" cy="29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 flipH="1">
                  <a:off x="5240880" y="3189600"/>
                  <a:ext cx="1426320" cy="29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4" name=""/>
              <p:cNvGrpSpPr/>
              <p:nvPr/>
            </p:nvGrpSpPr>
            <p:grpSpPr>
              <a:xfrm>
                <a:off x="5240520" y="3716640"/>
                <a:ext cx="1427040" cy="300960"/>
                <a:chOff x="5240520" y="3716640"/>
                <a:chExt cx="1427040" cy="300960"/>
              </a:xfrm>
            </p:grpSpPr>
            <p:grpSp>
              <p:nvGrpSpPr>
                <p:cNvPr id="975" name=""/>
                <p:cNvGrpSpPr/>
                <p:nvPr/>
              </p:nvGrpSpPr>
              <p:grpSpPr>
                <a:xfrm>
                  <a:off x="5240520" y="3716640"/>
                  <a:ext cx="1426320" cy="299520"/>
                  <a:chOff x="5240520" y="3716640"/>
                  <a:chExt cx="1426320" cy="299520"/>
                </a:xfrm>
              </p:grpSpPr>
              <p:sp>
                <p:nvSpPr>
                  <p:cNvPr id="976" name=""/>
                  <p:cNvSpPr/>
                  <p:nvPr/>
                </p:nvSpPr>
                <p:spPr>
                  <a:xfrm flipV="1">
                    <a:off x="5954040" y="3716640"/>
                    <a:ext cx="0" cy="299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 flipV="1">
                    <a:off x="5954040" y="3716640"/>
                    <a:ext cx="357120" cy="299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 flipH="1" flipV="1">
                    <a:off x="5598000" y="3716640"/>
                    <a:ext cx="355320" cy="299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 flipH="1" flipV="1">
                    <a:off x="5240520" y="3716640"/>
                    <a:ext cx="713160" cy="299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 flipV="1">
                    <a:off x="5954040" y="3716640"/>
                    <a:ext cx="712800" cy="299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1" name=""/>
                <p:cNvGrpSpPr/>
                <p:nvPr/>
              </p:nvGrpSpPr>
              <p:grpSpPr>
                <a:xfrm>
                  <a:off x="5240520" y="3716640"/>
                  <a:ext cx="1426320" cy="300960"/>
                  <a:chOff x="5240520" y="3716640"/>
                  <a:chExt cx="1426320" cy="300960"/>
                </a:xfrm>
              </p:grpSpPr>
              <p:sp>
                <p:nvSpPr>
                  <p:cNvPr id="982" name=""/>
                  <p:cNvSpPr/>
                  <p:nvPr/>
                </p:nvSpPr>
                <p:spPr>
                  <a:xfrm flipV="1">
                    <a:off x="5598360" y="3716640"/>
                    <a:ext cx="355320" cy="30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 flipV="1">
                    <a:off x="5598360" y="3716640"/>
                    <a:ext cx="710640" cy="30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 flipV="1">
                    <a:off x="5598360" y="3716640"/>
                    <a:ext cx="1068480" cy="30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 flipV="1">
                    <a:off x="5598360" y="3716640"/>
                    <a:ext cx="0" cy="30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 flipH="1" flipV="1">
                    <a:off x="5240520" y="3716640"/>
                    <a:ext cx="357480" cy="30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7" name=""/>
                <p:cNvGrpSpPr/>
                <p:nvPr/>
              </p:nvGrpSpPr>
              <p:grpSpPr>
                <a:xfrm>
                  <a:off x="5241240" y="3716640"/>
                  <a:ext cx="1426320" cy="300960"/>
                  <a:chOff x="5241240" y="3716640"/>
                  <a:chExt cx="1426320" cy="30096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 flipH="1" flipV="1">
                    <a:off x="5954400" y="3716640"/>
                    <a:ext cx="355320" cy="30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 flipH="1" flipV="1">
                    <a:off x="5599080" y="3716640"/>
                    <a:ext cx="710640" cy="30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 flipH="1" flipV="1">
                    <a:off x="5241240" y="3716640"/>
                    <a:ext cx="1068480" cy="30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 flipV="1">
                    <a:off x="6309720" y="3716640"/>
                    <a:ext cx="0" cy="30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 flipV="1">
                    <a:off x="6310080" y="3716640"/>
                    <a:ext cx="357480" cy="30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93" name=""/>
              <p:cNvGrpSpPr/>
              <p:nvPr/>
            </p:nvGrpSpPr>
            <p:grpSpPr>
              <a:xfrm>
                <a:off x="5464800" y="4016520"/>
                <a:ext cx="979920" cy="225000"/>
                <a:chOff x="5464800" y="4016520"/>
                <a:chExt cx="979920" cy="2250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5464800" y="4016520"/>
                  <a:ext cx="266760" cy="225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820120" y="4016520"/>
                  <a:ext cx="266760" cy="225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6177600" y="4016520"/>
                  <a:ext cx="267120" cy="225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7" name=""/>
              <p:cNvGrpSpPr/>
              <p:nvPr/>
            </p:nvGrpSpPr>
            <p:grpSpPr>
              <a:xfrm>
                <a:off x="5598720" y="4242240"/>
                <a:ext cx="712800" cy="301680"/>
                <a:chOff x="5598720" y="4242240"/>
                <a:chExt cx="712800" cy="301680"/>
              </a:xfrm>
            </p:grpSpPr>
            <p:sp>
              <p:nvSpPr>
                <p:cNvPr id="998" name=""/>
                <p:cNvSpPr/>
                <p:nvPr/>
              </p:nvSpPr>
              <p:spPr>
                <a:xfrm flipV="1">
                  <a:off x="5598720" y="4242240"/>
                  <a:ext cx="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 flipV="1">
                  <a:off x="5956200" y="4242240"/>
                  <a:ext cx="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flipV="1">
                  <a:off x="6311520" y="4242240"/>
                  <a:ext cx="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1" name=""/>
              <p:cNvGrpSpPr/>
              <p:nvPr/>
            </p:nvGrpSpPr>
            <p:grpSpPr>
              <a:xfrm>
                <a:off x="5598720" y="2133720"/>
                <a:ext cx="712800" cy="301680"/>
                <a:chOff x="5598720" y="2133720"/>
                <a:chExt cx="712800" cy="301680"/>
              </a:xfrm>
            </p:grpSpPr>
            <p:sp>
              <p:nvSpPr>
                <p:cNvPr id="1002" name=""/>
                <p:cNvSpPr/>
                <p:nvPr/>
              </p:nvSpPr>
              <p:spPr>
                <a:xfrm flipV="1">
                  <a:off x="5598720" y="2133720"/>
                  <a:ext cx="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flipV="1">
                  <a:off x="5956200" y="2133720"/>
                  <a:ext cx="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 flipV="1">
                  <a:off x="6311520" y="2133720"/>
                  <a:ext cx="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5" name=""/>
            <p:cNvSpPr/>
            <p:nvPr/>
          </p:nvSpPr>
          <p:spPr>
            <a:xfrm>
              <a:off x="4930920" y="2435760"/>
              <a:ext cx="534600" cy="1657440"/>
            </a:xfrm>
            <a:custGeom>
              <a:avLst/>
              <a:gdLst/>
              <a:ahLst/>
              <a:rect l="l" t="t" r="r" b="b"/>
              <a:pathLst>
                <a:path w="272" h="1119">
                  <a:moveTo>
                    <a:pt x="272" y="30"/>
                  </a:moveTo>
                  <a:cubicBezTo>
                    <a:pt x="246" y="15"/>
                    <a:pt x="220" y="0"/>
                    <a:pt x="182" y="30"/>
                  </a:cubicBezTo>
                  <a:cubicBezTo>
                    <a:pt x="144" y="60"/>
                    <a:pt x="76" y="120"/>
                    <a:pt x="46" y="211"/>
                  </a:cubicBezTo>
                  <a:cubicBezTo>
                    <a:pt x="16" y="302"/>
                    <a:pt x="0" y="468"/>
                    <a:pt x="0" y="574"/>
                  </a:cubicBezTo>
                  <a:cubicBezTo>
                    <a:pt x="0" y="680"/>
                    <a:pt x="1" y="755"/>
                    <a:pt x="46" y="846"/>
                  </a:cubicBezTo>
                  <a:cubicBezTo>
                    <a:pt x="91" y="937"/>
                    <a:pt x="234" y="1073"/>
                    <a:pt x="272" y="11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286240" y="2512080"/>
              <a:ext cx="178920" cy="526320"/>
            </a:xfrm>
            <a:custGeom>
              <a:avLst/>
              <a:gdLst/>
              <a:ahLst/>
              <a:rect l="l" t="t" r="r" b="b"/>
              <a:pathLst>
                <a:path w="272" h="1119">
                  <a:moveTo>
                    <a:pt x="272" y="30"/>
                  </a:moveTo>
                  <a:cubicBezTo>
                    <a:pt x="246" y="15"/>
                    <a:pt x="220" y="0"/>
                    <a:pt x="182" y="30"/>
                  </a:cubicBezTo>
                  <a:cubicBezTo>
                    <a:pt x="144" y="60"/>
                    <a:pt x="76" y="120"/>
                    <a:pt x="46" y="211"/>
                  </a:cubicBezTo>
                  <a:cubicBezTo>
                    <a:pt x="16" y="302"/>
                    <a:pt x="0" y="468"/>
                    <a:pt x="0" y="574"/>
                  </a:cubicBezTo>
                  <a:cubicBezTo>
                    <a:pt x="0" y="680"/>
                    <a:pt x="1" y="755"/>
                    <a:pt x="46" y="846"/>
                  </a:cubicBezTo>
                  <a:cubicBezTo>
                    <a:pt x="91" y="937"/>
                    <a:pt x="234" y="1073"/>
                    <a:pt x="272" y="11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019480" y="3113280"/>
              <a:ext cx="90000" cy="453240"/>
            </a:xfrm>
            <a:custGeom>
              <a:avLst/>
              <a:gdLst/>
              <a:ahLst/>
              <a:rect l="l" t="t" r="r" b="b"/>
              <a:pathLst>
                <a:path w="46" h="273">
                  <a:moveTo>
                    <a:pt x="46" y="0"/>
                  </a:moveTo>
                  <a:cubicBezTo>
                    <a:pt x="23" y="46"/>
                    <a:pt x="0" y="92"/>
                    <a:pt x="0" y="137"/>
                  </a:cubicBezTo>
                  <a:cubicBezTo>
                    <a:pt x="0" y="182"/>
                    <a:pt x="23" y="227"/>
                    <a:pt x="46" y="2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257080" y="3942000"/>
              <a:ext cx="296640" cy="315360"/>
            </a:xfrm>
            <a:custGeom>
              <a:avLst/>
              <a:gdLst/>
              <a:ahLst/>
              <a:rect l="l" t="t" r="r" b="b"/>
              <a:pathLst>
                <a:path w="151" h="190">
                  <a:moveTo>
                    <a:pt x="151" y="45"/>
                  </a:moveTo>
                  <a:cubicBezTo>
                    <a:pt x="140" y="22"/>
                    <a:pt x="129" y="0"/>
                    <a:pt x="106" y="0"/>
                  </a:cubicBezTo>
                  <a:cubicBezTo>
                    <a:pt x="83" y="0"/>
                    <a:pt x="30" y="22"/>
                    <a:pt x="15" y="45"/>
                  </a:cubicBezTo>
                  <a:cubicBezTo>
                    <a:pt x="0" y="68"/>
                    <a:pt x="7" y="113"/>
                    <a:pt x="15" y="136"/>
                  </a:cubicBezTo>
                  <a:cubicBezTo>
                    <a:pt x="23" y="159"/>
                    <a:pt x="46" y="174"/>
                    <a:pt x="61" y="182"/>
                  </a:cubicBezTo>
                  <a:cubicBezTo>
                    <a:pt x="76" y="190"/>
                    <a:pt x="91" y="182"/>
                    <a:pt x="106" y="182"/>
                  </a:cubicBezTo>
                  <a:cubicBezTo>
                    <a:pt x="121" y="182"/>
                    <a:pt x="144" y="182"/>
                    <a:pt x="151" y="18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6713280" y="2872440"/>
              <a:ext cx="296640" cy="315360"/>
            </a:xfrm>
            <a:custGeom>
              <a:avLst/>
              <a:gdLst/>
              <a:ahLst/>
              <a:rect l="l" t="t" r="r" b="b"/>
              <a:pathLst>
                <a:path w="151" h="190">
                  <a:moveTo>
                    <a:pt x="151" y="45"/>
                  </a:moveTo>
                  <a:cubicBezTo>
                    <a:pt x="140" y="22"/>
                    <a:pt x="129" y="0"/>
                    <a:pt x="106" y="0"/>
                  </a:cubicBezTo>
                  <a:cubicBezTo>
                    <a:pt x="83" y="0"/>
                    <a:pt x="30" y="22"/>
                    <a:pt x="15" y="45"/>
                  </a:cubicBezTo>
                  <a:cubicBezTo>
                    <a:pt x="0" y="68"/>
                    <a:pt x="7" y="113"/>
                    <a:pt x="15" y="136"/>
                  </a:cubicBezTo>
                  <a:cubicBezTo>
                    <a:pt x="23" y="159"/>
                    <a:pt x="46" y="174"/>
                    <a:pt x="61" y="182"/>
                  </a:cubicBezTo>
                  <a:cubicBezTo>
                    <a:pt x="76" y="190"/>
                    <a:pt x="91" y="182"/>
                    <a:pt x="106" y="182"/>
                  </a:cubicBezTo>
                  <a:cubicBezTo>
                    <a:pt x="121" y="182"/>
                    <a:pt x="144" y="182"/>
                    <a:pt x="151" y="18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5181480" y="4952880"/>
            <a:ext cx="3429000" cy="1295280"/>
            <a:chOff x="5181480" y="4952880"/>
            <a:chExt cx="3429000" cy="1295280"/>
          </a:xfrm>
        </p:grpSpPr>
        <p:sp>
          <p:nvSpPr>
            <p:cNvPr id="1011" name=""/>
            <p:cNvSpPr/>
            <p:nvPr/>
          </p:nvSpPr>
          <p:spPr>
            <a:xfrm>
              <a:off x="5181480" y="5410080"/>
              <a:ext cx="381240" cy="3045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8229600" y="5410080"/>
              <a:ext cx="380880" cy="3045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019920" y="5410080"/>
              <a:ext cx="380880" cy="3045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334120" y="5714640"/>
              <a:ext cx="838080" cy="533520"/>
            </a:xfrm>
            <a:custGeom>
              <a:avLst/>
              <a:gdLst/>
              <a:ahLst/>
              <a:rect l="l" t="t" r="r" b="b"/>
              <a:pathLst>
                <a:path w="528" h="336">
                  <a:moveTo>
                    <a:pt x="0" y="0"/>
                  </a:moveTo>
                  <a:cubicBezTo>
                    <a:pt x="100" y="168"/>
                    <a:pt x="200" y="336"/>
                    <a:pt x="288" y="336"/>
                  </a:cubicBezTo>
                  <a:cubicBezTo>
                    <a:pt x="376" y="336"/>
                    <a:pt x="488" y="56"/>
                    <a:pt x="52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34120" y="5714640"/>
              <a:ext cx="2971800" cy="533520"/>
            </a:xfrm>
            <a:custGeom>
              <a:avLst/>
              <a:gdLst/>
              <a:ahLst/>
              <a:rect l="l" t="t" r="r" b="b"/>
              <a:pathLst>
                <a:path w="1872" h="336">
                  <a:moveTo>
                    <a:pt x="0" y="0"/>
                  </a:moveTo>
                  <a:cubicBezTo>
                    <a:pt x="348" y="168"/>
                    <a:pt x="696" y="336"/>
                    <a:pt x="1008" y="336"/>
                  </a:cubicBezTo>
                  <a:cubicBezTo>
                    <a:pt x="1320" y="336"/>
                    <a:pt x="1728" y="56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34120" y="5638680"/>
              <a:ext cx="1676160" cy="469800"/>
            </a:xfrm>
            <a:custGeom>
              <a:avLst/>
              <a:gdLst/>
              <a:ahLst/>
              <a:rect l="l" t="t" r="r" b="b"/>
              <a:pathLst>
                <a:path w="1056" h="296">
                  <a:moveTo>
                    <a:pt x="0" y="48"/>
                  </a:moveTo>
                  <a:cubicBezTo>
                    <a:pt x="320" y="172"/>
                    <a:pt x="640" y="296"/>
                    <a:pt x="816" y="288"/>
                  </a:cubicBezTo>
                  <a:cubicBezTo>
                    <a:pt x="992" y="280"/>
                    <a:pt x="1016" y="48"/>
                    <a:pt x="10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410080" y="5028840"/>
              <a:ext cx="762120" cy="381240"/>
            </a:xfrm>
            <a:custGeom>
              <a:avLst/>
              <a:gdLst/>
              <a:ahLst/>
              <a:rect l="l" t="t" r="r" b="b"/>
              <a:pathLst>
                <a:path w="480" h="240">
                  <a:moveTo>
                    <a:pt x="480" y="240"/>
                  </a:moveTo>
                  <a:cubicBezTo>
                    <a:pt x="400" y="120"/>
                    <a:pt x="320" y="0"/>
                    <a:pt x="240" y="0"/>
                  </a:cubicBezTo>
                  <a:cubicBezTo>
                    <a:pt x="160" y="0"/>
                    <a:pt x="80" y="120"/>
                    <a:pt x="0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248520" y="4952880"/>
              <a:ext cx="2133360" cy="457200"/>
            </a:xfrm>
            <a:custGeom>
              <a:avLst/>
              <a:gdLst/>
              <a:ahLst/>
              <a:rect l="l" t="t" r="r" b="b"/>
              <a:pathLst>
                <a:path w="1344" h="288">
                  <a:moveTo>
                    <a:pt x="0" y="288"/>
                  </a:moveTo>
                  <a:cubicBezTo>
                    <a:pt x="152" y="144"/>
                    <a:pt x="304" y="0"/>
                    <a:pt x="528" y="0"/>
                  </a:cubicBezTo>
                  <a:cubicBezTo>
                    <a:pt x="752" y="0"/>
                    <a:pt x="1048" y="144"/>
                    <a:pt x="134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010280" y="54860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391520" y="54860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ificial Neural Network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ing paradig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6782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Supervised learning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Teacher presents ANN input-output pairs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ANN weights adjusted according to 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Classif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Function approxim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Associative memor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Unsupervised learning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no teach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Cluster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Intelligent Program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042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chine Learning : Neural N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Artificial Neural Network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ificial Neural Networks are crude attempts to model the highly massive parallel and distributed processing we believe takes place in the brai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wo main areas of activity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ological:    Try to model biological neural system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utational: develop powerful application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802480" y="3541680"/>
          <a:ext cx="3000240" cy="19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02480" y="3541680"/>
                    <a:ext cx="300024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" name=""/>
          <p:cNvGrpSpPr/>
          <p:nvPr/>
        </p:nvGrpSpPr>
        <p:grpSpPr>
          <a:xfrm>
            <a:off x="1906200" y="3676680"/>
            <a:ext cx="2662560" cy="1656720"/>
            <a:chOff x="1906200" y="3676680"/>
            <a:chExt cx="2662560" cy="1656720"/>
          </a:xfrm>
        </p:grpSpPr>
        <p:grpSp>
          <p:nvGrpSpPr>
            <p:cNvPr id="108" name=""/>
            <p:cNvGrpSpPr/>
            <p:nvPr/>
          </p:nvGrpSpPr>
          <p:grpSpPr>
            <a:xfrm>
              <a:off x="3404160" y="3676680"/>
              <a:ext cx="249120" cy="1656720"/>
              <a:chOff x="3404160" y="3676680"/>
              <a:chExt cx="249120" cy="1656720"/>
            </a:xfrm>
          </p:grpSpPr>
          <p:sp>
            <p:nvSpPr>
              <p:cNvPr id="109" name=""/>
              <p:cNvSpPr/>
              <p:nvPr/>
            </p:nvSpPr>
            <p:spPr>
              <a:xfrm rot="5400000">
                <a:off x="3397680" y="3682800"/>
                <a:ext cx="26172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5400000">
                <a:off x="3398040" y="4031280"/>
                <a:ext cx="26136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5400000">
                <a:off x="3398040" y="4379400"/>
                <a:ext cx="26136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5400000">
                <a:off x="3397680" y="4727880"/>
                <a:ext cx="26172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5400000">
                <a:off x="3397680" y="5077800"/>
                <a:ext cx="26172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2820960" y="3676680"/>
              <a:ext cx="249120" cy="1656720"/>
              <a:chOff x="2820960" y="3676680"/>
              <a:chExt cx="249120" cy="1656720"/>
            </a:xfrm>
          </p:grpSpPr>
          <p:sp>
            <p:nvSpPr>
              <p:cNvPr id="115" name=""/>
              <p:cNvSpPr/>
              <p:nvPr/>
            </p:nvSpPr>
            <p:spPr>
              <a:xfrm rot="5400000">
                <a:off x="2814480" y="3682800"/>
                <a:ext cx="26172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5400000">
                <a:off x="2814840" y="4031280"/>
                <a:ext cx="26136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400000">
                <a:off x="2814480" y="4381200"/>
                <a:ext cx="26172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5400000">
                <a:off x="2814480" y="4729680"/>
                <a:ext cx="26172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5400000">
                <a:off x="2814480" y="5077800"/>
                <a:ext cx="26172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3985920" y="4024800"/>
              <a:ext cx="249120" cy="960120"/>
              <a:chOff x="3985920" y="4024800"/>
              <a:chExt cx="249120" cy="960120"/>
            </a:xfrm>
          </p:grpSpPr>
          <p:sp>
            <p:nvSpPr>
              <p:cNvPr id="121" name=""/>
              <p:cNvSpPr/>
              <p:nvPr/>
            </p:nvSpPr>
            <p:spPr>
              <a:xfrm rot="5400000">
                <a:off x="3979800" y="4030920"/>
                <a:ext cx="26136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5400000">
                <a:off x="3979800" y="4379040"/>
                <a:ext cx="26136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5400000">
                <a:off x="3979440" y="4729320"/>
                <a:ext cx="26172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3654000" y="3805560"/>
              <a:ext cx="333360" cy="1396800"/>
              <a:chOff x="3654000" y="3805560"/>
              <a:chExt cx="333360" cy="139680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3654000" y="3805560"/>
                <a:ext cx="331920" cy="1396440"/>
                <a:chOff x="3654000" y="3805560"/>
                <a:chExt cx="331920" cy="1396440"/>
              </a:xfrm>
            </p:grpSpPr>
            <p:sp>
              <p:nvSpPr>
                <p:cNvPr id="126" name=""/>
                <p:cNvSpPr/>
                <p:nvPr/>
              </p:nvSpPr>
              <p:spPr>
                <a:xfrm flipH="1">
                  <a:off x="3654000" y="4503960"/>
                  <a:ext cx="33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H="1">
                  <a:off x="3654000" y="4503960"/>
                  <a:ext cx="331920" cy="34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H="1" flipV="1">
                  <a:off x="3654000" y="4155480"/>
                  <a:ext cx="33192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H="1" flipV="1">
                  <a:off x="3654000" y="3805560"/>
                  <a:ext cx="331920" cy="698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>
                  <a:off x="3654000" y="4503960"/>
                  <a:ext cx="331920" cy="69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3654000" y="3805560"/>
                <a:ext cx="333360" cy="1396080"/>
                <a:chOff x="3654000" y="3805560"/>
                <a:chExt cx="333360" cy="1396080"/>
              </a:xfrm>
            </p:grpSpPr>
            <p:sp>
              <p:nvSpPr>
                <p:cNvPr id="132" name=""/>
                <p:cNvSpPr/>
                <p:nvPr/>
              </p:nvSpPr>
              <p:spPr>
                <a:xfrm flipH="1">
                  <a:off x="3654000" y="4155480"/>
                  <a:ext cx="333360" cy="34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>
                  <a:off x="3654000" y="4155480"/>
                  <a:ext cx="333360" cy="69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H="1">
                  <a:off x="3654000" y="4155480"/>
                  <a:ext cx="333360" cy="1046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H="1">
                  <a:off x="3654000" y="4155480"/>
                  <a:ext cx="333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 flipV="1">
                  <a:off x="3654000" y="3805560"/>
                  <a:ext cx="333360" cy="34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3654000" y="3806280"/>
                <a:ext cx="333360" cy="1396080"/>
                <a:chOff x="3654000" y="3806280"/>
                <a:chExt cx="333360" cy="1396080"/>
              </a:xfrm>
            </p:grpSpPr>
            <p:sp>
              <p:nvSpPr>
                <p:cNvPr id="138" name=""/>
                <p:cNvSpPr/>
                <p:nvPr/>
              </p:nvSpPr>
              <p:spPr>
                <a:xfrm flipH="1" flipV="1">
                  <a:off x="3654000" y="4504680"/>
                  <a:ext cx="333360" cy="34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H="1" flipV="1">
                  <a:off x="3654000" y="4156560"/>
                  <a:ext cx="333360" cy="69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 flipV="1">
                  <a:off x="3654000" y="3806280"/>
                  <a:ext cx="333360" cy="1046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3654000" y="4852440"/>
                  <a:ext cx="333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3654000" y="4852440"/>
                  <a:ext cx="333360" cy="34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3070800" y="3805200"/>
              <a:ext cx="333000" cy="1397160"/>
              <a:chOff x="3070800" y="3805200"/>
              <a:chExt cx="333000" cy="139716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3071160" y="3805560"/>
                <a:ext cx="332640" cy="1396440"/>
                <a:chOff x="3071160" y="3805560"/>
                <a:chExt cx="332640" cy="1396440"/>
              </a:xfrm>
            </p:grpSpPr>
            <p:sp>
              <p:nvSpPr>
                <p:cNvPr id="145" name=""/>
                <p:cNvSpPr/>
                <p:nvPr/>
              </p:nvSpPr>
              <p:spPr>
                <a:xfrm flipH="1">
                  <a:off x="3072600" y="4503960"/>
                  <a:ext cx="331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3071160" y="4852080"/>
                  <a:ext cx="331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72600" y="5202000"/>
                  <a:ext cx="331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3071160" y="4153680"/>
                  <a:ext cx="331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3071160" y="3805560"/>
                  <a:ext cx="331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 flipH="1">
                <a:off x="3070800" y="3805560"/>
                <a:ext cx="333000" cy="34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3070800" y="4155480"/>
                <a:ext cx="333000" cy="34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070800" y="4504320"/>
                <a:ext cx="333000" cy="34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3070800" y="4854240"/>
                <a:ext cx="333000" cy="34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flipV="1">
                <a:off x="3070800" y="3805200"/>
                <a:ext cx="333000" cy="34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flipV="1">
                <a:off x="3070800" y="4155480"/>
                <a:ext cx="333000" cy="34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3070800" y="4503960"/>
                <a:ext cx="333000" cy="34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3070800" y="4853880"/>
                <a:ext cx="333000" cy="34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3070800" y="3805560"/>
                <a:ext cx="333000" cy="69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3070800" y="4153680"/>
                <a:ext cx="333000" cy="69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3070800" y="4504320"/>
                <a:ext cx="333000" cy="69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3070800" y="3805560"/>
                <a:ext cx="333000" cy="69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3070800" y="4153680"/>
                <a:ext cx="333000" cy="69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3070800" y="4503960"/>
                <a:ext cx="333000" cy="69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3070800" y="3805560"/>
                <a:ext cx="331200" cy="104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3070800" y="4155480"/>
                <a:ext cx="331200" cy="104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flipV="1">
                <a:off x="3070800" y="3805560"/>
                <a:ext cx="331200" cy="104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 flipV="1">
                <a:off x="3070800" y="4155480"/>
                <a:ext cx="331200" cy="104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3070800" y="3805560"/>
                <a:ext cx="331200" cy="139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 flipV="1">
                <a:off x="3070800" y="3805560"/>
                <a:ext cx="331200" cy="139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2486160" y="3805560"/>
              <a:ext cx="333360" cy="1396800"/>
              <a:chOff x="2486160" y="3805560"/>
              <a:chExt cx="333360" cy="139680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2487600" y="3805560"/>
                <a:ext cx="331920" cy="1396440"/>
                <a:chOff x="2487600" y="3805560"/>
                <a:chExt cx="331920" cy="13964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487600" y="4503960"/>
                  <a:ext cx="33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487600" y="4503960"/>
                  <a:ext cx="331920" cy="34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V="1">
                  <a:off x="2487600" y="4155480"/>
                  <a:ext cx="33192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V="1">
                  <a:off x="2487600" y="3805560"/>
                  <a:ext cx="331920" cy="698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487600" y="4503960"/>
                  <a:ext cx="331920" cy="69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2486160" y="3805560"/>
                <a:ext cx="333360" cy="1396080"/>
                <a:chOff x="2486160" y="3805560"/>
                <a:chExt cx="333360" cy="13960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2486160" y="4155480"/>
                  <a:ext cx="333360" cy="34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486160" y="4155480"/>
                  <a:ext cx="333360" cy="69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486160" y="4155480"/>
                  <a:ext cx="333360" cy="1046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486160" y="4155480"/>
                  <a:ext cx="333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V="1">
                  <a:off x="2486160" y="3805560"/>
                  <a:ext cx="333360" cy="34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2486160" y="3806280"/>
                <a:ext cx="333360" cy="1396080"/>
                <a:chOff x="2486160" y="3806280"/>
                <a:chExt cx="333360" cy="1396080"/>
              </a:xfrm>
            </p:grpSpPr>
            <p:sp>
              <p:nvSpPr>
                <p:cNvPr id="184" name=""/>
                <p:cNvSpPr/>
                <p:nvPr/>
              </p:nvSpPr>
              <p:spPr>
                <a:xfrm flipV="1">
                  <a:off x="2486160" y="4504680"/>
                  <a:ext cx="333360" cy="34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V="1">
                  <a:off x="2486160" y="4156560"/>
                  <a:ext cx="333360" cy="69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V="1">
                  <a:off x="2486160" y="3806280"/>
                  <a:ext cx="333360" cy="1046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486160" y="4852440"/>
                  <a:ext cx="333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486160" y="4852440"/>
                  <a:ext cx="333360" cy="34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9" name=""/>
            <p:cNvGrpSpPr/>
            <p:nvPr/>
          </p:nvGrpSpPr>
          <p:grpSpPr>
            <a:xfrm>
              <a:off x="2239200" y="4024800"/>
              <a:ext cx="249120" cy="960120"/>
              <a:chOff x="2239200" y="4024800"/>
              <a:chExt cx="249120" cy="960120"/>
            </a:xfrm>
          </p:grpSpPr>
          <p:sp>
            <p:nvSpPr>
              <p:cNvPr id="190" name=""/>
              <p:cNvSpPr/>
              <p:nvPr/>
            </p:nvSpPr>
            <p:spPr>
              <a:xfrm rot="5400000">
                <a:off x="2233080" y="4030920"/>
                <a:ext cx="26136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5400000">
                <a:off x="2233080" y="4379040"/>
                <a:ext cx="26136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5400000">
                <a:off x="2232720" y="4729320"/>
                <a:ext cx="26172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1906200" y="4155840"/>
              <a:ext cx="333000" cy="698400"/>
              <a:chOff x="1906200" y="4155840"/>
              <a:chExt cx="333000" cy="698400"/>
            </a:xfrm>
          </p:grpSpPr>
          <p:sp>
            <p:nvSpPr>
              <p:cNvPr id="194" name=""/>
              <p:cNvSpPr/>
              <p:nvPr/>
            </p:nvSpPr>
            <p:spPr>
              <a:xfrm>
                <a:off x="1906200" y="4155840"/>
                <a:ext cx="3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906200" y="4506120"/>
                <a:ext cx="3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906200" y="4854240"/>
                <a:ext cx="3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4235760" y="4155840"/>
              <a:ext cx="333000" cy="698400"/>
              <a:chOff x="4235760" y="4155840"/>
              <a:chExt cx="333000" cy="698400"/>
            </a:xfrm>
          </p:grpSpPr>
          <p:sp>
            <p:nvSpPr>
              <p:cNvPr id="198" name=""/>
              <p:cNvSpPr/>
              <p:nvPr/>
            </p:nvSpPr>
            <p:spPr>
              <a:xfrm>
                <a:off x="4235760" y="4155840"/>
                <a:ext cx="3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235760" y="4506120"/>
                <a:ext cx="3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235760" y="4854240"/>
                <a:ext cx="3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N capabi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ahoma"/>
              </a:rPr>
              <a:t>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ahoma"/>
              </a:rPr>
              <a:t>Approximate reas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ahoma"/>
              </a:rPr>
              <a:t>Generalisation cap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ahoma"/>
              </a:rPr>
              <a:t>Noise fil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ahoma"/>
              </a:rPr>
              <a:t>Parallel proces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ahoma"/>
              </a:rPr>
              <a:t>Distributed knowledge b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in Problems with AN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ahoma"/>
              </a:rPr>
              <a:t>Contrary to Expert sytems, with ANN the Knowledge base is not transparent (black bo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ahoma"/>
              </a:rPr>
              <a:t>Learning sometimes difficult/s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ahoma"/>
              </a:rPr>
              <a:t>Limited storage cap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e applications of AN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nunciation: NETtalk program (Sejnowski &amp; Rosenberg 1987) is a neural network that learns to pronounce written text: maps characters strings into phonemes (basic sound elements) for learning speech from tex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peech recogni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andwritten character recognition:a network designed  to read zip codes on hand-addressed envelop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LVINN (Pomerleau) is a neural network used to control vehicles steering direction so as to follow road by staying in the middle of its la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ace recogni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ackgammon learning progra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recasting e.g., predicting behavior of stock marke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en to use ANN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1826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Input is high-dimensional discrete or real-valued (e.g. raw sensor input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Inputs can be highly correlated or independen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Output is discrete or real valu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Output is a vector of valu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Possibly noisy data. Data may contain erro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Form of target function is unknow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Long training time are accep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Fast evaluation of target function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Human readability of learned target function is unimporta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⇒ </a:t>
            </a:r>
            <a:r>
              <a:rPr b="1" lang="pt-PT" sz="1600" spc="-1" strike="noStrike">
                <a:solidFill>
                  <a:srgbClr val="000000"/>
                </a:solidFill>
                <a:latin typeface="Tahoma"/>
              </a:rPr>
              <a:t>ANN is much like a black-box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Intelligent Program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chine Learning : Neural Ne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ural nets can be used to answer the following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attern recognition: Does that image contain a face?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ification problems: Is this cell defective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ediction: Given these symptoms, the patient has disease 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ecasting: predicting behavior of stock marke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andwriting: is character recognized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timization: Find the shortest path for the TSP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5867280" y="2400480"/>
          <a:ext cx="3000600" cy="19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400480"/>
                    <a:ext cx="300060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6567480" y="4724280"/>
          <a:ext cx="2424240" cy="198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67480" y="4724280"/>
                    <a:ext cx="24242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Intelligent Program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042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chine Learning : Neural N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ength and Weaknesses of AN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s may be described by a large number of attributes (e.g., pixels in an image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e4a8"/>
                </a:solidFill>
                <a:latin typeface="Tahoma"/>
              </a:rPr>
              <a:t>Data may contain error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The time for training may be extremely lo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e4a8"/>
                </a:solidFill>
                <a:latin typeface="Tahoma"/>
              </a:rPr>
              <a:t>Evaluating the network for a new example is relatively fa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Interpretability of the final hypothesis is not relevant (the NN is treated as a black box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ificial Neural Net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ological Neur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eur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182600" y="2017800"/>
            <a:ext cx="689472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uron receives nerve impulses through its dendrites. It then sends the nerve impulses through its  axon to the terminal buttons where neurotransmitters are released to simulate other neur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09480" y="4038480"/>
            <a:ext cx="8193240" cy="2703600"/>
            <a:chOff x="609480" y="4038480"/>
            <a:chExt cx="8193240" cy="2703600"/>
          </a:xfrm>
        </p:grpSpPr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609480" y="4038480"/>
              <a:ext cx="8193240" cy="27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 txBox="1"/>
            <p:nvPr/>
          </p:nvSpPr>
          <p:spPr>
            <a:xfrm>
              <a:off x="609480" y="4038480"/>
              <a:ext cx="8193240" cy="270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eur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unique components a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body or soma which contains the nucle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endr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x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nap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392720" y="2362320"/>
            <a:ext cx="33033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euron - dendri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endrites are short fibers (surrounding the cell body) that receive messag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endrites are very receptive to connections from other neur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endrites carry signals from the synapses to the so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129280" y="3200400"/>
            <a:ext cx="4091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08:21:39Z</dcterms:created>
  <dc:creator>mbatouche</dc:creator>
  <dc:description/>
  <dc:language>en-US</dc:language>
  <cp:lastModifiedBy> </cp:lastModifiedBy>
  <dcterms:modified xsi:type="dcterms:W3CDTF">2009-03-10T08:06:28Z</dcterms:modified>
  <cp:revision>2</cp:revision>
  <dc:subject/>
  <dc:title>Artificial Intelligence  CSC 361</dc:title>
</cp:coreProperties>
</file>