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9AF9-D811-4999-982C-ABE8EA1EA69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257D-3BAB-4595-8985-6C5E4AB7E12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6262200"/>
            <a:ext cx="12002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CE2-7E47-4FD8-93A9-7821F8DF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765-77C6-4D5A-8FF9-BC9C504B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BAF-D5DB-4C87-A67D-D26F2C93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380-33A8-42A2-B40D-CAFF4CEA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66E-5AC2-41A1-BFAC-FFA776FB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60E-9DCA-4392-A50F-F8FD2F35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1D4-62DA-46C3-B7A5-D4486414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24D-4D5D-438B-A45D-7C64E9FA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8E1-C989-4E64-A2EF-AA4F9A72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9FD-4833-4636-9A9C-28766F1C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24C-B931-4311-A0A1-66044CD0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76E-C1B3-4BAE-92CF-AA215BBF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3A7A-E6C6-41FF-A6E4-3FF9751D57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3408-4A21-4BB7-934F-7F5EEFD2AC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 (Part 1)</a:t>
            </a:r>
            <a:br>
              <a:rPr sz="3600"/>
            </a:b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5892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371600" y="3886200"/>
            <a:ext cx="6400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Yousef Al-Ohali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Computer Science Depart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CCIS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 King Saud University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Saudi Arabia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Tahoma"/>
                <a:hlinkClick r:id="rId1"/>
              </a:rPr>
              <a:t>yousef@ccis.edu.sa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Tahoma"/>
                <a:hlinkClick r:id="rId2"/>
              </a:rPr>
              <a:t>http://faculty.ksu.edu.sa/YAlohali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971640" y="350028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2ADA-79A8-4C1A-ABD8-069A1AC3E3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859280" y="1484280"/>
          <a:ext cx="4038480" cy="452592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44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32"/>
          <p:cNvSpPr/>
          <p:nvPr/>
        </p:nvSpPr>
        <p:spPr>
          <a:xfrm>
            <a:off x="5150520" y="551664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Rectangle 33"/>
          <p:cNvSpPr/>
          <p:nvPr/>
        </p:nvSpPr>
        <p:spPr>
          <a:xfrm>
            <a:off x="0" y="2637000"/>
            <a:ext cx="47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k because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ven’t fallen into a pit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ven’t been eaten by a Wumpu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Text Box 34"/>
          <p:cNvSpPr/>
          <p:nvPr/>
        </p:nvSpPr>
        <p:spPr>
          <a:xfrm>
            <a:off x="14940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2C80-2AC6-4C97-9615-071A284064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88000" y="1484280"/>
          <a:ext cx="4038480" cy="4525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97" name="Rectangle 32"/>
          <p:cNvSpPr/>
          <p:nvPr/>
        </p:nvSpPr>
        <p:spPr>
          <a:xfrm>
            <a:off x="0" y="2565360"/>
            <a:ext cx="4572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K sinc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no Stench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no Breeze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ighbors are safe (OK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Text Box 33"/>
          <p:cNvSpPr/>
          <p:nvPr/>
        </p:nvSpPr>
        <p:spPr>
          <a:xfrm>
            <a:off x="5150520" y="537372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-6804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3C5C-2902-47B3-94EF-40974AAE9C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492360" y="2060640"/>
          <a:ext cx="5410440" cy="4206960"/>
        </p:xfrm>
        <a:graphic>
          <a:graphicData uri="http://schemas.openxmlformats.org/drawingml/2006/table">
            <a:tbl>
              <a:tblPr/>
              <a:tblGrid>
                <a:gridCol w="1352520"/>
                <a:gridCol w="1352880"/>
                <a:gridCol w="1352520"/>
                <a:gridCol w="1352520"/>
              </a:tblGrid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Rectangle 68"/>
          <p:cNvSpPr/>
          <p:nvPr/>
        </p:nvSpPr>
        <p:spPr>
          <a:xfrm>
            <a:off x="324000" y="2852640"/>
            <a:ext cx="30416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 move and smell a stench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Text Box 69"/>
          <p:cNvSpPr/>
          <p:nvPr/>
        </p:nvSpPr>
        <p:spPr>
          <a:xfrm>
            <a:off x="4217040" y="421488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Line 70"/>
          <p:cNvSpPr/>
          <p:nvPr/>
        </p:nvSpPr>
        <p:spPr>
          <a:xfrm flipV="1">
            <a:off x="4572000" y="522936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Text Box 71"/>
          <p:cNvSpPr/>
          <p:nvPr/>
        </p:nvSpPr>
        <p:spPr>
          <a:xfrm>
            <a:off x="-318960" y="148428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1178-6734-4505-8218-B8A8B81DAA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48320" y="1600200"/>
          <a:ext cx="4038480" cy="4417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12" name="Rectangle 35"/>
          <p:cNvSpPr/>
          <p:nvPr/>
        </p:nvSpPr>
        <p:spPr>
          <a:xfrm>
            <a:off x="250920" y="285264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 can infer  the following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Note: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square (1,1) remains OK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Line 36"/>
          <p:cNvSpPr/>
          <p:nvPr/>
        </p:nvSpPr>
        <p:spPr>
          <a:xfrm>
            <a:off x="3708360" y="31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5150520" y="386064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Text Box 38"/>
          <p:cNvSpPr/>
          <p:nvPr/>
        </p:nvSpPr>
        <p:spPr>
          <a:xfrm>
            <a:off x="5040" y="141300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90C6-17D1-490B-A874-5CDFD8B648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48320" y="1600200"/>
          <a:ext cx="4038480" cy="4417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0" name="Line 38"/>
          <p:cNvSpPr/>
          <p:nvPr/>
        </p:nvSpPr>
        <p:spPr>
          <a:xfrm flipV="1">
            <a:off x="5435640" y="450864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Line 39"/>
          <p:cNvSpPr/>
          <p:nvPr/>
        </p:nvSpPr>
        <p:spPr>
          <a:xfrm>
            <a:off x="5292720" y="5661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6084720" y="4869000"/>
            <a:ext cx="432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324000" y="263700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ve and feel a breez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hat can we conclude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22104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8CDE-4191-404B-AA9E-4BDBCAF957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648320" y="1600200"/>
          <a:ext cx="4038480" cy="439740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pSp>
        <p:nvGrpSpPr>
          <p:cNvPr id="129" name="Group 36"/>
          <p:cNvGrpSpPr/>
          <p:nvPr/>
        </p:nvGrpSpPr>
        <p:grpSpPr>
          <a:xfrm>
            <a:off x="2478960" y="3138480"/>
            <a:ext cx="6663960" cy="3720960"/>
            <a:chOff x="2478960" y="3138480"/>
            <a:chExt cx="6663960" cy="3720960"/>
          </a:xfrm>
        </p:grpSpPr>
        <p:sp>
          <p:nvSpPr>
            <p:cNvPr id="130" name="Text Box 37"/>
            <p:cNvSpPr/>
            <p:nvPr/>
          </p:nvSpPr>
          <p:spPr>
            <a:xfrm>
              <a:off x="2478960" y="6338880"/>
              <a:ext cx="666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nd what about the other  P? and W? square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 flipV="1">
              <a:off x="7354800" y="5424480"/>
              <a:ext cx="5335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 flipV="1">
              <a:off x="3316320" y="3138480"/>
              <a:ext cx="121932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33" name="Group 40"/>
          <p:cNvGrpSpPr/>
          <p:nvPr/>
        </p:nvGrpSpPr>
        <p:grpSpPr>
          <a:xfrm>
            <a:off x="684360" y="2781360"/>
            <a:ext cx="6247800" cy="3018600"/>
            <a:chOff x="684360" y="2781360"/>
            <a:chExt cx="6247800" cy="3018600"/>
          </a:xfrm>
        </p:grpSpPr>
        <p:sp>
          <p:nvSpPr>
            <p:cNvPr id="134" name="Text Box 41"/>
            <p:cNvSpPr/>
            <p:nvPr/>
          </p:nvSpPr>
          <p:spPr>
            <a:xfrm>
              <a:off x="684360" y="2781360"/>
              <a:ext cx="32000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Garamond"/>
                </a:rPr>
                <a:t>But, can the 2,2 square really have either a Wumpus or a pit? 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>
              <a:off x="5484600" y="3695760"/>
              <a:ext cx="1447560" cy="1295640"/>
            </a:xfrm>
            <a:prstGeom prst="rect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36" name="Text Box 43"/>
          <p:cNvSpPr/>
          <p:nvPr/>
        </p:nvSpPr>
        <p:spPr>
          <a:xfrm>
            <a:off x="6156360" y="5516640"/>
            <a:ext cx="423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" name="Text Box 44"/>
          <p:cNvSpPr/>
          <p:nvPr/>
        </p:nvSpPr>
        <p:spPr>
          <a:xfrm>
            <a:off x="539640" y="515772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Times New Roman"/>
              </a:rPr>
              <a:t>NO!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Text Box 45"/>
          <p:cNvSpPr/>
          <p:nvPr/>
        </p:nvSpPr>
        <p:spPr>
          <a:xfrm>
            <a:off x="22104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5812-EAE7-486C-AA04-9D3039ABDA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48320" y="1600200"/>
          <a:ext cx="4038480" cy="439740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43" name="Line 34"/>
          <p:cNvSpPr/>
          <p:nvPr/>
        </p:nvSpPr>
        <p:spPr>
          <a:xfrm flipV="1">
            <a:off x="5796000" y="4005360"/>
            <a:ext cx="5335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" name="Line 35"/>
          <p:cNvSpPr/>
          <p:nvPr/>
        </p:nvSpPr>
        <p:spPr>
          <a:xfrm flipH="1" flipV="1">
            <a:off x="5796000" y="4005360"/>
            <a:ext cx="5335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Text Box 36"/>
          <p:cNvSpPr/>
          <p:nvPr/>
        </p:nvSpPr>
        <p:spPr>
          <a:xfrm>
            <a:off x="6156360" y="4869000"/>
            <a:ext cx="441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221040" y="162864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300F-29CD-46F9-8AEF-4CEB3DB6AA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600200"/>
          <a:ext cx="4038480" cy="4417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51" name="Line 34"/>
          <p:cNvSpPr/>
          <p:nvPr/>
        </p:nvSpPr>
        <p:spPr>
          <a:xfrm flipV="1">
            <a:off x="6300720" y="480492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Text Box 35"/>
          <p:cNvSpPr/>
          <p:nvPr/>
        </p:nvSpPr>
        <p:spPr>
          <a:xfrm>
            <a:off x="6158520" y="378936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22104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C107-7D81-447E-94CA-29870E6D66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48320" y="1600200"/>
          <a:ext cx="4038480" cy="4417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58" name="Line 34"/>
          <p:cNvSpPr/>
          <p:nvPr/>
        </p:nvSpPr>
        <p:spPr>
          <a:xfrm flipV="1">
            <a:off x="6372360" y="5447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" name="Line 35"/>
          <p:cNvSpPr/>
          <p:nvPr/>
        </p:nvSpPr>
        <p:spPr>
          <a:xfrm flipV="1">
            <a:off x="6372360" y="4295520"/>
            <a:ext cx="0" cy="695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6158520" y="487188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" name="Text Box 37"/>
          <p:cNvSpPr/>
          <p:nvPr/>
        </p:nvSpPr>
        <p:spPr>
          <a:xfrm>
            <a:off x="6158520" y="379260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Rectangle 38"/>
          <p:cNvSpPr/>
          <p:nvPr/>
        </p:nvSpPr>
        <p:spPr>
          <a:xfrm>
            <a:off x="250920" y="249228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nd the exploration continues onward until the gold is found.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Text Box 39"/>
          <p:cNvSpPr/>
          <p:nvPr/>
        </p:nvSpPr>
        <p:spPr>
          <a:xfrm>
            <a:off x="365400" y="148428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342A-CCFC-4394-950B-E72564A97D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14480" y="1523880"/>
            <a:ext cx="4457520" cy="4476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4500720" y="2133720"/>
            <a:ext cx="399564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reeze in (1,2) and (2,1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no safe action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suming pits uniformly distributed, (2,2) is most likely to have a pit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3462480" y="1189080"/>
            <a:ext cx="25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A tight spot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163F-F08E-482B-A534-1B67599C3D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can we formalize our knowledge about the world so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reason abou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do sound i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prove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plan 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understand and explain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0B74-7CEE-4A1F-BA1C-3AC06C3771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52280" y="2162160"/>
            <a:ext cx="3429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5"/>
          <p:cNvGrpSpPr/>
          <p:nvPr/>
        </p:nvGrpSpPr>
        <p:grpSpPr>
          <a:xfrm>
            <a:off x="610920" y="2498760"/>
            <a:ext cx="2663640" cy="2532240"/>
            <a:chOff x="610920" y="2498760"/>
            <a:chExt cx="2663640" cy="2532240"/>
          </a:xfrm>
        </p:grpSpPr>
        <p:sp>
          <p:nvSpPr>
            <p:cNvPr id="175" name="Text Box 6"/>
            <p:cNvSpPr/>
            <p:nvPr/>
          </p:nvSpPr>
          <p:spPr>
            <a:xfrm>
              <a:off x="610920" y="2498760"/>
              <a:ext cx="94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W?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2331720" y="4327560"/>
              <a:ext cx="94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W?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7" name="Rectangle 9"/>
          <p:cNvSpPr/>
          <p:nvPr/>
        </p:nvSpPr>
        <p:spPr>
          <a:xfrm>
            <a:off x="3809880" y="1844640"/>
            <a:ext cx="533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mell in (1,1)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cannot mov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n use a strategy of coercion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shoot straight ahead;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wumpus was ther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dead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saf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wumpus wasn't ther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 saf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2647440" y="1020600"/>
            <a:ext cx="34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Another tight spot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B6BF-2B53-4092-9FAD-3655D64C59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Fundamental property of logical reaso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In each case where the agent draws a conclusion from the available information, that conclusion is guaranteed to </a:t>
            </a:r>
            <a:r>
              <a:rPr b="1" i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be correct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if the </a:t>
            </a:r>
            <a:r>
              <a:rPr b="1" i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available information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is </a:t>
            </a:r>
            <a:r>
              <a:rPr b="1" i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corr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FD9F-E083-4460-B17F-2C34A9D5E7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11280" y="76500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undamental concepts of logical representa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Logic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re formal languages for representing information such that conclusions can be drawn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ach sentence is defined by a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a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semantic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Syntax</a:t>
            </a: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fines the sentences in the language. It specifies well formed sentence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Semantic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fine the ``meaning'' of sentences;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i.e., in logic it defines the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  <a:ea typeface="Arial"/>
              </a:rPr>
              <a:t>truth of a 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in 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possible world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example, the language of arithmet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2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y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is a sentence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y &gt;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    is not a sentence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2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y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is true iff the number </a:t>
            </a: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+2</a:t>
            </a:r>
            <a:r>
              <a:rPr b="0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is no less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than the number</a:t>
            </a:r>
            <a:r>
              <a:rPr b="0" i="1" lang="en-US" sz="2000" spc="-1" strike="noStrike">
                <a:solidFill>
                  <a:srgbClr val="bbe0e3"/>
                </a:solidFill>
                <a:latin typeface="Garamond"/>
                <a:ea typeface="Arial"/>
              </a:rPr>
              <a:t> y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2 </a:t>
            </a:r>
            <a:r>
              <a:rPr b="1" i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y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is true in a world where </a:t>
            </a: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= 7, y =1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2 </a:t>
            </a:r>
            <a:r>
              <a:rPr b="1" i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y</a:t>
            </a:r>
            <a:r>
              <a:rPr b="1" i="1" lang="en-US" sz="2000" spc="-1" strike="noStrike">
                <a:solidFill>
                  <a:srgbClr val="bbe0e3"/>
                </a:solidFill>
                <a:latin typeface="Garamond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is false in a world where </a:t>
            </a: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= 0, y= 6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81AD-3F62-482D-85EC-E48513DC3A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undamental concepts of logical represent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5960" y="76500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Model: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word is used instead of “possible world” for sake of precision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Garamond"/>
              </a:rPr>
              <a:t>m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is a model of a sentence </a:t>
            </a:r>
            <a:r>
              <a:rPr b="1" lang="el-G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α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means</a:t>
            </a:r>
            <a:r>
              <a:rPr b="0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α</a:t>
            </a:r>
            <a:r>
              <a:rPr b="0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is true in model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finition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odel is a mathematical abstraction that simply fixes the truth or falsehood of every relevant sentenc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men and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women sitting at a table playing bridg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 y =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is a sentence which is true when the total number is four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: possible assignment of numbers to the variable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ssignment fixes the truth of any sentence whose variables are x and y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D390-2726-43E9-8627-02057EAEE6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400800" cy="41911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468360" y="53737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model is an instance of the world. A model of a set of sentences is an instance of the world where these sentences are tru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324000" y="1341360"/>
            <a:ext cx="241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Potential  models of the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DA54-2329-4020-B068-3752E21306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Entailment:</a:t>
            </a: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Logical reasoning requires the relation of logical entailment between sentences. </a:t>
            </a:r>
            <a:r>
              <a:rPr b="1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 « a sentence follows logically from another sentence 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hematical notation:  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l-GR" sz="2400" spc="-1" strike="noStrike">
                <a:solidFill>
                  <a:srgbClr val="990000"/>
                </a:solidFill>
                <a:latin typeface="Times New Roman"/>
                <a:ea typeface="Arial Unicode MS"/>
              </a:rPr>
              <a:t>α</a:t>
            </a:r>
            <a:r>
              <a:rPr b="0" lang="el-G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╞</a:t>
            </a: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entails the sentence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ormal definitio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: </a:t>
            </a:r>
            <a:r>
              <a:rPr b="0" lang="el-GR" sz="2400" spc="-1" strike="noStrike">
                <a:solidFill>
                  <a:srgbClr val="990000"/>
                </a:solidFill>
                <a:latin typeface="Times New Roman"/>
                <a:ea typeface="Arial Unicode MS"/>
              </a:rPr>
              <a:t>α</a:t>
            </a:r>
            <a:r>
              <a:rPr b="0" lang="el-G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╞</a:t>
            </a: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and only if in every model in which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true,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lso true. (truth of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contained in the truth of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1763640" y="126828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84A8-6F7E-4B3F-BC3D-C35B40AE64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ail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79600" y="1623960"/>
            <a:ext cx="2378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Logical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Representa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523880" y="447372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ndy"/>
              </a:rPr>
              <a:t>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380880" y="3276720"/>
            <a:ext cx="8534520" cy="0"/>
          </a:xfrm>
          <a:prstGeom prst="line">
            <a:avLst/>
          </a:prstGeom>
          <a:ln w="28440">
            <a:solidFill>
              <a:srgbClr val="ff99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3381120" y="1471680"/>
            <a:ext cx="1645200" cy="3507480"/>
            <a:chOff x="3381120" y="1471680"/>
            <a:chExt cx="1645200" cy="3507480"/>
          </a:xfrm>
        </p:grpSpPr>
        <p:sp>
          <p:nvSpPr>
            <p:cNvPr id="206" name="Text Box 7"/>
            <p:cNvSpPr/>
            <p:nvPr/>
          </p:nvSpPr>
          <p:spPr>
            <a:xfrm>
              <a:off x="3381120" y="1471680"/>
              <a:ext cx="164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y"/>
                </a:rPr>
                <a:t>Sentence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y"/>
                </a:rPr>
                <a:t>KB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619800" y="4519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ndy"/>
                </a:rPr>
                <a:t>Fact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3886200" y="2590920"/>
              <a:ext cx="0" cy="152388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 rot="5400000">
              <a:off x="3464280" y="296820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be0e3"/>
                  </a:solidFill>
                  <a:latin typeface="Arial"/>
                </a:rPr>
                <a:t>Semantic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10" name="Text Box 11"/>
          <p:cNvSpPr/>
          <p:nvPr/>
        </p:nvSpPr>
        <p:spPr>
          <a:xfrm>
            <a:off x="7165800" y="1386000"/>
            <a:ext cx="1645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entenc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7670880" y="2590920"/>
            <a:ext cx="0" cy="1523880"/>
          </a:xfrm>
          <a:prstGeom prst="line">
            <a:avLst/>
          </a:prstGeom>
          <a:ln w="572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 rot="5400000">
            <a:off x="7248960" y="29682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Semantic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13" name="Group 14"/>
          <p:cNvGrpSpPr/>
          <p:nvPr/>
        </p:nvGrpSpPr>
        <p:grpSpPr>
          <a:xfrm>
            <a:off x="5029200" y="4062240"/>
            <a:ext cx="3287520" cy="916920"/>
            <a:chOff x="5029200" y="4062240"/>
            <a:chExt cx="3287520" cy="916920"/>
          </a:xfrm>
        </p:grpSpPr>
        <p:sp>
          <p:nvSpPr>
            <p:cNvPr id="214" name="Text Box 15"/>
            <p:cNvSpPr/>
            <p:nvPr/>
          </p:nvSpPr>
          <p:spPr>
            <a:xfrm>
              <a:off x="7404480" y="4519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ndy"/>
                </a:rPr>
                <a:t>Fact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5" name="Line 16"/>
            <p:cNvSpPr/>
            <p:nvPr/>
          </p:nvSpPr>
          <p:spPr>
            <a:xfrm>
              <a:off x="5029200" y="4648320"/>
              <a:ext cx="17524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6" name="Text Box 17"/>
            <p:cNvSpPr/>
            <p:nvPr/>
          </p:nvSpPr>
          <p:spPr>
            <a:xfrm>
              <a:off x="5146560" y="406224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Follow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17" name="Group 18"/>
          <p:cNvGrpSpPr/>
          <p:nvPr/>
        </p:nvGrpSpPr>
        <p:grpSpPr>
          <a:xfrm>
            <a:off x="5410080" y="1270080"/>
            <a:ext cx="1447920" cy="635040"/>
            <a:chOff x="5410080" y="1270080"/>
            <a:chExt cx="1447920" cy="635040"/>
          </a:xfrm>
        </p:grpSpPr>
        <p:sp>
          <p:nvSpPr>
            <p:cNvPr id="218" name="Text Box 19"/>
            <p:cNvSpPr/>
            <p:nvPr/>
          </p:nvSpPr>
          <p:spPr>
            <a:xfrm>
              <a:off x="5480640" y="12700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ai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5410080" y="1905120"/>
              <a:ext cx="1447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20" name="Line 21"/>
          <p:cNvSpPr/>
          <p:nvPr/>
        </p:nvSpPr>
        <p:spPr>
          <a:xfrm>
            <a:off x="2971800" y="1371600"/>
            <a:ext cx="0" cy="3733920"/>
          </a:xfrm>
          <a:prstGeom prst="line">
            <a:avLst/>
          </a:prstGeom>
          <a:ln w="284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179280" y="50846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reasoning should ensure that the new configurations represent aspects of the world that actually follow from  the aspects that the old configurations represent.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692360" y="98100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F093-B5B3-46E4-91F0-8A8311EA57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Model cheking: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numerates all possible models to check that </a:t>
            </a:r>
            <a:r>
              <a:rPr b="1" lang="el-G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α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is true in all models in which KB is tr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notation:     KB       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The notation say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rived from KB by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ives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KB.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inference algo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692360" y="112536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457200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4572000" y="32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718160" y="321300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484A-7425-454B-8432-4664D6F41D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629400" cy="53755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6"/>
          <p:cNvSpPr/>
          <p:nvPr/>
        </p:nvSpPr>
        <p:spPr>
          <a:xfrm>
            <a:off x="242280" y="166860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ntailment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2050920" y="90792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88F0-F4C5-454E-BAFE-2D5C737790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7162920" cy="54925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450360" y="173988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Entailment again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692360" y="90792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7D79-F66C-469C-A4A1-37723FAA1B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bjectives of knowledge representation and reasoning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form representations of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use a process of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to derive new representations about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use these new representations to deduce what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B54C-C490-4A16-9FF1-671117A700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 inference procedure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an do two th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iven KB, generate new senten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purported to be entailed by K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iven KB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report whether or no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is entailed by K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Garamond"/>
              </a:rPr>
              <a:t>Sound or truth preserving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ference algorithm that derives only entailed sent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Garamond"/>
              </a:rPr>
              <a:t>Completenes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 inference algorithm is complete, if it can derive any sentence that is entail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2DEF-D5C1-4208-B582-FD3D0258DA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395280" y="1052640"/>
            <a:ext cx="8424720" cy="77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plaining more Soundness and completenes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aramond"/>
              </a:rPr>
              <a:t>Soundness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 the system proves that something is true,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 it really is true. The system doesn’t derive contradiction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aramond"/>
              </a:rPr>
              <a:t>Completeness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: if something is really true, it can be proven using the system. The system can be used to derive all the true mathematical statements one by o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1D04-CAFC-4CB8-BA54-E30C98288C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comic"/>
                <a:ea typeface="Times New Roman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Propositional logic is the simplest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eman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ntail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E2F5-4734-4DCF-83BF-2D82E1D9DE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comic"/>
                <a:ea typeface="Times New Roman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: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t  defines the allowable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tomic sent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single proposition symbol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uppercase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names for symbols must have some mnemonic value: example W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  <a:ea typeface="Times New Roman"/>
              </a:rPr>
              <a:t>1,3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to say the wumpus is in [1,3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rue and False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: proposition symbols with fixed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omplex sentences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: they are constructed from simpler sentences using logical connec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80AE-52AE-43BC-9CF8-5C2DD69931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comic"/>
                <a:ea typeface="Times New Roman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Logical conn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) neg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) conjunction, operands are  conjun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), operands are disjun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cation (or conditional) A ⇒ B, A is the premise or antecedent and B is the conclusion or consequent.  It is also known as rule or if-then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ci3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ci3"/>
                <a:ea typeface="tci3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and only if (bicondition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107C-9017-4B48-927B-E5E23FE965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68360" y="911160"/>
            <a:ext cx="8351640" cy="77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comic"/>
              </a:rPr>
              <a:t>Propositional Log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ogical constants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re sentences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position symbol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1, P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etc. are sentences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ymbol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negated symbol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re called literals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NOT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AND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OR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Implies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Equivalent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1819-3C50-4535-9E4C-607A79080B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68360" y="911160"/>
            <a:ext cx="835164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comic"/>
              </a:rPr>
              <a:t>Propositional Log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 BNF(Backus-Naur Form) grammar of sentences in propositional Logic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is defined by the following rules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tomic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│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ComplexSentenc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tomicSentenc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→ Tru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als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ymbo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ymbol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→ P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R …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Complex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→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395280" y="2276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395280" y="6524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6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14D9-C167-4A2C-A2F9-1FB631342C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468360" y="911160"/>
            <a:ext cx="8351640" cy="60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comic"/>
              </a:rPr>
              <a:t>Propositional Log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Order of precedence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rom highest to lowest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parenthesis   ( Sentence )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Implies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Equivalen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Special cases: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  no parentheses are neede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bout       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??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CDC1-F05F-4747-9AAC-5A31580FE3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comic"/>
                <a:ea typeface="Times New Roman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Semantic: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t defines the rules for determining the truth of a sentence with respect to a particular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The question: How to compute the truth value of ny sentence given a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2874-899C-4FC6-BB2D-5A99C851AD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772400" cy="208908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5"/>
          <p:cNvGrpSpPr/>
          <p:nvPr/>
        </p:nvGrpSpPr>
        <p:grpSpPr>
          <a:xfrm>
            <a:off x="123840" y="3284640"/>
            <a:ext cx="9005400" cy="2242440"/>
            <a:chOff x="123840" y="3284640"/>
            <a:chExt cx="9005400" cy="2242440"/>
          </a:xfrm>
        </p:grpSpPr>
        <p:sp>
          <p:nvSpPr>
            <p:cNvPr id="280" name="Rectangle 6"/>
            <p:cNvSpPr/>
            <p:nvPr/>
          </p:nvSpPr>
          <p:spPr>
            <a:xfrm>
              <a:off x="123840" y="3284640"/>
              <a:ext cx="876312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1" name="Text Box 7"/>
            <p:cNvSpPr/>
            <p:nvPr/>
          </p:nvSpPr>
          <p:spPr>
            <a:xfrm>
              <a:off x="7668360" y="4503600"/>
              <a:ext cx="1460880" cy="1023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el of  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2" name="Line 8"/>
            <p:cNvSpPr/>
            <p:nvPr/>
          </p:nvSpPr>
          <p:spPr>
            <a:xfrm flipV="1">
              <a:off x="8429760" y="3665520"/>
              <a:ext cx="30492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83" name="Rectangle 9"/>
          <p:cNvSpPr/>
          <p:nvPr/>
        </p:nvSpPr>
        <p:spPr>
          <a:xfrm>
            <a:off x="324000" y="4221000"/>
            <a:ext cx="727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st sentences are sometimes true.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Q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ome sentences are always true (valid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ome sentences are never true (unsatisfiable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6550-0DF9-4356-B0B3-A26706AD70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ome defin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Knowledge bas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set of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ntence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 Each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expressed in a language called a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knowledge representation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a sentence represents some assertion about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ferenc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Process of deriving new sentences from old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1708-8DEE-4B4B-A5C6-FCA3C2228E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772400" cy="20890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762120" y="2895480"/>
            <a:ext cx="7848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mplication: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Q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f P is True, then Q is true; otherwise I’m making no claims about the truth of Q.” (Or: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Q is equivalent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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der this definition, the following statement is tru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s_f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Everyone_gets_an_A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ince “Pigs_Fly” is false, the statement is true irrespective of the truth of “Everyone_gets_an_A”. [Or is it? Correct inference only when “Pigs_Fly” is known to be false.]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F0A0-6ECF-4A7F-8CA4-D5E3FBF068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positional Inference: Enumera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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a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B =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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it the case that KB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eck all possible models -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must be true whenever KB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"/>
          <p:cNvSpPr/>
          <p:nvPr/>
        </p:nvSpPr>
        <p:spPr>
          <a:xfrm>
            <a:off x="356400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Line 5"/>
          <p:cNvSpPr/>
          <p:nvPr/>
        </p:nvSpPr>
        <p:spPr>
          <a:xfrm>
            <a:off x="3564000" y="22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648320" y="1600200"/>
          <a:ext cx="4038480" cy="413532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928800"/>
                <a:gridCol w="687240"/>
              </a:tblGrid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A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B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C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KB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B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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5" name="Line 72"/>
          <p:cNvSpPr/>
          <p:nvPr/>
        </p:nvSpPr>
        <p:spPr>
          <a:xfrm>
            <a:off x="341964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6" name="Line 73"/>
          <p:cNvSpPr/>
          <p:nvPr/>
        </p:nvSpPr>
        <p:spPr>
          <a:xfrm>
            <a:off x="349236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7" name="Line 74"/>
          <p:cNvSpPr/>
          <p:nvPr/>
        </p:nvSpPr>
        <p:spPr>
          <a:xfrm>
            <a:off x="3492360" y="3860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9246-4A60-45C5-BD1A-2C2365EAC6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124000" y="1413000"/>
          <a:ext cx="5832720" cy="433044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400"/>
                <a:gridCol w="1897200"/>
                <a:gridCol w="1513080"/>
              </a:tblGrid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C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K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B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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F96E-E4E0-4566-B53C-3004A2E641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124000" y="1413000"/>
          <a:ext cx="5832720" cy="445284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400"/>
                <a:gridCol w="1897200"/>
                <a:gridCol w="1513080"/>
              </a:tblGrid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C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K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B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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06" name="Text Box 75"/>
          <p:cNvSpPr/>
          <p:nvPr/>
        </p:nvSpPr>
        <p:spPr>
          <a:xfrm>
            <a:off x="5869080" y="2781360"/>
            <a:ext cx="16714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KB ╞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1651-0450-4A7E-9515-B1679689DD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Propositional Logic: Proof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odel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ruth table enumeration (sound and complete for propositional logi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n symbols, the time complexity is O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ed a smarter way to do 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pplication of inferenc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gitimate (sound) generation of new sentences from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of = a sequence of inference rule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an use inference rules as operators in a standard search algo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7037-1312-4C7D-8C0B-0310F3045F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Validity and Satisf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entence is valid (a tautology) if it is true in al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.g.,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¬A, A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, 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A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B))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Validity is connected to inference via the Deduction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╞ α if and only if 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α) is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entence is satisfiable if it is true in som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.g.,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entence is unsatisfiable if it is false in al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.g.,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¬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atisfiability is connected to inference via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╞ α if and only if 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¬α) is 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there is no model for which KB=true and α is 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D304-4DFF-4588-A6D5-5D3C28A797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positional Logic: Inferenc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 inference rule is sound if the conclusion is true in all cases where the premises are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FAA6-58C4-42A7-BB6A-59BBFFA601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positional Logic: An inference rule: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dus Pon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om an implication and the premise of the implication, you can infer the concl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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aining implies soggy courts”, “rai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fer: “soggy cour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4191-C1CD-45CB-A03E-709D77AF76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positional Logic: An inference rule: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dus Tol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om an implication and the premise of the implication, you can infer the concl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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aining implies soggy courts”, “courts not sogg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fer: “not rai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D22C-F335-4F72-8C1B-752B703823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positional Logic: An inference rule: AND eli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om a conjunction, you can infer any of the conjun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     Pre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Question: show that Modus Ponens and And Elimination are soun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7E23-EB37-4E23-8F82-B957E9806D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clarative vs procedural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clarative approach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an approach to system building that consists in expressing the knowledge of the environment in the form of sentences using a representation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cedural approach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encodes desired behaviors directly as a progra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DF3C-E6C3-4555-94D1-3982310889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positional Logic: other inferenc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nd-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ouble Neg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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ules of equivalence can be used as inference rules. (Tutori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3E97-0878-49B2-85B5-37178C7074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positional Logic: Equivalenc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wo sentences are logically equivalent iff they are true in the same models: α ≡ ß iff α╞ β and β╞ 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0" y="2349360"/>
            <a:ext cx="884556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1BC7-E030-49CA-90A4-19E9AFF108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457200" y="1052640"/>
            <a:ext cx="822960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17A5-25D7-44E8-985D-3B0C2B0262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Inference in Wumpus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900000" y="1773360"/>
            <a:ext cx="6553440" cy="25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Let S</a:t>
            </a:r>
            <a:r>
              <a:rPr b="1" lang="en-US" sz="2400" spc="-1" strike="noStrike" baseline="-25000">
                <a:solidFill>
                  <a:srgbClr val="808080"/>
                </a:solidFill>
                <a:latin typeface="Garamond"/>
                <a:ea typeface="Times New Roman"/>
              </a:rPr>
              <a:t>i,j </a:t>
            </a: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be true if there is a stench in cell i,j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Let B</a:t>
            </a:r>
            <a:r>
              <a:rPr b="1" lang="en-US" sz="2400" spc="-1" strike="noStrike" baseline="-25000">
                <a:solidFill>
                  <a:srgbClr val="808080"/>
                </a:solidFill>
                <a:latin typeface="Garamond"/>
                <a:ea typeface="Times New Roman"/>
              </a:rPr>
              <a:t>i,j </a:t>
            </a: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be true if there is a breeze in cell i,j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Let W</a:t>
            </a:r>
            <a:r>
              <a:rPr b="1" lang="en-US" sz="2400" spc="-1" strike="noStrike" baseline="-25000">
                <a:solidFill>
                  <a:srgbClr val="808080"/>
                </a:solidFill>
                <a:latin typeface="Garamond"/>
                <a:ea typeface="Times New Roman"/>
              </a:rPr>
              <a:t>i,j </a:t>
            </a: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be true if there is a Wumpus in cell i,j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50920" y="3195720"/>
            <a:ext cx="8569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¬B1,1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1,1 </a:t>
            </a:r>
            <a:r>
              <a:rPr b="1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make some inferences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(B1,1 </a:t>
            </a:r>
            <a:r>
              <a:rPr b="1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 </a:t>
            </a: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,1 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y definition of the biconditional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 </a:t>
            </a:r>
            <a:r>
              <a:rPr b="1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,1 (And-elimination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¬B1,1 </a:t>
            </a:r>
            <a:r>
              <a:rPr b="1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¬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 (equivalence with contrapositive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¬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 (modus ponens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¬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¬P2,1 (DeMorgan’s rule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¬P1,2 (And Elimination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3303-5065-4040-8BFF-D9B2E0E371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Inference in Wumpus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95280" y="2492280"/>
            <a:ext cx="3962520" cy="394056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ercept Sentences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Environment Knowledge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006560" y="1649520"/>
            <a:ext cx="20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Initial KB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212720" y="1774800"/>
            <a:ext cx="471636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me inferences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pply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Modus Ponen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Add to KB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1,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2,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1,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pply to this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AND-Elimina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Add to KB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1,1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2,1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1,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F1F7-DF79-424F-9E6E-61AA36938B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ecall that when we were at (2,1) we could not decide on a safe move, so we backtracked, and explored (1,2), which yielded ¬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2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2,2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s yield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and consequ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,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3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, 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ow we can consider the implications of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Garamond"/>
              </a:rPr>
              <a:t>2,1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8BFF-874F-42A8-AC13-2046998DB1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(biconditional Elimi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modus pon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1,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resolution rule because no pit in (2,2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(resolution rule because no pit in (1,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Garamond"/>
              </a:rPr>
              <a:t>The resolution rule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f there is a pit in (1,1) or (3,1), and it’s not in (1,1), then it’s in (3,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¬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"/>
          <p:cNvSpPr/>
          <p:nvPr/>
        </p:nvSpPr>
        <p:spPr>
          <a:xfrm>
            <a:off x="2771640" y="5445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A0A0-1612-4914-8E7F-293F1A4C6B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nit Resolution inference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re complementary lit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6"/>
          <p:cNvSpPr/>
          <p:nvPr/>
        </p:nvSpPr>
        <p:spPr>
          <a:xfrm>
            <a:off x="1908000" y="3716280"/>
            <a:ext cx="54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DBC7-4979-4984-8D27-B176245D2E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ull resolution inference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+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-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+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re complementary lit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539640" y="4149720"/>
            <a:ext cx="777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1051-63F4-4B94-86BD-5996C9347F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implicity let’s consider clauses of length tw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¬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11280" y="3573360"/>
            <a:ext cx="792000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rive the soundness of resolution consider the value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ake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since we know that ¬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s, i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the case tha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3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ru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since we know tha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s, i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the case tha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ru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2987640" y="278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1481-7881-443A-A646-DE63B894CC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Example: Wumpus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3033000" y="907920"/>
            <a:ext cx="4194720" cy="5548320"/>
            <a:chOff x="3033000" y="907920"/>
            <a:chExt cx="4194720" cy="554832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3902" t="24465" r="68365" b="55964"/>
            <a:stretch/>
          </p:blipFill>
          <p:spPr>
            <a:xfrm>
              <a:off x="3068640" y="1960560"/>
              <a:ext cx="41590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6"/>
            <p:cNvSpPr/>
            <p:nvPr/>
          </p:nvSpPr>
          <p:spPr>
            <a:xfrm>
              <a:off x="3033000" y="907920"/>
              <a:ext cx="4181400" cy="825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ok Antiqua"/>
                </a:rPr>
                <a:t>THE WUMPUS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AB3A-8B5F-4B81-A3DE-31EB9DAE08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. Properties of the resolution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lete (yields to a complete inference algorith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2. The resolution rule forms the basis for a family of complete inference algo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3. Resolution rule is used to either confirm or refute a sentence but it cannot be used to enumerate tru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EA30-FBE5-4B07-A75C-C72FFFE003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4. Resolution can be applied only to disjunctions of literals. How can  it lead to a complete inference procedure for all propositional log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5. Turns out any knowledge base can be expressed as a conjunction of disjunctions (conjunctive normal form, CN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.g., 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¬B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(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¬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¬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80A6-3D35-48A1-AF2D-40247993DC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aramond"/>
              </a:rPr>
              <a:t>Resolution: Inference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6. Inference procedures based on resolution work by using the principle of proof by contadi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o show that KB ╞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 show that (K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unsatis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rocess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. convert K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N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resolution rule is applied to the resulting cla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AD0D-855A-4B2C-B665-2A6EA031AA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solution: Inference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-RESOLUTION(KB,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ue or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uses ← the set of clauses in the CNF representation of  (K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←{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 clause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nts ← PL-RESOLVE (C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nts contains the empty claus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retur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← new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∪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ol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⊆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use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retur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uses ← clauses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∪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5"/>
          <p:cNvSpPr/>
          <p:nvPr/>
        </p:nvSpPr>
        <p:spPr>
          <a:xfrm>
            <a:off x="468360" y="1844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468360" y="616572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6656-A5BF-412A-A854-D6A72ECECD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solution: Inference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PL-RESOLVE (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applies the resolution rule to (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 continues until one of two things happe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no new clauses that can be added , in which case KB does not entail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clauses resolve to yield the empty clause, in which case KB entail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F05E-B8F3-4542-8D34-5414B6A1BE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solution: Inference procedu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xample of proof  by contradi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,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= ¬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611280" y="3645000"/>
            <a:ext cx="7751520" cy="19746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7"/>
          <p:cNvSpPr/>
          <p:nvPr/>
        </p:nvSpPr>
        <p:spPr>
          <a:xfrm>
            <a:off x="681840" y="573408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Question: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convert (K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l-GR" sz="2400" spc="-1" strike="noStrike">
                <a:solidFill>
                  <a:srgbClr val="000000"/>
                </a:solidFill>
                <a:latin typeface="Garamond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to CNF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BB0B-C922-490A-9083-B0A354D640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erence for Horn cla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n Form (special form of CNF): disjunction of literals of which at most one is po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B = conjunction of Horn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n clause = propositional symbol;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junction of symbols)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⇒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s Ponens is a natural way to make inference in Horn K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4ED0-D23C-4DA4-B892-657AA4FB6A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erence for Horn cl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1, … ,αn,   α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n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ive application of modus ponens leads to algorithms that are sound and complete, and run in linea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1979640" y="306864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8543-44DA-4AC8-BAF4-26FB0080FA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erence for Horn clauses: Forward ch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: fire any rule whose premises are satisfied in th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B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add its conclusion to th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B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til query is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1"/>
          <a:stretch/>
        </p:blipFill>
        <p:spPr>
          <a:xfrm>
            <a:off x="611280" y="3860640"/>
            <a:ext cx="4672080" cy="252252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6"/>
          <p:cNvSpPr/>
          <p:nvPr/>
        </p:nvSpPr>
        <p:spPr>
          <a:xfrm>
            <a:off x="4500720" y="4414680"/>
            <a:ext cx="46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chaining is sound and complete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orn knowledge bases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2A17-713C-4CF7-9F83-4E240DFBE3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erence for Horn clauses: backward ch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: work backwards from the query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if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known already, or prove by backward chaining all premises of some rule concluding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void loo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if new subgoal is already on the goal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repeated work: check if new subgoal has already been proved true, or has already 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F8BA-157E-470E-A49A-9A30D6BA3B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3695400" cy="3619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56000" y="1125360"/>
            <a:ext cx="446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adjacent to wumpus are sme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adjacent to pit are bree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litter if and only if gold is in the sam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hooting kills the wumpus if you are fac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hooting uses up the only a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rabbing picks up the gold if in the sam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leasing drops the gold in the sam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4543560"/>
            <a:ext cx="45720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Goals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Get gold back to the start without entering it or wumpus square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Percepts</a:t>
            </a:r>
            <a:r>
              <a:rPr b="1" lang="en-US" sz="2000" spc="-1" strike="noStrike">
                <a:solidFill>
                  <a:srgbClr val="bbe0e3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Breeze, Glitter, Smell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Actions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Left turn, Right turn, Forward, Grab, Release, Shoo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FD30-22EE-4A03-84C9-BF9C2A4E91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ogical agents apply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fer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o 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nowledge bas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o derive new information and make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asic concepts of log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ormal structure of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Semantic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ruth of sentences wrt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Entailment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necessary truth of one sentence given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Inference</a:t>
            </a:r>
            <a:r>
              <a:rPr b="0" lang="en-US" sz="2400" spc="-1" strike="noStrike">
                <a:solidFill>
                  <a:srgbClr val="bbe0e3"/>
                </a:solidFill>
                <a:latin typeface="Garamond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riving sentences from other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Soundess</a:t>
            </a:r>
            <a:r>
              <a:rPr b="0" lang="en-US" sz="2400" spc="-1" strike="noStrike">
                <a:solidFill>
                  <a:srgbClr val="bbe0e3"/>
                </a:solidFill>
                <a:latin typeface="Garamond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rivations produce only entailed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Completeness</a:t>
            </a:r>
            <a:r>
              <a:rPr b="0" lang="en-US" sz="2400" spc="-1" strike="noStrike">
                <a:solidFill>
                  <a:srgbClr val="bbe0e3"/>
                </a:solidFill>
                <a:latin typeface="Garamond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rivations can produce all entailed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ruth table method is sound and complete for propositional logic but Cumbersome in most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pplication of inference rules is another alternative to perform entail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8938-2C3F-4D81-816A-3F8FCBE3B4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he Wumpus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the world determinist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es: outcomes are exactly spec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the world fully acce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o: only local perception of square you are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the world stat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es: Wumpus and Pits do not m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the world discre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5678-81AC-41E1-8E68-E1DAE95FE0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427640" y="1484280"/>
          <a:ext cx="4038480" cy="4525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32"/>
          <p:cNvSpPr/>
          <p:nvPr/>
        </p:nvSpPr>
        <p:spPr>
          <a:xfrm>
            <a:off x="4718520" y="515772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221040" y="227664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5:45:51Z</dcterms:created>
  <dc:creator>Hichem</dc:creator>
  <dc:description/>
  <dc:language>en-US</dc:language>
  <cp:lastModifiedBy>Basit</cp:lastModifiedBy>
  <dcterms:modified xsi:type="dcterms:W3CDTF">2010-05-17T18:22:47Z</dcterms:modified>
  <cp:revision>128</cp:revision>
  <dc:subject/>
  <dc:title>Game Playing: Adversarial Search  chapter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