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CFE-CE52-4DA3-B35C-C9C5AC1527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E07-8ED4-42CD-A1E1-F80E66910E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6262200"/>
            <a:ext cx="1200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931-CAE9-47B7-9A3B-D3570C2A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273-1B35-4C18-9D85-72C20D64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B38-916A-4207-A56C-F9E2A23E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D1C-E3BD-43ED-BBAC-5C632335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686-A2F0-4255-A901-41ADD7C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2C6-2F82-43F5-BB72-FBA37BD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751-4E73-4CD6-ACDD-AF27D2A2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0C5-56A1-49A1-9C64-431EAE44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2C9-96CE-423B-BFF6-C6652B15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27B-8E33-4520-83AB-7C2E162B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310-5259-4DD6-BA25-454ABFCC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AA1-508B-4424-9E19-ED617231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FF90-6598-47CD-B4A4-86A69779E5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yousef@ccis.edu.sa" TargetMode="External"/><Relationship Id="rId2" Type="http://schemas.openxmlformats.org/officeDocument/2006/relationships/hyperlink" Target="http://faculty.ksu.edu.sa/YAlohali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BE89-23E4-416E-A738-25B9508233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 (Part 1)</a:t>
            </a:r>
            <a:br>
              <a:rPr sz="3600"/>
            </a:b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371600" y="3886200"/>
            <a:ext cx="6400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Dr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Yousef Al-Ohal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omputer Science Depart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CCI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 King Saud University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ahoma"/>
              </a:rPr>
              <a:t>Saudi Arab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1"/>
              </a:rPr>
              <a:t>yousef@ccis.edu.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Tahoma"/>
                <a:hlinkClick r:id="rId2"/>
              </a:rPr>
              <a:t>http://faculty.ksu.edu.sa/YAlohali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971640" y="3500280"/>
            <a:ext cx="712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707-09F1-49B9-AAAD-0180B94EAD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5928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32"/>
          <p:cNvSpPr/>
          <p:nvPr/>
        </p:nvSpPr>
        <p:spPr>
          <a:xfrm>
            <a:off x="5150520" y="5516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2637000"/>
            <a:ext cx="47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becaus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fallen into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ven’t been eaten by a Wumpu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4940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388B-C298-4961-96A3-3906B3F6D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8800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97" name="Rectangle 32"/>
          <p:cNvSpPr/>
          <p:nvPr/>
        </p:nvSpPr>
        <p:spPr>
          <a:xfrm>
            <a:off x="0" y="2565360"/>
            <a:ext cx="4572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K si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tench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Breeze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ighbors are safe (OK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8" name="Text Box 33"/>
          <p:cNvSpPr/>
          <p:nvPr/>
        </p:nvSpPr>
        <p:spPr>
          <a:xfrm>
            <a:off x="5150520" y="5373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-68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429-2A64-4532-80CF-3470927C5F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92360" y="2060640"/>
          <a:ext cx="5410440" cy="4206960"/>
        </p:xfrm>
        <a:graphic>
          <a:graphicData uri="http://schemas.openxmlformats.org/drawingml/2006/table">
            <a:tbl>
              <a:tblPr/>
              <a:tblGrid>
                <a:gridCol w="1352520"/>
                <a:gridCol w="1352880"/>
                <a:gridCol w="1352520"/>
                <a:gridCol w="135252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Rectangle 68"/>
          <p:cNvSpPr/>
          <p:nvPr/>
        </p:nvSpPr>
        <p:spPr>
          <a:xfrm>
            <a:off x="324000" y="2852640"/>
            <a:ext cx="3041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move and smell a stench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Text Box 69"/>
          <p:cNvSpPr/>
          <p:nvPr/>
        </p:nvSpPr>
        <p:spPr>
          <a:xfrm>
            <a:off x="4217040" y="4214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Line 70"/>
          <p:cNvSpPr/>
          <p:nvPr/>
        </p:nvSpPr>
        <p:spPr>
          <a:xfrm flipV="1">
            <a:off x="4572000" y="5229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71"/>
          <p:cNvSpPr/>
          <p:nvPr/>
        </p:nvSpPr>
        <p:spPr>
          <a:xfrm>
            <a:off x="-31896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055-F3EF-4EF3-9320-20F68E0AA5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2" name="Rectangle 35"/>
          <p:cNvSpPr/>
          <p:nvPr/>
        </p:nvSpPr>
        <p:spPr>
          <a:xfrm>
            <a:off x="250920" y="2852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e can infer  the following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square (1,1) remains O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Line 36"/>
          <p:cNvSpPr/>
          <p:nvPr/>
        </p:nvSpPr>
        <p:spPr>
          <a:xfrm>
            <a:off x="370836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150520" y="386064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040" y="1413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1BDA-C6E3-4DE3-9752-97AA8ADCDB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0" name="Line 38"/>
          <p:cNvSpPr/>
          <p:nvPr/>
        </p:nvSpPr>
        <p:spPr>
          <a:xfrm flipV="1">
            <a:off x="5435640" y="45086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5292720" y="566100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084720" y="4869000"/>
            <a:ext cx="432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324000" y="26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ve and feel a breez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at can we conclude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931-9066-4F8E-BCF3-F53F26260F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29" name="Group 36"/>
          <p:cNvGrpSpPr/>
          <p:nvPr/>
        </p:nvGrpSpPr>
        <p:grpSpPr>
          <a:xfrm>
            <a:off x="2478960" y="3138480"/>
            <a:ext cx="6663960" cy="3720960"/>
            <a:chOff x="2478960" y="3138480"/>
            <a:chExt cx="6663960" cy="3720960"/>
          </a:xfrm>
        </p:grpSpPr>
        <p:sp>
          <p:nvSpPr>
            <p:cNvPr id="130" name="Text Box 37"/>
            <p:cNvSpPr/>
            <p:nvPr/>
          </p:nvSpPr>
          <p:spPr>
            <a:xfrm>
              <a:off x="2478960" y="6338880"/>
              <a:ext cx="66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d what about the other  P? and W? squares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 flipV="1">
              <a:off x="7354800" y="5424480"/>
              <a:ext cx="53352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 flipV="1">
              <a:off x="3316320" y="3138480"/>
              <a:ext cx="121932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33" name="Group 40"/>
          <p:cNvGrpSpPr/>
          <p:nvPr/>
        </p:nvGrpSpPr>
        <p:grpSpPr>
          <a:xfrm>
            <a:off x="684360" y="2781360"/>
            <a:ext cx="6247800" cy="3018600"/>
            <a:chOff x="684360" y="2781360"/>
            <a:chExt cx="6247800" cy="3018600"/>
          </a:xfrm>
        </p:grpSpPr>
        <p:sp>
          <p:nvSpPr>
            <p:cNvPr id="134" name="Text Box 41"/>
            <p:cNvSpPr/>
            <p:nvPr/>
          </p:nvSpPr>
          <p:spPr>
            <a:xfrm>
              <a:off x="684360" y="2781360"/>
              <a:ext cx="32000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But, can the 2,2 square really have either a Wumpus or a pit? 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>
              <a:off x="5484600" y="3695760"/>
              <a:ext cx="1447560" cy="1295640"/>
            </a:xfrm>
            <a:prstGeom prst="rect">
              <a:avLst/>
            </a:prstGeom>
            <a:noFill/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36" name="Text Box 43"/>
          <p:cNvSpPr/>
          <p:nvPr/>
        </p:nvSpPr>
        <p:spPr>
          <a:xfrm>
            <a:off x="6156360" y="5516640"/>
            <a:ext cx="423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44"/>
          <p:cNvSpPr/>
          <p:nvPr/>
        </p:nvSpPr>
        <p:spPr>
          <a:xfrm>
            <a:off x="539640" y="515772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Times New Roman"/>
              </a:rPr>
              <a:t>NO!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45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AEF-4DD1-4035-95C9-A6EA221D80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48320" y="1600200"/>
          <a:ext cx="4038480" cy="43974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?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43" name="Line 34"/>
          <p:cNvSpPr/>
          <p:nvPr/>
        </p:nvSpPr>
        <p:spPr>
          <a:xfrm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 flipH="1" flipV="1">
            <a:off x="5796000" y="4005360"/>
            <a:ext cx="5335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156360" y="4869000"/>
            <a:ext cx="441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221040" y="1628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93D3-4482-41F9-9683-A97042A28B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1" name="Line 34"/>
          <p:cNvSpPr/>
          <p:nvPr/>
        </p:nvSpPr>
        <p:spPr>
          <a:xfrm flipV="1">
            <a:off x="6300720" y="48049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35"/>
          <p:cNvSpPr/>
          <p:nvPr/>
        </p:nvSpPr>
        <p:spPr>
          <a:xfrm>
            <a:off x="6158520" y="378936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21040" y="155736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25C-6981-4A49-BECB-22DCC1E536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1600200"/>
          <a:ext cx="4038480" cy="4417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reez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tench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8" name="Line 34"/>
          <p:cNvSpPr/>
          <p:nvPr/>
        </p:nvSpPr>
        <p:spPr>
          <a:xfrm flipV="1">
            <a:off x="6372360" y="5447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72360" y="42955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158520" y="487188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Text Box 37"/>
          <p:cNvSpPr/>
          <p:nvPr/>
        </p:nvSpPr>
        <p:spPr>
          <a:xfrm>
            <a:off x="6158520" y="379260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50920" y="249228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 the exploration continues onward until the gold is found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365400" y="148428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00E1-BBF3-418D-B494-401D4C61D0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14480" y="1523880"/>
            <a:ext cx="4457520" cy="4476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4500720" y="2133720"/>
            <a:ext cx="399564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eeze in (1,2) and (2,1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no safe acti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suming pits uniformly distributed, (2,2) is most likely to have a pit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462480" y="1189080"/>
            <a:ext cx="25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A tight spo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08E9-5668-46EB-A85F-A20F8AD313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ow can we formalize our knowledge about the world so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reason about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do sound i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rov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plan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e can understand and explain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1FF9-AC88-4114-B4E8-ADA45851D0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52280" y="2162160"/>
            <a:ext cx="3429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"/>
          <p:cNvGrpSpPr/>
          <p:nvPr/>
        </p:nvGrpSpPr>
        <p:grpSpPr>
          <a:xfrm>
            <a:off x="610920" y="2498760"/>
            <a:ext cx="2663640" cy="2532240"/>
            <a:chOff x="610920" y="2498760"/>
            <a:chExt cx="2663640" cy="2532240"/>
          </a:xfrm>
        </p:grpSpPr>
        <p:sp>
          <p:nvSpPr>
            <p:cNvPr id="175" name="Text Box 6"/>
            <p:cNvSpPr/>
            <p:nvPr/>
          </p:nvSpPr>
          <p:spPr>
            <a:xfrm>
              <a:off x="610920" y="24987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2331720" y="4327560"/>
              <a:ext cx="94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99"/>
                  </a:solidFill>
                  <a:latin typeface="Times New Roman"/>
                </a:rPr>
                <a:t>W?</a:t>
              </a:r>
              <a:endParaRPr b="0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7" name="Rectangle 9"/>
          <p:cNvSpPr/>
          <p:nvPr/>
        </p:nvSpPr>
        <p:spPr>
          <a:xfrm>
            <a:off x="3809880" y="184464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mell in (1,1)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cannot mov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use a strategy of coerc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shoot straight ahead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 ther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dead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wumpus wasn't ther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 saf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647440" y="1020600"/>
            <a:ext cx="34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Another tight spo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B408-3B4C-40E1-9333-83F0D3509D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undamental property of logical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In each case where the agent draws a conclusion from the available information, that conclusion is guaranteed to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be correct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f the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available information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</a:t>
            </a:r>
            <a:r>
              <a:rPr b="1" i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A3A-361F-4517-972D-619E087D2F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1128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Logics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e formal languages for representing information such that conclusions can be draw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sentence is defined by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nd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yntax</a:t>
            </a: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fines the sentences in the language. It specifies well formed sentences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ine the ``meaning'' of sentences;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.e., in logic it defines the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  <a:ea typeface="Arial"/>
              </a:rPr>
              <a:t>truth of a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 in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possible world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the language of arithmet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is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y &gt;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   is not a sentenc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ff the number </a:t>
            </a:r>
            <a:r>
              <a:rPr b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+2</a:t>
            </a:r>
            <a:r>
              <a:rPr b="0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no less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than the number</a:t>
            </a:r>
            <a:r>
              <a:rPr b="0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y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tru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7, y =1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+ 2 </a:t>
            </a:r>
            <a:r>
              <a:rPr b="1" i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 y</a:t>
            </a:r>
            <a:r>
              <a:rPr b="1" i="1" lang="en-US" sz="2000" spc="-1" strike="noStrike">
                <a:solidFill>
                  <a:srgbClr val="bbe0e3"/>
                </a:solidFill>
                <a:latin typeface="Garamond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is false in a world where </a:t>
            </a:r>
            <a:r>
              <a:rPr b="1" i="1" lang="en-US" sz="2000" spc="-1" strike="noStrike">
                <a:solidFill>
                  <a:srgbClr val="990000"/>
                </a:solidFill>
                <a:latin typeface="Garamond"/>
                <a:ea typeface="Arial"/>
              </a:rPr>
              <a:t>x = 0, y= 6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5867-6E07-4F33-BE64-E422308BD3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ndamental concepts of logical represent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5960" y="765000"/>
            <a:ext cx="7772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el: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word is used instead of “possible world” for sake of precis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Garamond"/>
              </a:rPr>
              <a:t>m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is a model of a sentence </a:t>
            </a:r>
            <a:r>
              <a:rPr b="1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means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is true in model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inition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odel is a mathematical abstraction that simply fixes the truth or falsehood of every relevant sentenc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men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women sitting at a table playing bridg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 y =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is a sentence which is true when the total number is four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: possible assignment of numbers to the variabl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ssignment fixes the truth of any sentence whose variables are x and y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14FF-99ED-4566-AE9F-DD40587F4B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400800" cy="4191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737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model is an instance of the world. A model of a set of sentences is an instance of the world where these sentences are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24000" y="1341360"/>
            <a:ext cx="241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Potential  models of the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2259-29ED-4F3F-9445-B65C60EDDD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: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reasoning requires the relation of logical entailment between sentences. </a:t>
            </a:r>
            <a:r>
              <a:rPr b="1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« a sentence follows logically from another sentence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thematical notation: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entails the sentence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ormal definitio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</a:t>
            </a:r>
            <a:r>
              <a:rPr b="0" lang="el-GR" sz="2400" spc="-1" strike="noStrike">
                <a:solidFill>
                  <a:srgbClr val="990000"/>
                </a:solidFill>
                <a:latin typeface="Times New Roman"/>
                <a:ea typeface="Arial Unicode MS"/>
              </a:rPr>
              <a:t>α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╞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in every model in which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true,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lso true. (truth of </a:t>
            </a:r>
            <a:r>
              <a:rPr b="0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β</a:t>
            </a:r>
            <a:r>
              <a:rPr b="0" lang="fr-F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tained in the truth of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1763640" y="126828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F394-6C3B-4D67-9E53-85C32E0BA0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79600" y="1623960"/>
            <a:ext cx="2378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Logic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Represent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44737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ndy"/>
              </a:rPr>
              <a:t>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80880" y="3276720"/>
            <a:ext cx="8534520" cy="0"/>
          </a:xfrm>
          <a:prstGeom prst="line">
            <a:avLst/>
          </a:prstGeom>
          <a:ln w="28440">
            <a:solidFill>
              <a:srgbClr val="ff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3381120" y="1471680"/>
            <a:ext cx="1645200" cy="3507480"/>
            <a:chOff x="3381120" y="1471680"/>
            <a:chExt cx="1645200" cy="3507480"/>
          </a:xfrm>
        </p:grpSpPr>
        <p:sp>
          <p:nvSpPr>
            <p:cNvPr id="206" name="Text Box 7"/>
            <p:cNvSpPr/>
            <p:nvPr/>
          </p:nvSpPr>
          <p:spPr>
            <a:xfrm>
              <a:off x="3381120" y="1471680"/>
              <a:ext cx="164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Sentence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y"/>
                </a:rPr>
                <a:t>KB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1980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886200" y="2590920"/>
              <a:ext cx="0" cy="152388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 rot="5400000">
              <a:off x="3464280" y="296820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Arial"/>
                </a:rPr>
                <a:t>Semantic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0" name="Text Box 11"/>
          <p:cNvSpPr/>
          <p:nvPr/>
        </p:nvSpPr>
        <p:spPr>
          <a:xfrm>
            <a:off x="7165800" y="1386000"/>
            <a:ext cx="164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Sentence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7670880" y="2590920"/>
            <a:ext cx="0" cy="15238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 rot="5400000">
            <a:off x="7248960" y="2968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Semantics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5029200" y="4062240"/>
            <a:ext cx="3287520" cy="916920"/>
            <a:chOff x="5029200" y="4062240"/>
            <a:chExt cx="3287520" cy="916920"/>
          </a:xfrm>
        </p:grpSpPr>
        <p:sp>
          <p:nvSpPr>
            <p:cNvPr id="214" name="Text Box 15"/>
            <p:cNvSpPr/>
            <p:nvPr/>
          </p:nvSpPr>
          <p:spPr>
            <a:xfrm>
              <a:off x="7404480" y="4519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ndy"/>
                </a:rPr>
                <a:t>Fact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Line 16"/>
            <p:cNvSpPr/>
            <p:nvPr/>
          </p:nvSpPr>
          <p:spPr>
            <a:xfrm>
              <a:off x="5029200" y="4648320"/>
              <a:ext cx="1752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Text Box 17"/>
            <p:cNvSpPr/>
            <p:nvPr/>
          </p:nvSpPr>
          <p:spPr>
            <a:xfrm>
              <a:off x="5146560" y="406224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Follow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17" name="Group 18"/>
          <p:cNvGrpSpPr/>
          <p:nvPr/>
        </p:nvGrpSpPr>
        <p:grpSpPr>
          <a:xfrm>
            <a:off x="5410080" y="1270080"/>
            <a:ext cx="1447920" cy="635040"/>
            <a:chOff x="5410080" y="1270080"/>
            <a:chExt cx="1447920" cy="635040"/>
          </a:xfrm>
        </p:grpSpPr>
        <p:sp>
          <p:nvSpPr>
            <p:cNvPr id="218" name="Text Box 19"/>
            <p:cNvSpPr/>
            <p:nvPr/>
          </p:nvSpPr>
          <p:spPr>
            <a:xfrm>
              <a:off x="5480640" y="12700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tail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5410080" y="1905120"/>
              <a:ext cx="1447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Line 21"/>
          <p:cNvSpPr/>
          <p:nvPr/>
        </p:nvSpPr>
        <p:spPr>
          <a:xfrm>
            <a:off x="2971800" y="137160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79280" y="50846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reasoning should ensure that the new configurations represent aspects of the world that actually follow from  the aspects that the old configurations represent.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692360" y="98100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3EA2-EE48-4609-BB03-DDB9FAC57C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Model cheking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numerates all possible models to check that </a:t>
            </a:r>
            <a:r>
              <a:rPr b="1" lang="el-G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is true in all models in which KB is 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hematical notation:     KB      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he notation say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KB by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KB.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renc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692360" y="112536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457200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572000" y="32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718160" y="3213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5C56-ECFA-4CDE-ACEF-ECB86A83AF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629400" cy="53755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242280" y="1668600"/>
            <a:ext cx="21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tailment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05092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A3F-CA39-47CA-A920-D595728838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7162920" cy="5492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50360" y="17398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tailment again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692360" y="907920"/>
            <a:ext cx="5391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077E-3C13-428D-AF4B-D9EF5DA36D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bjectives of knowledge representation and reasoning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form representations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a process of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derive new representations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 these new representations to deduce wha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3C3-61F8-4335-BED3-45E5FF3D4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 concepts of log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procedure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an do two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, generate new sente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purported to be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iven KB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report whether or no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is entailed by K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Sound or truth preserving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ference algorithm that derives only entailed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Garamond"/>
              </a:rPr>
              <a:t>Completenes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 inference algorithm is complete, if it can derive any sentence that is entai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203A-EC8E-4DF9-90EF-8E3007EC8A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95280" y="1052640"/>
            <a:ext cx="8424720" cy="77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plaining more Soundness and completenes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Sound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the system proves that something is true, 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it really is true. The system doesn’t derive contradi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: if something is really true, it can be proven using the system. The system can be used to derive all the true mathematical statements one by o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FAC-E28B-41A6-AE4E-C8E685729F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Propositional logic is the simplest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ntail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79B7-6C6C-4F92-A720-A5FB5BBC7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 defines the allowable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tomic sent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single proposition symbol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upperca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names for symbols must have some mnemonic value: example W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Garamond"/>
                <a:ea typeface="Times New Roman"/>
              </a:rPr>
              <a:t>1,3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to say the wumpus is in [1,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rue and False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proposition symbols with fixed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plex sentences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 they are constructed from simpler sentences using logical conn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A073-1B61-48A1-9679-5DEB2DD921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al conn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) ne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) conjunction, operands are  con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), operands are disjun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mplication (or conditional) A ⇒ B, A is the premise or antecedent and B is the conclusion or consequent.  It is also known as rule or if-then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ci3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ci3"/>
                <a:ea typeface="tci3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nd only if (biconditi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FC5B-2D7C-43FA-B780-59732246EE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68360" y="911160"/>
            <a:ext cx="8351640" cy="77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gical constants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 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, P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etc. are sentence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ymbol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negated symbol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re called literals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NO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AN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OR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Implies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S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a sentence (Equivalent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75E-BF4B-4DB7-B7A3-69365C3D01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68360" y="911160"/>
            <a:ext cx="835164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 BNF(Backus-Naur Form) grammar of sentences in propositional Logic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is defined by the following rules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│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tomicSentenc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Tru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l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→ P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R …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Complex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→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Sent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Sent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41E-DE96-4D61-9189-477DC5D369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68360" y="911160"/>
            <a:ext cx="835164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comic"/>
              </a:rPr>
              <a:t>Propositional Logic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Order of precedenc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rom highest to lowest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parenthesis   ( Sentence 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Implies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Equivalen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Special cases: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 no parentheses are neede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bout       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??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798-E536-4F90-8653-53B888B492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comic"/>
                <a:ea typeface="Times New Roman"/>
              </a:rPr>
              <a:t>Propositional 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emantic: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t defines the rules for determining the truth of a sentence with respect to a particula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The question: How to compute the truth value of ny sentence given a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9608-92A4-4617-B64C-4B11665B53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7724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5"/>
          <p:cNvGrpSpPr/>
          <p:nvPr/>
        </p:nvGrpSpPr>
        <p:grpSpPr>
          <a:xfrm>
            <a:off x="123840" y="3284640"/>
            <a:ext cx="9005400" cy="2242440"/>
            <a:chOff x="123840" y="3284640"/>
            <a:chExt cx="9005400" cy="2242440"/>
          </a:xfrm>
        </p:grpSpPr>
        <p:sp>
          <p:nvSpPr>
            <p:cNvPr id="280" name="Rectangle 6"/>
            <p:cNvSpPr/>
            <p:nvPr/>
          </p:nvSpPr>
          <p:spPr>
            <a:xfrm>
              <a:off x="123840" y="3284640"/>
              <a:ext cx="876312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668360" y="4503600"/>
              <a:ext cx="1460880" cy="1023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 of  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8429760" y="3665520"/>
              <a:ext cx="30492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324000" y="4221000"/>
            <a:ext cx="727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st sentences are sometimes true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always true (valid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sentences are never true (unsatisfiable)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EF94-5085-4B92-94DA-E06B2F2E64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me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bas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set of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Each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s expressed in a language called 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nowledge representatio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a sentence represents some assertion abou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Process of deriving new sentences from old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832-A12A-499A-B24D-DBD3FCF64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772400" cy="20890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762120" y="2895480"/>
            <a:ext cx="784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mplication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f P is True, then Q is true; otherwise I’m making no claims about the truth of Q.” (Or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Q is equivalent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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der this definition, the following statement is true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s_f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veryone_gets_an_A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nce “Pigs_Fly” is false, the statement is true irrespective of the truth of “Everyone_gets_an_A”. [Or is it? Correct inference only when “Pigs_Fly” is known to be false.]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F164-06C5-475B-8648-0DA42CD0F3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opositional Inference: Enumer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B =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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it the case that KB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eck all possible models -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must be true whenever KB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"/>
          <p:cNvSpPr/>
          <p:nvPr/>
        </p:nvSpPr>
        <p:spPr>
          <a:xfrm>
            <a:off x="356400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356400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648320" y="1600200"/>
          <a:ext cx="4038480" cy="413532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928800"/>
                <a:gridCol w="68724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5" name="Line 72"/>
          <p:cNvSpPr/>
          <p:nvPr/>
        </p:nvSpPr>
        <p:spPr>
          <a:xfrm>
            <a:off x="3419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6" name="Line 73"/>
          <p:cNvSpPr/>
          <p:nvPr/>
        </p:nvSpPr>
        <p:spPr>
          <a:xfrm>
            <a:off x="349236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7" name="Line 74"/>
          <p:cNvSpPr/>
          <p:nvPr/>
        </p:nvSpPr>
        <p:spPr>
          <a:xfrm>
            <a:off x="3492360" y="3860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D88-69C1-4139-8203-6F12215E26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124000" y="1413000"/>
          <a:ext cx="5832720" cy="43304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123-572C-45DF-AB7A-9973D3E354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124000" y="1413000"/>
          <a:ext cx="5832720" cy="44528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1897200"/>
                <a:gridCol w="151308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C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K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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  <a:ea typeface="Times New Roman"/>
                        </a:rPr>
                        <a:t>C)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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8080"/>
                          </a:solidFill>
                          <a:latin typeface="Symbol"/>
                          <a:ea typeface="Symbol"/>
                        </a:rPr>
                        <a:t>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Fals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Garamond"/>
                        </a:rPr>
                        <a:t>Tru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06" name="Text Box 75"/>
          <p:cNvSpPr/>
          <p:nvPr/>
        </p:nvSpPr>
        <p:spPr>
          <a:xfrm>
            <a:off x="5869080" y="2781360"/>
            <a:ext cx="1671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KB ╞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6719-C0A0-47D0-9541-99B1F7DC8D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Propositional Logic: Pro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del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enumeration (sound and complete for propositional log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n symbols, the time complexity is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ed a smarter way to do 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pplication of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egitimate (sound) generation of new sentences from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of = a sequence of inference rul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an use inference rules as operators in a standard search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0BF-AF07-4CAE-8256-B5EE814324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Validity and 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valid (a tautology) if it is tru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A, 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A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)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alidity is connected to inference via the Deduction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α) 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satisfiable if it is true in som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entence is unsatisfiable if it is false in al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.g.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atisfiability is connected to inference via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╞ α if and only if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¬α) is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there is no model for which KB=true and α is 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F87B-8A5A-4BD3-B17E-B4D04FB6C5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positional Logic: Inferenc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 inference rule is sound if the conclusion is true in all cases where the premises are tr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0749-B773-4FBF-856A-3D9F490D46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Pon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soggy cour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A50-4C4E-4805-A61D-88DEFF163A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dus Tol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n implication and the premise of the implication, you can infer the con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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aining implies soggy courts”, “courts not sog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fer: “not rai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6395-97D0-4ACA-B734-8789A81135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An inference rule: AND eli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rom a conjunction, you can infer any of the conjun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     Pre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Question: show that Modus Ponens and And Elimination are sou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EEE-E0C9-429B-9C8A-7E133A42C5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clarative vs procedura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larative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n approach to system building that consists in expressing the knowledge of the environment in the form of sentences using a representation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cedural approach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encodes desired behaviors directly as a progra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5879-D8DF-4A6D-9F65-5393B756E5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other infer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nd-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ouble Neg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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em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Rules of equivalence can be used as inference rules. (Tutor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93B-7846-4606-B3CA-158409E485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positional Logic: Equivalen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wo sentences are logically equivalent iff they are true in the same models: α ≡ ß iff α╞ β and β╞ 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2349360"/>
            <a:ext cx="88455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F7B-6EB8-4A11-B763-2E20AC874B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052640"/>
            <a:ext cx="82296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3D8-CA2E-4C8D-A20C-F98EDB396A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00000" y="1773360"/>
            <a:ext cx="655344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S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stench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B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breeze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Let W</a:t>
            </a:r>
            <a:r>
              <a:rPr b="1" lang="en-US" sz="2400" spc="-1" strike="noStrike" baseline="-25000">
                <a:solidFill>
                  <a:srgbClr val="808080"/>
                </a:solidFill>
                <a:latin typeface="Garamond"/>
                <a:ea typeface="Times New Roman"/>
              </a:rPr>
              <a:t>i,j </a:t>
            </a:r>
            <a:r>
              <a:rPr b="1" lang="en-US" sz="2400" spc="-1" strike="noStrike">
                <a:solidFill>
                  <a:srgbClr val="808080"/>
                </a:solidFill>
                <a:latin typeface="Garamond"/>
                <a:ea typeface="Times New Roman"/>
              </a:rPr>
              <a:t>be true if there is a Wumpus in cell i,j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50920" y="319572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¬B1,1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make some inferences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(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y definition of the biconditional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1 (And-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¬B1,1 </a:t>
            </a:r>
            <a:r>
              <a:rPr b="1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equivalence with contrapositiv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¬(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2,1) (modus ponens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¬P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¬P2,1 (DeMorgan’s rule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¬P1,2 (And Eliminatio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27A-7EA1-42C0-B464-3848C07613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Inference in Wumpus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95280" y="2492280"/>
            <a:ext cx="3962520" cy="3940560"/>
          </a:xfrm>
          <a:prstGeom prst="rect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ercept Sentenc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Environment Knowledg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06560" y="164952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Initial KB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212720" y="1774800"/>
            <a:ext cx="471636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me inferences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Modus Ponen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y to this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AND-Elimin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Add to KB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2,1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  <a:ea typeface="Arial"/>
              </a:rPr>
              <a:t>1,2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FA84-7CA5-4508-9235-6B9A41E8B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call that when we were at (2,1) we could not decide on a safe move, so we backtracked, and explored (1,2), which yielded 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2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s yield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nd cons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,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1,3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, ¬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ow we can consider the implication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A8FE-1190-4359-A9EC-293F21253C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(biconditional Eli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modus pon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resolution rule because no pit in (2,2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resolution rule because no pit in (1,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The resolution rule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if there is a pit in (1,1) or (3,1), and it’s not in (1,1), then it’s in (3,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4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"/>
          <p:cNvSpPr/>
          <p:nvPr/>
        </p:nvSpPr>
        <p:spPr>
          <a:xfrm>
            <a:off x="2771640" y="5445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DA1D-58DD-4DF7-A62B-39FBA2863F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"/>
          <p:cNvSpPr/>
          <p:nvPr/>
        </p:nvSpPr>
        <p:spPr>
          <a:xfrm>
            <a:off x="1908000" y="371628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D07B-9627-4A10-8ACD-3226C7EBD8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ull resolution inference ru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+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-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+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re complementary lit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539640" y="4149720"/>
            <a:ext cx="777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3FD-01CE-4F24-8C76-7270C14D5F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 let’s consider clauses of length tw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11280" y="3573360"/>
            <a:ext cx="7920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rive the soundness of resolution consider the valu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ake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¬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since we know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s, it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the case that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rue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987640" y="278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4E3-563C-4F97-8800-E3901389BF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333399"/>
                </a:solidFill>
                <a:latin typeface="Garamond"/>
                <a:ea typeface="Times New Roman"/>
              </a:rPr>
              <a:t>Example: Wumpu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3033000" y="907920"/>
            <a:ext cx="4194720" cy="5548320"/>
            <a:chOff x="3033000" y="907920"/>
            <a:chExt cx="4194720" cy="554832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3902" t="24465" r="68365" b="55964"/>
            <a:stretch/>
          </p:blipFill>
          <p:spPr>
            <a:xfrm>
              <a:off x="3068640" y="1960560"/>
              <a:ext cx="41590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6"/>
            <p:cNvSpPr/>
            <p:nvPr/>
          </p:nvSpPr>
          <p:spPr>
            <a:xfrm>
              <a:off x="3033000" y="907920"/>
              <a:ext cx="4181400" cy="825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Book Antiqua"/>
                </a:rPr>
                <a:t>THE WUMPUS</a:t>
              </a:r>
              <a:endParaRPr b="0" lang="en-US" sz="4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738-C80A-41A6-B8DC-5F1C3C928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1. Properties of the resolu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plete (yields to a complete inference algorith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2. The resolution rule forms the basis for a family of complete inference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3. Resolution rule is used to either confirm or refute a sentence but it cannot be used to enumerate tru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1CBC-D067-4332-82C9-6E1031A475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Resolution can be applied only to disjunctions of literals. How can  it lead to a complete inference procedure for all propositional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Turns out any knowledge base can be expressed as a conjunction of disjunctions (conjunctive normal form, CN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(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¬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BAB-3BF5-4EC5-A8C1-E2E51479C9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Inference procedures based on resolution work by using the principle of proof by conta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show that KB ╞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 show that (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unsatis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ces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. convert K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N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resolution rule is applied to the resulting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451C-7CC1-4D50-B026-52DFBE7F96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-RESOLUTION(KB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urn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or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the set of clauses in the CNF representation of  (K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{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← PL-RESOLVE (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nts contains the empty claus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← 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ol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us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retur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es ← clauses </a:t>
            </a:r>
            <a:r>
              <a:rPr b="0" lang="fr-FR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468360" y="1844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468360" y="6165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C7EF-9C96-4718-B267-4C31CDC734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PL-RESOLVE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pplies the resolution rule to (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continues until one of two things happe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new clauses that can be added , in which case KB does not entail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uses resolve to yield the empty clause, in which case KB entails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DAE-E8AF-4741-8D3F-9460B8E04F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solution: Inference proced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xample of proof  by contra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= ¬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3645000"/>
            <a:ext cx="7751520" cy="197460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681840" y="57340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Question: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convert (K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α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to CNF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D36E-F5F0-4365-88F3-47F3094C1F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Form (special form of CNF): disjunction of literals of which at most one is po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= conjunction of Horn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n clause = propositional symbol;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junction of symbols)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s Ponens is a natural way to make inference in Horn K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5330-35A7-4A22-A8F0-5023CE41F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1, … ,αn,   α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n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ive application of modus ponens leads to algorithms that are sound and complete, and run in linea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1979640" y="306864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C92-8CAF-4722-86DE-23A6970302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Forward ch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fire any rule whose premises are satisfied in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add its conclusion to th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til query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4672080" cy="252252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6"/>
          <p:cNvSpPr/>
          <p:nvPr/>
        </p:nvSpPr>
        <p:spPr>
          <a:xfrm>
            <a:off x="4500720" y="441468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chaining is sound and complet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orn knowledge ba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410-C704-4466-A413-30343B1D6B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nference for Horn clauses: backward ch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: work backwards from the query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known already, or prove by backward chaining all premises of some rule concluding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void lo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if new subgoal is already on the goa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repeated work: check if new subgoal has already been proved true, or has already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A633-D479-416D-ADC8-5809F53D74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695400" cy="3619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125360"/>
            <a:ext cx="446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wumpus are sme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adjacent to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tter if and only if gold is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kills the wumpus if you are fac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ooting uses up the only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bbing picks up the gold if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leasing drops the gold in the sam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4543560"/>
            <a:ext cx="457200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Goal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Get gold back to the start without entering it or wumpus square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Percepts</a:t>
            </a:r>
            <a:r>
              <a:rPr b="1" lang="en-US" sz="20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Breeze, Glitter, Smell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Actions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Left turn, Right turn, Forward, Grab, Release, Shoo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73F9-B6FC-4397-9F78-6DCBF091C5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Garamond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ogical agents apply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o 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bas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o derive new information and make dec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asic concepts of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ormal structure of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emantic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truth of sentences wrt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Entailment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necessary truth of one sentence given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Inference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ing sentences from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Sound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produce only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Garamond"/>
              </a:rPr>
              <a:t>Completeness</a:t>
            </a:r>
            <a:r>
              <a:rPr b="0" lang="en-US" sz="2400" spc="-1" strike="noStrike">
                <a:solidFill>
                  <a:srgbClr val="bbe0e3"/>
                </a:solidFill>
                <a:latin typeface="Garamon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rivations can produce all entailed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uth table method is sound and complete for propositional logic but Cumbersome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tion of inference rules is another alternative to perform enta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D9D-1D34-441E-A66D-05AD9053D5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he 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eterminis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outcomes are exactly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fully acce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o: only local perception of square you are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stat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: Wumpus and Pits do not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s the world discr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7E3-B6B6-4565-BDB3-4E4F40291A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Garamond"/>
              </a:rPr>
              <a:t>Knoweldge Representation &amp; Reas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27640" y="148428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32"/>
          <p:cNvSpPr/>
          <p:nvPr/>
        </p:nvSpPr>
        <p:spPr>
          <a:xfrm>
            <a:off x="4718520" y="5157720"/>
            <a:ext cx="4366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221040" y="2276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Exploring Wumpus World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Basit</cp:lastModifiedBy>
  <dcterms:modified xsi:type="dcterms:W3CDTF">2010-05-17T18:22:47Z</dcterms:modified>
  <cp:revision>128</cp:revision>
  <dc:subject/>
  <dc:title>Game Playing: Adversarial Search  chapter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