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24B-61B7-4774-89EA-0F71D3EA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416-D77A-45DB-9022-783A26EE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19B-129F-41C3-96F4-33FFD754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EA3-DD31-49EA-A0CB-BB3575AF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C64E-0D1D-42F9-A48B-E1A88079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704-7EDA-43F7-8EF4-589AE2AC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D280-E749-4743-8B67-1D00CDE0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426-C771-4FED-ADB9-3C7309E4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031E-64B2-4674-A890-8425F4F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4F4E-B92F-43A0-9F7B-40917F4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9A1F-918C-4963-9324-873121F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379-1DEB-4294-869A-66E3EAB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DC55-D446-4956-9A9B-FF2CB04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AE5-93A6-48ED-8F34-90B71F82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177-2432-4E44-B24D-95E164D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C92-8F78-488C-B7ED-9B33DBA2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E82D-8D4B-40E0-A1A8-8BA9BF2A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096-FB22-47B5-8E60-516F275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433-817B-4112-857D-4B31D597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50F-A6AD-46D2-9C1A-269A2E1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0FA-10C8-4381-A61B-784EC57F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4CC-EF1B-4AD1-AD70-3BC0710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9C0-1D11-47E1-A58E-0378FE0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7AE-AB61-42BA-B6FC-F055D389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DFF4-B282-4EEB-AB72-0AEB708B80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139-EAF6-4988-BC94-71EC7DEA59B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ndard search formul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15240" y="113652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1360" y="1292400"/>
            <a:ext cx="7772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try the standard search for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n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Initial state: none of the variables has a value (col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uccessor state: one of the variables without a value will get som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oal: all variables have a value and none of the constraints is vio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67280" y="6127920"/>
            <a:ext cx="9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! x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5920" y="41911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36520" y="3352680"/>
            <a:ext cx="7512480" cy="2427120"/>
            <a:chOff x="1136520" y="3352680"/>
            <a:chExt cx="7512480" cy="2427120"/>
          </a:xfrm>
        </p:grpSpPr>
        <p:sp>
          <p:nvSpPr>
            <p:cNvPr id="179" name=""/>
            <p:cNvSpPr/>
            <p:nvPr/>
          </p:nvSpPr>
          <p:spPr>
            <a:xfrm>
              <a:off x="3809880" y="33526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66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3372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004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1148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42670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812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99920" y="44197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4960" y="441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98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41640" y="441972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285640" y="35053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2819160" y="3505320"/>
              <a:ext cx="10666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352680" y="3505320"/>
              <a:ext cx="53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809880" y="3505320"/>
              <a:ext cx="1526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62520" y="3429000"/>
              <a:ext cx="2286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528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2880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1371240" y="426708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905120" y="4267080"/>
              <a:ext cx="304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2670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320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004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36520" y="510552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4952880"/>
              <a:ext cx="11430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62960" y="403848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x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4200" y="480060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[NxD]x[(N-1)xD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49680" y="513720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rot="8515800">
            <a:off x="2492280" y="3474000"/>
            <a:ext cx="2679120" cy="254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10120" y="60199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qu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14480" y="649116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There are N! x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nodes in the tree but only D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distinct state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8380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s variable X, s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ks at each unassigned variable, Y say, connected to X and delete from Y’s domain any value inconsistent with X’s assig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minates branching on certain variables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paga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ward chec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tects a dead end, algorithm will backtrack immediately.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1398240" y="2268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2004840" y="3781440"/>
            <a:ext cx="51343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2004840" y="3790800"/>
            <a:ext cx="5134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6" name="" descr=""/>
          <p:cNvPicPr/>
          <p:nvPr/>
        </p:nvPicPr>
        <p:blipFill>
          <a:blip r:embed="rId1"/>
          <a:stretch/>
        </p:blipFill>
        <p:spPr>
          <a:xfrm>
            <a:off x="2004840" y="3809880"/>
            <a:ext cx="51343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1398240" y="2277720"/>
            <a:ext cx="7340760" cy="37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9" name="" descr=""/>
          <p:cNvPicPr/>
          <p:nvPr/>
        </p:nvPicPr>
        <p:blipFill>
          <a:blip r:embed="rId1"/>
          <a:stretch/>
        </p:blipFill>
        <p:spPr>
          <a:xfrm>
            <a:off x="2004840" y="3743280"/>
            <a:ext cx="5134320" cy="2276640"/>
          </a:xfrm>
          <a:prstGeom prst="rect">
            <a:avLst/>
          </a:prstGeom>
          <a:ln w="0">
            <a:noFill/>
          </a:ln>
        </p:spPr>
      </p:pic>
      <p:sp>
        <p:nvSpPr>
          <p:cNvPr id="2110" name=""/>
          <p:cNvSpPr/>
          <p:nvPr/>
        </p:nvSpPr>
        <p:spPr>
          <a:xfrm>
            <a:off x="56386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1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1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34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35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5" name="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4-Queens slides copied from B.J. Dorr  CMSC 421 course on A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≈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47" name=""/>
          <p:cNvGrpSpPr/>
          <p:nvPr/>
        </p:nvGrpSpPr>
        <p:grpSpPr>
          <a:xfrm>
            <a:off x="1217160" y="2666880"/>
            <a:ext cx="2135520" cy="2210040"/>
            <a:chOff x="1217160" y="2666880"/>
            <a:chExt cx="2135520" cy="2210040"/>
          </a:xfrm>
        </p:grpSpPr>
        <p:grpSp>
          <p:nvGrpSpPr>
            <p:cNvPr id="2148" name=""/>
            <p:cNvGrpSpPr/>
            <p:nvPr/>
          </p:nvGrpSpPr>
          <p:grpSpPr>
            <a:xfrm>
              <a:off x="1523880" y="3048120"/>
              <a:ext cx="1828800" cy="1828800"/>
              <a:chOff x="1523880" y="3048120"/>
              <a:chExt cx="1828800" cy="1828800"/>
            </a:xfrm>
          </p:grpSpPr>
          <p:sp>
            <p:nvSpPr>
              <p:cNvPr id="2149" name=""/>
              <p:cNvSpPr/>
              <p:nvPr/>
            </p:nvSpPr>
            <p:spPr>
              <a:xfrm>
                <a:off x="1523880" y="304812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19810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4382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9810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5238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95480" y="39625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438280" y="35053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1523880" y="44197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895480" y="304812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8" name=""/>
            <p:cNvSpPr/>
            <p:nvPr/>
          </p:nvSpPr>
          <p:spPr>
            <a:xfrm>
              <a:off x="1217160" y="304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217160" y="3962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217160" y="350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217160" y="441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167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168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2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18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18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18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07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08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604200" y="213372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22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146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9718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9718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5146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2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2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4304520" y="2133720"/>
            <a:ext cx="3623400" cy="3263760"/>
            <a:chOff x="4304520" y="2133720"/>
            <a:chExt cx="3623400" cy="3263760"/>
          </a:xfrm>
        </p:grpSpPr>
        <p:grpSp>
          <p:nvGrpSpPr>
            <p:cNvPr id="2247" name=""/>
            <p:cNvGrpSpPr/>
            <p:nvPr/>
          </p:nvGrpSpPr>
          <p:grpSpPr>
            <a:xfrm>
              <a:off x="4304520" y="2133720"/>
              <a:ext cx="3623400" cy="3263760"/>
              <a:chOff x="4304520" y="2133720"/>
              <a:chExt cx="3623400" cy="3263760"/>
            </a:xfrm>
          </p:grpSpPr>
          <p:sp>
            <p:nvSpPr>
              <p:cNvPr id="2248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60384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8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271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272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1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4304160" y="2133720"/>
            <a:ext cx="3623400" cy="3263760"/>
            <a:chOff x="4304160" y="2133720"/>
            <a:chExt cx="3623400" cy="3263760"/>
          </a:xfrm>
        </p:grpSpPr>
        <p:grpSp>
          <p:nvGrpSpPr>
            <p:cNvPr id="2290" name=""/>
            <p:cNvGrpSpPr/>
            <p:nvPr/>
          </p:nvGrpSpPr>
          <p:grpSpPr>
            <a:xfrm>
              <a:off x="4304160" y="2133720"/>
              <a:ext cx="3623400" cy="3263760"/>
              <a:chOff x="4304160" y="2133720"/>
              <a:chExt cx="3623400" cy="3263760"/>
            </a:xfrm>
          </p:grpSpPr>
          <p:sp>
            <p:nvSpPr>
              <p:cNvPr id="2291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331520" y="4572000"/>
                <a:ext cx="12934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65028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603480" y="2133720"/>
                <a:ext cx="132408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571968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1968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64336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71968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1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9810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5146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1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1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4245480" y="2133720"/>
            <a:ext cx="3633840" cy="3263760"/>
            <a:chOff x="4245480" y="2133720"/>
            <a:chExt cx="3633840" cy="3263760"/>
          </a:xfrm>
        </p:grpSpPr>
        <p:grpSp>
          <p:nvGrpSpPr>
            <p:cNvPr id="2334" name=""/>
            <p:cNvGrpSpPr/>
            <p:nvPr/>
          </p:nvGrpSpPr>
          <p:grpSpPr>
            <a:xfrm>
              <a:off x="4245480" y="2133720"/>
              <a:ext cx="3633840" cy="3263760"/>
              <a:chOff x="4245480" y="2133720"/>
              <a:chExt cx="3633840" cy="3263760"/>
            </a:xfrm>
          </p:grpSpPr>
          <p:sp>
            <p:nvSpPr>
              <p:cNvPr id="2335" name=""/>
              <p:cNvSpPr/>
              <p:nvPr/>
            </p:nvSpPr>
            <p:spPr>
              <a:xfrm>
                <a:off x="4304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4245480" y="4572000"/>
                <a:ext cx="14670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649920" y="457200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3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649920" y="2133720"/>
                <a:ext cx="12294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9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5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357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358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4245480" y="2133720"/>
            <a:ext cx="3674160" cy="3263760"/>
            <a:chOff x="4245480" y="2133720"/>
            <a:chExt cx="3674160" cy="3263760"/>
          </a:xfrm>
        </p:grpSpPr>
        <p:grpSp>
          <p:nvGrpSpPr>
            <p:cNvPr id="2376" name=""/>
            <p:cNvGrpSpPr/>
            <p:nvPr/>
          </p:nvGrpSpPr>
          <p:grpSpPr>
            <a:xfrm>
              <a:off x="4245480" y="2133720"/>
              <a:ext cx="3674160" cy="3263760"/>
              <a:chOff x="4245480" y="2133720"/>
              <a:chExt cx="3674160" cy="3263760"/>
            </a:xfrm>
          </p:grpSpPr>
          <p:sp>
            <p:nvSpPr>
              <p:cNvPr id="2377" name=""/>
              <p:cNvSpPr/>
              <p:nvPr/>
            </p:nvSpPr>
            <p:spPr>
              <a:xfrm>
                <a:off x="430452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4245480" y="4572000"/>
                <a:ext cx="14673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697080" y="4572000"/>
                <a:ext cx="1134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, ,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7" name=""/>
          <p:cNvSpPr/>
          <p:nvPr/>
        </p:nvSpPr>
        <p:spPr>
          <a:xfrm>
            <a:off x="15238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25146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20574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5146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971800" y="35812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382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9718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8288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0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0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0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4304160" y="2133720"/>
            <a:ext cx="3640320" cy="3263760"/>
            <a:chOff x="4304160" y="2133720"/>
            <a:chExt cx="3640320" cy="3263760"/>
          </a:xfrm>
        </p:grpSpPr>
        <p:grpSp>
          <p:nvGrpSpPr>
            <p:cNvPr id="2421" name=""/>
            <p:cNvGrpSpPr/>
            <p:nvPr/>
          </p:nvGrpSpPr>
          <p:grpSpPr>
            <a:xfrm>
              <a:off x="4304160" y="2133720"/>
              <a:ext cx="3640320" cy="3263760"/>
              <a:chOff x="4304160" y="2133720"/>
              <a:chExt cx="3640320" cy="3263760"/>
            </a:xfrm>
          </p:grpSpPr>
          <p:sp>
            <p:nvSpPr>
              <p:cNvPr id="242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</a:t>
                </a:r>
                <a:r>
                  <a:rPr b="0" lang="en-US" sz="2400" spc="-1" strike="noStrike">
                    <a:solidFill>
                      <a:srgbClr val="ffcf01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304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6590160" y="457200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6590160" y="2133720"/>
                <a:ext cx="13543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2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5719680" y="25146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03388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719680" y="49528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24356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43360" y="2971800"/>
              <a:ext cx="9140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5719320" y="2971800"/>
              <a:ext cx="8377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3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4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4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0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461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46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611040" y="213372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47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482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483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2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0" name=""/>
          <p:cNvGrpSpPr/>
          <p:nvPr/>
        </p:nvGrpSpPr>
        <p:grpSpPr>
          <a:xfrm>
            <a:off x="4311000" y="2133720"/>
            <a:ext cx="3625200" cy="3263760"/>
            <a:chOff x="4311000" y="2133720"/>
            <a:chExt cx="3625200" cy="3263760"/>
          </a:xfrm>
        </p:grpSpPr>
        <p:grpSp>
          <p:nvGrpSpPr>
            <p:cNvPr id="2501" name=""/>
            <p:cNvGrpSpPr/>
            <p:nvPr/>
          </p:nvGrpSpPr>
          <p:grpSpPr>
            <a:xfrm>
              <a:off x="4311000" y="2133720"/>
              <a:ext cx="3625200" cy="3263760"/>
              <a:chOff x="4311000" y="2133720"/>
              <a:chExt cx="3625200" cy="3263760"/>
            </a:xfrm>
          </p:grpSpPr>
          <p:sp>
            <p:nvSpPr>
              <p:cNvPr id="2502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318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597360" y="4572000"/>
                <a:ext cx="133884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6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2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14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0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25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26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5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3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44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45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9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557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3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4572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tracking (Depth-First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228760" cy="1911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5760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4267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5584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46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89000" y="4572000"/>
            <a:ext cx="5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33360" y="36576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8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00400" y="36576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219320" y="4419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752120" y="4419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4419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937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3000" y="480060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48560" y="4343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1800" y="5029200"/>
            <a:ext cx="4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6640" y="1735200"/>
            <a:ext cx="866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property of CSPs: They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re commut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means: the order in which we assig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es not ma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search tree: First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then assign them value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ne-by-o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18000" y="1752480"/>
            <a:ext cx="1454760" cy="642600"/>
            <a:chOff x="6318000" y="1752480"/>
            <a:chExt cx="1454760" cy="642600"/>
          </a:xfrm>
        </p:grpSpPr>
        <p:sp>
          <p:nvSpPr>
            <p:cNvPr id="239" name=""/>
            <p:cNvSpPr/>
            <p:nvPr/>
          </p:nvSpPr>
          <p:spPr>
            <a:xfrm>
              <a:off x="72324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18000" y="1752480"/>
              <a:ext cx="5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c00"/>
                  </a:solidFill>
                  <a:latin typeface="Tahoma"/>
                </a:rPr>
                <a:t>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W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5280" y="1860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050920" y="5181480"/>
            <a:ext cx="5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44197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4197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44956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00400" y="43434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6212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51814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9280" y="59436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6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56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56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6" name=""/>
          <p:cNvGrpSpPr/>
          <p:nvPr/>
        </p:nvGrpSpPr>
        <p:grpSpPr>
          <a:xfrm>
            <a:off x="4311000" y="2133720"/>
            <a:ext cx="3616920" cy="3263760"/>
            <a:chOff x="4311000" y="2133720"/>
            <a:chExt cx="3616920" cy="3263760"/>
          </a:xfrm>
        </p:grpSpPr>
        <p:grpSp>
          <p:nvGrpSpPr>
            <p:cNvPr id="2587" name=""/>
            <p:cNvGrpSpPr/>
            <p:nvPr/>
          </p:nvGrpSpPr>
          <p:grpSpPr>
            <a:xfrm>
              <a:off x="4311000" y="2133720"/>
              <a:ext cx="3616920" cy="3263760"/>
              <a:chOff x="4311000" y="2133720"/>
              <a:chExt cx="3616920" cy="3263760"/>
            </a:xfrm>
          </p:grpSpPr>
          <p:sp>
            <p:nvSpPr>
              <p:cNvPr id="2588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604200" y="4572000"/>
                <a:ext cx="132372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1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0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6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12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13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14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3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32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33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3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7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3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4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45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1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7" name=""/>
          <p:cNvGrpSpPr/>
          <p:nvPr/>
        </p:nvGrpSpPr>
        <p:grpSpPr>
          <a:xfrm>
            <a:off x="1217160" y="2666880"/>
            <a:ext cx="2135520" cy="2209680"/>
            <a:chOff x="1217160" y="2666880"/>
            <a:chExt cx="2135520" cy="2209680"/>
          </a:xfrm>
        </p:grpSpPr>
        <p:grpSp>
          <p:nvGrpSpPr>
            <p:cNvPr id="2658" name=""/>
            <p:cNvGrpSpPr/>
            <p:nvPr/>
          </p:nvGrpSpPr>
          <p:grpSpPr>
            <a:xfrm>
              <a:off x="1523880" y="3047760"/>
              <a:ext cx="1828800" cy="1828800"/>
              <a:chOff x="1523880" y="3047760"/>
              <a:chExt cx="1828800" cy="1828800"/>
            </a:xfrm>
          </p:grpSpPr>
          <p:sp>
            <p:nvSpPr>
              <p:cNvPr id="2659" name=""/>
              <p:cNvSpPr/>
              <p:nvPr/>
            </p:nvSpPr>
            <p:spPr>
              <a:xfrm>
                <a:off x="1523880" y="3047760"/>
                <a:ext cx="182880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9810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24382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9810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5238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2895480" y="39621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438280" y="35049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523880" y="44193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2895480" y="3047760"/>
                <a:ext cx="457200" cy="45720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8" name=""/>
            <p:cNvSpPr/>
            <p:nvPr/>
          </p:nvSpPr>
          <p:spPr>
            <a:xfrm>
              <a:off x="1217160" y="304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217160" y="3962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17160" y="3504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217160" y="441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124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0552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9696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598040" y="2666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4311000" y="2133720"/>
            <a:ext cx="3608640" cy="3263760"/>
            <a:chOff x="4311000" y="2133720"/>
            <a:chExt cx="3608640" cy="3263760"/>
          </a:xfrm>
        </p:grpSpPr>
        <p:grpSp>
          <p:nvGrpSpPr>
            <p:cNvPr id="2677" name=""/>
            <p:cNvGrpSpPr/>
            <p:nvPr/>
          </p:nvGrpSpPr>
          <p:grpSpPr>
            <a:xfrm>
              <a:off x="4311000" y="2133720"/>
              <a:ext cx="3608640" cy="3263760"/>
              <a:chOff x="4311000" y="2133720"/>
              <a:chExt cx="3608640" cy="3263760"/>
            </a:xfrm>
          </p:grpSpPr>
          <p:sp>
            <p:nvSpPr>
              <p:cNvPr id="2678" name=""/>
              <p:cNvSpPr/>
              <p:nvPr/>
            </p:nvSpPr>
            <p:spPr>
              <a:xfrm>
                <a:off x="4311000" y="2133720"/>
                <a:ext cx="13392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3300"/>
                    </a:solidFill>
                    <a:latin typeface="Tahoma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3,4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4325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,  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611040" y="4572000"/>
                <a:ext cx="130860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  ,  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  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610680" y="2133720"/>
                <a:ext cx="1308960" cy="82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X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{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,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"/>
            <p:cNvSpPr/>
            <p:nvPr/>
          </p:nvSpPr>
          <p:spPr>
            <a:xfrm>
              <a:off x="572004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3424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20040" y="49528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243920" y="2971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643720" y="2971800"/>
              <a:ext cx="9144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720040" y="297180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8" name=""/>
          <p:cNvSpPr/>
          <p:nvPr/>
        </p:nvSpPr>
        <p:spPr>
          <a:xfrm>
            <a:off x="1523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2057400" y="3124080"/>
            <a:ext cx="1219320" cy="1676520"/>
            <a:chOff x="2057400" y="3124080"/>
            <a:chExt cx="1219320" cy="1676520"/>
          </a:xfrm>
        </p:grpSpPr>
        <p:sp>
          <p:nvSpPr>
            <p:cNvPr id="2690" name=""/>
            <p:cNvSpPr/>
            <p:nvPr/>
          </p:nvSpPr>
          <p:spPr>
            <a:xfrm>
              <a:off x="2057400" y="31240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057400" y="40384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514600" y="44956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0574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514600" y="3581280"/>
              <a:ext cx="304920" cy="30492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1981080" y="441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25146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2438280" y="3048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2971800" y="3124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28954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67652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85800" y="19051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3482280" y="464832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9076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3124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7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5896080" y="4724280"/>
            <a:ext cx="9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459240" y="1676520"/>
            <a:ext cx="8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346932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909040" y="4724280"/>
            <a:ext cx="7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2666880" y="5181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c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398240" y="206064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3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than forward check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backtracks sooner so may be f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ts treated as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ir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value f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rc from A to B is consistent, the (reverse) arc from B to A is not necessarily consiste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 consistency does not detect every possible inconsistency!!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52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0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8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  <p:pic>
        <p:nvPicPr>
          <p:cNvPr id="2949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333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398240" y="2017440"/>
            <a:ext cx="734076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2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1398240" y="204300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5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1398240" y="2070000"/>
            <a:ext cx="7340760" cy="37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8" name="" descr=""/>
          <p:cNvPicPr/>
          <p:nvPr/>
        </p:nvPicPr>
        <p:blipFill>
          <a:blip r:embed="rId1"/>
          <a:stretch/>
        </p:blipFill>
        <p:spPr>
          <a:xfrm>
            <a:off x="2004840" y="3648240"/>
            <a:ext cx="513432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1182600" y="56214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1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2962" name=""/>
          <p:cNvSpPr/>
          <p:nvPr/>
        </p:nvSpPr>
        <p:spPr>
          <a:xfrm>
            <a:off x="2292120" y="6280200"/>
            <a:ext cx="50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consistency of an arc is O(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4971960" y="6105600"/>
            <a:ext cx="2880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+ Backtracking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7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1981080" y="2286000"/>
            <a:ext cx="1524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2057400" y="342900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426708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4267080" y="251460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396252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73392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3450240" y="1676520"/>
            <a:ext cx="8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 flipH="1">
            <a:off x="403812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43434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3450600" y="4648320"/>
            <a:ext cx="8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 flipH="1" flipV="1">
            <a:off x="4343400" y="2590560"/>
            <a:ext cx="17524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895720" y="472428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 flipV="1">
            <a:off x="403848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5971680" y="167652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4038480" y="4114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598392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5914080" y="4724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6095880" y="25142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346968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1911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 Consistency: AC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5992560" y="1676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  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458880" y="16765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  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3478320" y="4648320"/>
            <a:ext cx="8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5922360" y="47242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 , 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path to the solution is unimportant, so we c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y local search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 states with </a:t>
            </a: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unsatisfi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ll-climb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value(state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selec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ly select any conflict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selec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th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3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7913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8-quee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6840" y="1715760"/>
            <a:ext cx="8650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 = queens, which are confined to a colum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 = 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random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nflicted queen random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(row) with minimal confli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96" name=""/>
          <p:cNvGraphicFramePr/>
          <p:nvPr/>
        </p:nvGraphicFramePr>
        <p:xfrm>
          <a:off x="990720" y="4495680"/>
          <a:ext cx="69897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9897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8" name="" descr=""/>
          <p:cNvPicPr/>
          <p:nvPr/>
        </p:nvPicPr>
        <p:blipFill>
          <a:blip r:embed="rId1"/>
          <a:stretch/>
        </p:blipFill>
        <p:spPr>
          <a:xfrm>
            <a:off x="152280" y="104760"/>
            <a:ext cx="87440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 (DF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the following state space (tree search), give the sequence of visited nodes when using DFS (assume that the node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goal stat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266" name=""/>
            <p:cNvGrpSpPr/>
            <p:nvPr/>
          </p:nvGrpSpPr>
          <p:grpSpPr>
            <a:xfrm>
              <a:off x="4572000" y="2895480"/>
              <a:ext cx="532800" cy="380880"/>
              <a:chOff x="4572000" y="2895480"/>
              <a:chExt cx="532800" cy="380880"/>
            </a:xfrm>
          </p:grpSpPr>
          <p:sp>
            <p:nvSpPr>
              <p:cNvPr id="267" name=""/>
              <p:cNvSpPr/>
              <p:nvPr/>
            </p:nvSpPr>
            <p:spPr>
              <a:xfrm>
                <a:off x="4572000" y="28954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23920" y="28954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819160" y="3581280"/>
              <a:ext cx="533160" cy="380880"/>
              <a:chOff x="2819160" y="3581280"/>
              <a:chExt cx="533160" cy="380880"/>
            </a:xfrm>
          </p:grpSpPr>
          <p:sp>
            <p:nvSpPr>
              <p:cNvPr id="270" name=""/>
              <p:cNvSpPr/>
              <p:nvPr/>
            </p:nvSpPr>
            <p:spPr>
              <a:xfrm>
                <a:off x="281916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7144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114800" y="3581280"/>
              <a:ext cx="532800" cy="380880"/>
              <a:chOff x="4114800" y="3581280"/>
              <a:chExt cx="532800" cy="380880"/>
            </a:xfrm>
          </p:grpSpPr>
          <p:sp>
            <p:nvSpPr>
              <p:cNvPr id="273" name=""/>
              <p:cNvSpPr/>
              <p:nvPr/>
            </p:nvSpPr>
            <p:spPr>
              <a:xfrm>
                <a:off x="4114800" y="35812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66720" y="35812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276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282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285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95680" y="4267080"/>
              <a:ext cx="533160" cy="380880"/>
              <a:chOff x="4495680" y="4267080"/>
              <a:chExt cx="533160" cy="3808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95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647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257800" y="4267080"/>
              <a:ext cx="532800" cy="380880"/>
              <a:chOff x="5257800" y="4267080"/>
              <a:chExt cx="532800" cy="380880"/>
            </a:xfrm>
          </p:grpSpPr>
          <p:sp>
            <p:nvSpPr>
              <p:cNvPr id="291" name=""/>
              <p:cNvSpPr/>
              <p:nvPr/>
            </p:nvSpPr>
            <p:spPr>
              <a:xfrm>
                <a:off x="5257800" y="4267080"/>
                <a:ext cx="53280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09720" y="4267080"/>
                <a:ext cx="38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248160" y="4267080"/>
              <a:ext cx="533160" cy="380880"/>
              <a:chOff x="6248160" y="4267080"/>
              <a:chExt cx="533160" cy="380880"/>
            </a:xfrm>
          </p:grpSpPr>
          <p:sp>
            <p:nvSpPr>
              <p:cNvPr id="294" name=""/>
              <p:cNvSpPr/>
              <p:nvPr/>
            </p:nvSpPr>
            <p:spPr>
              <a:xfrm>
                <a:off x="624816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0044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2819160" y="5105160"/>
              <a:ext cx="533160" cy="380880"/>
              <a:chOff x="2819160" y="5105160"/>
              <a:chExt cx="533160" cy="380880"/>
            </a:xfrm>
          </p:grpSpPr>
          <p:sp>
            <p:nvSpPr>
              <p:cNvPr id="297" name=""/>
              <p:cNvSpPr/>
              <p:nvPr/>
            </p:nvSpPr>
            <p:spPr>
              <a:xfrm>
                <a:off x="28191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9714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3809880" y="5105160"/>
              <a:ext cx="533160" cy="380880"/>
              <a:chOff x="3809880" y="5105160"/>
              <a:chExt cx="533160" cy="380880"/>
            </a:xfrm>
          </p:grpSpPr>
          <p:sp>
            <p:nvSpPr>
              <p:cNvPr id="300" name=""/>
              <p:cNvSpPr/>
              <p:nvPr/>
            </p:nvSpPr>
            <p:spPr>
              <a:xfrm>
                <a:off x="380988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96216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809880" y="5943240"/>
              <a:ext cx="533160" cy="3812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62160" y="5943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200400" y="3276360"/>
              <a:ext cx="159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95680" y="3276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3276360"/>
              <a:ext cx="7614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0600" y="3276360"/>
              <a:ext cx="243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438280" y="396216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7760" y="396216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95680" y="3962160"/>
              <a:ext cx="151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486400" y="3962160"/>
              <a:ext cx="2282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15000" y="3962160"/>
              <a:ext cx="685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23720" y="464796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57600" y="4647960"/>
              <a:ext cx="380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333760" y="5105160"/>
              <a:ext cx="533160" cy="380880"/>
              <a:chOff x="5333760" y="5105160"/>
              <a:chExt cx="533160" cy="380880"/>
            </a:xfrm>
          </p:grpSpPr>
          <p:sp>
            <p:nvSpPr>
              <p:cNvPr id="316" name=""/>
              <p:cNvSpPr/>
              <p:nvPr/>
            </p:nvSpPr>
            <p:spPr>
              <a:xfrm>
                <a:off x="5333760" y="510516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86040" y="5105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476760" y="5028840"/>
              <a:ext cx="533160" cy="380880"/>
              <a:chOff x="6476760" y="5028840"/>
              <a:chExt cx="533160" cy="380880"/>
            </a:xfrm>
          </p:grpSpPr>
          <p:sp>
            <p:nvSpPr>
              <p:cNvPr id="319" name=""/>
              <p:cNvSpPr/>
              <p:nvPr/>
            </p:nvSpPr>
            <p:spPr>
              <a:xfrm>
                <a:off x="6476760" y="502884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9040" y="5028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562360" y="464796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29400" y="4647960"/>
              <a:ext cx="75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038120" y="548604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819520" y="2895480"/>
            <a:ext cx="4723920" cy="1066680"/>
            <a:chOff x="2819520" y="2895480"/>
            <a:chExt cx="4723920" cy="1066680"/>
          </a:xfrm>
        </p:grpSpPr>
        <p:grpSp>
          <p:nvGrpSpPr>
            <p:cNvPr id="32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3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3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3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4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s (CSP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4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5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5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5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6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6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6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2133720" y="2895480"/>
            <a:ext cx="5409720" cy="1752480"/>
            <a:chOff x="2133720" y="2895480"/>
            <a:chExt cx="5409720" cy="1752480"/>
          </a:xfrm>
        </p:grpSpPr>
        <p:grpSp>
          <p:nvGrpSpPr>
            <p:cNvPr id="37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38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38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38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38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39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39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39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09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10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13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16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19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22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25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28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34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33720" y="2895480"/>
            <a:ext cx="5409720" cy="2590920"/>
            <a:chOff x="2133720" y="2895480"/>
            <a:chExt cx="5409720" cy="2590920"/>
          </a:xfrm>
        </p:grpSpPr>
        <p:grpSp>
          <p:nvGrpSpPr>
            <p:cNvPr id="44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4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5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5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5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6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463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469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472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485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489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492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01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04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07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10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,B,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,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: Go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26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27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30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33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36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39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42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45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48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51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th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91440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turned solution is the sequence of operators in the path: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, B, G, L, O : assignments  when using CSP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133720" y="2895480"/>
            <a:ext cx="5409720" cy="3429000"/>
            <a:chOff x="2133720" y="2895480"/>
            <a:chExt cx="5409720" cy="3429000"/>
          </a:xfrm>
        </p:grpSpPr>
        <p:grpSp>
          <p:nvGrpSpPr>
            <p:cNvPr id="567" name=""/>
            <p:cNvGrpSpPr/>
            <p:nvPr/>
          </p:nvGrpSpPr>
          <p:grpSpPr>
            <a:xfrm>
              <a:off x="4572000" y="2895480"/>
              <a:ext cx="533160" cy="380880"/>
              <a:chOff x="4572000" y="2895480"/>
              <a:chExt cx="533160" cy="380880"/>
            </a:xfrm>
          </p:grpSpPr>
          <p:sp>
            <p:nvSpPr>
              <p:cNvPr id="568" name=""/>
              <p:cNvSpPr/>
              <p:nvPr/>
            </p:nvSpPr>
            <p:spPr>
              <a:xfrm>
                <a:off x="4572000" y="28954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2895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819520" y="3581280"/>
              <a:ext cx="533160" cy="380880"/>
              <a:chOff x="2819520" y="3581280"/>
              <a:chExt cx="533160" cy="380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819520" y="35812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7180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114800" y="3581280"/>
              <a:ext cx="533160" cy="380880"/>
              <a:chOff x="4114800" y="3581280"/>
              <a:chExt cx="533160" cy="380880"/>
            </a:xfrm>
          </p:grpSpPr>
          <p:sp>
            <p:nvSpPr>
              <p:cNvPr id="574" name=""/>
              <p:cNvSpPr/>
              <p:nvPr/>
            </p:nvSpPr>
            <p:spPr>
              <a:xfrm>
                <a:off x="411480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6708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010280" y="3581280"/>
              <a:ext cx="533160" cy="380880"/>
              <a:chOff x="7010280" y="3581280"/>
              <a:chExt cx="533160" cy="380880"/>
            </a:xfrm>
          </p:grpSpPr>
          <p:sp>
            <p:nvSpPr>
              <p:cNvPr id="577" name=""/>
              <p:cNvSpPr/>
              <p:nvPr/>
            </p:nvSpPr>
            <p:spPr>
              <a:xfrm>
                <a:off x="70102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1625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5410080" y="3581280"/>
              <a:ext cx="533160" cy="380880"/>
              <a:chOff x="5410080" y="3581280"/>
              <a:chExt cx="533160" cy="380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410080" y="35812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562360" y="3581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133720" y="4267080"/>
              <a:ext cx="533160" cy="380880"/>
              <a:chOff x="2133720" y="4267080"/>
              <a:chExt cx="533160" cy="380880"/>
            </a:xfrm>
          </p:grpSpPr>
          <p:sp>
            <p:nvSpPr>
              <p:cNvPr id="583" name=""/>
              <p:cNvSpPr/>
              <p:nvPr/>
            </p:nvSpPr>
            <p:spPr>
              <a:xfrm>
                <a:off x="2133720" y="426708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8600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352680" y="4267080"/>
              <a:ext cx="533160" cy="380880"/>
              <a:chOff x="3352680" y="4267080"/>
              <a:chExt cx="533160" cy="380880"/>
            </a:xfrm>
          </p:grpSpPr>
          <p:sp>
            <p:nvSpPr>
              <p:cNvPr id="586" name=""/>
              <p:cNvSpPr/>
              <p:nvPr/>
            </p:nvSpPr>
            <p:spPr>
              <a:xfrm>
                <a:off x="3352680" y="426708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04960" y="4267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819520" y="5105520"/>
              <a:ext cx="533160" cy="380880"/>
              <a:chOff x="2819520" y="5105520"/>
              <a:chExt cx="533160" cy="380880"/>
            </a:xfrm>
          </p:grpSpPr>
          <p:sp>
            <p:nvSpPr>
              <p:cNvPr id="589" name=""/>
              <p:cNvSpPr/>
              <p:nvPr/>
            </p:nvSpPr>
            <p:spPr>
              <a:xfrm>
                <a:off x="2819520" y="5105520"/>
                <a:ext cx="533160" cy="3808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97180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809880" y="5105520"/>
              <a:ext cx="533160" cy="380880"/>
              <a:chOff x="3809880" y="5105520"/>
              <a:chExt cx="533160" cy="380880"/>
            </a:xfrm>
          </p:grpSpPr>
          <p:sp>
            <p:nvSpPr>
              <p:cNvPr id="592" name=""/>
              <p:cNvSpPr/>
              <p:nvPr/>
            </p:nvSpPr>
            <p:spPr>
              <a:xfrm>
                <a:off x="3809880" y="5105520"/>
                <a:ext cx="533160" cy="380880"/>
              </a:xfrm>
              <a:prstGeom prst="ellipse">
                <a:avLst/>
              </a:prstGeom>
              <a:solidFill>
                <a:srgbClr val="f3f1a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962160" y="5105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809880" y="5943600"/>
              <a:ext cx="533520" cy="380880"/>
            </a:xfrm>
            <a:prstGeom prst="ellipse">
              <a:avLst/>
            </a:prstGeom>
            <a:solidFill>
              <a:srgbClr val="f3f1a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5943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00040" y="3276720"/>
              <a:ext cx="160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4495320" y="32767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00600" y="327672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3276720"/>
              <a:ext cx="2438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4382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396252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124080" y="4648320"/>
              <a:ext cx="5335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57600" y="4648320"/>
              <a:ext cx="3808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038480" y="548640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trac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560" y="248220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41440" y="22536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021200" y="301572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133920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456280" y="423540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370520" y="1339200"/>
            <a:ext cx="4622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828800" y="175212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752480" y="29718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2819520" y="3352680"/>
            <a:ext cx="1218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743200" y="1828440"/>
            <a:ext cx="8380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18288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17524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419720" y="2666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687840" y="432864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962160" y="35053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88480" y="36428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219320" y="28954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4038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142640" y="17524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37720" y="617220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47920" y="1447920"/>
            <a:ext cx="5943600" cy="4116600"/>
            <a:chOff x="1447920" y="1447920"/>
            <a:chExt cx="5943600" cy="4116600"/>
          </a:xfrm>
        </p:grpSpPr>
        <p:sp>
          <p:nvSpPr>
            <p:cNvPr id="634" name=""/>
            <p:cNvSpPr/>
            <p:nvPr/>
          </p:nvSpPr>
          <p:spPr>
            <a:xfrm>
              <a:off x="2666880" y="293940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60760" y="271080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240520" y="347292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44720" y="17964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75600" y="469260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89840" y="17964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19520" y="2286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048120" y="220932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2971800" y="342900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038840" y="380988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048120" y="205740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962520" y="228564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53240" y="228600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220968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639040" y="31240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07160" y="47858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38840" y="5105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181480" y="396252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07800" y="410004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438640" y="335268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14600" y="449568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361960" y="220968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333760" y="320040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337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91120" y="1447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9920" y="23623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334120" y="5029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15000" y="36115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48120" y="3078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0400" y="528804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47920" y="45720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SP is def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omain of values for each var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t of constraints between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olution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ssignment of a value to each variable that satisfies the constr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25720" y="921600"/>
            <a:ext cx="4190760" cy="3183840"/>
            <a:chOff x="225720" y="921600"/>
            <a:chExt cx="4190760" cy="3183840"/>
          </a:xfrm>
        </p:grpSpPr>
        <p:sp>
          <p:nvSpPr>
            <p:cNvPr id="667" name=""/>
            <p:cNvSpPr/>
            <p:nvPr/>
          </p:nvSpPr>
          <p:spPr>
            <a:xfrm>
              <a:off x="732240" y="194076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82680" y="173412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58200" y="241596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21440" y="92160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46640" y="350316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61680" y="92160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92440" y="138528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099080" y="1317240"/>
              <a:ext cx="151596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1029960" y="2403720"/>
              <a:ext cx="826920" cy="11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995120" y="2879280"/>
              <a:ext cx="117144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1099080" y="1181520"/>
              <a:ext cx="14472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926360" y="1384920"/>
              <a:ext cx="757800" cy="21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90800" y="1385280"/>
              <a:ext cx="344520" cy="108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90800" y="1249560"/>
              <a:ext cx="11714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511080" y="2199960"/>
              <a:ext cx="55152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56880" y="358524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63880" y="3830760"/>
              <a:ext cx="758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3028680" y="2879640"/>
              <a:ext cx="27540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5720" y="297360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47560" y="2336040"/>
              <a:ext cx="275400" cy="74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6680" y="3355200"/>
              <a:ext cx="103356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78800" y="1317240"/>
              <a:ext cx="275760" cy="16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f01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≠ 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 Q = red, NSW = green, V = red, SA = blue, 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incomplete e.g., just WA=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49400" y="152280"/>
            <a:ext cx="1982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33320" y="1941480"/>
            <a:ext cx="45936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977280" y="1735200"/>
            <a:ext cx="43380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058920" y="2415600"/>
            <a:ext cx="492480" cy="52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522160" y="922320"/>
            <a:ext cx="46620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646640" y="3503160"/>
            <a:ext cx="42336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62400" y="922320"/>
            <a:ext cx="462240" cy="520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92080" y="1386000"/>
            <a:ext cx="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098720" y="1317600"/>
            <a:ext cx="1515960" cy="81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 flipV="1">
            <a:off x="1029960" y="2403000"/>
            <a:ext cx="82692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1995480" y="2879280"/>
            <a:ext cx="117144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098720" y="1180800"/>
            <a:ext cx="14475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925640" y="1385640"/>
            <a:ext cx="75888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890800" y="1386000"/>
            <a:ext cx="344520" cy="10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890800" y="1249200"/>
            <a:ext cx="11714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3511440" y="2200320"/>
            <a:ext cx="5508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56880" y="3585600"/>
            <a:ext cx="48996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63880" y="3830760"/>
            <a:ext cx="75852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028680" y="2879640"/>
            <a:ext cx="2761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5000" y="2975040"/>
            <a:ext cx="494640" cy="520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547560" y="2336760"/>
            <a:ext cx="276480" cy="74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17400" y="3354480"/>
            <a:ext cx="103356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479160" y="1317600"/>
            <a:ext cx="274680" cy="16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51680" y="4876920"/>
            <a:ext cx="119736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= 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=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332600" y="3062160"/>
            <a:ext cx="1370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76680" y="198072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828800" y="3124080"/>
            <a:ext cx="6705360" cy="3429000"/>
            <a:chOff x="1828800" y="3124080"/>
            <a:chExt cx="6705360" cy="3429000"/>
          </a:xfrm>
        </p:grpSpPr>
        <p:grpSp>
          <p:nvGrpSpPr>
            <p:cNvPr id="114" name=""/>
            <p:cNvGrpSpPr/>
            <p:nvPr/>
          </p:nvGrpSpPr>
          <p:grpSpPr>
            <a:xfrm>
              <a:off x="1828800" y="3809880"/>
              <a:ext cx="838080" cy="685800"/>
              <a:chOff x="1828800" y="3809880"/>
              <a:chExt cx="838080" cy="68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1904760" y="41144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33360" y="41144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61960" y="41144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04760" y="38098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800" y="38098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809880" y="3124080"/>
              <a:ext cx="838080" cy="685800"/>
              <a:chOff x="3809880" y="3124080"/>
              <a:chExt cx="838080" cy="685800"/>
            </a:xfrm>
          </p:grpSpPr>
          <p:sp>
            <p:nvSpPr>
              <p:cNvPr id="121" name=""/>
              <p:cNvSpPr/>
              <p:nvPr/>
            </p:nvSpPr>
            <p:spPr>
              <a:xfrm>
                <a:off x="3885840" y="34286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14440" y="34286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43040" y="34286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85840" y="3124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09880" y="31240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114800" y="4724280"/>
              <a:ext cx="838080" cy="685800"/>
              <a:chOff x="4114800" y="4724280"/>
              <a:chExt cx="838080" cy="685800"/>
            </a:xfrm>
          </p:grpSpPr>
          <p:sp>
            <p:nvSpPr>
              <p:cNvPr id="127" name=""/>
              <p:cNvSpPr/>
              <p:nvPr/>
            </p:nvSpPr>
            <p:spPr>
              <a:xfrm>
                <a:off x="4190760" y="5028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19360" y="5028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47960" y="5028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90760" y="4724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14800" y="4724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638680" y="3200040"/>
              <a:ext cx="838080" cy="685800"/>
              <a:chOff x="5638680" y="3200040"/>
              <a:chExt cx="838080" cy="68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5714640" y="35046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43240" y="35046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71840" y="35046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14640" y="32000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638680" y="32000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010280" y="4038480"/>
              <a:ext cx="838080" cy="685800"/>
              <a:chOff x="7010280" y="4038480"/>
              <a:chExt cx="838080" cy="685800"/>
            </a:xfrm>
          </p:grpSpPr>
          <p:sp>
            <p:nvSpPr>
              <p:cNvPr id="139" name=""/>
              <p:cNvSpPr/>
              <p:nvPr/>
            </p:nvSpPr>
            <p:spPr>
              <a:xfrm>
                <a:off x="7086240" y="43430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314840" y="43430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43440" y="43430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86240" y="4038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S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40384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43600" y="5257440"/>
              <a:ext cx="838080" cy="685800"/>
              <a:chOff x="5943600" y="5257440"/>
              <a:chExt cx="83808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6019560" y="556200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160" y="556200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76760" y="556200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560" y="525744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525744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696080" y="5867280"/>
              <a:ext cx="838080" cy="685800"/>
              <a:chOff x="7696080" y="5867280"/>
              <a:chExt cx="83808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7772040" y="6171840"/>
                <a:ext cx="228600" cy="228600"/>
              </a:xfrm>
              <a:prstGeom prst="rect">
                <a:avLst/>
              </a:prstGeom>
              <a:solidFill>
                <a:srgbClr val="fe1a0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00640" y="6171840"/>
                <a:ext cx="228600" cy="2286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29240" y="6171840"/>
                <a:ext cx="22860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72040" y="58672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96080" y="5867280"/>
                <a:ext cx="83808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V="1">
              <a:off x="2590560" y="350496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90560" y="4343040"/>
              <a:ext cx="15242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343040" y="380988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7960" y="350496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560" y="3809520"/>
              <a:ext cx="9144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560" y="5181480"/>
              <a:ext cx="10670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952880" y="4495320"/>
              <a:ext cx="20574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76760" y="365724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6705360" y="464760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3163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895480" y="5105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ad En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ack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762120" y="214200"/>
            <a:ext cx="8486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ed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minimum remaining values (MRV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cks a variable which will cause failure as soon as possible, allowing the tree to be prun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RV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inimum remaining value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choose the variable with the fewest legal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 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≤ 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0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R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447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884560" y="472428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3048120" y="5486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ost constraining variabl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 (most edges in grap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685800" y="4952880"/>
            <a:ext cx="7620120" cy="123696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2"/>
          <a:stretch/>
        </p:blipFill>
        <p:spPr>
          <a:xfrm>
            <a:off x="7012080" y="2363760"/>
            <a:ext cx="187164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1806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Most Constraining variabl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≠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447000" y="46483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5961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4462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447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5893920" y="472428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858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1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M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4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88528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74320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aint Satisfaction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(eliminate)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18061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ackpropag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CV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Constraining Value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choose the value which eliminates the fewest number of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3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4380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461960" y="380988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5952600" y="16765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9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60020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2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propagation - LC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5" name=""/>
          <p:cNvSpPr/>
          <p:nvPr/>
        </p:nvSpPr>
        <p:spPr>
          <a:xfrm>
            <a:off x="152388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657600" y="41911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657600" y="2133720"/>
            <a:ext cx="457200" cy="4572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6095880" y="4267080"/>
            <a:ext cx="457200" cy="457200"/>
          </a:xfrm>
          <a:prstGeom prst="ellipse">
            <a:avLst/>
          </a:prstGeom>
          <a:solidFill>
            <a:srgbClr val="f217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172200" y="2133720"/>
            <a:ext cx="457200" cy="457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190512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905120" y="3581280"/>
            <a:ext cx="1752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886200" y="2590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114800" y="2362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400800" y="25909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114800" y="4419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038480" y="2514600"/>
            <a:ext cx="21337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470240" y="3809880"/>
            <a:ext cx="4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960880" y="16765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447000" y="1676520"/>
            <a:ext cx="9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438000" y="464832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876640" y="4724280"/>
            <a:ext cx="9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5909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705720" y="2133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629400" y="4191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5909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8580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6:25:01Z</dcterms:created>
  <dc:creator>mbatouche</dc:creator>
  <dc:description/>
  <dc:language>en-US</dc:language>
  <cp:lastModifiedBy> </cp:lastModifiedBy>
  <dcterms:modified xsi:type="dcterms:W3CDTF">2009-03-10T07:27:56Z</dcterms:modified>
  <cp:revision>25</cp:revision>
  <dc:subject/>
  <dc:title>Constraint Satisfaction Problems</dc:title>
</cp:coreProperties>
</file>