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F83-21DB-475F-BF8E-DE8204D6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06D-D30C-4954-AF8D-CEBECC00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1C9-725A-470B-8765-BB37DC76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7DD-980D-4000-BA32-2D136FBD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2507-333C-4FEC-8848-EE45F924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9308-18B7-4B91-87A3-D68B2797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AB8D-86F6-4DE8-A1E3-F2D6197E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F059-071A-4CB2-AE0F-95432223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17DA-3FD6-44D1-8240-06F744DB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2F4E-A5EE-42F7-9D83-E1AB2FDB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1C20-D83A-4C34-BBDE-55283599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ADA-2B4C-46AE-A2BC-DAA8FF5C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D753-0DB8-4307-9227-C6A29396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FCAB-D03B-4C63-A246-C7E140FC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87D2-3104-4AF5-8BD6-9409C5A4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6781-2EC2-48D9-90AA-97BB4986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3F69-1E50-4417-A503-A4847662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FA24-CFBA-4986-9B75-FB0463DA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3FB-5A7E-4E4E-9569-3B56CCB1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1B0-AC98-400C-8B85-6D664C2A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D96-5AAA-495C-84BE-816C2BA8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54B-3FF0-4F17-8A48-3992CEF1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405-DB1F-4DAF-AC26-AEBCAF9D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E94-8AF7-4291-A97B-1B344D0A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B4DA-9014-4070-9E81-0376B61685F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3851-55F8-4A26-B8AA-0FD76C6B7509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/" TargetMode="External"/><Relationship Id="rId3" Type="http://schemas.openxmlformats.org/officeDocument/2006/relationships/hyperlink" Target="http://faculty.ksu.edu.sa/YAlohali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ousef Al-Oh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omputer Science Depar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CIS – King Saud Univers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audi Arab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yousef@ccis.edu.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3"/>
              </a:rPr>
              <a:t>faculty.ksu.edu.sa/YAloha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3049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andard search form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915240" y="1136520"/>
            <a:ext cx="2228760" cy="1911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1360" y="1292400"/>
            <a:ext cx="7772400" cy="25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t’s try the standard search form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ne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nitial state: none of the variables has a value (col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uccessor state: one of the variables without a value will get some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oal: all variables have a value and none of the constraints is vio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67280" y="6127920"/>
            <a:ext cx="9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! x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3505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5920" y="419112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136520" y="3352680"/>
            <a:ext cx="7512480" cy="2427120"/>
            <a:chOff x="1136520" y="3352680"/>
            <a:chExt cx="7512480" cy="2427120"/>
          </a:xfrm>
        </p:grpSpPr>
        <p:sp>
          <p:nvSpPr>
            <p:cNvPr id="179" name=""/>
            <p:cNvSpPr/>
            <p:nvPr/>
          </p:nvSpPr>
          <p:spPr>
            <a:xfrm>
              <a:off x="3809880" y="33526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3372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0040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760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43400" y="4267080"/>
              <a:ext cx="11430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08120" y="441972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99920" y="441972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24960" y="441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98640" y="441972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41640" y="441972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285640" y="350532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819160" y="3505320"/>
              <a:ext cx="1066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352680" y="3505320"/>
              <a:ext cx="53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809880" y="3505320"/>
              <a:ext cx="152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62520" y="3429000"/>
              <a:ext cx="2286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95280" y="4876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28800" y="4876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2320" y="4876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371240" y="426708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905120" y="4267080"/>
              <a:ext cx="304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0" y="426708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03200" y="510552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70040" y="510552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36520" y="510552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3200" y="4952880"/>
              <a:ext cx="11430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62960" y="403848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x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84200" y="4800600"/>
              <a:ext cx="186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[NxD]x[(N-1)xD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48320" y="4876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49680" y="513720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 rot="8515800">
            <a:off x="2492280" y="3474000"/>
            <a:ext cx="2679120" cy="254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10120" y="6019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Equ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14480" y="6491160"/>
            <a:ext cx="69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re are N! x D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nodes in the tree but only D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distinct state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1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838080" y="4648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ward Che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s variable X, s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s at each unassigned variable, Y say, connected to X and delete from Y’s domain any value inconsistent with X’s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minates branching on certain variables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paga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orward chec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tects a dead end, algorithm will backtrack immediately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1398240" y="22683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0" name="" descr=""/>
          <p:cNvPicPr/>
          <p:nvPr/>
        </p:nvPicPr>
        <p:blipFill>
          <a:blip r:embed="rId1"/>
          <a:stretch/>
        </p:blipFill>
        <p:spPr>
          <a:xfrm>
            <a:off x="2004840" y="3781440"/>
            <a:ext cx="51343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1398240" y="2277720"/>
            <a:ext cx="734076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3" name="" descr=""/>
          <p:cNvPicPr/>
          <p:nvPr/>
        </p:nvPicPr>
        <p:blipFill>
          <a:blip r:embed="rId1"/>
          <a:stretch/>
        </p:blipFill>
        <p:spPr>
          <a:xfrm>
            <a:off x="2004840" y="3790800"/>
            <a:ext cx="5134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1398240" y="2277720"/>
            <a:ext cx="734076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6" name="" descr=""/>
          <p:cNvPicPr/>
          <p:nvPr/>
        </p:nvPicPr>
        <p:blipFill>
          <a:blip r:embed="rId1"/>
          <a:stretch/>
        </p:blipFill>
        <p:spPr>
          <a:xfrm>
            <a:off x="2004840" y="3809880"/>
            <a:ext cx="5134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1398240" y="2277720"/>
            <a:ext cx="734076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9" name="" descr=""/>
          <p:cNvPicPr/>
          <p:nvPr/>
        </p:nvPicPr>
        <p:blipFill>
          <a:blip r:embed="rId1"/>
          <a:stretch/>
        </p:blipFill>
        <p:spPr>
          <a:xfrm>
            <a:off x="2004840" y="3743280"/>
            <a:ext cx="5134320" cy="2276640"/>
          </a:xfrm>
          <a:prstGeom prst="rect">
            <a:avLst/>
          </a:prstGeom>
          <a:ln w="0">
            <a:noFill/>
          </a:ln>
        </p:spPr>
      </p:pic>
      <p:sp>
        <p:nvSpPr>
          <p:cNvPr id="2110" name=""/>
          <p:cNvSpPr/>
          <p:nvPr/>
        </p:nvSpPr>
        <p:spPr>
          <a:xfrm>
            <a:off x="563868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115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116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5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3" name="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2134" name="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2135" name="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9" name="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5" name="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4-Queens slides copied from B.J. Dorr  CMSC 421 course on A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olution appears at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depth-first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th-first search for CSPs with single-variable assignments is called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tracking search is the basic uninformed algorithm for C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queens 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≈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47" name=""/>
          <p:cNvGrpSpPr/>
          <p:nvPr/>
        </p:nvGrpSpPr>
        <p:grpSpPr>
          <a:xfrm>
            <a:off x="1217160" y="2666880"/>
            <a:ext cx="2135520" cy="2210040"/>
            <a:chOff x="1217160" y="2666880"/>
            <a:chExt cx="2135520" cy="2210040"/>
          </a:xfrm>
        </p:grpSpPr>
        <p:grpSp>
          <p:nvGrpSpPr>
            <p:cNvPr id="2148" name=""/>
            <p:cNvGrpSpPr/>
            <p:nvPr/>
          </p:nvGrpSpPr>
          <p:grpSpPr>
            <a:xfrm>
              <a:off x="1523880" y="3048120"/>
              <a:ext cx="1828800" cy="1828800"/>
              <a:chOff x="1523880" y="3048120"/>
              <a:chExt cx="1828800" cy="1828800"/>
            </a:xfrm>
          </p:grpSpPr>
          <p:sp>
            <p:nvSpPr>
              <p:cNvPr id="2149" name=""/>
              <p:cNvSpPr/>
              <p:nvPr/>
            </p:nvSpPr>
            <p:spPr>
              <a:xfrm>
                <a:off x="1523880" y="304812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981080" y="30481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438280" y="44197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981080" y="39625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523880" y="35053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895480" y="39625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438280" y="35053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1523880" y="44197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895480" y="30481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8" name=""/>
            <p:cNvSpPr/>
            <p:nvPr/>
          </p:nvSpPr>
          <p:spPr>
            <a:xfrm>
              <a:off x="1217160" y="304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217160" y="3962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217160" y="3505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217160" y="4419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6" name="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2167" name="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2168" name="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2" name="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8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180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5146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9718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9718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5146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188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189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8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6" name=""/>
          <p:cNvGrpSpPr/>
          <p:nvPr/>
        </p:nvGrpSpPr>
        <p:grpSpPr>
          <a:xfrm>
            <a:off x="4304520" y="2133720"/>
            <a:ext cx="3623400" cy="3263760"/>
            <a:chOff x="4304520" y="2133720"/>
            <a:chExt cx="3623400" cy="3263760"/>
          </a:xfrm>
        </p:grpSpPr>
        <p:grpSp>
          <p:nvGrpSpPr>
            <p:cNvPr id="2207" name=""/>
            <p:cNvGrpSpPr/>
            <p:nvPr/>
          </p:nvGrpSpPr>
          <p:grpSpPr>
            <a:xfrm>
              <a:off x="4304520" y="2133720"/>
              <a:ext cx="3623400" cy="3263760"/>
              <a:chOff x="4304520" y="2133720"/>
              <a:chExt cx="3623400" cy="3263760"/>
            </a:xfrm>
          </p:grpSpPr>
          <p:sp>
            <p:nvSpPr>
              <p:cNvPr id="2208" name=""/>
              <p:cNvSpPr/>
              <p:nvPr/>
            </p:nvSpPr>
            <p:spPr>
              <a:xfrm>
                <a:off x="430452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604200" y="213372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2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8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9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220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146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9718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9718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5146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27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228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229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8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6" name=""/>
          <p:cNvGrpSpPr/>
          <p:nvPr/>
        </p:nvGrpSpPr>
        <p:grpSpPr>
          <a:xfrm>
            <a:off x="4304520" y="2133720"/>
            <a:ext cx="3623400" cy="3263760"/>
            <a:chOff x="4304520" y="2133720"/>
            <a:chExt cx="3623400" cy="3263760"/>
          </a:xfrm>
        </p:grpSpPr>
        <p:grpSp>
          <p:nvGrpSpPr>
            <p:cNvPr id="2247" name=""/>
            <p:cNvGrpSpPr/>
            <p:nvPr/>
          </p:nvGrpSpPr>
          <p:grpSpPr>
            <a:xfrm>
              <a:off x="4304520" y="2133720"/>
              <a:ext cx="3623400" cy="3263760"/>
              <a:chOff x="4304520" y="2133720"/>
              <a:chExt cx="3623400" cy="3263760"/>
            </a:xfrm>
          </p:grpSpPr>
          <p:sp>
            <p:nvSpPr>
              <p:cNvPr id="2248" name=""/>
              <p:cNvSpPr/>
              <p:nvPr/>
            </p:nvSpPr>
            <p:spPr>
              <a:xfrm>
                <a:off x="430452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603840" y="2133720"/>
                <a:ext cx="13240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2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8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9810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271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272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1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9" name=""/>
          <p:cNvGrpSpPr/>
          <p:nvPr/>
        </p:nvGrpSpPr>
        <p:grpSpPr>
          <a:xfrm>
            <a:off x="4304160" y="2133720"/>
            <a:ext cx="3623400" cy="3263760"/>
            <a:chOff x="4304160" y="2133720"/>
            <a:chExt cx="3623400" cy="3263760"/>
          </a:xfrm>
        </p:grpSpPr>
        <p:grpSp>
          <p:nvGrpSpPr>
            <p:cNvPr id="2290" name=""/>
            <p:cNvGrpSpPr/>
            <p:nvPr/>
          </p:nvGrpSpPr>
          <p:grpSpPr>
            <a:xfrm>
              <a:off x="4304160" y="2133720"/>
              <a:ext cx="3623400" cy="3263760"/>
              <a:chOff x="4304160" y="2133720"/>
              <a:chExt cx="3623400" cy="3263760"/>
            </a:xfrm>
          </p:grpSpPr>
          <p:sp>
            <p:nvSpPr>
              <p:cNvPr id="2291" name="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331520" y="4572000"/>
                <a:ext cx="12934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650280" y="4572000"/>
                <a:ext cx="12294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 ,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603480" y="2133720"/>
                <a:ext cx="13240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5" name="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1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19810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182880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E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14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315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316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5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3" name=""/>
          <p:cNvGrpSpPr/>
          <p:nvPr/>
        </p:nvGrpSpPr>
        <p:grpSpPr>
          <a:xfrm>
            <a:off x="4245480" y="2133720"/>
            <a:ext cx="3633840" cy="3263760"/>
            <a:chOff x="4245480" y="2133720"/>
            <a:chExt cx="3633840" cy="3263760"/>
          </a:xfrm>
        </p:grpSpPr>
        <p:grpSp>
          <p:nvGrpSpPr>
            <p:cNvPr id="2334" name=""/>
            <p:cNvGrpSpPr/>
            <p:nvPr/>
          </p:nvGrpSpPr>
          <p:grpSpPr>
            <a:xfrm>
              <a:off x="4245480" y="2133720"/>
              <a:ext cx="3633840" cy="3263760"/>
              <a:chOff x="4245480" y="2133720"/>
              <a:chExt cx="3633840" cy="3263760"/>
            </a:xfrm>
          </p:grpSpPr>
          <p:sp>
            <p:nvSpPr>
              <p:cNvPr id="2335" name="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4245480" y="4572000"/>
                <a:ext cx="14670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2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649920" y="4572000"/>
                <a:ext cx="12294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,3,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649920" y="2133720"/>
                <a:ext cx="12294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9" name=""/>
            <p:cNvSpPr/>
            <p:nvPr/>
          </p:nvSpPr>
          <p:spPr>
            <a:xfrm>
              <a:off x="5719680" y="25146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719680" y="49528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643360" y="2971800"/>
              <a:ext cx="9140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719320" y="2971800"/>
              <a:ext cx="8377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5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29718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56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357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358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7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4245480" y="2133720"/>
            <a:ext cx="3674160" cy="3263760"/>
            <a:chOff x="4245480" y="2133720"/>
            <a:chExt cx="3674160" cy="3263760"/>
          </a:xfrm>
        </p:grpSpPr>
        <p:grpSp>
          <p:nvGrpSpPr>
            <p:cNvPr id="2376" name=""/>
            <p:cNvGrpSpPr/>
            <p:nvPr/>
          </p:nvGrpSpPr>
          <p:grpSpPr>
            <a:xfrm>
              <a:off x="4245480" y="2133720"/>
              <a:ext cx="3674160" cy="3263760"/>
              <a:chOff x="4245480" y="2133720"/>
              <a:chExt cx="3674160" cy="3263760"/>
            </a:xfrm>
          </p:grpSpPr>
          <p:sp>
            <p:nvSpPr>
              <p:cNvPr id="2377" name=""/>
              <p:cNvSpPr/>
              <p:nvPr/>
            </p:nvSpPr>
            <p:spPr>
              <a:xfrm>
                <a:off x="430452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4245480" y="4572000"/>
                <a:ext cx="14673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6697080" y="4572000"/>
                <a:ext cx="1134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, ,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6611040" y="213372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1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7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9718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24382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182880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E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01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402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403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2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2421" name="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2422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5719680" y="25146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719680" y="49528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643360" y="2971800"/>
              <a:ext cx="9140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H="1">
              <a:off x="5719320" y="2971800"/>
              <a:ext cx="8377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2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3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434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41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442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443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2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0" name=""/>
          <p:cNvGrpSpPr/>
          <p:nvPr/>
        </p:nvGrpSpPr>
        <p:grpSpPr>
          <a:xfrm>
            <a:off x="4311000" y="2133720"/>
            <a:ext cx="3625200" cy="3263760"/>
            <a:chOff x="4311000" y="2133720"/>
            <a:chExt cx="3625200" cy="3263760"/>
          </a:xfrm>
        </p:grpSpPr>
        <p:grpSp>
          <p:nvGrpSpPr>
            <p:cNvPr id="2461" name=""/>
            <p:cNvGrpSpPr/>
            <p:nvPr/>
          </p:nvGrpSpPr>
          <p:grpSpPr>
            <a:xfrm>
              <a:off x="4311000" y="2133720"/>
              <a:ext cx="3625200" cy="3263760"/>
              <a:chOff x="4311000" y="2133720"/>
              <a:chExt cx="3625200" cy="3263760"/>
            </a:xfrm>
          </p:grpSpPr>
          <p:sp>
            <p:nvSpPr>
              <p:cNvPr id="2462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597360" y="4572000"/>
                <a:ext cx="133884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611040" y="213372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6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2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3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474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81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482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483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2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0" name=""/>
          <p:cNvGrpSpPr/>
          <p:nvPr/>
        </p:nvGrpSpPr>
        <p:grpSpPr>
          <a:xfrm>
            <a:off x="4311000" y="2133720"/>
            <a:ext cx="3625200" cy="3263760"/>
            <a:chOff x="4311000" y="2133720"/>
            <a:chExt cx="3625200" cy="3263760"/>
          </a:xfrm>
        </p:grpSpPr>
        <p:grpSp>
          <p:nvGrpSpPr>
            <p:cNvPr id="2501" name=""/>
            <p:cNvGrpSpPr/>
            <p:nvPr/>
          </p:nvGrpSpPr>
          <p:grpSpPr>
            <a:xfrm>
              <a:off x="4311000" y="2133720"/>
              <a:ext cx="3625200" cy="3263760"/>
              <a:chOff x="4311000" y="2133720"/>
              <a:chExt cx="3625200" cy="3263760"/>
            </a:xfrm>
          </p:grpSpPr>
          <p:sp>
            <p:nvSpPr>
              <p:cNvPr id="2502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597360" y="4572000"/>
                <a:ext cx="133884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6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2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3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514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0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24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525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526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5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3" name=""/>
          <p:cNvGrpSpPr/>
          <p:nvPr/>
        </p:nvGrpSpPr>
        <p:grpSpPr>
          <a:xfrm>
            <a:off x="4311000" y="2133720"/>
            <a:ext cx="3616920" cy="3263760"/>
            <a:chOff x="4311000" y="2133720"/>
            <a:chExt cx="3616920" cy="3263760"/>
          </a:xfrm>
        </p:grpSpPr>
        <p:grpSp>
          <p:nvGrpSpPr>
            <p:cNvPr id="2544" name=""/>
            <p:cNvGrpSpPr/>
            <p:nvPr/>
          </p:nvGrpSpPr>
          <p:grpSpPr>
            <a:xfrm>
              <a:off x="4311000" y="2133720"/>
              <a:ext cx="3616920" cy="3263760"/>
              <a:chOff x="4311000" y="2133720"/>
              <a:chExt cx="3616920" cy="3263760"/>
            </a:xfrm>
          </p:grpSpPr>
          <p:sp>
            <p:nvSpPr>
              <p:cNvPr id="2545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  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9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5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6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557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3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tracking (Depth-First) sear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629400" y="3124080"/>
            <a:ext cx="2228760" cy="1911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65760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267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4267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4267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55840" y="4572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46000" y="4572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89000" y="4572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133360" y="365760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666880" y="36576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200400" y="36576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219320" y="44197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752120" y="4419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197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93720" y="5181480"/>
            <a:ext cx="5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3000" y="4800600"/>
            <a:ext cx="5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48560" y="4343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51800" y="5029200"/>
            <a:ext cx="4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6640" y="1735200"/>
            <a:ext cx="866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property of CSPs: They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re commut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means: the order in which we assig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es not ma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ter search tree: First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riables, then assign them values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one-by-on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318000" y="1752480"/>
            <a:ext cx="1454760" cy="642600"/>
            <a:chOff x="6318000" y="1752480"/>
            <a:chExt cx="1454760" cy="642600"/>
          </a:xfrm>
        </p:grpSpPr>
        <p:sp>
          <p:nvSpPr>
            <p:cNvPr id="239" name=""/>
            <p:cNvSpPr/>
            <p:nvPr/>
          </p:nvSpPr>
          <p:spPr>
            <a:xfrm>
              <a:off x="7232400" y="175248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18000" y="175248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85280" y="1860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2050920" y="5181480"/>
            <a:ext cx="5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ahoma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9092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44197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4197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44956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43434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6212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51814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9280" y="59436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67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568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569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8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6" name=""/>
          <p:cNvGrpSpPr/>
          <p:nvPr/>
        </p:nvGrpSpPr>
        <p:grpSpPr>
          <a:xfrm>
            <a:off x="4311000" y="2133720"/>
            <a:ext cx="3616920" cy="3263760"/>
            <a:chOff x="4311000" y="2133720"/>
            <a:chExt cx="3616920" cy="3263760"/>
          </a:xfrm>
        </p:grpSpPr>
        <p:grpSp>
          <p:nvGrpSpPr>
            <p:cNvPr id="2587" name=""/>
            <p:cNvGrpSpPr/>
            <p:nvPr/>
          </p:nvGrpSpPr>
          <p:grpSpPr>
            <a:xfrm>
              <a:off x="4311000" y="2133720"/>
              <a:ext cx="3616920" cy="3263760"/>
              <a:chOff x="4311000" y="2133720"/>
              <a:chExt cx="3616920" cy="3263760"/>
            </a:xfrm>
          </p:grpSpPr>
          <p:sp>
            <p:nvSpPr>
              <p:cNvPr id="2588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2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9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600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6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12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613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614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3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1" name=""/>
          <p:cNvGrpSpPr/>
          <p:nvPr/>
        </p:nvGrpSpPr>
        <p:grpSpPr>
          <a:xfrm>
            <a:off x="4311000" y="2133720"/>
            <a:ext cx="3608640" cy="3263760"/>
            <a:chOff x="4311000" y="2133720"/>
            <a:chExt cx="3608640" cy="3263760"/>
          </a:xfrm>
        </p:grpSpPr>
        <p:grpSp>
          <p:nvGrpSpPr>
            <p:cNvPr id="2632" name=""/>
            <p:cNvGrpSpPr/>
            <p:nvPr/>
          </p:nvGrpSpPr>
          <p:grpSpPr>
            <a:xfrm>
              <a:off x="4311000" y="2133720"/>
              <a:ext cx="3608640" cy="3263760"/>
              <a:chOff x="4311000" y="2133720"/>
              <a:chExt cx="3608640" cy="3263760"/>
            </a:xfrm>
          </p:grpSpPr>
          <p:sp>
            <p:nvSpPr>
              <p:cNvPr id="2633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611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7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3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4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645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1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57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658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659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8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4311000" y="2133720"/>
            <a:ext cx="3608640" cy="3263760"/>
            <a:chOff x="4311000" y="2133720"/>
            <a:chExt cx="3608640" cy="3263760"/>
          </a:xfrm>
        </p:grpSpPr>
        <p:grpSp>
          <p:nvGrpSpPr>
            <p:cNvPr id="2677" name=""/>
            <p:cNvGrpSpPr/>
            <p:nvPr/>
          </p:nvGrpSpPr>
          <p:grpSpPr>
            <a:xfrm>
              <a:off x="4311000" y="2133720"/>
              <a:ext cx="3608640" cy="3263760"/>
              <a:chOff x="4311000" y="2133720"/>
              <a:chExt cx="3608640" cy="3263760"/>
            </a:xfrm>
          </p:grpSpPr>
          <p:sp>
            <p:nvSpPr>
              <p:cNvPr id="2678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6611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2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8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9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690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28954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67652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olution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4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0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5896080" y="4724280"/>
            <a:ext cx="9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6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5896080" y="4724280"/>
            <a:ext cx="9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4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9076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59076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17188" t="21878" r="13282" b="29168"/>
          <a:stretch/>
        </p:blipFill>
        <p:spPr>
          <a:xfrm>
            <a:off x="685800" y="19051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0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3482280" y="464832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59076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3482280" y="464832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59076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3124080" y="5105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7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5896080" y="4724280"/>
            <a:ext cx="9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5909040" y="4724280"/>
            <a:ext cx="7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3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5909040" y="4724280"/>
            <a:ext cx="7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1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5909040" y="4724280"/>
            <a:ext cx="7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266688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ain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c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398240" y="206064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checking propagates information from assigned to unassigned variables, but doesn't provide early detection for all fail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 and SA cannot both be blu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traint propa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eatedly enforces constraints lo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3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3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complex than forward checki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backtracks sooner so may be f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each arc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ts treated as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dir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value f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arc from A to B is consistent, the (reverse) arc from B to A is not necessarily consiste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 consistency does not detect every possible inconsistency!!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52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0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8" name="" descr=""/>
          <p:cNvPicPr/>
          <p:nvPr/>
        </p:nvPicPr>
        <p:blipFill>
          <a:blip r:embed="rId1"/>
          <a:stretch/>
        </p:blipFill>
        <p:spPr>
          <a:xfrm>
            <a:off x="2004840" y="3648240"/>
            <a:ext cx="5134320" cy="1761840"/>
          </a:xfrm>
          <a:prstGeom prst="rect">
            <a:avLst/>
          </a:prstGeom>
          <a:ln w="0">
            <a:noFill/>
          </a:ln>
        </p:spPr>
      </p:pic>
      <p:pic>
        <p:nvPicPr>
          <p:cNvPr id="2949" name="" descr=""/>
          <p:cNvPicPr/>
          <p:nvPr/>
        </p:nvPicPr>
        <p:blipFill>
          <a:blip r:embed="rId2"/>
          <a:stretch/>
        </p:blipFill>
        <p:spPr>
          <a:xfrm>
            <a:off x="6095880" y="1447920"/>
            <a:ext cx="23338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398240" y="2017440"/>
            <a:ext cx="734076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2" name="" descr=""/>
          <p:cNvPicPr/>
          <p:nvPr/>
        </p:nvPicPr>
        <p:blipFill>
          <a:blip r:embed="rId1"/>
          <a:stretch/>
        </p:blipFill>
        <p:spPr>
          <a:xfrm>
            <a:off x="2004840" y="3648240"/>
            <a:ext cx="51343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/>
          </p:nvPr>
        </p:nvSpPr>
        <p:spPr>
          <a:xfrm>
            <a:off x="1398240" y="204300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ses a value, neighbor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ed to be reche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5" name="" descr=""/>
          <p:cNvPicPr/>
          <p:nvPr/>
        </p:nvPicPr>
        <p:blipFill>
          <a:blip r:embed="rId1"/>
          <a:stretch/>
        </p:blipFill>
        <p:spPr>
          <a:xfrm>
            <a:off x="2004840" y="3648240"/>
            <a:ext cx="51343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1398240" y="2070000"/>
            <a:ext cx="734076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loses a value, neighbors of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eed to be recheck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c consistency detects failure earlier than forward check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be run as a preprocessor or after each assign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8" name="" descr=""/>
          <p:cNvPicPr/>
          <p:nvPr/>
        </p:nvPicPr>
        <p:blipFill>
          <a:blip r:embed="rId1"/>
          <a:stretch/>
        </p:blipFill>
        <p:spPr>
          <a:xfrm>
            <a:off x="2004840" y="3648240"/>
            <a:ext cx="51343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c consistency algorithm AC-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1182600" y="562140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complexity: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1" name="" descr=""/>
          <p:cNvPicPr/>
          <p:nvPr/>
        </p:nvPicPr>
        <p:blipFill>
          <a:blip r:embed="rId1"/>
          <a:srcRect l="16405" t="21878" r="13282" b="22917"/>
          <a:stretch/>
        </p:blipFill>
        <p:spPr>
          <a:xfrm>
            <a:off x="1295280" y="137160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2962" name=""/>
          <p:cNvSpPr/>
          <p:nvPr/>
        </p:nvSpPr>
        <p:spPr>
          <a:xfrm>
            <a:off x="2292120" y="6280200"/>
            <a:ext cx="50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ing consistency of an arc is O(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 flipV="1">
            <a:off x="4971960" y="6105600"/>
            <a:ext cx="2880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+ Backtrackin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aint Satisfaction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7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 flipH="1">
            <a:off x="1981080" y="228600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4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2057400" y="342900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3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4267080" y="21337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4267080" y="251460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1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396252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0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73392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9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 flipH="1">
            <a:off x="4038120" y="4114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6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 flipH="1">
            <a:off x="4343400" y="2590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5895720" y="472428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 flipH="1" flipV="1">
            <a:off x="4343400" y="2590560"/>
            <a:ext cx="1752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4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5895720" y="472428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 flipV="1">
            <a:off x="403848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3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5914080" y="4724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4038480" y="4114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5983920" y="1676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5914080" y="4724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 flipV="1">
            <a:off x="6095880" y="2514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1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992560" y="1676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5914080" y="4724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 flipV="1">
            <a:off x="6095880" y="2514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0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5992560" y="1676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5922360" y="4724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4191120" y="41911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9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5992560" y="1676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347832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5922360" y="4724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304812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search for CS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path to the solution is unimportant, so we ca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local search!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ll-climbing, simulated annealing typically work with "complete" states, i.e., all variables assig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apply to CSP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 states with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unsatisfi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s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assig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ri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ll-climb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value(state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total number of violated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selec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ly select any conflicted vari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e selec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ose value that violates the fewest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th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in-conflict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4 queens in 4 columns (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56 st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ove queen in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Goal t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o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Evalu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number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3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57913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: 8-quee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456840" y="1715760"/>
            <a:ext cx="8650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s = queens, which are confined to a colum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e = r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random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conflicted queen random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value (row) with minimal confli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96" name=""/>
          <p:cNvGraphicFramePr/>
          <p:nvPr/>
        </p:nvGraphicFramePr>
        <p:xfrm>
          <a:off x="990720" y="4495680"/>
          <a:ext cx="6989760" cy="22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495680"/>
                    <a:ext cx="698976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8" name="" descr=""/>
          <p:cNvPicPr/>
          <p:nvPr/>
        </p:nvPicPr>
        <p:blipFill>
          <a:blip r:embed="rId1"/>
          <a:stretch/>
        </p:blipFill>
        <p:spPr>
          <a:xfrm>
            <a:off x="152280" y="104760"/>
            <a:ext cx="874404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SPs are a special kind of 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 defined by values of a fixed set of 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 test defined by constraints on vari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tracking = depth-first search with one variable assigned per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ordering and value selection heuristics help significa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ward checking prevents assignments that guarantee later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aint propagation (e.g., arc consistency) does additional work to constrain values and detect inconsisten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ive min-conflicts is usually effective in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 (DF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 the following state space (tree search), give the sequence of visited nodes when using DFS (assume that the node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goal sta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133720" y="2895480"/>
            <a:ext cx="5409720" cy="3429000"/>
            <a:chOff x="2133720" y="2895480"/>
            <a:chExt cx="5409720" cy="3429000"/>
          </a:xfrm>
        </p:grpSpPr>
        <p:grpSp>
          <p:nvGrpSpPr>
            <p:cNvPr id="266" name=""/>
            <p:cNvGrpSpPr/>
            <p:nvPr/>
          </p:nvGrpSpPr>
          <p:grpSpPr>
            <a:xfrm>
              <a:off x="4572000" y="2895480"/>
              <a:ext cx="532800" cy="380880"/>
              <a:chOff x="4572000" y="2895480"/>
              <a:chExt cx="532800" cy="380880"/>
            </a:xfrm>
          </p:grpSpPr>
          <p:sp>
            <p:nvSpPr>
              <p:cNvPr id="267" name=""/>
              <p:cNvSpPr/>
              <p:nvPr/>
            </p:nvSpPr>
            <p:spPr>
              <a:xfrm>
                <a:off x="4572000" y="2895480"/>
                <a:ext cx="53280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23920" y="289548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2819160" y="3581280"/>
              <a:ext cx="533160" cy="380880"/>
              <a:chOff x="2819160" y="3581280"/>
              <a:chExt cx="533160" cy="380880"/>
            </a:xfrm>
          </p:grpSpPr>
          <p:sp>
            <p:nvSpPr>
              <p:cNvPr id="270" name=""/>
              <p:cNvSpPr/>
              <p:nvPr/>
            </p:nvSpPr>
            <p:spPr>
              <a:xfrm>
                <a:off x="281916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7144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114800" y="3581280"/>
              <a:ext cx="532800" cy="380880"/>
              <a:chOff x="4114800" y="3581280"/>
              <a:chExt cx="532800" cy="380880"/>
            </a:xfrm>
          </p:grpSpPr>
          <p:sp>
            <p:nvSpPr>
              <p:cNvPr id="273" name=""/>
              <p:cNvSpPr/>
              <p:nvPr/>
            </p:nvSpPr>
            <p:spPr>
              <a:xfrm>
                <a:off x="4114800" y="3581280"/>
                <a:ext cx="53280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266720" y="358128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276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279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282" name="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285" name="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95680" y="4267080"/>
              <a:ext cx="533160" cy="380880"/>
              <a:chOff x="4495680" y="4267080"/>
              <a:chExt cx="533160" cy="3808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95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47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257800" y="4267080"/>
              <a:ext cx="532800" cy="380880"/>
              <a:chOff x="5257800" y="4267080"/>
              <a:chExt cx="532800" cy="380880"/>
            </a:xfrm>
          </p:grpSpPr>
          <p:sp>
            <p:nvSpPr>
              <p:cNvPr id="291" name=""/>
              <p:cNvSpPr/>
              <p:nvPr/>
            </p:nvSpPr>
            <p:spPr>
              <a:xfrm>
                <a:off x="5257800" y="4267080"/>
                <a:ext cx="53280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09720" y="426708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248160" y="4267080"/>
              <a:ext cx="533160" cy="380880"/>
              <a:chOff x="6248160" y="4267080"/>
              <a:chExt cx="533160" cy="380880"/>
            </a:xfrm>
          </p:grpSpPr>
          <p:sp>
            <p:nvSpPr>
              <p:cNvPr id="294" name=""/>
              <p:cNvSpPr/>
              <p:nvPr/>
            </p:nvSpPr>
            <p:spPr>
              <a:xfrm>
                <a:off x="624816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0044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2819160" y="5105160"/>
              <a:ext cx="533160" cy="380880"/>
              <a:chOff x="2819160" y="5105160"/>
              <a:chExt cx="533160" cy="380880"/>
            </a:xfrm>
          </p:grpSpPr>
          <p:sp>
            <p:nvSpPr>
              <p:cNvPr id="297" name=""/>
              <p:cNvSpPr/>
              <p:nvPr/>
            </p:nvSpPr>
            <p:spPr>
              <a:xfrm>
                <a:off x="2819160" y="510516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71440" y="5105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3809880" y="5105160"/>
              <a:ext cx="533160" cy="380880"/>
              <a:chOff x="3809880" y="5105160"/>
              <a:chExt cx="533160" cy="380880"/>
            </a:xfrm>
          </p:grpSpPr>
          <p:sp>
            <p:nvSpPr>
              <p:cNvPr id="300" name=""/>
              <p:cNvSpPr/>
              <p:nvPr/>
            </p:nvSpPr>
            <p:spPr>
              <a:xfrm>
                <a:off x="3809880" y="510516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962160" y="5105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3809880" y="5943240"/>
              <a:ext cx="53316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62160" y="5943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200400" y="3276360"/>
              <a:ext cx="159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495680" y="327636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0600" y="3276360"/>
              <a:ext cx="761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00600" y="3276360"/>
              <a:ext cx="243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438280" y="396216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7760" y="396216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95680" y="3962160"/>
              <a:ext cx="151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486400" y="3962160"/>
              <a:ext cx="228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15000" y="3962160"/>
              <a:ext cx="685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23720" y="464796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57600" y="4647960"/>
              <a:ext cx="380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333760" y="5105160"/>
              <a:ext cx="533160" cy="380880"/>
              <a:chOff x="5333760" y="5105160"/>
              <a:chExt cx="533160" cy="380880"/>
            </a:xfrm>
          </p:grpSpPr>
          <p:sp>
            <p:nvSpPr>
              <p:cNvPr id="316" name=""/>
              <p:cNvSpPr/>
              <p:nvPr/>
            </p:nvSpPr>
            <p:spPr>
              <a:xfrm>
                <a:off x="5333760" y="510516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486040" y="5105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476760" y="5028840"/>
              <a:ext cx="533160" cy="380880"/>
              <a:chOff x="6476760" y="5028840"/>
              <a:chExt cx="533160" cy="380880"/>
            </a:xfrm>
          </p:grpSpPr>
          <p:sp>
            <p:nvSpPr>
              <p:cNvPr id="319" name=""/>
              <p:cNvSpPr/>
              <p:nvPr/>
            </p:nvSpPr>
            <p:spPr>
              <a:xfrm>
                <a:off x="6476760" y="502884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29040" y="50288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5562360" y="464796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29400" y="4647960"/>
              <a:ext cx="75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038120" y="548604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819520" y="2895480"/>
            <a:ext cx="4723920" cy="1066680"/>
            <a:chOff x="2819520" y="2895480"/>
            <a:chExt cx="4723920" cy="1066680"/>
          </a:xfrm>
        </p:grpSpPr>
        <p:grpSp>
          <p:nvGrpSpPr>
            <p:cNvPr id="327" name="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328" name="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331" name="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334" name="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337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340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straint Satisfaction Problems (CSP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search probl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"black box“ – any data structure that supports successor function, heuristic function, and goal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defined b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goal t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et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fying allowable combinations of values for subset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133720" y="2895480"/>
            <a:ext cx="5409720" cy="1752480"/>
            <a:chOff x="2133720" y="2895480"/>
            <a:chExt cx="5409720" cy="1752480"/>
          </a:xfrm>
        </p:grpSpPr>
        <p:grpSp>
          <p:nvGrpSpPr>
            <p:cNvPr id="349" name="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350" name="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353" name="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356" name="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359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362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365" name="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368" name="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133720" y="2895480"/>
            <a:ext cx="5409720" cy="1752480"/>
            <a:chOff x="2133720" y="2895480"/>
            <a:chExt cx="5409720" cy="1752480"/>
          </a:xfrm>
        </p:grpSpPr>
        <p:grpSp>
          <p:nvGrpSpPr>
            <p:cNvPr id="379" name="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380" name="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383" name="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386" name="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389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392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395" name="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398" name="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133720" y="2895480"/>
            <a:ext cx="5409720" cy="2590920"/>
            <a:chOff x="2133720" y="2895480"/>
            <a:chExt cx="5409720" cy="2590920"/>
          </a:xfrm>
        </p:grpSpPr>
        <p:grpSp>
          <p:nvGrpSpPr>
            <p:cNvPr id="409" name="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410" name="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413" name="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416" name="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419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422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425" name="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428" name="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431" name="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434" name="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,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133720" y="2895480"/>
            <a:ext cx="5409720" cy="2590920"/>
            <a:chOff x="2133720" y="2895480"/>
            <a:chExt cx="5409720" cy="2590920"/>
          </a:xfrm>
        </p:grpSpPr>
        <p:grpSp>
          <p:nvGrpSpPr>
            <p:cNvPr id="447" name="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448" name="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451" name="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454" name="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457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460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463" name="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466" name="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469" name="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472" name="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,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2133720" y="2895480"/>
            <a:ext cx="5409720" cy="3429000"/>
            <a:chOff x="2133720" y="2895480"/>
            <a:chExt cx="5409720" cy="3429000"/>
          </a:xfrm>
        </p:grpSpPr>
        <p:grpSp>
          <p:nvGrpSpPr>
            <p:cNvPr id="485" name="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486" name="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489" name="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492" name="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498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501" name="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504" name="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507" name="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510" name="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3809880" y="5943600"/>
              <a:ext cx="533520" cy="380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962520" y="5943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4038480" y="548640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,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: Goa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133720" y="2895480"/>
            <a:ext cx="5409720" cy="3429000"/>
            <a:chOff x="2133720" y="2895480"/>
            <a:chExt cx="5409720" cy="3429000"/>
          </a:xfrm>
        </p:grpSpPr>
        <p:grpSp>
          <p:nvGrpSpPr>
            <p:cNvPr id="526" name="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527" name="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530" name="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533" name="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536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539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542" name="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545" name="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548" name="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551" name="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3809880" y="5943600"/>
              <a:ext cx="533520" cy="380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962520" y="5943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4038480" y="548640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turned solution is the sequence of operators in the path: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, B, G, L, O : assignments  when using CSP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133720" y="2895480"/>
            <a:ext cx="5409720" cy="3429000"/>
            <a:chOff x="2133720" y="2895480"/>
            <a:chExt cx="5409720" cy="3429000"/>
          </a:xfrm>
        </p:grpSpPr>
        <p:grpSp>
          <p:nvGrpSpPr>
            <p:cNvPr id="567" name="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568" name="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f3f1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571" name="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f3f1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574" name="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577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580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583" name="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586" name="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f3f1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589" name="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592" name="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f3f1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3809880" y="5943600"/>
              <a:ext cx="533520" cy="380880"/>
            </a:xfrm>
            <a:prstGeom prst="ellipse">
              <a:avLst/>
            </a:prstGeom>
            <a:solidFill>
              <a:srgbClr val="f3f1a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943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038480" y="548640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137720" y="6172200"/>
            <a:ext cx="1517400" cy="368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olour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447560" y="2482200"/>
            <a:ext cx="459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41440" y="22536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021200" y="301572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425400" y="1339200"/>
            <a:ext cx="4662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456280" y="423540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370520" y="1339200"/>
            <a:ext cx="462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0020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828800" y="1752120"/>
            <a:ext cx="16765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1752480" y="2971800"/>
            <a:ext cx="914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2819520" y="3352680"/>
            <a:ext cx="12189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828800" y="16002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743200" y="1828440"/>
            <a:ext cx="8380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733920" y="18288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09880" y="1752480"/>
            <a:ext cx="12956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4419720" y="26668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687840" y="432864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819520" y="464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3962160" y="35053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88480" y="36428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1219320" y="289548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295280" y="4038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1142640" y="1752480"/>
            <a:ext cx="3049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37720" y="6172200"/>
            <a:ext cx="1517400" cy="368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olour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447920" y="1447920"/>
            <a:ext cx="5943600" cy="4116600"/>
            <a:chOff x="1447920" y="1447920"/>
            <a:chExt cx="5943600" cy="4116600"/>
          </a:xfrm>
        </p:grpSpPr>
        <p:sp>
          <p:nvSpPr>
            <p:cNvPr id="634" name=""/>
            <p:cNvSpPr/>
            <p:nvPr/>
          </p:nvSpPr>
          <p:spPr>
            <a:xfrm>
              <a:off x="2666880" y="2939400"/>
              <a:ext cx="459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60760" y="2710800"/>
              <a:ext cx="4338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40520" y="3472920"/>
              <a:ext cx="49248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644720" y="1796400"/>
              <a:ext cx="4662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675600" y="4692600"/>
              <a:ext cx="423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89840" y="1796400"/>
              <a:ext cx="4622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19520" y="2286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048120" y="2209320"/>
              <a:ext cx="1676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2971800" y="3429000"/>
              <a:ext cx="914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038840" y="3809880"/>
              <a:ext cx="12189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3048120" y="2057400"/>
              <a:ext cx="1600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3962520" y="2285640"/>
              <a:ext cx="83808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53240" y="2286000"/>
              <a:ext cx="457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29200" y="2209680"/>
              <a:ext cx="1295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5639040" y="31240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07160" y="4785840"/>
              <a:ext cx="4899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038840" y="5105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5181480" y="396252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07800" y="4100040"/>
              <a:ext cx="4946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2438640" y="3352680"/>
              <a:ext cx="3045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14600" y="4495680"/>
              <a:ext cx="1143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2361960" y="2209680"/>
              <a:ext cx="3049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5333760" y="3200400"/>
              <a:ext cx="11430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33720" y="14479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91120" y="14479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19920" y="23623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34120" y="50292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715000" y="36115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48120" y="30780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0400" y="52880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7920" y="45720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SP is defined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t of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omain of values for each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t of constraints between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olution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ssignment of a value to each variable that satisfies the constr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25720" y="921600"/>
            <a:ext cx="4190760" cy="3183840"/>
            <a:chOff x="225720" y="921600"/>
            <a:chExt cx="4190760" cy="3183840"/>
          </a:xfrm>
        </p:grpSpPr>
        <p:sp>
          <p:nvSpPr>
            <p:cNvPr id="667" name=""/>
            <p:cNvSpPr/>
            <p:nvPr/>
          </p:nvSpPr>
          <p:spPr>
            <a:xfrm>
              <a:off x="732240" y="1940760"/>
              <a:ext cx="459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82680" y="1734120"/>
              <a:ext cx="4338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058200" y="2415960"/>
              <a:ext cx="49248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21440" y="921600"/>
              <a:ext cx="4662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646640" y="3503160"/>
              <a:ext cx="423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1680" y="921600"/>
              <a:ext cx="4622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92440" y="138528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1099080" y="1317240"/>
              <a:ext cx="1515960" cy="81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flipV="1">
              <a:off x="1029960" y="2403720"/>
              <a:ext cx="82692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1995120" y="2879280"/>
              <a:ext cx="1171440" cy="74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1099080" y="1181520"/>
              <a:ext cx="14472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926360" y="1384920"/>
              <a:ext cx="757800" cy="21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90800" y="1385280"/>
              <a:ext cx="344520" cy="10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90800" y="1249560"/>
              <a:ext cx="11714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511080" y="2199960"/>
              <a:ext cx="55152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756880" y="3585240"/>
              <a:ext cx="4899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63880" y="3830760"/>
              <a:ext cx="7581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3028680" y="2879640"/>
              <a:ext cx="275400" cy="74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5720" y="2973600"/>
              <a:ext cx="4946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547560" y="2336040"/>
              <a:ext cx="27540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16680" y="3355200"/>
              <a:ext cx="103356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478800" y="1317240"/>
              <a:ext cx="275760" cy="16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: Map-Color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81440" cy="312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4495320"/>
            <a:ext cx="865008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, NT, Q, NSW, V, SA, 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Dom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red,green,blue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djacent regions must have different col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WA ≠ 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8144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Map-Col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4549320"/>
            <a:ext cx="865008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Solu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signments, e.g., WA = red, NT = green, Q = red, NSW = green, V = red, SA = blue, T = gr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y be incomplete e.g., just WA=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332600" y="3062160"/>
            <a:ext cx="1370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ution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6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4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0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grap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76680" y="198072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inary CSP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ach constraint relates two 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traint graph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odes are variables, arcs are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8800" y="3124080"/>
            <a:ext cx="6705360" cy="3429000"/>
            <a:chOff x="1828800" y="3124080"/>
            <a:chExt cx="6705360" cy="3429000"/>
          </a:xfrm>
        </p:grpSpPr>
        <p:grpSp>
          <p:nvGrpSpPr>
            <p:cNvPr id="114" name=""/>
            <p:cNvGrpSpPr/>
            <p:nvPr/>
          </p:nvGrpSpPr>
          <p:grpSpPr>
            <a:xfrm>
              <a:off x="1828800" y="3809880"/>
              <a:ext cx="838080" cy="685800"/>
              <a:chOff x="1828800" y="3809880"/>
              <a:chExt cx="838080" cy="685800"/>
            </a:xfrm>
          </p:grpSpPr>
          <p:sp>
            <p:nvSpPr>
              <p:cNvPr id="115" name=""/>
              <p:cNvSpPr/>
              <p:nvPr/>
            </p:nvSpPr>
            <p:spPr>
              <a:xfrm>
                <a:off x="1904760" y="41144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133360" y="41144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61960" y="41144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04760" y="38098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W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28800" y="38098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809880" y="3124080"/>
              <a:ext cx="838080" cy="685800"/>
              <a:chOff x="3809880" y="3124080"/>
              <a:chExt cx="838080" cy="685800"/>
            </a:xfrm>
          </p:grpSpPr>
          <p:sp>
            <p:nvSpPr>
              <p:cNvPr id="121" name=""/>
              <p:cNvSpPr/>
              <p:nvPr/>
            </p:nvSpPr>
            <p:spPr>
              <a:xfrm>
                <a:off x="3885840" y="34286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14440" y="34286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343040" y="34286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85840" y="31240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09880" y="31240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4114800" y="4724280"/>
              <a:ext cx="838080" cy="685800"/>
              <a:chOff x="4114800" y="4724280"/>
              <a:chExt cx="838080" cy="685800"/>
            </a:xfrm>
          </p:grpSpPr>
          <p:sp>
            <p:nvSpPr>
              <p:cNvPr id="127" name=""/>
              <p:cNvSpPr/>
              <p:nvPr/>
            </p:nvSpPr>
            <p:spPr>
              <a:xfrm>
                <a:off x="4190760" y="50288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19360" y="50288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47960" y="50288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90760" y="47242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14800" y="47242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638680" y="3200040"/>
              <a:ext cx="838080" cy="685800"/>
              <a:chOff x="5638680" y="3200040"/>
              <a:chExt cx="838080" cy="685800"/>
            </a:xfrm>
          </p:grpSpPr>
          <p:sp>
            <p:nvSpPr>
              <p:cNvPr id="133" name=""/>
              <p:cNvSpPr/>
              <p:nvPr/>
            </p:nvSpPr>
            <p:spPr>
              <a:xfrm>
                <a:off x="5714640" y="350460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943240" y="350460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71840" y="350460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714640" y="32000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638680" y="320004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7010280" y="4038480"/>
              <a:ext cx="838080" cy="685800"/>
              <a:chOff x="7010280" y="4038480"/>
              <a:chExt cx="838080" cy="685800"/>
            </a:xfrm>
          </p:grpSpPr>
          <p:sp>
            <p:nvSpPr>
              <p:cNvPr id="139" name=""/>
              <p:cNvSpPr/>
              <p:nvPr/>
            </p:nvSpPr>
            <p:spPr>
              <a:xfrm>
                <a:off x="7086240" y="43430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314840" y="43430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43440" y="43430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86240" y="40384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S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40384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943600" y="5257440"/>
              <a:ext cx="838080" cy="685800"/>
              <a:chOff x="5943600" y="5257440"/>
              <a:chExt cx="838080" cy="685800"/>
            </a:xfrm>
          </p:grpSpPr>
          <p:sp>
            <p:nvSpPr>
              <p:cNvPr id="145" name=""/>
              <p:cNvSpPr/>
              <p:nvPr/>
            </p:nvSpPr>
            <p:spPr>
              <a:xfrm>
                <a:off x="6019560" y="556200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160" y="556200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476760" y="556200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19560" y="52574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943600" y="525744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696080" y="5867280"/>
              <a:ext cx="838080" cy="685800"/>
              <a:chOff x="7696080" y="5867280"/>
              <a:chExt cx="838080" cy="685800"/>
            </a:xfrm>
          </p:grpSpPr>
          <p:sp>
            <p:nvSpPr>
              <p:cNvPr id="151" name=""/>
              <p:cNvSpPr/>
              <p:nvPr/>
            </p:nvSpPr>
            <p:spPr>
              <a:xfrm>
                <a:off x="7772040" y="61718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00640" y="61718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229240" y="61718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72040" y="58672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96080" y="58672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flipV="1">
              <a:off x="2590560" y="350496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90560" y="4343040"/>
              <a:ext cx="15242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343040" y="3809880"/>
              <a:ext cx="152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47960" y="3504960"/>
              <a:ext cx="990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560" y="3809520"/>
              <a:ext cx="9144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6560" y="5181480"/>
              <a:ext cx="10670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952880" y="4495320"/>
              <a:ext cx="2057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76760" y="365724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6705360" y="464760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91320" y="838080"/>
            <a:ext cx="31636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895480" y="51055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ad En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ack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3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884560" y="4724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1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884560" y="4724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04812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roving backtracking efficienc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roving backtracking efficienc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eneral-purp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s can give huge gains in spe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variable should be assigned nex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hat order should its values be tri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we detect inevitable failure ear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762120" y="214200"/>
            <a:ext cx="8486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st constrained variabl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Minimum Remaining Values (MRV)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nstrained vari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he variable with the fewest legal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</a:t>
            </a: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minimum remaining values (MRV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eur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ks a variable which will cause failure as soon as possible, allowing the tree to be pru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6105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1806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RV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minimum remaining value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choose the variable with the fewest legal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6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ies of CS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ite domai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riables, domain siz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O(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 ass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Boolean CSPs, incl. Boolean satisfiability (NP-complet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inite domai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ers, string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job scheduling, variables are start/end days for each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 a constraint language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+ 5 ≤ 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start/end times for Hubble Space Telescope 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constraints solvable in polynomial time by linear program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4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447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0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3447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84560" y="4724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3447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5884560" y="4724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304812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st constraining variabl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CV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e-breaker among most constrained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nstraining vari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he variable with the most constraints on remaining variables (most edges in grap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8" name="" descr=""/>
          <p:cNvPicPr/>
          <p:nvPr/>
        </p:nvPicPr>
        <p:blipFill>
          <a:blip r:embed="rId1"/>
          <a:stretch/>
        </p:blipFill>
        <p:spPr>
          <a:xfrm>
            <a:off x="685800" y="4952880"/>
            <a:ext cx="7620120" cy="1236960"/>
          </a:xfrm>
          <a:prstGeom prst="rect">
            <a:avLst/>
          </a:prstGeom>
          <a:ln w="0">
            <a:noFill/>
          </a:ln>
        </p:spPr>
      </p:pic>
      <p:pic>
        <p:nvPicPr>
          <p:cNvPr id="1529" name="" descr=""/>
          <p:cNvPicPr/>
          <p:nvPr/>
        </p:nvPicPr>
        <p:blipFill>
          <a:blip r:embed="rId2"/>
          <a:stretch/>
        </p:blipFill>
        <p:spPr>
          <a:xfrm>
            <a:off x="7012080" y="2363760"/>
            <a:ext cx="187164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1806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CV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Most Constraining variable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choose the variable with the most constraints on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3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6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9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ies of constra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U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a single variabl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A ≠ gr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Bi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pairs of variabl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A ≠ 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Higher-ord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3 or more variabl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ryptarithmetic column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6858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9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5893920" y="472428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5893920" y="472428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5893920" y="472428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6858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1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4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274320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tracking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st constraining valu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CV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variable, choose the least constraining val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ne that rules out (eliminate) the fewest values in the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ing these heuristics makes 1000 queens fea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0866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85800" y="180612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CV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st Constraining Value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choose the value which eliminates the fewest number of values in the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3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6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9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160020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6:25:01Z</dcterms:created>
  <dc:creator>mbatouche</dc:creator>
  <dc:description/>
  <dc:language>en-US</dc:language>
  <cp:lastModifiedBy> </cp:lastModifiedBy>
  <dcterms:modified xsi:type="dcterms:W3CDTF">2009-03-10T07:27:56Z</dcterms:modified>
  <cp:revision>25</cp:revision>
  <dc:subject/>
  <dc:title>Constraint Satisfaction Problems</dc:title>
</cp:coreProperties>
</file>