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31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2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46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30D-C0FF-48BE-9375-3971F6D4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771-5AC0-4DF0-ADAD-58261DB9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AC8-EBC5-4183-BD30-8BC9495B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E60-A564-4C7D-B9DE-3A9B31A3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FC34-63F3-4109-ADB0-BC378B16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DD6-7D19-48C7-9A80-18B25A0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5BCA-8E20-4B64-B941-696E5F74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D067-B7E2-40ED-8CD2-923F599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DD59-6A5A-4A99-AAE4-A37A71B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96C-2B0D-418F-9F91-FD6FC293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4B77-27AB-414B-9A25-5FC1F6B2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4CC-08A8-4740-A065-25468B75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DC2-8E02-4288-A265-AA775642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1CF1-4C89-4CD4-87F8-193387BC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460-66BB-452D-B86E-465A366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E755-585B-4E59-B2CB-86146652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8FB0-0F9B-4FB1-BC3A-963FC189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E5D-254F-4068-8FAC-CF5780C5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062-13E8-4EFF-A499-DEF29B7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8E7-761D-4BA5-824F-3D1F11A0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28F-F629-463E-86AA-87E1F009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71A-61A2-4474-BA89-B725AF81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9BB-0B90-412F-8530-CF09AE2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8E7-AC8A-4DAC-ADF8-0225736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86C-8C9D-4A64-9EA0-DE40C3152D9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5E6B-81DB-46F7-9441-7ED86D6A8C0B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hyperlink" Target="http://faculty.ksu.edu.sa/YAlohali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Yousef Al-Oh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mputer Science Depar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CIS – King Saud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audi Arab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yousef@ccis.edu.s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3"/>
              </a:rPr>
              <a:t>faculty.ksu.edu.sa/YAloh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8760" y="56102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AB7-405B-41CC-BA6F-25BD2EAFAF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C9F-EDD2-4318-A986-3D1AD676D5C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0060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25780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51055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055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B2B-9A18-4EC3-BD9C-39DD51CEF5D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197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724280" y="5105520"/>
            <a:ext cx="15264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8769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E06-BAD5-4B1B-A05B-2071EC885F0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20268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ly introduced in the US in the 70s by John Hol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 emulate ideas from genetics and natural selection and can search potentially large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we can apply Genetic Algorithm to a problem, we need to 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is an individual represen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What is the fitness func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are individuals selec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How do individuals reproduc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9B4-DD1D-4BD4-838B-A62A64383DE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4264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epresentation of states (solution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601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ach state or individual is represented as a string over a finite alphabet. It is also called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hromosome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which Contains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ge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562720" y="4191120"/>
            <a:ext cx="2971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1011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4419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ution: 6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200400" y="45720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05320" y="47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48520" y="5029200"/>
            <a:ext cx="220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477120" y="3886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1722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624816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56F-C2F5-4A5B-A0E2-F5C01E7B842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264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tness Fun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ffcf01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ach state is rated by the evaluation function called fitness function. Fitness function should return higher values for better stat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Fitness(X) should be greater than Fitness(Y) !!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MS Gothic"/>
              </a:rPr>
              <a:t>[Fitness(x) = 1/Cost(x)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676520" y="3352680"/>
            <a:ext cx="5790960" cy="3492720"/>
            <a:chOff x="1676520" y="3352680"/>
            <a:chExt cx="5790960" cy="3492720"/>
          </a:xfrm>
        </p:grpSpPr>
        <p:sp>
          <p:nvSpPr>
            <p:cNvPr id="875" name=""/>
            <p:cNvSpPr/>
            <p:nvPr/>
          </p:nvSpPr>
          <p:spPr>
            <a:xfrm>
              <a:off x="2438280" y="3809880"/>
              <a:ext cx="0" cy="259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438280" y="6400800"/>
              <a:ext cx="40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71800" y="4952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19920" y="403848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2438280" y="4952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437920" y="40384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65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61722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95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6477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43200" y="3352680"/>
              <a:ext cx="3594240" cy="3073680"/>
            </a:xfrm>
            <a:custGeom>
              <a:avLst/>
              <a:gdLst/>
              <a:ahLst/>
              <a:rect l="l" t="t" r="r" b="b"/>
              <a:pathLst>
                <a:path w="2312" h="1936">
                  <a:moveTo>
                    <a:pt x="0" y="528"/>
                  </a:moveTo>
                  <a:cubicBezTo>
                    <a:pt x="144" y="1068"/>
                    <a:pt x="288" y="1608"/>
                    <a:pt x="432" y="1680"/>
                  </a:cubicBezTo>
                  <a:cubicBezTo>
                    <a:pt x="576" y="1752"/>
                    <a:pt x="712" y="936"/>
                    <a:pt x="864" y="960"/>
                  </a:cubicBezTo>
                  <a:cubicBezTo>
                    <a:pt x="1016" y="984"/>
                    <a:pt x="1128" y="1936"/>
                    <a:pt x="1344" y="1824"/>
                  </a:cubicBezTo>
                  <a:cubicBezTo>
                    <a:pt x="1560" y="1712"/>
                    <a:pt x="2008" y="576"/>
                    <a:pt x="2160" y="288"/>
                  </a:cubicBezTo>
                  <a:cubicBezTo>
                    <a:pt x="2312" y="0"/>
                    <a:pt x="2284" y="48"/>
                    <a:pt x="2256" y="9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AEA-903D-4AD8-940A-E3EE6FD3DB5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le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182240" y="1752120"/>
            <a:ext cx="74278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are individuals selected 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ulette Wheel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304920" y="3276720"/>
            <a:ext cx="8610480" cy="3073320"/>
            <a:chOff x="304920" y="3276720"/>
            <a:chExt cx="8610480" cy="3073320"/>
          </a:xfrm>
        </p:grpSpPr>
        <p:sp>
          <p:nvSpPr>
            <p:cNvPr id="889" name=""/>
            <p:cNvSpPr/>
            <p:nvPr/>
          </p:nvSpPr>
          <p:spPr>
            <a:xfrm>
              <a:off x="685800" y="373392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85800" y="42674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5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430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100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5053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038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780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6292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964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610840" y="37339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62120" y="381024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19320" y="3810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100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053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38840" y="381024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57800" y="38102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62920" y="381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772400" y="3810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8580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86108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0492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05920" y="53341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2193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5800" y="3276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210040" y="327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053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0388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5780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2920" y="3276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696440" y="3276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f01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81024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019920" y="44193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05120" y="5334120"/>
              <a:ext cx="2133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d[0..18] =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e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14800" y="5334120"/>
              <a:ext cx="2286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d[0..18] = 1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e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F25-B5D1-4DFB-AC7D-F8E7092C3A5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ochastic Search: Genetic Algorithms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oss-Over and M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ow do individuals reproduce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914400" y="3219480"/>
            <a:ext cx="769608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46B-B914-469D-ACCC-19E193D8BEA9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Crossover - Recombin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677880" y="2496960"/>
            <a:ext cx="7620120" cy="3491640"/>
            <a:chOff x="677880" y="2496960"/>
            <a:chExt cx="7620120" cy="3491640"/>
          </a:xfrm>
        </p:grpSpPr>
        <p:sp>
          <p:nvSpPr>
            <p:cNvPr id="929" name=""/>
            <p:cNvSpPr/>
            <p:nvPr/>
          </p:nvSpPr>
          <p:spPr>
            <a:xfrm>
              <a:off x="923760" y="28004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1010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923760" y="348624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010111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581120" y="249696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77880" y="4361040"/>
              <a:ext cx="1793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ssover single point - rand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240600" y="27972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101</a:t>
              </a: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111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40600" y="3483000"/>
              <a:ext cx="20574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6666"/>
                  </a:solidFill>
                  <a:latin typeface="Times New Roman"/>
                </a:rPr>
                <a:t>101</a:t>
              </a:r>
              <a:r>
                <a:rPr b="0" lang="en-US" sz="2800" spc="-1" strike="noStrike">
                  <a:solidFill>
                    <a:srgbClr val="ffcf01"/>
                  </a:solidFill>
                  <a:latin typeface="Times New Roman"/>
                </a:rPr>
                <a:t>00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47840" y="282240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133800" y="3584520"/>
              <a:ext cx="114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29160" y="285120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spring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541760" y="3581280"/>
              <a:ext cx="16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ffspring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17960" y="4797360"/>
              <a:ext cx="515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some high probability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rossover rat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apply crossover to the parents.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ypical values are 0.8 to 0.9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BE5-047E-455E-93A2-089B6EEF5AC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1560" y="561024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nect in a different way  (there is only one valid new 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627280" y="3716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03280" y="3068640"/>
            <a:ext cx="4176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F39-52DB-49D4-B2F2-6CCD7AACFD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Stochastic Search: Genetic Algorithms</a:t>
            </a:r>
            <a:br>
              <a:rPr sz="2400"/>
            </a:br>
            <a:r>
              <a:rPr b="0" i="1" lang="en-US" sz="2400" spc="-1" strike="noStrike">
                <a:solidFill>
                  <a:srgbClr val="ffcf01"/>
                </a:solidFill>
                <a:latin typeface="Tahoma"/>
              </a:rPr>
              <a:t>Mut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049480" y="20350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049480" y="272088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38040" y="2089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51000" y="281952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96200" y="20192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101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96200" y="2705040"/>
            <a:ext cx="205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cf01"/>
                </a:solidFill>
                <a:latin typeface="Times New Roman"/>
              </a:rPr>
              <a:t>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784760" y="207324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797360" y="28036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sprin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05720" y="117144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46280" y="486900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ome small probability (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tation 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lip each bit in the offspr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ical values between 0.1 and 0.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099200" y="7761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946080" y="3556080"/>
            <a:ext cx="29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7097400" y="1200240"/>
            <a:ext cx="366840" cy="15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008760" y="3600360"/>
            <a:ext cx="25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ated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268-222E-4B90-A6D4-BCDF07CBDB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 is an iterative process and can be describ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initial population of “solutions” (think:  chromosom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fitness of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evolution of new (and potentially better) solution popul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via “crossover,”  “mutatio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when “optimality” criteria are satisfi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E04-8DAF-4D5B-98E4-2CC1EA46B1F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Initialize population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viduals at rand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  For each Individu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ute its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   While max fitness &lt; threshold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   Return the Individual with highest fi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513-6D72-44A3-B6CD-36E72CCBC23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new generation P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(1-r)p members of P and add them to Ps. The probability of selecting a member is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(hi) = Fitness (hi) /  Σj Fitness (hj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over: select rp/2 pairs of hypotheses from P according to P(h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pair (h1,h2) produce two offspring by applying the Crossover operator. Add all offspring to 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ate: Choose mp members of Ps with uniform probability. Invert  one bit in the representation random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P with 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: for each h compute its fit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56A-0832-42D5-A5C4-E9E76029F3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ochastic</a:t>
            </a:r>
            <a:r>
              <a:rPr b="0" i="1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arch: Genetic Algorithm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533520" y="1874880"/>
            <a:ext cx="8229600" cy="5135400"/>
            <a:chOff x="533520" y="1874880"/>
            <a:chExt cx="8229600" cy="5135400"/>
          </a:xfrm>
        </p:grpSpPr>
        <p:pic>
          <p:nvPicPr>
            <p:cNvPr id="963" name="" descr=""/>
            <p:cNvPicPr/>
            <p:nvPr/>
          </p:nvPicPr>
          <p:blipFill>
            <a:blip r:embed="rId1"/>
            <a:stretch/>
          </p:blipFill>
          <p:spPr>
            <a:xfrm>
              <a:off x="533520" y="1874880"/>
              <a:ext cx="8229600" cy="51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 txBox="1"/>
            <p:nvPr/>
          </p:nvSpPr>
          <p:spPr>
            <a:xfrm>
              <a:off x="533520" y="1874880"/>
              <a:ext cx="8229600" cy="513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114-48E5-4BEE-8E9D-A554903AB01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750-479E-4289-9B12-CD99BAF96EE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895480" y="3124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6383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715000" y="2316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24080" y="2971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ross-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F3C-5B1B-44EB-BF84-5DE982BB0BE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638680" y="28195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8195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F8A-F643-4CEA-B2C0-31FBD4FC388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005-0986-4F24-B733-A43BEA10454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3428640" y="358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6324480" y="2971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41911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E6A-195A-451D-BD5A-28CD9A798A0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339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410080" y="2514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248520" y="2895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C4B-7B3D-4DAA-9502-6945DA376479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E56-A1A2-42D0-965F-CD66BBB371D9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34C-5DDA-42BA-A45B-DF25E90D62E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495680" y="365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3429000" y="4191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3657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A92-44E6-4343-880F-98D3CCD13F44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6252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19112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7DB-F58B-4CD7-930A-8B49E841EFF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E01-0928-42F5-A47A-61FEB0ABB858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5DC-A765-46A4-878F-DE9A603221CB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572000" y="4419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274284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95680" y="38862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0C7-845C-400E-826A-C6FD5C9292F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971800" y="3962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3434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B4A-CDBF-496D-B540-B23C7582B378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408-AAE0-48C5-8EF3-DBECD929541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arch algorithms we have seen so far keep track of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“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in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e search space, and 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in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problems, one doesn’t care about a solution path but only the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ientation of the final goal st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8-queen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earch algorithms operate on a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tate – current st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move to one of its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ighboring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path needs not be maintai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search is “local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71D-3EC2-4818-9636-075B9CCC2E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105520" y="38862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AF0-4D14-44F5-B976-50B3A960166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8769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52880" y="38098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006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3F9-5866-4E3B-8283-059F74BBE96E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221-18DD-4C29-A7CD-157A89F03843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Genetic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7242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5D5-2ED0-4E7A-A69D-8762ABCD67B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tic programming: G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2362320"/>
            <a:ext cx="3733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enetic programming (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ming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Means of Simulated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ow to Program a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thout Explicitly Telling It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enetic Programming is Genetic Algorithms where solutions are program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5649840" y="2943360"/>
            <a:ext cx="2800440" cy="30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E1B-4ADA-4894-A9F3-4EAA955CC6B2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n the chromosome encodes an entire program or function itself this is called genetic programming (G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 order to make this work,encoding is often done in the form of a tree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rossover entials swaping subtrees between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D25-CEEF-44BA-A2AD-999FF395F93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825480" y="2081160"/>
            <a:ext cx="7373880" cy="282564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1241280" y="523548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to evolve whole programs like this but only small ones. Large programs with complex functions present bi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EA9-FDC2-42E1-81C9-A314FFD6CB5C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828800"/>
            <a:ext cx="64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819520" y="2438280"/>
            <a:ext cx="3961800" cy="3885840"/>
            <a:chOff x="2819520" y="2438280"/>
            <a:chExt cx="3961800" cy="3885840"/>
          </a:xfrm>
        </p:grpSpPr>
        <p:pic>
          <p:nvPicPr>
            <p:cNvPr id="1194" name="" descr=""/>
            <p:cNvPicPr/>
            <p:nvPr/>
          </p:nvPicPr>
          <p:blipFill>
            <a:blip r:embed="rId1"/>
            <a:stretch/>
          </p:blipFill>
          <p:spPr>
            <a:xfrm>
              <a:off x="2819520" y="2438280"/>
              <a:ext cx="3961800" cy="38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2"/>
            <a:stretch/>
          </p:blipFill>
          <p:spPr>
            <a:xfrm>
              <a:off x="2843640" y="5870880"/>
              <a:ext cx="660240" cy="25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6" name=""/>
          <p:cNvSpPr/>
          <p:nvPr/>
        </p:nvSpPr>
        <p:spPr>
          <a:xfrm>
            <a:off x="533520" y="2666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990720" y="2590920"/>
            <a:ext cx="1676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d 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33520" y="33670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990720" y="3290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lue Spi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3AF-9539-4E5B-8E43-F1FE4886B17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enetic programm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1" name=""/>
          <p:cNvSpPr/>
          <p:nvPr/>
        </p:nvSpPr>
        <p:spPr>
          <a:xfrm>
            <a:off x="1295280" y="1828800"/>
            <a:ext cx="643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twined Spirals: Classifica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1676520" y="2340000"/>
            <a:ext cx="5943600" cy="404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FB5-A17D-4B30-BD73-D86D4FE4140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3898800"/>
            <a:ext cx="7238880" cy="1805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95280" y="205740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t N Queens on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×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ard with no two queens on the same row, column, or dia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8672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itial state … Improve it … using local transformations  (perturb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456-4624-40E0-87D9-6215C161C8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, PSO, QGA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ything to be Learnt from Ant Coloni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airly simple units generate complicated global behaviou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 ant colony expresses a complex collective behavior providing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lligent solutions to problem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uch a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rrying large ite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ming brid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nding the shortest routes from the nest to a food 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rioritizing food sources based on their distance and ease of acce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0000"/>
                </a:solidFill>
                <a:latin typeface="Tahoma"/>
              </a:rPr>
              <a:t>If we knew how an ant colony works, we might understand more about how all such systems work, from brains to ecosystems.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Gordon, 199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4952880" y="3962520"/>
            <a:ext cx="3810240" cy="205740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7926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8D5-7B4B-4430-8A25-045326D5296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22960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B91-9BD6-4571-A798-105A58837EDA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rtest path discover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4579920" cy="417816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1371600" y="18288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s get to find the shortest path after few minut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E3F-F2D0-4E6D-BD76-C6C57C8F88E9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7621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t Colony Optimiz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5" name="" descr=""/>
          <p:cNvPicPr/>
          <p:nvPr/>
        </p:nvPicPr>
        <p:blipFill>
          <a:blip r:embed="rId1"/>
          <a:stretch/>
        </p:blipFill>
        <p:spPr>
          <a:xfrm>
            <a:off x="1752480" y="3124080"/>
            <a:ext cx="5410440" cy="367056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990720" y="182880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Each artificial ant is a probabilistic mechanism that constructs a solution to the problem, u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tificial pheromone d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Heuristic information: pheromone trails, already visited cities memory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544-4A74-4F90-A01F-BE2B0F9E6C0C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5056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P Solved using AC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1401840" y="1260360"/>
            <a:ext cx="7056360" cy="5369040"/>
            <a:chOff x="1401840" y="1260360"/>
            <a:chExt cx="7056360" cy="5369040"/>
          </a:xfrm>
        </p:grpSpPr>
        <p:pic>
          <p:nvPicPr>
            <p:cNvPr id="1219" name="" descr=""/>
            <p:cNvPicPr/>
            <p:nvPr/>
          </p:nvPicPr>
          <p:blipFill>
            <a:blip r:embed="rId1"/>
            <a:stretch/>
          </p:blipFill>
          <p:spPr>
            <a:xfrm>
              <a:off x="1401840" y="1279440"/>
              <a:ext cx="233820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2"/>
            <a:srcRect l="0" t="1890" r="0" b="0"/>
            <a:stretch/>
          </p:blipFill>
          <p:spPr>
            <a:xfrm>
              <a:off x="3714840" y="1260360"/>
              <a:ext cx="2431800" cy="276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3"/>
            <a:stretch/>
          </p:blipFill>
          <p:spPr>
            <a:xfrm>
              <a:off x="6081840" y="1279440"/>
              <a:ext cx="226836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2" name="" descr=""/>
            <p:cNvPicPr/>
            <p:nvPr/>
          </p:nvPicPr>
          <p:blipFill>
            <a:blip r:embed="rId4"/>
            <a:stretch/>
          </p:blipFill>
          <p:spPr>
            <a:xfrm>
              <a:off x="1401840" y="3711600"/>
              <a:ext cx="2307960" cy="27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"/>
            <a:stretch/>
          </p:blipFill>
          <p:spPr>
            <a:xfrm>
              <a:off x="3714840" y="3711600"/>
              <a:ext cx="23875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4" name="" descr=""/>
            <p:cNvPicPr/>
            <p:nvPr/>
          </p:nvPicPr>
          <p:blipFill>
            <a:blip r:embed="rId6"/>
            <a:stretch/>
          </p:blipFill>
          <p:spPr>
            <a:xfrm>
              <a:off x="6027840" y="3655800"/>
              <a:ext cx="2430360" cy="297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968-6CC1-409F-A17C-2C015BADEF38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792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80880" y="18745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cal search methods keep small number of nodes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uitable for problems where the solution is the goal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elf and not the p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ill climbing, simulated annealing and local beam search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local search algorith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ochastic algorithms represent another class of methods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ed search. Genetic algorithms are a kind of stochastic hill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mbing search in which a large population of states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ed. New states are generated by mutation and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over which combines pairs of states from the population.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4B9-5818-47BB-AC92-9BD65E6C81BE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9844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Basic idea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ocal search algorithms operate on 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 – current state – and move to one of its neighboring sta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eep a single "current" state, try to improv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ution path needs not be main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the search is “local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little mem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pplicable in searching large/infinite search space. They fi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asonable sol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is c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886-5484-4B5E-BFD1-1D472ACC45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 Algorithms for optimization Proble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cal search algorithms are very useful for optimization problem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ystematic search doesn’t 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however, can start with a suboptimal solution and improve 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al: find a state such that the objective function is optimize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84480" cy="3084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15000" y="533412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imize th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D60-C5E7-4C1F-AD91-9DDB6787E4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l Climb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cf01"/>
                </a:solidFill>
                <a:latin typeface="Tahoma"/>
              </a:rPr>
              <a:t>Local Search: State Spa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94040" y="3124080"/>
            <a:ext cx="5626080" cy="3149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9480" y="1981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 space landsc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aph of states associated with thei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456-E7F3-43B3-8622-B735C08030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cf01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4038120"/>
            <a:ext cx="74674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Hill climbing search algorithm (also known as greedy local search) uses a loop that continually moves in the direction of increasing values (that is uphil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teminates when it reaches a peak where no neighbor has a higher valu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82880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"Like climbing Everest in thick fog with amnesia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00400" y="2209680"/>
            <a:ext cx="3657600" cy="2133360"/>
            <a:chOff x="3200400" y="2209680"/>
            <a:chExt cx="3657600" cy="213336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3200400" y="2209680"/>
              <a:ext cx="36576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76720" y="3553200"/>
              <a:ext cx="761760" cy="552600"/>
            </a:xfrm>
            <a:custGeom>
              <a:avLst/>
              <a:gdLst/>
              <a:ahLst/>
              <a:rect l="l" t="t" r="r" b="b"/>
              <a:pathLst>
                <a:path w="384" h="336">
                  <a:moveTo>
                    <a:pt x="0" y="336"/>
                  </a:moveTo>
                  <a:cubicBezTo>
                    <a:pt x="64" y="268"/>
                    <a:pt x="128" y="200"/>
                    <a:pt x="192" y="144"/>
                  </a:cubicBezTo>
                  <a:cubicBezTo>
                    <a:pt x="256" y="88"/>
                    <a:pt x="352" y="24"/>
                    <a:pt x="38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D26-A459-4BCD-87A0-A7C3E32D25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Local Search for</a:t>
            </a:r>
            <a:br>
              <a:rPr sz="3200"/>
            </a:b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mization Proble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cf01"/>
                </a:solidFill>
                <a:latin typeface="Tahoma"/>
              </a:rPr>
              <a:t>Steepest Ascent Vers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Tahoma"/>
              </a:rPr>
              <a:t>Steepest asc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Functio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Hill climbing (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)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retur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state that is a local maxim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nput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problem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probl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cal variables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: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                        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, a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Make-Node (initial-state [problem]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a highest-valued successor of curr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If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≤ Value[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] </a:t>
            </a:r>
            <a:r>
              <a:rPr b="1" lang="fr-FR" sz="2000" spc="-1" strike="noStrike">
                <a:solidFill>
                  <a:srgbClr val="333399"/>
                </a:solidFill>
                <a:latin typeface="Tahoma"/>
              </a:rPr>
              <a:t>then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return state [curren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Current</a:t>
            </a: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 ← </a:t>
            </a:r>
            <a:r>
              <a:rPr b="0" i="1" lang="fr-FR" sz="2000" spc="-1" strike="noStrike">
                <a:solidFill>
                  <a:srgbClr val="333399"/>
                </a:solidFill>
                <a:latin typeface="Tahoma"/>
              </a:rPr>
              <a:t>neighb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FE6-90B9-4A17-A6E3-86768FE5AC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ll Climbing: Neighborh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580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nsider the 8-queen proble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 State contains 8 queens on the boa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neighborhood of a state is all states generated by moving a single queen to another square in the same column (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8*7 = 56 next state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ive function h(s) = number of queens that attack each other in state 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362320" y="3778200"/>
            <a:ext cx="5486400" cy="2317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362320" y="61722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(s) = 17 best next is 1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(s)=1 [local minim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B16-55FC-45B0-9868-9B7DB7F4F4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cf01"/>
                </a:solidFill>
                <a:latin typeface="Tahoma"/>
              </a:rPr>
              <a:t>Hill Climbing Drawbac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Local maxima/minima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search can get stuck on a local maximum/minimum and not find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67600" y="2914560"/>
            <a:ext cx="2342880" cy="2343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0080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al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3124080"/>
          <a:ext cx="594360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124080"/>
                    <a:ext cx="59436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95280" y="58672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Random 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+ Good for Only few local ma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D49-175E-4C3E-8A36-ED1F9CFDC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11C-F055-438F-BE33-533A3898BF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A77-50AF-4CD4-A282-35A7D5EF81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26C-B3F7-490F-995C-A42B3D3CA5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904-26E0-4B26-8720-A9388D486C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1828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rre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7FE-0771-4659-8CEE-12C4F08FDA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Hill Climb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3F4A-3C6D-4DC2-81AD-EB09357699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ulated Anne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tochastic hill climbing 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7E9-BFD5-430E-B1E5-3A64E67DA9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Idea: escape local maxima by allowing some "bad" moves bu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radually decre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i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Take some uphill steps to escape the local min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nstead of picking the best move, it picks a random m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If the move improves the situation, it is executed. Otherwise, move with some probability less than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analogy with the annealing proce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owing liquid to gradually cool until it free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heuristic value is the energy, 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erature parameter, T, controls speed of converg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03B-A832-49EE-BAAA-57A3DA0D1AC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98440" y="933120"/>
            <a:ext cx="77932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Basic inspiration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: What is anneal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 mettallurgy, annealing is the physical process used to temper or harden metals or glass by heating them to a high temperature and then gradually cooling them, thus allowing the material to coalesce into a low energy cristalline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f01"/>
                </a:solidFill>
                <a:latin typeface="Tahoma"/>
              </a:rPr>
              <a:t>Heating then slowly cooling a substance to obtain a strong cristalline struc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Key idea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Simulated Annealing combines Hill Climbing with a random walk in some way that yields both efficiency and complete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sed to solve VLSI layout problems in the early 198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F0D1-746E-40D2-BA2D-8FEB9742D1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628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19A-5B00-4DD5-BAE9-D5F4EA0887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447920" y="17892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CF0-98C0-484E-8FB3-241AA5A56D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857160"/>
            <a:ext cx="77932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cf01"/>
                </a:solidFill>
                <a:latin typeface="Tahoma"/>
              </a:rPr>
              <a:t>Simulated Annealing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Temperature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Used to determine the prob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High T : large chan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 T : small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Cooling Schedu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Determines rate at which the temperature T is lowe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Gulim"/>
              </a:rPr>
              <a:t>Lowers T slowly enough, the algorithm will find a global optim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Gulim"/>
              </a:rPr>
              <a:t>In the beginning, aggressive for searching alternatives, become conservative when time goes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FB3-54D1-4C7B-A0E2-837183E96F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19160" y="2590920"/>
            <a:ext cx="1066680" cy="457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B52E-A5C7-404F-BBE0-D65771A2CC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7AA-974F-42F6-8EA2-5843CDBCD2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3124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971800" y="2590920"/>
            <a:ext cx="914400" cy="838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007-D261-4590-80B7-793D6EA006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954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048120" y="2590920"/>
            <a:ext cx="83808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FFA-CAA1-4388-9FFC-3A651435E9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640-5141-4090-9EB4-F78D3FB523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piece values, board orientations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veling Salesman Per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length of a tour (sum of distances between visited citi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317-BE2A-439F-B900-C979CF0DC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962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123720" y="2590920"/>
            <a:ext cx="762120" cy="1523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E53-D0CA-464A-BCAF-654408CB6F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091-CD12-4BC0-A85C-813A9491FB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05320" y="3886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F4C-1A56-403C-86CA-365F2AA1A5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34290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756-DA56-485D-9D30-D1940EA347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38098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B2C-0F76-4E5F-9925-FE52E1AE8E2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66C-45A9-40EA-A288-1667D1929E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3CA-6AFD-4EE1-8AED-37CC664373D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91120" y="35812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2972-63DD-45CF-B476-259767502F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276360" y="2590920"/>
            <a:ext cx="609480" cy="175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08A-CBA8-4F6E-BBDC-17F0454FF3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1972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823-FE13-43D6-B363-F0F60B37240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42788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the shortest Tour traversing all cities o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54440" cy="369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5AC-D639-41F7-B9BA-1144C711A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4197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590920"/>
            <a:ext cx="457200" cy="21333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3C8-16DF-4CAC-A9F6-3B827DDEBE7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7242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590920"/>
            <a:ext cx="533520" cy="2361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3B1-6951-430E-8C9F-15AF3C33019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50292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167-7A0B-4057-81DA-E0C8028DEB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9528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86200" y="2590920"/>
            <a:ext cx="609480" cy="2666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E89-D828-474F-9284-E13E049306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FBC-59BD-4339-97F7-7704FB17D4E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50292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805-D7D1-4AEE-A7CC-CF470F5087E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937-4C99-4A30-B7AC-E4CCF08B1DE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imulated Anne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86200" y="2590920"/>
            <a:ext cx="609480" cy="2743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33920" y="2133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24D-F95E-49CC-AA9B-F089384A5B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cal Search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bu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ill climbing with small memo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bu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basic concept of Tabu Search as described by Glover (1986) is "a meta-heuristic superimposed on another heuristi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overall approach is to avoid entrainment in cycles by forbidding or penalizing moves which take the solution, in the next iteration, to points in the solution space previously visited ( hence "tabu"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Tabu search is fairly new, Glover attributes it's origin to about 1977 (see Glover, 1977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E77-2902-4146-922F-4D2A048D1E3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: Exhaustive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Generate and Test) 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all tou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bout (n-1)!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 = 36 the number is abo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6573983193072464833325668761600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Viable Approach 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4120" y="1940040"/>
            <a:ext cx="3504960" cy="27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ED8-2DD2-48A2-A021-B9A4E62D86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A64-FDC9-4CC2-89FE-7B790A56D4D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160" y="2133720"/>
            <a:ext cx="990360" cy="9144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591-A74D-4416-A402-DC626BD87B9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895480" y="2133720"/>
            <a:ext cx="914400" cy="1218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E89-764B-4EE6-8A5D-71736D4041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48120" y="2133720"/>
            <a:ext cx="761760" cy="16002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D08-BD65-44F6-A4FC-9E2E5AD0A1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123720" y="2133720"/>
            <a:ext cx="68580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7CD-A85C-4793-97CC-D5B8DE2DD8C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42670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812-716C-4008-8451-0D804B776DB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D07-6E45-4E65-9BD1-280797F4C5B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57600" y="3657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FB2-CC17-469E-9F3F-F1F2A9F744B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3352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454-0955-4E25-839E-003C470A08C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267080" y="36576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496-D8CD-46E7-A2FC-19781DE4B9C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veling Salesman Per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olution: Start from an initial solution and improve using local transform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2884320"/>
            <a:ext cx="8229600" cy="3440160"/>
            <a:chOff x="533520" y="2884320"/>
            <a:chExt cx="8229600" cy="344016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33520" y="3304800"/>
              <a:ext cx="42674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953240" y="2884320"/>
              <a:ext cx="3809880" cy="30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324840" y="5972040"/>
              <a:ext cx="161928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5E0-6F79-46AC-ACA4-04EB8FBB4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76360" y="2362320"/>
            <a:ext cx="609480" cy="1981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A52-0A81-4C97-BF66-5BA105C492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2362320"/>
            <a:ext cx="609480" cy="220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7F8-15D2-4914-B8C2-D86A28B9862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E90-9EB2-4A73-A2A3-9DAE2A4BA77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00600" y="4572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41A-8A33-487B-AEDF-043AFBD6A6A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876920" y="40384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9BD-7DB8-45B7-8DA4-3C3563099D4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029200" y="35053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802-CBB5-43D3-92DD-1522AFDB1DA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F20-D35E-4A8A-B32F-1371CA1FA4F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90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54-48AA-4CE7-92B3-A69A38D7BF2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15000" y="30481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725-53CA-4465-9279-148D1C13948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AE8-9E08-4C6B-B404-D57963FFCC0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5DD-61C9-4DE1-901C-D3A41BA22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248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195-1C98-42C7-B963-6FCDDB82C0F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25146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A81-3FB0-4908-8643-8F1F5520341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abu Search: 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1828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2362320"/>
            <a:ext cx="762120" cy="2743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19810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42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133720" y="5334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4C5-5B95-4E97-AD4F-D127DD515CB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iz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tion Based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, Genetic Algorithms &amp; Genetic Programm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ulation based Algorith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am Search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Unlike Hill Climbing, Local Beam Search keeps trac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of 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tes rather than just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t starts with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ly generated sta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t each step, all the successors of all the states are gener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f any one is a goal, the algorithm halts, otherwise it selects the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st successors from the complete list and repea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BS≠ running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andom restarts in parallel instead of sequ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rawback: less diversity. → Stochastic Beam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9E0-121C-4888-B04C-B8A812B55E8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dea: keep k states instead of just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Begins with k randomly generated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t each step all the successors of all k states are gener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f one is a goal, we stop, otherwise select k best successors from complete list and repe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8FC-716C-420C-9021-F1494DA4D03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2057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6960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234-1975-43AE-83FE-52421B16205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66880" y="2971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05520" y="2971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32004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32767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2004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4956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0292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171840" y="3429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200-B383-45BC-9BB1-889C9D0B5AE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282-407A-408E-8406-63884CF12892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2-opt mutation for TS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213372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465300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8936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386064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360" y="3500280"/>
            <a:ext cx="289080" cy="28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2421000"/>
            <a:ext cx="28872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2852640"/>
            <a:ext cx="28908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2276640"/>
            <a:ext cx="194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421000"/>
            <a:ext cx="14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403280" y="3715920"/>
            <a:ext cx="1368360" cy="3603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364500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788000" y="3068640"/>
            <a:ext cx="1008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771640" y="2708280"/>
            <a:ext cx="720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2997360"/>
            <a:ext cx="2880000" cy="180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8400" y="561024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wo edges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601-86C2-474A-A1DC-A2DA15EF7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A3D-A2F2-4AAC-8DAC-6085BB6F27E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FA5-CDBF-43D4-801F-0A479BF89AF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3352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43600" y="34290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819520" y="36576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91320" y="34290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6B4-E93D-4B73-9A54-44BB34CFD7D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1F7-DA60-41A5-97F7-DA1EAF433FF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C4E-99BE-4893-AEA6-AA4D0B22874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67080" y="3733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43400" y="411480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495680" y="411480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648320" y="411480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34B-7D92-497F-8A58-5658D0E526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0F6-D66C-4568-8FB1-478246D7E19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248-479C-4AD5-905D-D31235E1810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41972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572000" y="449568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449568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52880" y="4876920"/>
            <a:ext cx="15264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313-680B-4E32-A5A7-DA6C3F21DB5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18960" y="857160"/>
            <a:ext cx="77929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ocal Beam</a:t>
            </a:r>
            <a:r>
              <a:rPr b="0" i="1" lang="fr-FR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2133720" y="2133720"/>
            <a:ext cx="0" cy="3733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90920" y="2057400"/>
            <a:ext cx="4190760" cy="3416400"/>
          </a:xfrm>
          <a:custGeom>
            <a:avLst/>
            <a:gdLst/>
            <a:ahLst/>
            <a:rect l="l" t="t" r="r" b="b"/>
            <a:pathLst>
              <a:path w="2640" h="2152">
                <a:moveTo>
                  <a:pt x="0" y="384"/>
                </a:moveTo>
                <a:cubicBezTo>
                  <a:pt x="112" y="912"/>
                  <a:pt x="224" y="1440"/>
                  <a:pt x="384" y="1536"/>
                </a:cubicBezTo>
                <a:cubicBezTo>
                  <a:pt x="544" y="1632"/>
                  <a:pt x="800" y="872"/>
                  <a:pt x="960" y="960"/>
                </a:cubicBezTo>
                <a:cubicBezTo>
                  <a:pt x="1120" y="1048"/>
                  <a:pt x="1208" y="2152"/>
                  <a:pt x="1344" y="2064"/>
                </a:cubicBezTo>
                <a:cubicBezTo>
                  <a:pt x="1480" y="1976"/>
                  <a:pt x="1640" y="608"/>
                  <a:pt x="1776" y="432"/>
                </a:cubicBezTo>
                <a:cubicBezTo>
                  <a:pt x="1912" y="256"/>
                  <a:pt x="2016" y="1080"/>
                  <a:pt x="2160" y="1008"/>
                </a:cubicBezTo>
                <a:cubicBezTo>
                  <a:pt x="2304" y="936"/>
                  <a:pt x="2560" y="168"/>
                  <a:pt x="26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4876920"/>
            <a:ext cx="152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648320" y="51055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4832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00600" y="4876920"/>
            <a:ext cx="15228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1C1-8426-444F-B527-6005A49EE3F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 </cp:lastModifiedBy>
  <dcterms:modified xsi:type="dcterms:W3CDTF">2009-03-10T07:41:58Z</dcterms:modified>
  <cp:revision>90</cp:revision>
  <dc:subject/>
  <dc:title>Artificial Intelligence CSC 361</dc:title>
</cp:coreProperties>
</file>