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EEB-6D0E-4BF0-9A5D-F5883AF1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4F8-6E16-473A-B4C0-A9CFD4A4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C03-4E94-4FFC-9702-9DAD9579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EAC-7DA4-4732-993B-5BCF024F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3181-2A26-45CB-B4B6-55BC8C23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EE1A-8820-434C-9EA5-35718B56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CB67-08CD-4597-84DC-CC75025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65E7-8AC0-4A6D-8A9E-582C2871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550-E293-4AB7-B7AE-282F1FB2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0D38-CE71-403C-8F59-D019E365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4AA-47C2-4CBF-BC21-F76B090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FC9-A75E-4D03-AEB5-E7E5375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CECA-DA4A-49AB-95E8-FC8A8D8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EB90-EB9C-49A9-891B-F6D96A1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BDEE-F997-428F-9F1A-AB49F82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04B5-ADC6-4C0C-87E8-B281C77F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F50D-4BF2-4919-8D10-DD89CE88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33F-4F14-4E85-BEB2-67506CB7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418-1C49-44A7-837A-FE7555F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B1C-CE45-4DB7-99E3-845E689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5A6-EAB6-435C-A816-43BC23E8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C57-E976-4CE7-A225-945D919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8EB-EE11-46C4-A8AE-4D3EDB2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A6B-9006-442E-9759-5C9BFC7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2F9-DFD8-43DD-AB2E-1C4C09FE849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D88-C583-4DF4-9177-7C59F3E47428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8760" y="56102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71B-29D1-4685-B622-C2446EC3A3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A3E-31F1-4206-99AB-4FFA0E6B2CF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EC7-7F14-4055-9227-C19AC83D09E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197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724280" y="5105520"/>
            <a:ext cx="15264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8769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EDA-772C-4768-AB76-0A38A8B8071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20268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 introduced in the US in the 70s by John Hol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 emulate ideas from genetics and natural selection and can search potentially large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we can apply Genetic Algorithm to a problem, we need to 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is an individual represen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What is the fitness func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are individuals selec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do individuals reprodu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95D-BAB2-46F0-AF6B-B59084B24F8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4264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presentation of states (solu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ach state or individual is represented as a string over a finite alphabet. It is also called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hromosom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hich Contains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ge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562720" y="419112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1011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ution: 6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200400" y="4572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05320" y="4724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48520" y="502920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477120" y="3886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722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624816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B79-BC00-4C7B-B849-AB7378137BB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tness Fun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ach state is rated by the evaluation function called fitness function. Fitness function should return higher values for better sta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Fitness(X) should be greater than Fitness(Y) !!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[Fitness(x) = 1/Cost(x)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676520" y="3352680"/>
            <a:ext cx="5790960" cy="3492720"/>
            <a:chOff x="1676520" y="3352680"/>
            <a:chExt cx="5790960" cy="3492720"/>
          </a:xfrm>
        </p:grpSpPr>
        <p:sp>
          <p:nvSpPr>
            <p:cNvPr id="875" name=""/>
            <p:cNvSpPr/>
            <p:nvPr/>
          </p:nvSpPr>
          <p:spPr>
            <a:xfrm>
              <a:off x="2438280" y="38098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8280" y="6400800"/>
              <a:ext cx="40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1800" y="4952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19920" y="4038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24382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437920" y="40384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65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6172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95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13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43200" y="3352680"/>
              <a:ext cx="3594240" cy="3073680"/>
            </a:xfrm>
            <a:custGeom>
              <a:avLst/>
              <a:gdLst/>
              <a:ahLst/>
              <a:rect l="l" t="t" r="r" b="b"/>
              <a:pathLst>
                <a:path w="2312" h="1936">
                  <a:moveTo>
                    <a:pt x="0" y="528"/>
                  </a:moveTo>
                  <a:cubicBezTo>
                    <a:pt x="144" y="1068"/>
                    <a:pt x="288" y="1608"/>
                    <a:pt x="432" y="1680"/>
                  </a:cubicBezTo>
                  <a:cubicBezTo>
                    <a:pt x="576" y="1752"/>
                    <a:pt x="712" y="936"/>
                    <a:pt x="864" y="960"/>
                  </a:cubicBezTo>
                  <a:cubicBezTo>
                    <a:pt x="1016" y="984"/>
                    <a:pt x="1128" y="1936"/>
                    <a:pt x="1344" y="1824"/>
                  </a:cubicBezTo>
                  <a:cubicBezTo>
                    <a:pt x="1560" y="1712"/>
                    <a:pt x="2008" y="576"/>
                    <a:pt x="2160" y="288"/>
                  </a:cubicBezTo>
                  <a:cubicBezTo>
                    <a:pt x="2312" y="0"/>
                    <a:pt x="2284" y="48"/>
                    <a:pt x="2256" y="9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174-E32D-4F36-B267-0BCA61F1952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182240" y="1752120"/>
            <a:ext cx="74278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are individuals selected 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ulette Wheel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04920" y="3276720"/>
            <a:ext cx="8610480" cy="3073320"/>
            <a:chOff x="304920" y="3276720"/>
            <a:chExt cx="8610480" cy="3073320"/>
          </a:xfrm>
        </p:grpSpPr>
        <p:sp>
          <p:nvSpPr>
            <p:cNvPr id="889" name=""/>
            <p:cNvSpPr/>
            <p:nvPr/>
          </p:nvSpPr>
          <p:spPr>
            <a:xfrm>
              <a:off x="685800" y="373392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5800" y="426744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5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430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100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5053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7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29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964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610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2120" y="3810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9320" y="3810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100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053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388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57800" y="38102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629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772400" y="3810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8580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86108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492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0592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193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5800" y="3276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1004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053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0388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578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29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964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8102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01992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05120" y="5334120"/>
              <a:ext cx="2133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d[0..18] 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e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4800" y="5334120"/>
              <a:ext cx="228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d[0..18] = 1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e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D05-2E22-4025-BD63-F8D9F62C4EE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oss-Over and M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do individuals reproduc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769608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2BD-4C84-4004-8294-88F6A0F5698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Crossover - Recombin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677880" y="2496960"/>
            <a:ext cx="7620120" cy="3491640"/>
            <a:chOff x="677880" y="2496960"/>
            <a:chExt cx="7620120" cy="3491640"/>
          </a:xfrm>
        </p:grpSpPr>
        <p:sp>
          <p:nvSpPr>
            <p:cNvPr id="929" name=""/>
            <p:cNvSpPr/>
            <p:nvPr/>
          </p:nvSpPr>
          <p:spPr>
            <a:xfrm>
              <a:off x="923760" y="28004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f01"/>
                  </a:solidFill>
                  <a:latin typeface="Times New Roman"/>
                </a:rPr>
                <a:t>1010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23760" y="34862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66"/>
                  </a:solidFill>
                  <a:latin typeface="Times New Roman"/>
                </a:rPr>
                <a:t>10010111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81120" y="24969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7880" y="4361040"/>
              <a:ext cx="179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ssover single point - rand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40600" y="27972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f01"/>
                  </a:solidFill>
                  <a:latin typeface="Times New Roman"/>
                </a:rPr>
                <a:t>101</a:t>
              </a:r>
              <a:r>
                <a:rPr b="0" lang="en-US" sz="2800" spc="-1" strike="noStrike">
                  <a:solidFill>
                    <a:srgbClr val="ff6666"/>
                  </a:solidFill>
                  <a:latin typeface="Times New Roman"/>
                </a:rPr>
                <a:t>10111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240600" y="34830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66"/>
                  </a:solidFill>
                  <a:latin typeface="Times New Roman"/>
                </a:rPr>
                <a:t>101</a:t>
              </a:r>
              <a:r>
                <a:rPr b="0" lang="en-US" sz="2800" spc="-1" strike="noStrike">
                  <a:solidFill>
                    <a:srgbClr val="ffcf01"/>
                  </a:solidFill>
                  <a:latin typeface="Times New Roman"/>
                </a:rPr>
                <a:t>0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47840" y="282240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33800" y="3584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29160" y="28512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spring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541760" y="358128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spring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17960" y="4797360"/>
              <a:ext cx="515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some high probability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rossover r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apply crossover to the parents.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ypical values are 0.8 to 0.9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8B9-E02E-4117-94CE-9DDA89E0967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1560" y="561024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ect in a different way  (there is only one valid new 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371628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03280" y="3068640"/>
            <a:ext cx="417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C96-4F40-4245-941B-7DECE688E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Mut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049480" y="20350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049480" y="27208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1</a:t>
            </a: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38040" y="2089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51000" y="28195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96200" y="20192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96200" y="27050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784760" y="20732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797360" y="28036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05720" y="117144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46280" y="486900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ome small probability (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ation 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lip each bit in the offspr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ical values between 0.1 and 0.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099200" y="7761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46080" y="3556080"/>
            <a:ext cx="29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7097400" y="1200240"/>
            <a:ext cx="366840" cy="15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008760" y="3600360"/>
            <a:ext cx="25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ted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0A3-FF97-48FE-A6F1-57129007185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 is an iterative process and can be describe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initial population of “solutions” (think:  chromosom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fitness of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evolution of new (and potentially better) solution pop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via “crossover,”  “mutatio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when “optimality” criteria are satisfi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292-4ED0-4BC1-BEBC-7B1021B2756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nitialize population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vidual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  For each Individu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ute its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  While max fitness &lt; threshold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  Return the Individual with highest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A1E-4D92-4A7C-9F2A-0E936BD30AA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(1-r)p members of P and add them to Ps. The probability of selecting a member is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(hi) = Fitness (hi) /  Σj Fitness (h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over: select rp/2 pairs of hypotheses from P according to P(h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pair (h1,h2) produce two offspring by applying the Crossover operator. Add all offspring to P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ate: Choose mp members of Ps with uniform probability. Invert  one bit in the representation random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P with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: for each h compute its fit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282-F3FD-4F35-8EE5-C3A334747D7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ochastic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arch: Genetic Algorithm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874880"/>
            <a:ext cx="8229600" cy="5135400"/>
            <a:chOff x="533520" y="1874880"/>
            <a:chExt cx="8229600" cy="5135400"/>
          </a:xfrm>
        </p:grpSpPr>
        <p:pic>
          <p:nvPicPr>
            <p:cNvPr id="963" name="" descr=""/>
            <p:cNvPicPr/>
            <p:nvPr/>
          </p:nvPicPr>
          <p:blipFill>
            <a:blip r:embed="rId1"/>
            <a:stretch/>
          </p:blipFill>
          <p:spPr>
            <a:xfrm>
              <a:off x="533520" y="1874880"/>
              <a:ext cx="8229600" cy="51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 txBox="1"/>
            <p:nvPr/>
          </p:nvSpPr>
          <p:spPr>
            <a:xfrm>
              <a:off x="533520" y="1874880"/>
              <a:ext cx="8229600" cy="513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3B0-C591-43BD-BB42-59BAFE8314F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7F6-F459-4919-9168-9E7744FE86C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895480" y="31240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638320" y="2437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15000" y="2316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2408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ross-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5DF-A58B-43F1-B1F4-9E38D66EBDB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474-EC97-4297-A7D7-6CBBB01ED77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197-90B6-46CD-B6DE-D80673383F5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428640" y="358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324480" y="2971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41911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7F1-A13F-478D-B3A5-4B46854C3B42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98A-C6B7-4AF9-B2EB-634F932D85A5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869-09A5-48B8-922D-75B39E0E7EC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E0E-111D-4CEB-9DD1-DCE7464C26E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495680" y="365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429000" y="4191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3657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B8B-9CC8-4FC4-83A2-DA673A24A53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14D-B694-4BE1-A6EC-5F5A34DB24D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CA5-C32A-4B58-95BA-7B1CC43D044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B65-F141-4A15-A169-7DF8A536869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572000" y="4419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274284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95680" y="3886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E16-3A3F-4A2E-B940-4E4AFB9368C3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6DD-DB82-4940-8C78-F41CD3FA5EC4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AB9-6971-4F12-A8D7-3AA0636062C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arch algorithms we have seen so far keep track of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in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f the search space, and 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fin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problems, one doesn’t care about a solution path but only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entation of the final goal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8-queen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earch algorithms operate on a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tate – 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d move to one of it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ighboring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path needs not be mainta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 search is “local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93A-660E-42AA-A9E7-5B6271BC8D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5720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105520" y="38862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EB8-121C-4216-B35B-833EFE6833C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614-EEC6-420D-A2A6-F754D967F8C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BAB-E041-43CA-B2A1-032CE5509DF1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77E-F46B-4BC8-BC85-E67BB80420A9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: 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2362320"/>
            <a:ext cx="373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enetic programming (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ming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Means of Simulated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w to Program 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thout Explicitly Telling It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enetic Programming is Genetic Algorithms where solutions are program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5649840" y="2943360"/>
            <a:ext cx="2800440" cy="30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D8D-A1A9-47D9-9D5D-5095627B6B1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n the chromosome encodes an entire program or function itself this is called genetic programming (G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order to make this work,encoding is often done in the form of a tree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ssover entials swaping subtrees between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0E6-3A61-4DE5-8861-F024651B373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825480" y="2081160"/>
            <a:ext cx="7373880" cy="28256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1241280" y="523548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to evolve whole programs like this but only small ones. Large programs with complex functions present bi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87F-FA84-4AAB-B3B0-DC9ECEC893F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82880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819520" y="2438280"/>
            <a:ext cx="3961800" cy="3885840"/>
            <a:chOff x="2819520" y="2438280"/>
            <a:chExt cx="3961800" cy="3885840"/>
          </a:xfrm>
        </p:grpSpPr>
        <p:pic>
          <p:nvPicPr>
            <p:cNvPr id="1194" name="" descr=""/>
            <p:cNvPicPr/>
            <p:nvPr/>
          </p:nvPicPr>
          <p:blipFill>
            <a:blip r:embed="rId1"/>
            <a:stretch/>
          </p:blipFill>
          <p:spPr>
            <a:xfrm>
              <a:off x="2819520" y="2438280"/>
              <a:ext cx="3961800" cy="38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2"/>
            <a:stretch/>
          </p:blipFill>
          <p:spPr>
            <a:xfrm>
              <a:off x="2843640" y="5870880"/>
              <a:ext cx="660240" cy="25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6" name=""/>
          <p:cNvSpPr/>
          <p:nvPr/>
        </p:nvSpPr>
        <p:spPr>
          <a:xfrm>
            <a:off x="5335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990720" y="2590920"/>
            <a:ext cx="1676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d 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33670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990720" y="3290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lue 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791-49BF-4E27-BB4C-84E905912D33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1" name=""/>
          <p:cNvSpPr/>
          <p:nvPr/>
        </p:nvSpPr>
        <p:spPr>
          <a:xfrm>
            <a:off x="1295280" y="1828800"/>
            <a:ext cx="643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1676520" y="2340000"/>
            <a:ext cx="5943600" cy="40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58D-4EB4-4DB1-A044-9A37177A8F5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3898800"/>
            <a:ext cx="7238880" cy="1805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95280" y="205740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N Queens on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×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ard with no two queens on the same row, column, or di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8672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itial state … Improve it … using local transformations  (perturb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A8A-4682-4C80-8742-435345977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, PSO, QGA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ything to be Learnt from Ant Coloni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airly simple units generate complicated global behavio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 ant colony expresses a complex collective behavior provid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lligent solutions to problem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uch 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rrying large i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ming brid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 the shortest routes from the nest to a food 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rioritizing food sources based on their distance and ease of acce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If we knew how an ant colony works, we might understand more about how all such systems work, from brains to ecosystems.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Gordon, 199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3810240" cy="205740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926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E68-95D7-4E9C-BD42-A6756182B2EE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22960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04F-C71E-4DC3-8675-9659ADE0CC2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579920" cy="417816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1371600" y="18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s get to find the shortest path after few minut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4B9-5EDC-4DF2-B77B-6FE52AB7DD4F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 Colony Optimiz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10440" cy="367056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990720" y="182880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Each artificial ant is a probabilistic mechanism that constructs a solution to the problem,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tificial pheromone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Heuristic information: pheromone trails, already visited cities memor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882-8213-4080-8158-396DBD971587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SP Solved using AC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1401840" y="1260360"/>
            <a:ext cx="7056360" cy="5369040"/>
            <a:chOff x="1401840" y="1260360"/>
            <a:chExt cx="7056360" cy="53690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1401840" y="1279440"/>
              <a:ext cx="233820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2"/>
            <a:srcRect l="0" t="1890" r="0" b="0"/>
            <a:stretch/>
          </p:blipFill>
          <p:spPr>
            <a:xfrm>
              <a:off x="3714840" y="1260360"/>
              <a:ext cx="2431800" cy="27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"/>
            <a:stretch/>
          </p:blipFill>
          <p:spPr>
            <a:xfrm>
              <a:off x="6081840" y="1279440"/>
              <a:ext cx="226836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"/>
            <a:stretch/>
          </p:blipFill>
          <p:spPr>
            <a:xfrm>
              <a:off x="1401840" y="3711600"/>
              <a:ext cx="2307960" cy="27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"/>
            <a:stretch/>
          </p:blipFill>
          <p:spPr>
            <a:xfrm>
              <a:off x="3714840" y="3711600"/>
              <a:ext cx="23875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6"/>
            <a:stretch/>
          </p:blipFill>
          <p:spPr>
            <a:xfrm>
              <a:off x="6027840" y="3655800"/>
              <a:ext cx="2430360" cy="297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566-377D-4846-BDB5-FA4E1D27154E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80880" y="18745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cal search methods keep small number of nodes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uitable for problems where the solution is the goal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elf and not the p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ill climbing, simulated annealing and local beam search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local search algorith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ochastic algorithms represent another class of methods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ed search. Genetic algorithms are a kind of stochastic hill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bing search in which a large population of states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ed. New states are generated by mutation and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over which combines pairs of states from the population.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AFC-1B3E-45E9-8EFC-57156B2A5173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9844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Basic ide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search algorithms operate o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 – current state – and move to one of its neighboring st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ep a single "current" state, try to improv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ution path needs not be main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the search is “local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little mem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pplicable in searching large/infinite search space. They fi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asonable 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c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C1B-C389-41F4-97C8-D935658139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 for optimization Proble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ocal search algorithms are very useful for optimization proble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ystematic search doesn’t wo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owever, can start with a suboptimal solution and improve 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al: find a state such that the objective function is optimiz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84480" cy="3084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15000" y="533412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imize th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32B-F2E0-480E-B4C9-5E78318ED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l Climb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: State Spa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94040" y="3124080"/>
            <a:ext cx="5626080" cy="314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9480" y="19810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 space landsc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aph of states associated with thei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5B7-4A86-481C-9096-07E8A99587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cf01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4674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Hill climbing search algorithm (also known as greedy local search) uses a loop that continually moves in the direction of increasing values (that is uphil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teminates when it reaches a peak where no neighbor has a higher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880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Like climbing Everest in thick fog with amnesi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00400" y="2209680"/>
            <a:ext cx="3657600" cy="2133360"/>
            <a:chOff x="3200400" y="2209680"/>
            <a:chExt cx="3657600" cy="213336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3200400" y="2209680"/>
              <a:ext cx="3657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76720" y="3553200"/>
              <a:ext cx="761760" cy="552600"/>
            </a:xfrm>
            <a:custGeom>
              <a:avLst/>
              <a:gdLst/>
              <a:ahLst/>
              <a:rect l="l" t="t" r="r" b="b"/>
              <a:pathLst>
                <a:path w="384" h="336">
                  <a:moveTo>
                    <a:pt x="0" y="336"/>
                  </a:moveTo>
                  <a:cubicBezTo>
                    <a:pt x="64" y="268"/>
                    <a:pt x="128" y="200"/>
                    <a:pt x="192" y="144"/>
                  </a:cubicBezTo>
                  <a:cubicBezTo>
                    <a:pt x="256" y="88"/>
                    <a:pt x="352" y="24"/>
                    <a:pt x="38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19E-F2DE-47E1-B08D-48CCEB453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Local Search for</a:t>
            </a:r>
            <a:br>
              <a:rPr sz="3200"/>
            </a:b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mization Probl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cf01"/>
                </a:solidFill>
                <a:latin typeface="Tahoma"/>
              </a:rPr>
              <a:t>Steepest Ascent Vers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99"/>
                </a:solidFill>
                <a:latin typeface="Tahoma"/>
              </a:rPr>
              <a:t>Steepest asc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Functio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Hill climbing (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)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retur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state that is a local maxim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nput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probl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cal variable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Make-Node (initial-state [problem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a highest-valued successor of cur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f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≤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the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return state [curren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E89-F53C-47C1-9769-14F6D0D02A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ll Climbing: Neighborh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580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ider the 8-queen proble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tate contains 8 queens on the boa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neighborhood of a state is all states generated by moving a single queen to another square in the same column (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*7 = 56 next state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bjective function h(s) = number of queens that attack each other in state 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62320" y="3778200"/>
            <a:ext cx="5486400" cy="2317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62320" y="61722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(s) = 17 best next is 1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(s)=1 [local minim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750-1081-4D50-865A-11D59CFE52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f01"/>
                </a:solidFill>
                <a:latin typeface="Tahoma"/>
              </a:rPr>
              <a:t>Hill Climbing Drawbac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Local maxima/minima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arch can get stuck on a local maximum/minimum and not find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67600" y="291456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0080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al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3124080"/>
          <a:ext cx="594360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124080"/>
                    <a:ext cx="59436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95280" y="5867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Random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Good for Only few local ma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35B-CFD9-446D-83DE-C3755B475A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EF8-7134-4DD2-8E13-AF416EF2F8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765-0B78-442B-A94F-A1A343617F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861-7F3A-4F37-9CFE-F983625478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1F8-8B98-4E25-9E48-D479E54247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100-FEDB-418A-8133-701A63F963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523-7DCB-4F71-95B3-CF62052DB0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tochastic hill climbing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EFC-308F-4990-88FE-D69E14F306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Idea: escape local maxima by allowing some "bad" moves bu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adually decre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i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Take some uphill steps to escape the local min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nstead of picking the best move, it picks a random m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f the move improves the situation, it is executed. Otherwise, move with some probability less than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nalogy with the annealing proce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ing liquid to gradually cool until it free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heuristic value is the energy, 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e parameter, T, controls speed of converg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F58-2390-411F-B288-CCBB0F8B68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Basic inspiration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: What is anneal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 mettallurgy, annealing is the physical process used to temper or harden metals or glass by heating them to a high temperature and then gradually cooling them, thus allowing the material to coalesce into a low energy cristalline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f01"/>
                </a:solidFill>
                <a:latin typeface="Tahoma"/>
              </a:rPr>
              <a:t>Heating then slowly cooling a substance to obtain a strong cristalline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Key idea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Simulated Annealing combines Hill Climbing with a random walk in some way that yields both efficiency and complete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sed to solve VLSI layout problems in the early 19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5E8-28EC-4061-817C-A66EB86467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628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5FC-383D-4FB9-AFAF-30023E9C88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447920" y="17892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EE7-3519-474D-8116-AD4F9B162C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Temperature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Used to determine the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High T : large chan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 T : smal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Cooling Schedu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Determines rate at which the temperature T is lowe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ers T slowly enough, the algorithm will find a global opt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In the beginning, aggressive for searching alternatives, become conservative when time goes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26E-E6DA-4381-A73B-DEC0C4B9E7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19160" y="2590920"/>
            <a:ext cx="106668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3B5-0F5D-49F7-B429-4E817CD67A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B1F-C644-4EE6-AC05-6BD555F374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3124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D7D-AF83-42BC-8D25-3BA1E774A6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048120" y="2590920"/>
            <a:ext cx="83808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C4A-CCCC-4F0E-BD26-ABDE4A260F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37F-2204-4CED-AA47-81D4FF919F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piece values, board orientations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veling Salesman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length of a tour (sum of distances between visited cit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3C2-93D4-4741-A98C-E1B1972B2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BBC-60A6-41DE-A603-02311A78745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CCB-05CE-4FA4-A3CA-2C58B2A1CEC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05320" y="3886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A0F-20FE-4F6D-B58A-03A47C5370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34290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961-64E9-458D-A9EF-C502CFDB3E3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92E-8328-462B-BEAD-49C0AE61F1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533-8581-48C5-84F5-23DA9834D6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C9F-1BC7-4A1C-87B6-06DE25D180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D3C-BF28-4F9F-837A-F26F1161BA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163-1A4E-4705-9B33-6120E77BC2B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972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EFE-C3C2-491B-872C-72B8E0BB2F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4278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traversing all cities o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54440" cy="369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7D4-8E6E-49B9-BF7B-D01743DFD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4197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A64-BE45-490C-9647-512D162D03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590920"/>
            <a:ext cx="533520" cy="2361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7DB-D301-472D-B152-86D8639143E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5029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273-6A46-4C4C-B67C-508C7EDABC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C99-D28A-493E-892B-8477EF30D98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B9B-69F6-4D38-B4B3-D40592F097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50292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BD3-2514-4D3E-A6E1-D52B3ECA237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604-FDE5-42FA-8175-C98AA7B892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36B-7DDF-48FD-8C10-F039B08A76F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ill climbing with small memo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u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basic concept of Tabu Search as described by Glover (1986) is "a meta-heuristic superimposed on another heurist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verall approach is to avoid entrainment in cycles by forbidding or penalizing moves which take the solution, in the next iteration, to points in the solution space previously visited ( hence "tabu"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Tabu search is fairly new, Glover attributes it's origin to about 1977 (see Glover, 1977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9E8-8300-4C92-B377-BFFE4ACF088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: Exhaustive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enerate and Test) 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all tou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bout (n-1)!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 = 36 the number is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6573983193072464833325668761600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iable Approach 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4120" y="1940040"/>
            <a:ext cx="3504960" cy="27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CFB-5E2C-4B22-9608-AE48E15AA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005-2C15-4BB0-9DF2-36B294B0738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765-92C9-405F-AE0A-057AD38D4A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CBF-9137-4163-8022-A2436E78F0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E29-1BD5-4574-B1C6-849176D7141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686-3736-4952-B79B-A6E88E4FEE6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C24-452C-4EF8-BF2C-2C6E9FEEA1E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9B8-EE67-4BA3-91B2-2C8ABB31CC2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CE2-24AC-4339-A889-2ED59B15B68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3F7-BB03-4C6B-993D-36CD0612080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64E-F6D0-4AC9-9A42-F715E7C65B1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lution: Start from an initial solution and improve using local transform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2884320"/>
            <a:ext cx="8229600" cy="3440160"/>
            <a:chOff x="533520" y="2884320"/>
            <a:chExt cx="8229600" cy="34401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33520" y="3304800"/>
              <a:ext cx="42674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953240" y="2884320"/>
              <a:ext cx="3809880" cy="30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324840" y="5972040"/>
              <a:ext cx="161928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6F8-7ABF-4FE1-A22E-1F00EA3B2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4CF-B58E-4A2F-AD1B-80B3042E2E2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2362320"/>
            <a:ext cx="609480" cy="220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BB5-10B5-458B-B4A4-A5EE3AEE790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E0D-D17E-45F7-AA32-867D862A0B8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6E7-8979-4F2F-9DEB-3369E42BA18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F90-AD77-487D-B92E-8A24CE412E0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952-A65C-4E4F-BB2C-CBFC2ACC5F8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9B3-9737-4D82-BD15-68E1C67FC15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B21-4EA6-4B2B-91AD-527B8EECDBB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8CE-4F98-40BF-A758-1FD3A71F74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14C-0F02-4476-B0C8-2079044EF07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540-8AB6-4363-914F-0108D7C79E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65C-3D46-4E7C-844D-5CE020CDAFD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432-F7B4-4BED-A2F4-55218B379C9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D63-6AD3-4FCB-8F3A-54CBCD18649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tion Based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, Genetic Algorithms &amp; Genetic Programm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like Hill Climbing, Local Beam Search keeps trac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of 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tes rather than just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starts with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ly generated st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t each step, all the successors of all the states are genera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f any one is a goal, the algorithm halts, otherwise it selects the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st successors from the complete list and repea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BS≠ running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 restarts in parallel instead of sequ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rawback: less diversity. → Stochastic Beam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F85-8970-497F-B81D-D4211FF9A5E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dea: keep k states instead of just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gins with k randomly generated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 each step all the successors of all k states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f one is a goal, we stop, otherwise select k best successors from complete list and 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472-3360-4858-8FC6-95A4713C47C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084-97AF-431A-B409-3644D43CBEE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32767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3200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495680" y="37339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854-0915-4F7B-8C6B-3AC8254C681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415-8F23-4FBE-846B-EA212F5B208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DBE-30FA-44D4-BA42-E43CEBC416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52D-52EC-47B4-BB5B-0AB72D496DA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D50-E5AB-4CB5-BA69-077D9A9B4DE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868-3758-4337-B27E-1A747ECB189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8B0-B0FA-4077-A121-9D9C03D463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627-361E-41A5-9ABB-15322CA8A5E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EEB-7FE9-4788-A03A-92885F792F9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A9C-02BB-4A02-B72C-F4401C21904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97A-6833-4856-B7EE-ABB5B1F7A54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E62-F8C3-4075-A039-0FA3B7594D3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766-5DE1-4AF9-842E-7D1BBDE2E73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 </cp:lastModifiedBy>
  <dcterms:modified xsi:type="dcterms:W3CDTF">2009-03-10T07:41:58Z</dcterms:modified>
  <cp:revision>90</cp:revision>
  <dc:subject/>
  <dc:title>Artificial Intelligence CSC 361</dc:title>
</cp:coreProperties>
</file>