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676-3BB4-450B-802D-4168FD98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5CF-B74B-471D-87B7-F88870D3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2A3-7E99-44C2-8B34-30F0C835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3DA2-2F4C-4609-B02D-0221EF97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15C7-88AD-4C8F-A763-51844B6F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6C92-064C-425B-B9CB-5B259CA6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69FC-D228-4B10-B060-F7A9A706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1E44-E02D-4478-BB69-9C229468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0576-37E7-47D1-AF93-79112EC9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41FC-9799-4424-9345-A1345492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5B1D-DE7D-4119-97AD-26F1F425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7B2-56FB-412C-9092-A72373F3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5984-3DED-41F3-955B-85DE7A18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ADFA-6E1F-42F2-B28C-9520A244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385C-A7BA-472F-82B4-18C5BB93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0ABA-3250-4670-BDC8-D67F6D05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AF20-8D45-4857-AC88-EB933FB3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F731-0F72-4FE2-A304-EDA094D4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B69-1C46-4585-B3E7-7B8153FC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7755-1E59-414E-93A1-AB34AE0B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CC1-B580-4465-AA16-E966337F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C3D-8B07-4D8D-9FBE-832A6312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724-F603-45C2-B6D5-035EDFD7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7785-9462-4795-B08E-E020F8C1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01EE-081F-4537-990F-67B55A2D9A8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7294-F788-41DE-B4F3-6FD4CA85275B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/" TargetMode="External"/><Relationship Id="rId3" Type="http://schemas.openxmlformats.org/officeDocument/2006/relationships/hyperlink" Target="http://faculty.ksu.edu.sa/YAlohali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ranching_factor" TargetMode="External"/><Relationship Id="rId2" Type="http://schemas.openxmlformats.org/officeDocument/2006/relationships/hyperlink" Target="http://en.wikipedia.org/wiki/Branching_factor" TargetMode="External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tificial Intelligence</a:t>
            </a:r>
            <a:br>
              <a:rPr sz="4000"/>
            </a:b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Problem solving by search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C 36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Yousef Al-Oh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mputer Science Depar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CIS – King Saud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audi Arab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1"/>
              </a:rPr>
              <a:t>yousef@ccis.edu.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3"/>
              </a:rPr>
              <a:t>faculty.ksu.edu.sa/YAlohal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ditional 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dy Best first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chooses the successor node with the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”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n) = 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the one that is nearest to the final state among all possible cho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*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first search using an “admissible” heuristic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takes into account the current c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returns the optimal solution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124-5ABA-4A43-9948-E3C9030F1E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mplementation of Best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ST-FIRST-SEARCH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al-f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ur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solution sequence, or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uing-f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a function that sorts nodes by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al-f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-SEARCH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ueuing-f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4492-19A0-41BC-98EA-2304CF57F7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edy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-f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(n) = h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191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194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197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00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03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06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09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16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19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4DB-1731-4AB0-8F0F-D05ADC3A5F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41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44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47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50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53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56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59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66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69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 flipH="1">
            <a:off x="2057040" y="2286000"/>
            <a:ext cx="228600" cy="3581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22D-87CA-47C5-91B9-F1BC516CA0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92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95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98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301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304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307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310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317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320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 flipH="1">
            <a:off x="2133720" y="2895480"/>
            <a:ext cx="1218960" cy="2971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52B-E530-4E3F-826D-D233D8232D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343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346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349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352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355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358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361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368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371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1295280" y="2971800"/>
            <a:ext cx="838440" cy="28954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418-CF48-4972-98F2-DF93A55E98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394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397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400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403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406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409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412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419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422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"/>
          <p:cNvSpPr/>
          <p:nvPr/>
        </p:nvSpPr>
        <p:spPr>
          <a:xfrm>
            <a:off x="762120" y="3809880"/>
            <a:ext cx="1295280" cy="20574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FD61-18A4-4C0F-8BF2-933F576018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445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448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451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454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457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460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463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470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473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2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133360" y="3505320"/>
            <a:ext cx="228600" cy="23619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572-1F85-469B-BB1A-B91B28C7A4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37160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 Solving by Searching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arch Methods :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informed (Heuristic) 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496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499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502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505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508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511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514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521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524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2133720" y="4343400"/>
            <a:ext cx="914400" cy="15238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777-57B3-4D20-B200-69CE18735E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547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550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553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556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559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562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565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572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575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4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76520" y="4419720"/>
            <a:ext cx="457200" cy="15238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103-8BFC-4F34-8B94-C996DAF210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598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601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604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607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610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613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616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623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626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5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447920" y="5181480"/>
            <a:ext cx="685800" cy="685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EC8-9911-4332-BD6D-2E52566E01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649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652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655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658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661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664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667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674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677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6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2E4-7F3B-4D2F-B7D5-FE69690284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699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8B0D-E846-48C7-9E01-BE3D430D0F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04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07" name="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10" name="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13" name="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2C2-FAD6-47D7-97AF-C944162B87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27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30" name="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33" name="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36" name="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739" name="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744" name="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747" name="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E2E-0FEF-43B2-AAEA-3884C8AFCB1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67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70" name="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73" name="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76" name="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779" name="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6781680" y="5257800"/>
            <a:ext cx="457200" cy="457200"/>
            <a:chOff x="6781680" y="5257800"/>
            <a:chExt cx="457200" cy="457200"/>
          </a:xfrm>
        </p:grpSpPr>
        <p:sp>
          <p:nvSpPr>
            <p:cNvPr id="782" name="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857640" y="5334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172200" y="4495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71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789" name="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792" name="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5562360" y="449568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55308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334120" y="5334120"/>
            <a:ext cx="457200" cy="457200"/>
            <a:chOff x="5334120" y="5334120"/>
            <a:chExt cx="457200" cy="457200"/>
          </a:xfrm>
        </p:grpSpPr>
        <p:sp>
          <p:nvSpPr>
            <p:cNvPr id="813" name=""/>
            <p:cNvSpPr/>
            <p:nvPr/>
          </p:nvSpPr>
          <p:spPr>
            <a:xfrm>
              <a:off x="5334120" y="5334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410080" y="5410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7238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648320" y="5334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9AD-5863-4055-9C5C-00FDB8684D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819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822" name="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825" name="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828" name="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831" name="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6781680" y="5257800"/>
            <a:ext cx="457200" cy="457200"/>
            <a:chOff x="6781680" y="5257800"/>
            <a:chExt cx="457200" cy="457200"/>
          </a:xfrm>
        </p:grpSpPr>
        <p:sp>
          <p:nvSpPr>
            <p:cNvPr id="834" name="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857640" y="5334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172200" y="4495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4771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841" name="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844" name="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5562360" y="449568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55308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5334120" y="5334120"/>
            <a:ext cx="457200" cy="457200"/>
            <a:chOff x="5334120" y="5334120"/>
            <a:chExt cx="457200" cy="457200"/>
          </a:xfrm>
        </p:grpSpPr>
        <p:sp>
          <p:nvSpPr>
            <p:cNvPr id="865" name=""/>
            <p:cNvSpPr/>
            <p:nvPr/>
          </p:nvSpPr>
          <p:spPr>
            <a:xfrm>
              <a:off x="5334120" y="5334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10080" y="5410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7238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648320" y="5334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52280" y="607860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th cost(A-E-F-I) = 253 + 178 + 0 =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st(A-E-F-I) = 140 + 99 + 211 =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21BE-1946-4825-A57B-3001463377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Optimal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872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875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878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881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884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887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890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897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900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657600" y="594360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st(A-E-G-H-I) =140+80+97+101=</a:t>
            </a:r>
            <a:r>
              <a:rPr b="1" lang="en-US" sz="1800" spc="-1" strike="noStrike">
                <a:solidFill>
                  <a:srgbClr val="f466e0"/>
                </a:solidFill>
                <a:latin typeface="Tahoma"/>
              </a:rPr>
              <a:t>41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8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9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924680" y="6248520"/>
            <a:ext cx="60984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905-2735-4937-8880-005A7CCEB6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Using problem specific knowledge to aid search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22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incorporating knowledge into searching, one can have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 a preference) on the search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 bias, one is forced to look everywhere to find the answer.  Hence, the complexity of uninformed search is intrac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45120" y="2814480"/>
            <a:ext cx="3809880" cy="2521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588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everywher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7F7-E78E-4490-B424-D3B1FF461E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Complete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923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926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929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932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935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938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941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948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951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0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743-106D-4558-8D8E-3B3E32963F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973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38CB-DCE9-4839-803A-297D87A941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978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981" name="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984" name="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987" name="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B0C-76BB-4466-B7DE-C0E53D0B3E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01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04" name="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07" name="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10" name="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013" name="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DF7-FF41-42EC-8AC3-35D7B72127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30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33" name="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36" name="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39" name="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042" name="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058" name="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489-7959-4291-877C-5BB1B54653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65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68" name="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71" name="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74" name="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077" name="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093" name="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1066680" y="5715000"/>
            <a:ext cx="457200" cy="457200"/>
            <a:chOff x="1066680" y="5715000"/>
            <a:chExt cx="457200" cy="457200"/>
          </a:xfrm>
        </p:grpSpPr>
        <p:sp>
          <p:nvSpPr>
            <p:cNvPr id="1096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1426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8" name="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80880" y="5729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1294920" y="5105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914040" y="6172200"/>
            <a:ext cx="30492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251-5D7E-4A44-BC31-AF002705C4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106" name="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109" name="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112" name="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115" name="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118" name="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134" name="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1066680" y="5715000"/>
            <a:ext cx="457200" cy="457200"/>
            <a:chOff x="1066680" y="5715000"/>
            <a:chExt cx="457200" cy="457200"/>
          </a:xfrm>
        </p:grpSpPr>
        <p:sp>
          <p:nvSpPr>
            <p:cNvPr id="1137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142640" y="57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80880" y="5729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1294920" y="5105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914040" y="6172200"/>
            <a:ext cx="30492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AFB-F0B3-402D-B558-67CDB03EB24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ime and Space Complexity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1147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1150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1153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1156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1159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1162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1165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1172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1175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7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733920" y="2133720"/>
            <a:ext cx="5181480" cy="48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dy search is not opt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dy search is incomplet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ithout systematic checking of repeated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worst case, the Time and Space Complexity of Greedy Search are both O(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b is the branching factor and m the maximum path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74E-9AE1-4FBB-9543-154FCDE9EA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447920" y="3809520"/>
            <a:ext cx="67053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* Sear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-f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(n)=g(n)+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dy Search minimizes a heuristic h(n) which is an estimated cost from a node n to the goal state. Greedy Search is efficient but it is not optimal nor comple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Cost Search minimizes the cost g(n) from the initial state to n. UCS is optimal and complete but not effic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Strate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mbine Greedy Search and UCS to get 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hm which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te and opti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D2C-36AE-483B-A499-A15B66F5E63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Using problem specific knowledge to aid search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826920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knowledge, one can search the state space as if he was given “hints” when exploring a ma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uristic information in search = H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dramatic speed up in efficienc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133720" y="3962520"/>
            <a:ext cx="5333400" cy="2702520"/>
            <a:chOff x="2133720" y="3962520"/>
            <a:chExt cx="5333400" cy="2702520"/>
          </a:xfrm>
        </p:grpSpPr>
        <p:grpSp>
          <p:nvGrpSpPr>
            <p:cNvPr id="109" name=""/>
            <p:cNvGrpSpPr/>
            <p:nvPr/>
          </p:nvGrpSpPr>
          <p:grpSpPr>
            <a:xfrm>
              <a:off x="4537800" y="3962520"/>
              <a:ext cx="525600" cy="368280"/>
              <a:chOff x="4537800" y="3962520"/>
              <a:chExt cx="525600" cy="368280"/>
            </a:xfrm>
          </p:grpSpPr>
          <p:sp>
            <p:nvSpPr>
              <p:cNvPr id="110" name=""/>
              <p:cNvSpPr/>
              <p:nvPr/>
            </p:nvSpPr>
            <p:spPr>
              <a:xfrm>
                <a:off x="4537800" y="396252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687920" y="396252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809800" y="4487760"/>
              <a:ext cx="525600" cy="368280"/>
              <a:chOff x="2809800" y="4487760"/>
              <a:chExt cx="525600" cy="368280"/>
            </a:xfrm>
          </p:grpSpPr>
          <p:sp>
            <p:nvSpPr>
              <p:cNvPr id="113" name=""/>
              <p:cNvSpPr/>
              <p:nvPr/>
            </p:nvSpPr>
            <p:spPr>
              <a:xfrm>
                <a:off x="280980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95992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4086720" y="4487760"/>
              <a:ext cx="525600" cy="368280"/>
              <a:chOff x="4086720" y="4487760"/>
              <a:chExt cx="525600" cy="368280"/>
            </a:xfrm>
          </p:grpSpPr>
          <p:sp>
            <p:nvSpPr>
              <p:cNvPr id="116" name=""/>
              <p:cNvSpPr/>
              <p:nvPr/>
            </p:nvSpPr>
            <p:spPr>
              <a:xfrm>
                <a:off x="408672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3684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941520" y="4487760"/>
              <a:ext cx="525600" cy="368280"/>
              <a:chOff x="6941520" y="4487760"/>
              <a:chExt cx="525600" cy="368280"/>
            </a:xfrm>
          </p:grpSpPr>
          <p:sp>
            <p:nvSpPr>
              <p:cNvPr id="119" name=""/>
              <p:cNvSpPr/>
              <p:nvPr/>
            </p:nvSpPr>
            <p:spPr>
              <a:xfrm>
                <a:off x="694152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09164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364000" y="4487760"/>
              <a:ext cx="525600" cy="368280"/>
              <a:chOff x="5364000" y="4487760"/>
              <a:chExt cx="525600" cy="368280"/>
            </a:xfrm>
          </p:grpSpPr>
          <p:sp>
            <p:nvSpPr>
              <p:cNvPr id="122" name=""/>
              <p:cNvSpPr/>
              <p:nvPr/>
            </p:nvSpPr>
            <p:spPr>
              <a:xfrm>
                <a:off x="536400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1412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133720" y="5013000"/>
              <a:ext cx="525600" cy="368280"/>
              <a:chOff x="2133720" y="5013000"/>
              <a:chExt cx="525600" cy="368280"/>
            </a:xfrm>
          </p:grpSpPr>
          <p:sp>
            <p:nvSpPr>
              <p:cNvPr id="125" name=""/>
              <p:cNvSpPr/>
              <p:nvPr/>
            </p:nvSpPr>
            <p:spPr>
              <a:xfrm>
                <a:off x="213372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8384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3335760" y="5013000"/>
              <a:ext cx="525600" cy="368280"/>
              <a:chOff x="3335760" y="5013000"/>
              <a:chExt cx="525600" cy="368280"/>
            </a:xfrm>
          </p:grpSpPr>
          <p:sp>
            <p:nvSpPr>
              <p:cNvPr id="128" name=""/>
              <p:cNvSpPr/>
              <p:nvPr/>
            </p:nvSpPr>
            <p:spPr>
              <a:xfrm>
                <a:off x="333576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48588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462560" y="5013000"/>
              <a:ext cx="525600" cy="368280"/>
              <a:chOff x="4462560" y="5013000"/>
              <a:chExt cx="525600" cy="368280"/>
            </a:xfrm>
          </p:grpSpPr>
          <p:sp>
            <p:nvSpPr>
              <p:cNvPr id="131" name=""/>
              <p:cNvSpPr/>
              <p:nvPr/>
            </p:nvSpPr>
            <p:spPr>
              <a:xfrm>
                <a:off x="446256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61268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5213880" y="5013000"/>
              <a:ext cx="525600" cy="368280"/>
              <a:chOff x="5213880" y="5013000"/>
              <a:chExt cx="525600" cy="368280"/>
            </a:xfrm>
          </p:grpSpPr>
          <p:sp>
            <p:nvSpPr>
              <p:cNvPr id="134" name=""/>
              <p:cNvSpPr/>
              <p:nvPr/>
            </p:nvSpPr>
            <p:spPr>
              <a:xfrm>
                <a:off x="521388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36400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190200" y="5013000"/>
              <a:ext cx="525600" cy="368280"/>
              <a:chOff x="6190200" y="5013000"/>
              <a:chExt cx="525600" cy="368280"/>
            </a:xfrm>
          </p:grpSpPr>
          <p:sp>
            <p:nvSpPr>
              <p:cNvPr id="137" name=""/>
              <p:cNvSpPr/>
              <p:nvPr/>
            </p:nvSpPr>
            <p:spPr>
              <a:xfrm>
                <a:off x="619020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4032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2809800" y="5654880"/>
              <a:ext cx="525600" cy="368280"/>
              <a:chOff x="2809800" y="5654880"/>
              <a:chExt cx="525600" cy="368280"/>
            </a:xfrm>
          </p:grpSpPr>
          <p:sp>
            <p:nvSpPr>
              <p:cNvPr id="140" name=""/>
              <p:cNvSpPr/>
              <p:nvPr/>
            </p:nvSpPr>
            <p:spPr>
              <a:xfrm>
                <a:off x="280980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5992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786480" y="5654880"/>
              <a:ext cx="525600" cy="368280"/>
              <a:chOff x="3786480" y="5654880"/>
              <a:chExt cx="525600" cy="368280"/>
            </a:xfrm>
          </p:grpSpPr>
          <p:sp>
            <p:nvSpPr>
              <p:cNvPr id="143" name=""/>
              <p:cNvSpPr/>
              <p:nvPr/>
            </p:nvSpPr>
            <p:spPr>
              <a:xfrm>
                <a:off x="378648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93660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3786480" y="6296760"/>
              <a:ext cx="525600" cy="2919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36600" y="6296760"/>
              <a:ext cx="3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85280" y="4254120"/>
              <a:ext cx="15775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62560" y="4254120"/>
              <a:ext cx="3002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63160" y="4254120"/>
              <a:ext cx="7509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63160" y="4254120"/>
              <a:ext cx="24037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2433600" y="4779360"/>
              <a:ext cx="6008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35160" y="4779360"/>
              <a:ext cx="5256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62560" y="4779360"/>
              <a:ext cx="1501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439240" y="4779360"/>
              <a:ext cx="2253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64600" y="4779360"/>
              <a:ext cx="67608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110040" y="5304600"/>
              <a:ext cx="52560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36000" y="5304600"/>
              <a:ext cx="3754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288760" y="5654880"/>
              <a:ext cx="525600" cy="368280"/>
              <a:chOff x="5288760" y="5654880"/>
              <a:chExt cx="525600" cy="36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528876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43888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415560" y="5596560"/>
              <a:ext cx="525600" cy="368280"/>
              <a:chOff x="6415560" y="5596560"/>
              <a:chExt cx="525600" cy="368280"/>
            </a:xfrm>
          </p:grpSpPr>
          <p:sp>
            <p:nvSpPr>
              <p:cNvPr id="162" name=""/>
              <p:cNvSpPr/>
              <p:nvPr/>
            </p:nvSpPr>
            <p:spPr>
              <a:xfrm>
                <a:off x="6415560" y="5596560"/>
                <a:ext cx="525600" cy="291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65680" y="55965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514120" y="5304600"/>
              <a:ext cx="748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66040" y="5304600"/>
              <a:ext cx="74880" cy="2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011840" y="5946840"/>
              <a:ext cx="748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057400" y="3886200"/>
            <a:ext cx="2514600" cy="297180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4724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only in this subtre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8F51-62DC-45BA-9A67-E87011D6CA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* uses a heuristic function which combines g(n) and h(n): f(n) = g(n) + h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exact cost to reach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initial st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estimation of the remaining cost to reach the go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D40-7AD7-4B10-A33A-86CC6E916F3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4915080" y="2057400"/>
            <a:ext cx="609120" cy="474480"/>
            <a:chOff x="4915080" y="2057400"/>
            <a:chExt cx="609120" cy="474480"/>
          </a:xfrm>
        </p:grpSpPr>
        <p:sp>
          <p:nvSpPr>
            <p:cNvPr id="1202" name=""/>
            <p:cNvSpPr/>
            <p:nvPr/>
          </p:nvSpPr>
          <p:spPr>
            <a:xfrm>
              <a:off x="4915080" y="2057400"/>
              <a:ext cx="60912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088960" y="2057400"/>
              <a:ext cx="435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2916360" y="2911320"/>
            <a:ext cx="607680" cy="473040"/>
            <a:chOff x="2916360" y="2911320"/>
            <a:chExt cx="607680" cy="473040"/>
          </a:xfrm>
        </p:grpSpPr>
        <p:sp>
          <p:nvSpPr>
            <p:cNvPr id="1205" name=""/>
            <p:cNvSpPr/>
            <p:nvPr/>
          </p:nvSpPr>
          <p:spPr>
            <a:xfrm>
              <a:off x="291636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8988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4394160" y="2911320"/>
            <a:ext cx="607680" cy="473040"/>
            <a:chOff x="4394160" y="2911320"/>
            <a:chExt cx="607680" cy="473040"/>
          </a:xfrm>
        </p:grpSpPr>
        <p:sp>
          <p:nvSpPr>
            <p:cNvPr id="1208" name=""/>
            <p:cNvSpPr/>
            <p:nvPr/>
          </p:nvSpPr>
          <p:spPr>
            <a:xfrm>
              <a:off x="439416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56768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7697880" y="2911320"/>
            <a:ext cx="607680" cy="473040"/>
            <a:chOff x="7697880" y="2911320"/>
            <a:chExt cx="607680" cy="473040"/>
          </a:xfrm>
        </p:grpSpPr>
        <p:sp>
          <p:nvSpPr>
            <p:cNvPr id="1211" name=""/>
            <p:cNvSpPr/>
            <p:nvPr/>
          </p:nvSpPr>
          <p:spPr>
            <a:xfrm>
              <a:off x="769788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87140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5872320" y="2911320"/>
            <a:ext cx="607320" cy="473040"/>
            <a:chOff x="5872320" y="2911320"/>
            <a:chExt cx="607320" cy="473040"/>
          </a:xfrm>
        </p:grpSpPr>
        <p:sp>
          <p:nvSpPr>
            <p:cNvPr id="1214" name=""/>
            <p:cNvSpPr/>
            <p:nvPr/>
          </p:nvSpPr>
          <p:spPr>
            <a:xfrm>
              <a:off x="5872320" y="2911320"/>
              <a:ext cx="60732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045840" y="2911320"/>
              <a:ext cx="43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3524400" y="3763800"/>
            <a:ext cx="607680" cy="474480"/>
            <a:chOff x="3524400" y="3763800"/>
            <a:chExt cx="607680" cy="474480"/>
          </a:xfrm>
        </p:grpSpPr>
        <p:sp>
          <p:nvSpPr>
            <p:cNvPr id="1217" name=""/>
            <p:cNvSpPr/>
            <p:nvPr/>
          </p:nvSpPr>
          <p:spPr>
            <a:xfrm>
              <a:off x="3524400" y="3763800"/>
              <a:ext cx="607680" cy="47448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697920" y="3763800"/>
              <a:ext cx="43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4829040" y="3763800"/>
            <a:ext cx="607680" cy="474480"/>
            <a:chOff x="4829040" y="3763800"/>
            <a:chExt cx="607680" cy="474480"/>
          </a:xfrm>
        </p:grpSpPr>
        <p:sp>
          <p:nvSpPr>
            <p:cNvPr id="1220" name=""/>
            <p:cNvSpPr/>
            <p:nvPr/>
          </p:nvSpPr>
          <p:spPr>
            <a:xfrm>
              <a:off x="4829040" y="3763800"/>
              <a:ext cx="6076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02560" y="376380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5697360" y="3763800"/>
            <a:ext cx="609480" cy="474480"/>
            <a:chOff x="5697360" y="3763800"/>
            <a:chExt cx="609480" cy="474480"/>
          </a:xfrm>
        </p:grpSpPr>
        <p:sp>
          <p:nvSpPr>
            <p:cNvPr id="1223" name=""/>
            <p:cNvSpPr/>
            <p:nvPr/>
          </p:nvSpPr>
          <p:spPr>
            <a:xfrm>
              <a:off x="5697360" y="3763800"/>
              <a:ext cx="6094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71240" y="3763800"/>
              <a:ext cx="43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6827760" y="3763800"/>
            <a:ext cx="607680" cy="474480"/>
            <a:chOff x="6827760" y="3763800"/>
            <a:chExt cx="607680" cy="474480"/>
          </a:xfrm>
        </p:grpSpPr>
        <p:sp>
          <p:nvSpPr>
            <p:cNvPr id="1226" name=""/>
            <p:cNvSpPr/>
            <p:nvPr/>
          </p:nvSpPr>
          <p:spPr>
            <a:xfrm>
              <a:off x="6827760" y="3763800"/>
              <a:ext cx="6076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001280" y="376380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2916360" y="4807080"/>
            <a:ext cx="607680" cy="474120"/>
            <a:chOff x="2916360" y="4807080"/>
            <a:chExt cx="607680" cy="474120"/>
          </a:xfrm>
        </p:grpSpPr>
        <p:sp>
          <p:nvSpPr>
            <p:cNvPr id="1229" name=""/>
            <p:cNvSpPr/>
            <p:nvPr/>
          </p:nvSpPr>
          <p:spPr>
            <a:xfrm>
              <a:off x="291636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08988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4046400" y="4807080"/>
            <a:ext cx="607680" cy="474120"/>
            <a:chOff x="4046400" y="4807080"/>
            <a:chExt cx="607680" cy="474120"/>
          </a:xfrm>
        </p:grpSpPr>
        <p:sp>
          <p:nvSpPr>
            <p:cNvPr id="1232" name=""/>
            <p:cNvSpPr/>
            <p:nvPr/>
          </p:nvSpPr>
          <p:spPr>
            <a:xfrm>
              <a:off x="404640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1992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4046400" y="5850000"/>
            <a:ext cx="608040" cy="4744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219560" y="5850000"/>
            <a:ext cx="43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3350880" y="2532240"/>
            <a:ext cx="18255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4829040" y="2532240"/>
            <a:ext cx="3477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176800" y="2532240"/>
            <a:ext cx="86832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176800" y="2532240"/>
            <a:ext cx="27813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176640" y="3384720"/>
            <a:ext cx="6080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4829040" y="3384720"/>
            <a:ext cx="1731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5957640" y="3384720"/>
            <a:ext cx="26172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219720" y="3384720"/>
            <a:ext cx="7826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263400" y="4238640"/>
            <a:ext cx="60804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871800" y="4238640"/>
            <a:ext cx="43524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5784840" y="4807080"/>
            <a:ext cx="607680" cy="474120"/>
            <a:chOff x="5784840" y="4807080"/>
            <a:chExt cx="607680" cy="474120"/>
          </a:xfrm>
        </p:grpSpPr>
        <p:sp>
          <p:nvSpPr>
            <p:cNvPr id="1247" name=""/>
            <p:cNvSpPr/>
            <p:nvPr/>
          </p:nvSpPr>
          <p:spPr>
            <a:xfrm>
              <a:off x="578484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95836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7088040" y="4713120"/>
            <a:ext cx="609480" cy="473040"/>
            <a:chOff x="7088040" y="4713120"/>
            <a:chExt cx="609480" cy="473040"/>
          </a:xfrm>
        </p:grpSpPr>
        <p:sp>
          <p:nvSpPr>
            <p:cNvPr id="1250" name=""/>
            <p:cNvSpPr/>
            <p:nvPr/>
          </p:nvSpPr>
          <p:spPr>
            <a:xfrm>
              <a:off x="7088040" y="4713120"/>
              <a:ext cx="6094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261920" y="4713120"/>
              <a:ext cx="43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6045120" y="4238640"/>
            <a:ext cx="8748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262640" y="4238640"/>
            <a:ext cx="87480" cy="47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4307040" y="5281560"/>
            <a:ext cx="8712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3504960" y="2666880"/>
            <a:ext cx="1447560" cy="990720"/>
            <a:chOff x="3504960" y="2666880"/>
            <a:chExt cx="1447560" cy="990720"/>
          </a:xfrm>
        </p:grpSpPr>
        <p:sp>
          <p:nvSpPr>
            <p:cNvPr id="1256" name=""/>
            <p:cNvSpPr/>
            <p:nvPr/>
          </p:nvSpPr>
          <p:spPr>
            <a:xfrm flipH="1">
              <a:off x="3504960" y="2666880"/>
              <a:ext cx="144756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505320" y="2971800"/>
              <a:ext cx="456840" cy="6858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"/>
          <p:cNvSpPr/>
          <p:nvPr/>
        </p:nvSpPr>
        <p:spPr>
          <a:xfrm>
            <a:off x="3809880" y="4419720"/>
            <a:ext cx="152640" cy="15238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657600" y="2895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276720" y="5257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066680" y="37339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n) = g(n)+h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DE7-A6EB-4D4A-AA0A-019385B7F00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3" name=""/>
          <p:cNvSpPr/>
          <p:nvPr/>
        </p:nvSpPr>
        <p:spPr>
          <a:xfrm>
            <a:off x="2286000" y="597060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g(n) +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(n)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exact cost to reach nod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rom the initial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5" name=""/>
          <p:cNvGrpSpPr/>
          <p:nvPr/>
        </p:nvGrpSpPr>
        <p:grpSpPr>
          <a:xfrm>
            <a:off x="380880" y="1828800"/>
            <a:ext cx="3429000" cy="4559400"/>
            <a:chOff x="380880" y="1828800"/>
            <a:chExt cx="3429000" cy="4559400"/>
          </a:xfrm>
        </p:grpSpPr>
        <p:grpSp>
          <p:nvGrpSpPr>
            <p:cNvPr id="1266" name=""/>
            <p:cNvGrpSpPr/>
            <p:nvPr/>
          </p:nvGrpSpPr>
          <p:grpSpPr>
            <a:xfrm>
              <a:off x="2133720" y="1981080"/>
              <a:ext cx="457200" cy="457200"/>
              <a:chOff x="2133720" y="1981080"/>
              <a:chExt cx="457200" cy="457200"/>
            </a:xfrm>
          </p:grpSpPr>
          <p:sp>
            <p:nvSpPr>
              <p:cNvPr id="1267" name=""/>
              <p:cNvSpPr/>
              <p:nvPr/>
            </p:nvSpPr>
            <p:spPr>
              <a:xfrm>
                <a:off x="2133720" y="1981080"/>
                <a:ext cx="457200" cy="4572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209680" y="20574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3200400" y="2514600"/>
              <a:ext cx="457200" cy="457200"/>
              <a:chOff x="3200400" y="2514600"/>
              <a:chExt cx="457200" cy="457200"/>
            </a:xfrm>
          </p:grpSpPr>
          <p:sp>
            <p:nvSpPr>
              <p:cNvPr id="1270" name=""/>
              <p:cNvSpPr/>
              <p:nvPr/>
            </p:nvSpPr>
            <p:spPr>
              <a:xfrm>
                <a:off x="3200400" y="25146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276360" y="25909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533520" y="3429000"/>
              <a:ext cx="457200" cy="457200"/>
              <a:chOff x="533520" y="3429000"/>
              <a:chExt cx="457200" cy="457200"/>
            </a:xfrm>
          </p:grpSpPr>
          <p:sp>
            <p:nvSpPr>
              <p:cNvPr id="1273" name=""/>
              <p:cNvSpPr/>
              <p:nvPr/>
            </p:nvSpPr>
            <p:spPr>
              <a:xfrm>
                <a:off x="533520" y="34290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09480" y="35053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1066680" y="2666880"/>
              <a:ext cx="457200" cy="457200"/>
              <a:chOff x="1066680" y="2666880"/>
              <a:chExt cx="457200" cy="457200"/>
            </a:xfrm>
          </p:grpSpPr>
          <p:sp>
            <p:nvSpPr>
              <p:cNvPr id="1276" name=""/>
              <p:cNvSpPr/>
              <p:nvPr/>
            </p:nvSpPr>
            <p:spPr>
              <a:xfrm>
                <a:off x="1066680" y="26668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142640" y="2743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2209680" y="3124080"/>
              <a:ext cx="457200" cy="457200"/>
              <a:chOff x="2209680" y="3124080"/>
              <a:chExt cx="457200" cy="457200"/>
            </a:xfrm>
          </p:grpSpPr>
          <p:sp>
            <p:nvSpPr>
              <p:cNvPr id="1279" name=""/>
              <p:cNvSpPr/>
              <p:nvPr/>
            </p:nvSpPr>
            <p:spPr>
              <a:xfrm>
                <a:off x="2209680" y="31240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2285640" y="32004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2895480" y="4038480"/>
              <a:ext cx="457200" cy="457200"/>
              <a:chOff x="2895480" y="4038480"/>
              <a:chExt cx="45720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2895480" y="40384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297144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1905120" y="5715000"/>
              <a:ext cx="457200" cy="457200"/>
              <a:chOff x="1905120" y="5715000"/>
              <a:chExt cx="457200" cy="457200"/>
            </a:xfrm>
          </p:grpSpPr>
          <p:sp>
            <p:nvSpPr>
              <p:cNvPr id="1285" name=""/>
              <p:cNvSpPr/>
              <p:nvPr/>
            </p:nvSpPr>
            <p:spPr>
              <a:xfrm>
                <a:off x="1905120" y="571500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981080" y="5791320"/>
                <a:ext cx="30492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7" name=""/>
            <p:cNvSpPr/>
            <p:nvPr/>
          </p:nvSpPr>
          <p:spPr>
            <a:xfrm>
              <a:off x="2438280" y="358128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2133360" y="4495680"/>
              <a:ext cx="9903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66880" y="35053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9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666880" y="5105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2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1" name=""/>
            <p:cNvGrpSpPr/>
            <p:nvPr/>
          </p:nvGrpSpPr>
          <p:grpSpPr>
            <a:xfrm>
              <a:off x="1371600" y="4038480"/>
              <a:ext cx="457200" cy="457200"/>
              <a:chOff x="1371600" y="4038480"/>
              <a:chExt cx="457200" cy="457200"/>
            </a:xfrm>
          </p:grpSpPr>
          <p:sp>
            <p:nvSpPr>
              <p:cNvPr id="1292" name=""/>
              <p:cNvSpPr/>
              <p:nvPr/>
            </p:nvSpPr>
            <p:spPr>
              <a:xfrm>
                <a:off x="1371600" y="40384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44756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1143000" y="4952880"/>
              <a:ext cx="457200" cy="457200"/>
              <a:chOff x="1143000" y="4952880"/>
              <a:chExt cx="457200" cy="457200"/>
            </a:xfrm>
          </p:grpSpPr>
          <p:sp>
            <p:nvSpPr>
              <p:cNvPr id="1295" name=""/>
              <p:cNvSpPr/>
              <p:nvPr/>
            </p:nvSpPr>
            <p:spPr>
              <a:xfrm>
                <a:off x="1143000" y="49528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218960" y="5029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7" name=""/>
            <p:cNvSpPr/>
            <p:nvPr/>
          </p:nvSpPr>
          <p:spPr>
            <a:xfrm flipH="1">
              <a:off x="1523880" y="358128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1371240" y="44956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371600" y="54100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600200" y="3505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2320" y="2438280"/>
              <a:ext cx="1066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362320" y="2438280"/>
              <a:ext cx="75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1295280" y="243828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>
              <a:off x="761760" y="312408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590920" y="1828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438280" y="60199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o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990720" y="4572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9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295280" y="54864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819520" y="2133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71600" y="22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80880" y="30481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362320" y="2681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6CB-F88D-4670-B60C-7312AB0C1F9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15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7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310-816D-4CE6-90DD-E40BC07E01E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20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323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326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329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C6D3-FD8A-4A73-A2E4-55D04ACF374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43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5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346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349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1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352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355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360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2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0B2-E964-4C5A-814C-4B05A49278C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78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0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381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384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387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390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2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395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7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2743200" y="4800600"/>
            <a:ext cx="457200" cy="457200"/>
            <a:chOff x="2743200" y="4800600"/>
            <a:chExt cx="457200" cy="457200"/>
          </a:xfrm>
        </p:grpSpPr>
        <p:sp>
          <p:nvSpPr>
            <p:cNvPr id="1412" name=""/>
            <p:cNvSpPr/>
            <p:nvPr/>
          </p:nvSpPr>
          <p:spPr>
            <a:xfrm>
              <a:off x="274320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1916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"/>
          <p:cNvSpPr/>
          <p:nvPr/>
        </p:nvSpPr>
        <p:spPr>
          <a:xfrm flipH="1">
            <a:off x="3048120" y="43434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429000" y="4481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057400" y="48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C5E-5C3B-4969-B76F-3A65A7DD6F1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419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422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425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428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431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3" name="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434" name="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39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442" name="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4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4C5-45A4-40A6-B0A6-E11DB1842A5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66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467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470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473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476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479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482" name="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4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87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490" name="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2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514" name="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679-55BE-4E12-8491-6FC1D24E35A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520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523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526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8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529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532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535" name="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9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540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543" name="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5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567" name="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9" name="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036-FE4B-4805-B6A9-BD3F73A9321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Tahoma"/>
              </a:rPr>
              <a:t>More formally, why heuristic functions work?</a:t>
            </a:r>
            <a:endParaRPr b="0" lang="en-US" sz="3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y search problem where there are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oices at each node and a dep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the goal node, a naive search algorithm would have to, in the worst case, search arou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before finding a solution (Exponential Time Complexit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istics improve the efficiency of search algorithms by reducing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ffectiv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branching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 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(ideally) a low constant b* such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=&lt; b* &lt;&lt;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684-3E48-4756-8D5A-EA55C7E3A9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573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576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579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582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585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588" name="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593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596" name="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8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620" name="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2" name="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BAB-6919-40FF-83C9-50D2522A8CC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with f() not Admi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) overestimates the cost to reach the goal st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not admissible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27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1628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1631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1634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1637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1640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1643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1646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8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1653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1656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8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286000" y="597060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g(n) +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–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H-I) Overestim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(n)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exact cost to reach nod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rom the initial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4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5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05D-045C-436B-B649-6F365405500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678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E63-564B-46A1-8EF4-A1AA028CC72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683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5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686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689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692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F78-FAFB-48BF-BD1E-4502143FEC7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06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09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12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715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718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0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723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5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8CF-9073-40DE-9AE9-F9A2E54F014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41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3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44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6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47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9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750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2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753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5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758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0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2743200" y="4800600"/>
            <a:ext cx="457200" cy="457200"/>
            <a:chOff x="2743200" y="4800600"/>
            <a:chExt cx="457200" cy="457200"/>
          </a:xfrm>
        </p:grpSpPr>
        <p:sp>
          <p:nvSpPr>
            <p:cNvPr id="1775" name=""/>
            <p:cNvSpPr/>
            <p:nvPr/>
          </p:nvSpPr>
          <p:spPr>
            <a:xfrm>
              <a:off x="274320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81916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7" name=""/>
          <p:cNvSpPr/>
          <p:nvPr/>
        </p:nvSpPr>
        <p:spPr>
          <a:xfrm flipH="1">
            <a:off x="3048120" y="43434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3429000" y="4481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2057400" y="48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547-E1D2-4ABF-8F7D-68EBE552109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81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82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4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85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7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88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791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794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6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799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802" name="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4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823" name="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5" name="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9D68-FA42-4517-94AE-066B24D9137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28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829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832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835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7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38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41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3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46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849" name="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1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870" name="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2" name="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4" name="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1875" name="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7" name="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1A9-5FB4-4BEA-8B7D-4C41126B637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80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881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884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887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90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93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98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901" name="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3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922" name="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4" name="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6" name="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1927" name="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42D-1404-4308-9D06-76207736340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uristic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euristic function is a func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give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stim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 the “cost” of getting from n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the goal state – so that the node with the least cost among all possible choices can be selected for expansion fir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approaches to definin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sures the value of the current state (its “goodness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from the current sta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an estimate of the cost to get from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a go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state from th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urrent st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the cost of the existing path to it.  Often, in this case, we decompos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the cost to get to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m initial state)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0BD-42D3-4885-86A2-A43059BD83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32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933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5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936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939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1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942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4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945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7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9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950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2" name="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953" name="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5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3" name="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974" name="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6" name="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8" name="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1979" name="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1" name="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F85-CCB7-402D-BA4C-6C118B6209A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84" name="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985" name="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7" name="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988" name="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0" name="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991" name="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3" name="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994" name="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6" name="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997" name="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2002" name="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2005" name="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7" name="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5" name="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2026" name="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8" name="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2031" name="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3" name="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1905120" y="5715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not optimal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A09-D26C-4EB5-B624-32C45127C43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* with systematic checking for repeated stat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  Search queue Q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  Place the start state s in Q with f  value h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  If Q is empty, return fail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  Take node n from Q with lowest 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Keep Q sorted by f  values and pick the first elemen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   If n is a goal node, stop and return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   Generate successors of node 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   For each successor n’ of n 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Compute f(n’) = g(n) + cost(n,n’) + h(n’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 If n’ is new (never generated before), add n’ to Q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) If node n’ is already in Q with a higher f value, replace it with current f(n’) and place it in sorted order in Q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   Go back to step 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38F-7176-4E24-BB00-A207F46CD54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41" name="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042" name="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4" name="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045" name="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048" name="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0" name="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051" name="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054" name="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6" name="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057" name="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9" name="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060" name="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2" name="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6" name="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067" name="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070" name="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2" name="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3809880" y="1684440"/>
            <a:ext cx="51055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is complete except if there is an infinity of nodes with f &lt; f(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is optimal if heuristic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dmi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mplexity depends on the quality of heuristic but is still expon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ace complexity, A* keeps all nodes in memory. A* has worst case 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pace complexity, but an iterative deepening version is possible (IDA*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8AC-1D6D-46AC-9228-F5ECC3F7DA1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ve Deepening A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erative Deepening A*:IDA*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) = g(N) + h(N) with admissible and consistent 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iteration is depth-first with cutoff on the value of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expanded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87A-4761-44FB-9B6D-A272A136F2C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onsistent Heuristic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dmissible heuristic h is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or satisfies the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monotone restri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f for every node N and every successor N’ of N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(N)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 c(N,N’) + h(N’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triangular inequ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sistent heuristic is admis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5" name=""/>
          <p:cNvGrpSpPr/>
          <p:nvPr/>
        </p:nvGrpSpPr>
        <p:grpSpPr>
          <a:xfrm>
            <a:off x="6863040" y="3200400"/>
            <a:ext cx="1773720" cy="2133360"/>
            <a:chOff x="6863040" y="3200400"/>
            <a:chExt cx="1773720" cy="2133360"/>
          </a:xfrm>
        </p:grpSpPr>
        <p:grpSp>
          <p:nvGrpSpPr>
            <p:cNvPr id="2096" name=""/>
            <p:cNvGrpSpPr/>
            <p:nvPr/>
          </p:nvGrpSpPr>
          <p:grpSpPr>
            <a:xfrm>
              <a:off x="7467480" y="3352680"/>
              <a:ext cx="762120" cy="1981080"/>
              <a:chOff x="7467480" y="3352680"/>
              <a:chExt cx="762120" cy="1981080"/>
            </a:xfrm>
          </p:grpSpPr>
          <p:sp>
            <p:nvSpPr>
              <p:cNvPr id="2097" name=""/>
              <p:cNvSpPr/>
              <p:nvPr/>
            </p:nvSpPr>
            <p:spPr>
              <a:xfrm>
                <a:off x="7772400" y="3352680"/>
                <a:ext cx="152280" cy="152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467480" y="4267080"/>
                <a:ext cx="152640" cy="152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8077320" y="5181480"/>
                <a:ext cx="152280" cy="1522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H="1">
                <a:off x="7543440" y="3504960"/>
                <a:ext cx="30492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7543800" y="4419360"/>
                <a:ext cx="60948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7848720" y="3504960"/>
                <a:ext cx="30456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3" name=""/>
            <p:cNvSpPr/>
            <p:nvPr/>
          </p:nvSpPr>
          <p:spPr>
            <a:xfrm>
              <a:off x="7455240" y="32004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080120" y="4114800"/>
              <a:ext cx="46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8003520" y="41148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h(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169400" y="464796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h(N’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863040" y="3657600"/>
              <a:ext cx="87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c(N,N’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481-38CA-4752-B545-6E9CC38923D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IDA* Algorith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first iteration, we determine a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“f-cost limit” – cut-off 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g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+ h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h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wher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start n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expand nodes using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epth-first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backtrack whenever f(n) for an expanded node n exceeds the cut-of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is search does not succeed, determine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lowest f-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mong the nodes that were visited but not expan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is f-value as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new limit value – cut-off 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do another depth-first 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this procedure until a goal node is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C30-2C5E-496C-8F6A-964BA1F5651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11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112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123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133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134" name=""/>
              <p:cNvSpPr/>
              <p:nvPr/>
            </p:nvSpPr>
            <p:spPr>
              <a:xfrm>
                <a:off x="2590920" y="53341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74320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90920" y="54864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743200" y="54864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895480" y="54864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590920" y="56386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895480" y="56386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7432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895480" y="53341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4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5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83F-040A-43C1-995E-75C18C22154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1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Value of the Current State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the case when solving optimization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ing a state such that the value of the metr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optim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, in these cas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uld be a weighted sum of a set of componen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-Que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number of queens under attack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“predictive-ness” (a.k.a. accuracy) of a rule dis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20A-AEB4-4906-8F24-799CD2C205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149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9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160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9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170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171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1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2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183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184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5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186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95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6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7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198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199" name=""/>
              <p:cNvSpPr/>
              <p:nvPr/>
            </p:nvSpPr>
            <p:spPr>
              <a:xfrm>
                <a:off x="3809880" y="53341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396252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809880" y="5486400"/>
                <a:ext cx="15264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3962520" y="56386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962520" y="54864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3809880" y="56386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114800" y="54864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41148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114800" y="53341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9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0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7C9-1794-4D38-95A7-8F36114522A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12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213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224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234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235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5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6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247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248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9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250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59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0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1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262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263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4" name="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265" name="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4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5" name="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276" name="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277" name="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7" name="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8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17D-15B5-4F3D-A8FD-B90F1779B28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90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291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1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302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1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312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313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3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4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325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326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7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328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37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8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9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340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341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2" name="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343" name="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52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3" name="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354" name="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355" name="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5" name="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6" name=""/>
          <p:cNvGrpSpPr/>
          <p:nvPr/>
        </p:nvGrpSpPr>
        <p:grpSpPr>
          <a:xfrm>
            <a:off x="3048120" y="2133720"/>
            <a:ext cx="1218960" cy="2209320"/>
            <a:chOff x="3048120" y="2133720"/>
            <a:chExt cx="1218960" cy="2209320"/>
          </a:xfrm>
        </p:grpSpPr>
        <p:grpSp>
          <p:nvGrpSpPr>
            <p:cNvPr id="2367" name=""/>
            <p:cNvGrpSpPr/>
            <p:nvPr/>
          </p:nvGrpSpPr>
          <p:grpSpPr>
            <a:xfrm>
              <a:off x="3809880" y="2133720"/>
              <a:ext cx="457200" cy="779760"/>
              <a:chOff x="3809880" y="2133720"/>
              <a:chExt cx="457200" cy="779760"/>
            </a:xfrm>
          </p:grpSpPr>
          <p:sp>
            <p:nvSpPr>
              <p:cNvPr id="2368" name=""/>
              <p:cNvSpPr/>
              <p:nvPr/>
            </p:nvSpPr>
            <p:spPr>
              <a:xfrm>
                <a:off x="3809880" y="21337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3962520" y="21337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3962520" y="22860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3962520" y="24382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114800" y="22860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3809880" y="24382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3809880" y="22860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114800" y="24382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4114800" y="21337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3884040" y="2514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8" name=""/>
            <p:cNvSpPr/>
            <p:nvPr/>
          </p:nvSpPr>
          <p:spPr>
            <a:xfrm flipV="1">
              <a:off x="3048120" y="2361960"/>
              <a:ext cx="7617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9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842-43F9-46A8-898A-50AD2B24F76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0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381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382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2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94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395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5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406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5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416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417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8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419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28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0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431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432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3" name="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434" name="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43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445" name="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446" name="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6" name="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7" name=""/>
          <p:cNvGrpSpPr/>
          <p:nvPr/>
        </p:nvGrpSpPr>
        <p:grpSpPr>
          <a:xfrm>
            <a:off x="3048120" y="2133720"/>
            <a:ext cx="1218960" cy="2209320"/>
            <a:chOff x="3048120" y="2133720"/>
            <a:chExt cx="1218960" cy="2209320"/>
          </a:xfrm>
        </p:grpSpPr>
        <p:grpSp>
          <p:nvGrpSpPr>
            <p:cNvPr id="2458" name=""/>
            <p:cNvGrpSpPr/>
            <p:nvPr/>
          </p:nvGrpSpPr>
          <p:grpSpPr>
            <a:xfrm>
              <a:off x="3809880" y="2133720"/>
              <a:ext cx="457200" cy="779760"/>
              <a:chOff x="3809880" y="2133720"/>
              <a:chExt cx="457200" cy="779760"/>
            </a:xfrm>
          </p:grpSpPr>
          <p:sp>
            <p:nvSpPr>
              <p:cNvPr id="2459" name=""/>
              <p:cNvSpPr/>
              <p:nvPr/>
            </p:nvSpPr>
            <p:spPr>
              <a:xfrm>
                <a:off x="3884040" y="2514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3809880" y="2133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3962520" y="2133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3962520" y="22860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396252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4114800" y="22860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3809880" y="24382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3809880" y="22860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411480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4114800" y="2133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9" name=""/>
            <p:cNvSpPr/>
            <p:nvPr/>
          </p:nvSpPr>
          <p:spPr>
            <a:xfrm flipV="1">
              <a:off x="3048120" y="2361960"/>
              <a:ext cx="7617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0" name=""/>
          <p:cNvGrpSpPr/>
          <p:nvPr/>
        </p:nvGrpSpPr>
        <p:grpSpPr>
          <a:xfrm>
            <a:off x="1828800" y="2133720"/>
            <a:ext cx="1219320" cy="1752120"/>
            <a:chOff x="1828800" y="2133720"/>
            <a:chExt cx="1219320" cy="1752120"/>
          </a:xfrm>
        </p:grpSpPr>
        <p:grpSp>
          <p:nvGrpSpPr>
            <p:cNvPr id="2471" name=""/>
            <p:cNvGrpSpPr/>
            <p:nvPr/>
          </p:nvGrpSpPr>
          <p:grpSpPr>
            <a:xfrm>
              <a:off x="2590920" y="2133720"/>
              <a:ext cx="457200" cy="779760"/>
              <a:chOff x="2590920" y="2133720"/>
              <a:chExt cx="457200" cy="779760"/>
            </a:xfrm>
          </p:grpSpPr>
          <p:sp>
            <p:nvSpPr>
              <p:cNvPr id="2472" name=""/>
              <p:cNvSpPr/>
              <p:nvPr/>
            </p:nvSpPr>
            <p:spPr>
              <a:xfrm>
                <a:off x="2590920" y="21337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2743200" y="21337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2590920" y="22860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2743200" y="22860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2895480" y="22860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2743200" y="24382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259092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2895480" y="24382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2895480" y="21337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2664720" y="2514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2" name=""/>
            <p:cNvSpPr/>
            <p:nvPr/>
          </p:nvSpPr>
          <p:spPr>
            <a:xfrm flipV="1">
              <a:off x="1828800" y="2361960"/>
              <a:ext cx="762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8A10-D868-4243-9841-265EDA5D315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85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486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6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497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6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507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508" name=""/>
              <p:cNvSpPr/>
              <p:nvPr/>
            </p:nvSpPr>
            <p:spPr>
              <a:xfrm>
                <a:off x="2590920" y="53341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274320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2590920" y="54864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2743200" y="54864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2895480" y="54864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2590920" y="56386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2895480" y="56386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27432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2895480" y="53341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8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9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EE1-B8B6-4FDE-A7E4-008C08EB39A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22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523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3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534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3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544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545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5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6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557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558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9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69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0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1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572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573" name=""/>
              <p:cNvSpPr/>
              <p:nvPr/>
            </p:nvSpPr>
            <p:spPr>
              <a:xfrm>
                <a:off x="3809880" y="53341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96252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809880" y="5486400"/>
                <a:ext cx="15264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962520" y="56386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962520" y="54864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809880" y="56386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4114800" y="54864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41148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4114800" y="53341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3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4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7BD-6213-4CE6-90AC-1B7B14BB5B1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86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587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7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598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7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608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609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9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0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621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622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3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624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3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4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5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636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637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8" name="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639" name="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8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9" name="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650" name="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651" name="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1" name="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2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83A-E2E1-4527-AD64-2143961F7CF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64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665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5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676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686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687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7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8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699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700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01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702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1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2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3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714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715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6" name="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717" name="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26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7" name="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728" name="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729" name="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9" name="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0" name=""/>
          <p:cNvGrpSpPr/>
          <p:nvPr/>
        </p:nvGrpSpPr>
        <p:grpSpPr>
          <a:xfrm>
            <a:off x="5029200" y="4648320"/>
            <a:ext cx="457200" cy="778320"/>
            <a:chOff x="5029200" y="4648320"/>
            <a:chExt cx="457200" cy="778320"/>
          </a:xfrm>
        </p:grpSpPr>
        <p:sp>
          <p:nvSpPr>
            <p:cNvPr id="2741" name=""/>
            <p:cNvSpPr/>
            <p:nvPr/>
          </p:nvSpPr>
          <p:spPr>
            <a:xfrm>
              <a:off x="5029200" y="464832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181480" y="4800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029200" y="4800600"/>
              <a:ext cx="152280" cy="152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334120" y="480060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029200" y="4952880"/>
              <a:ext cx="152280" cy="152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334120" y="46483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334120" y="495288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181480" y="4648320"/>
              <a:ext cx="1526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115960" y="502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0" name=""/>
          <p:cNvSpPr/>
          <p:nvPr/>
        </p:nvSpPr>
        <p:spPr>
          <a:xfrm>
            <a:off x="5181480" y="49528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4267080" y="43434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08D-347A-4B53-956D-5E75BDFC889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754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755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5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766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5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776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777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7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8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789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790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1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792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1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2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3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804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805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6" name="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807" name="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16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7" name="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818" name="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819" name="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9" name="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0" name="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2831" name="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2832" name="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2" name="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3" name="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2844" name="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2845" name="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5" name="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6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AFF-2A7F-4426-8C1E-8B627CC8C51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58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859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9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870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9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880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881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1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2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893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894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5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896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05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6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7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908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909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0" name="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911" name="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20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1" name="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922" name="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923" name="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3" name="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4" name="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2935" name="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2936" name="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7" name="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2948" name="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2949" name="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9" name="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0" name=""/>
          <p:cNvGrpSpPr/>
          <p:nvPr/>
        </p:nvGrpSpPr>
        <p:grpSpPr>
          <a:xfrm>
            <a:off x="5486400" y="3733920"/>
            <a:ext cx="1219320" cy="778320"/>
            <a:chOff x="5486400" y="3733920"/>
            <a:chExt cx="1219320" cy="778320"/>
          </a:xfrm>
        </p:grpSpPr>
        <p:grpSp>
          <p:nvGrpSpPr>
            <p:cNvPr id="2961" name=""/>
            <p:cNvGrpSpPr/>
            <p:nvPr/>
          </p:nvGrpSpPr>
          <p:grpSpPr>
            <a:xfrm>
              <a:off x="6248520" y="3733920"/>
              <a:ext cx="457200" cy="778320"/>
              <a:chOff x="6248520" y="3733920"/>
              <a:chExt cx="457200" cy="778320"/>
            </a:xfrm>
          </p:grpSpPr>
          <p:sp>
            <p:nvSpPr>
              <p:cNvPr id="2962" name=""/>
              <p:cNvSpPr/>
              <p:nvPr/>
            </p:nvSpPr>
            <p:spPr>
              <a:xfrm>
                <a:off x="6400800" y="37339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400800" y="38862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248520" y="373392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6400800" y="40384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553080" y="38862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624852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248520" y="3886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6553080" y="40384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553080" y="37339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633528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2" name=""/>
            <p:cNvSpPr/>
            <p:nvPr/>
          </p:nvSpPr>
          <p:spPr>
            <a:xfrm>
              <a:off x="5486400" y="39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3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C7B-C1E9-44AE-95B2-073024824E6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2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Cost to the Goal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t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uld be better than a st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the estimated cost of getting fro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goal is lower than tha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becaus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uld be closer to the goal th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145120" y="4089240"/>
            <a:ext cx="3809880" cy="1930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04920" y="4191120"/>
            <a:ext cx="4495680" cy="20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–Puzz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number of misplaced tiles (squares with numb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m of the distances of the tiles from their goal pos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4D5-94BA-4466-9FDE-44DD5852E2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5" name="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976" name="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6" name="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987" name="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6" name="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997" name="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998" name="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8" name="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3010" name="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3011" name="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2" name="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3013" name="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22" name="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3" name="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4" name="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3025" name="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3026" name="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27" name="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3028" name="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37" name="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3039" name="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3040" name="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0" name="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3052" name="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3053" name="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3" name="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4" name="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3065" name="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3066" name="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6" name="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7" name=""/>
          <p:cNvGrpSpPr/>
          <p:nvPr/>
        </p:nvGrpSpPr>
        <p:grpSpPr>
          <a:xfrm>
            <a:off x="5486400" y="3733920"/>
            <a:ext cx="1219320" cy="778320"/>
            <a:chOff x="5486400" y="3733920"/>
            <a:chExt cx="1219320" cy="778320"/>
          </a:xfrm>
        </p:grpSpPr>
        <p:grpSp>
          <p:nvGrpSpPr>
            <p:cNvPr id="3078" name=""/>
            <p:cNvGrpSpPr/>
            <p:nvPr/>
          </p:nvGrpSpPr>
          <p:grpSpPr>
            <a:xfrm>
              <a:off x="6248520" y="3733920"/>
              <a:ext cx="457200" cy="778320"/>
              <a:chOff x="6248520" y="3733920"/>
              <a:chExt cx="457200" cy="778320"/>
            </a:xfrm>
          </p:grpSpPr>
          <p:sp>
            <p:nvSpPr>
              <p:cNvPr id="3079" name=""/>
              <p:cNvSpPr/>
              <p:nvPr/>
            </p:nvSpPr>
            <p:spPr>
              <a:xfrm>
                <a:off x="6400800" y="37339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400800" y="38862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248520" y="373392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400800" y="40384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553080" y="38862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24852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248520" y="3886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553080" y="40384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553080" y="37339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33528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9" name=""/>
            <p:cNvSpPr/>
            <p:nvPr/>
          </p:nvSpPr>
          <p:spPr>
            <a:xfrm>
              <a:off x="5486400" y="39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0" name=""/>
          <p:cNvSpPr/>
          <p:nvPr/>
        </p:nvSpPr>
        <p:spPr>
          <a:xfrm>
            <a:off x="6705720" y="39625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3AF-C038-4A1E-98A1-CB2B16F7DFF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to Use Search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arch space is small,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no other available techniques,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not worth the effort to develop a more efficient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arch space is large,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other available techniques,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exist 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heu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4A2-ED3B-4215-ABDC-C382A91314F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ustr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n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arch led to the idea of using domain specific knowledge in a search so that one can intelligently explore only the relevant part of the search space that has a good chance of containing the goal state. These new techniques are called informed (heuristic) search strateg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though heuristics improve the performance of informed search algorithms, they are still time consuming especially for large size insta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B23-07D9-4CBD-AA27-D48D4504688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142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Approach 3: </a:t>
            </a:r>
            <a:r>
              <a:rPr b="0" i="1" lang="en-US" sz="3000" spc="-1" strike="noStrike">
                <a:solidFill>
                  <a:srgbClr val="333399"/>
                </a:solidFill>
                <a:latin typeface="Tahoma"/>
              </a:rPr>
              <a:t>f </a:t>
            </a: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measures the total cost of the solution path (Admissible Heuristic Functions)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heuristic function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f(n) = g(n) + h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admissible if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h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verestimates the cost to reach the goal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ssible heuristics are “optimistic”: “the cost is not that much …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owever,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g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the exact cost to reach node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rom the initial stat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f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never over-estimate the true cost to reach the goal state through node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Theorem: A search is optimal if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(n)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 is admissibl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I.e. The search using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(n)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 returns an optimal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Given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 &gt; 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1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 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for all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n, 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it’s always more </a:t>
            </a:r>
            <a:r>
              <a:rPr b="0" lang="en-US" sz="2300" spc="-1" strike="noStrike" u="sng">
                <a:solidFill>
                  <a:srgbClr val="971103"/>
                </a:solidFill>
                <a:uFillTx/>
                <a:latin typeface="Times New Roman"/>
              </a:rPr>
              <a:t>efficient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 to use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is more realistic than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971103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(more informed)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, though both are optimis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20A-282B-45F8-BEB5-09F54B0D9E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2:19:02Z</dcterms:created>
  <dc:creator>mbatouche</dc:creator>
  <dc:description/>
  <dc:language>en-US</dc:language>
  <cp:lastModifiedBy> </cp:lastModifiedBy>
  <dcterms:modified xsi:type="dcterms:W3CDTF">2009-03-10T07:03:21Z</dcterms:modified>
  <cp:revision>95</cp:revision>
  <dc:subject/>
  <dc:title>Artificial Intelligence CSC 361</dc:title>
</cp:coreProperties>
</file>