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637-AFE0-4ACA-A38D-3B191C42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AEA-1092-4282-8C66-E4E4D8EA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9A8-5CBB-4A35-9AB3-1BA99577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1E5-00FF-4B29-B320-BE6059EA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AE2B-66D6-4C01-B15B-2E2A9431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B40A-E56F-4DB4-9D2A-4E38E7CC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1510-62FE-41D1-A157-C5A6AC9F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433E-9A06-400F-9037-FB28D2C7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0FDA-6BD0-4301-9A4F-F6FC6D3E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8C8A-A91A-4611-93F4-3EB284B1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46C3-02D5-482D-B958-CD5BC9D3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C1F-229E-41F0-8031-96CCAA87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1AFE-1497-4954-8B1E-6503E8F9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0DD5-7DE8-42D7-80BD-46C66B39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9C9D-3F67-45B9-808F-9E2E61A4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D8B9-FC81-4DA1-9935-473F16EF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4F07-188A-4848-874F-BB71016B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74C-2E29-4BC5-90BA-C859B4D4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599-07F9-42C0-8398-B550D2D7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8A7-D9DE-40E1-84A6-E926E41A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7E4-CAF2-4E13-946D-DA753CBD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144-F070-4E71-AA21-3091D837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06D-305E-4D9E-9C7B-A29509E8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1FC-CD96-4F47-983D-5B87F50C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0FD4-7B6A-43D2-AA61-2660AE35F72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C6DB-C7C0-4121-8932-1F948407882B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/" TargetMode="External"/><Relationship Id="rId3" Type="http://schemas.openxmlformats.org/officeDocument/2006/relationships/hyperlink" Target="http://faculty.ksu.edu.sa/YAlohali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ranching_factor" TargetMode="External"/><Relationship Id="rId2" Type="http://schemas.openxmlformats.org/officeDocument/2006/relationships/hyperlink" Target="http://en.wikipedia.org/wiki/Branching_factor" TargetMode="Externa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br>
              <a:rPr sz="4000"/>
            </a:b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Problem solving by search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ousef Al-Oh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mputer Science Depa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CIS – King Saud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audi Arab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yousef@ccis.edu.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3"/>
              </a:rPr>
              <a:t>faculty.ksu.edu.sa/YAloh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ditional 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dy Best first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hooses the successor node with the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”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n) = 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the one that is nearest to the final state among all possible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*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first search using an “admissible” heuristic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akes into account the current c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returns the optimal solu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7C6-0233-444C-802F-9AF658B214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mplementation of Best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ST-FIRST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al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solution sequence, or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uing-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a function that sorts nodes b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al-f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euing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016-1FE4-4F46-A6F0-0A2452EAB9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edy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 =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91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94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97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00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03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06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09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16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19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E69-1820-44FC-BC1C-57C9B33787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41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44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47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50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53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56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59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66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69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 flipH="1">
            <a:off x="2057040" y="2286000"/>
            <a:ext cx="228600" cy="3581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5EC-0EBC-4A45-8D1B-F7DECC14A7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92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95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98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01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04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07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10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17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20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 flipH="1">
            <a:off x="2133720" y="2895480"/>
            <a:ext cx="1218960" cy="2971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825-4B49-4934-9B19-0BC7520EB3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43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46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49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52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55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58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61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68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71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295280" y="2971800"/>
            <a:ext cx="838440" cy="28954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A34-7873-45A4-8F40-5A7E1574CE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94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97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00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03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06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09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12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19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22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"/>
          <p:cNvSpPr/>
          <p:nvPr/>
        </p:nvSpPr>
        <p:spPr>
          <a:xfrm>
            <a:off x="762120" y="3809880"/>
            <a:ext cx="1295280" cy="2057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B2C-F30D-4E4B-A322-AA3BDF4800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45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48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51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54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57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60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63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70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73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133360" y="3505320"/>
            <a:ext cx="228600" cy="23619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B77-295B-437F-8ABF-4524835779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olving by Searching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 Methods 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nformed (Heuristic) 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96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99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02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05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08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11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14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21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24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2133720" y="4343400"/>
            <a:ext cx="9144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921-5354-49B6-842E-67FD1918D6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47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50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53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56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59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62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65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72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75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4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76520" y="4419720"/>
            <a:ext cx="4572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894-BF68-42FC-A16B-AF490977ED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98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01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04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07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10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13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16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23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26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447920" y="5181480"/>
            <a:ext cx="685800" cy="685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8CD-AA84-4880-B24A-C592B7E3F8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49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52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55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58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61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64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67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74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77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458-100D-4660-87AC-9E6546192D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699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2CA-5F11-49C1-A31F-C1017DCB9D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04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07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10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13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67F-3B1B-4C88-942E-1A37FBEB2F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27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30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33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36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739" name="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744" name="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747" name="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2A4-F6E7-45D1-A482-BDEDD95D6D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67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70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73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76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779" name="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782" name="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789" name="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792" name="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13" name="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32E-9F07-4A95-94F6-C5E103F70C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819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822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825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828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31" name="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34" name="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41" name="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44" name="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65" name="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52280" y="6078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th cost(A-E-F-I) = 253 + 178 + 0 =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F-I) = 140 + 99 + 211 =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5E5-EABB-47C1-B52E-C59AB97F1C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Optimal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872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875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878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881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884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887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890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897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00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657600" y="5943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G-H-I) =140+80+97+101=</a:t>
            </a:r>
            <a:r>
              <a:rPr b="1" lang="en-US" sz="1800" spc="-1" strike="noStrike">
                <a:solidFill>
                  <a:srgbClr val="f466e0"/>
                </a:solidFill>
                <a:latin typeface="Tahoma"/>
              </a:rPr>
              <a:t>4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9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924680" y="6248520"/>
            <a:ext cx="6098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82E-B705-44E8-8FC4-B4D0AAF981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22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incorporating knowledge into searching, one can have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a preference) on the search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 bias, one is forced to look everywhere to find the answer.  Hence, the complexity of uninformed search is intrac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45120" y="281448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588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everywher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2F0-4EF8-4C4C-BB12-EEAF1D447F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Complete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923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26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29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32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35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38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41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48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51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0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3AD-CDC9-4229-B062-AEEB031775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973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8A1-8FBF-4708-BB48-EEC3A3270F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978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981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984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987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5F6-A7E7-453A-AD2A-2D3DD5E984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1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04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07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10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13" name="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B50-BB76-44A3-9F38-8EE8719A66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30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33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36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39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42" name="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058" name="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78C-7D4E-4376-A712-8A453D1E99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65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68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71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74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77" name="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093" name="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096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EE6-A1B6-42E5-92F9-AA6F4E4794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106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109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12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15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18" name="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34" name="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37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1EB-4007-4E92-A9A0-ABFF208932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ime and Space Complexity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147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150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153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156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159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162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165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172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175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7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733920" y="2133720"/>
            <a:ext cx="5181480" cy="48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not opt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incomplet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ithout systematic checking of repeated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worst case, the Time and Space Complexity of Greedy Search are both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b is the branching factor and m the maximum path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F60-8416-48C0-8C36-9F0F64DD13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* Sear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=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dy Search minimizes a heuristic h(n) which is an estimated cost from a node n to the goal state. Greedy Search is efficient but it is not optimal nor comple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Cost Search minimizes the cost g(n) from the initial state to n. UCS is optimal and complete but not effic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trate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bine Greedy Search and UCS to get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hm which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te and opt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0C2-7E7E-4E57-B6BC-9C44AA1DE7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knowledge, one can search the state space as if he was given “hints” when exploring a ma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 information in search = H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dramatic speed up in efficienc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33720" y="3962520"/>
            <a:ext cx="5333400" cy="2702520"/>
            <a:chOff x="2133720" y="3962520"/>
            <a:chExt cx="5333400" cy="2702520"/>
          </a:xfrm>
        </p:grpSpPr>
        <p:grpSp>
          <p:nvGrpSpPr>
            <p:cNvPr id="109" name=""/>
            <p:cNvGrpSpPr/>
            <p:nvPr/>
          </p:nvGrpSpPr>
          <p:grpSpPr>
            <a:xfrm>
              <a:off x="4537800" y="3962520"/>
              <a:ext cx="525600" cy="368280"/>
              <a:chOff x="4537800" y="3962520"/>
              <a:chExt cx="525600" cy="368280"/>
            </a:xfrm>
          </p:grpSpPr>
          <p:sp>
            <p:nvSpPr>
              <p:cNvPr id="110" name=""/>
              <p:cNvSpPr/>
              <p:nvPr/>
            </p:nvSpPr>
            <p:spPr>
              <a:xfrm>
                <a:off x="4537800" y="396252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87920" y="396252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809800" y="4487760"/>
              <a:ext cx="525600" cy="368280"/>
              <a:chOff x="2809800" y="4487760"/>
              <a:chExt cx="525600" cy="368280"/>
            </a:xfrm>
          </p:grpSpPr>
          <p:sp>
            <p:nvSpPr>
              <p:cNvPr id="113" name=""/>
              <p:cNvSpPr/>
              <p:nvPr/>
            </p:nvSpPr>
            <p:spPr>
              <a:xfrm>
                <a:off x="28098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599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4086720" y="4487760"/>
              <a:ext cx="525600" cy="368280"/>
              <a:chOff x="4086720" y="4487760"/>
              <a:chExt cx="525600" cy="368280"/>
            </a:xfrm>
          </p:grpSpPr>
          <p:sp>
            <p:nvSpPr>
              <p:cNvPr id="116" name=""/>
              <p:cNvSpPr/>
              <p:nvPr/>
            </p:nvSpPr>
            <p:spPr>
              <a:xfrm>
                <a:off x="40867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368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941520" y="4487760"/>
              <a:ext cx="525600" cy="368280"/>
              <a:chOff x="6941520" y="4487760"/>
              <a:chExt cx="525600" cy="368280"/>
            </a:xfrm>
          </p:grpSpPr>
          <p:sp>
            <p:nvSpPr>
              <p:cNvPr id="119" name=""/>
              <p:cNvSpPr/>
              <p:nvPr/>
            </p:nvSpPr>
            <p:spPr>
              <a:xfrm>
                <a:off x="69415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916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364000" y="4487760"/>
              <a:ext cx="525600" cy="368280"/>
              <a:chOff x="5364000" y="4487760"/>
              <a:chExt cx="525600" cy="368280"/>
            </a:xfrm>
          </p:grpSpPr>
          <p:sp>
            <p:nvSpPr>
              <p:cNvPr id="122" name=""/>
              <p:cNvSpPr/>
              <p:nvPr/>
            </p:nvSpPr>
            <p:spPr>
              <a:xfrm>
                <a:off x="53640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141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133720" y="5013000"/>
              <a:ext cx="525600" cy="368280"/>
              <a:chOff x="2133720" y="5013000"/>
              <a:chExt cx="525600" cy="368280"/>
            </a:xfrm>
          </p:grpSpPr>
          <p:sp>
            <p:nvSpPr>
              <p:cNvPr id="125" name=""/>
              <p:cNvSpPr/>
              <p:nvPr/>
            </p:nvSpPr>
            <p:spPr>
              <a:xfrm>
                <a:off x="213372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8384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3335760" y="5013000"/>
              <a:ext cx="525600" cy="368280"/>
              <a:chOff x="3335760" y="5013000"/>
              <a:chExt cx="525600" cy="368280"/>
            </a:xfrm>
          </p:grpSpPr>
          <p:sp>
            <p:nvSpPr>
              <p:cNvPr id="128" name=""/>
              <p:cNvSpPr/>
              <p:nvPr/>
            </p:nvSpPr>
            <p:spPr>
              <a:xfrm>
                <a:off x="33357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858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462560" y="5013000"/>
              <a:ext cx="525600" cy="368280"/>
              <a:chOff x="4462560" y="5013000"/>
              <a:chExt cx="525600" cy="368280"/>
            </a:xfrm>
          </p:grpSpPr>
          <p:sp>
            <p:nvSpPr>
              <p:cNvPr id="131" name=""/>
              <p:cNvSpPr/>
              <p:nvPr/>
            </p:nvSpPr>
            <p:spPr>
              <a:xfrm>
                <a:off x="44625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126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213880" y="5013000"/>
              <a:ext cx="525600" cy="368280"/>
              <a:chOff x="5213880" y="5013000"/>
              <a:chExt cx="525600" cy="368280"/>
            </a:xfrm>
          </p:grpSpPr>
          <p:sp>
            <p:nvSpPr>
              <p:cNvPr id="134" name=""/>
              <p:cNvSpPr/>
              <p:nvPr/>
            </p:nvSpPr>
            <p:spPr>
              <a:xfrm>
                <a:off x="521388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36400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190200" y="5013000"/>
              <a:ext cx="525600" cy="368280"/>
              <a:chOff x="6190200" y="5013000"/>
              <a:chExt cx="525600" cy="368280"/>
            </a:xfrm>
          </p:grpSpPr>
          <p:sp>
            <p:nvSpPr>
              <p:cNvPr id="137" name=""/>
              <p:cNvSpPr/>
              <p:nvPr/>
            </p:nvSpPr>
            <p:spPr>
              <a:xfrm>
                <a:off x="619020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4032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809800" y="5654880"/>
              <a:ext cx="525600" cy="368280"/>
              <a:chOff x="2809800" y="5654880"/>
              <a:chExt cx="525600" cy="368280"/>
            </a:xfrm>
          </p:grpSpPr>
          <p:sp>
            <p:nvSpPr>
              <p:cNvPr id="140" name=""/>
              <p:cNvSpPr/>
              <p:nvPr/>
            </p:nvSpPr>
            <p:spPr>
              <a:xfrm>
                <a:off x="280980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5992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786480" y="5654880"/>
              <a:ext cx="525600" cy="368280"/>
              <a:chOff x="3786480" y="5654880"/>
              <a:chExt cx="525600" cy="368280"/>
            </a:xfrm>
          </p:grpSpPr>
          <p:sp>
            <p:nvSpPr>
              <p:cNvPr id="143" name=""/>
              <p:cNvSpPr/>
              <p:nvPr/>
            </p:nvSpPr>
            <p:spPr>
              <a:xfrm>
                <a:off x="378648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93660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3786480" y="6296760"/>
              <a:ext cx="525600" cy="2919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36600" y="6296760"/>
              <a:ext cx="3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85280" y="4254120"/>
              <a:ext cx="15775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62560" y="4254120"/>
              <a:ext cx="3002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63160" y="4254120"/>
              <a:ext cx="7509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63160" y="4254120"/>
              <a:ext cx="24037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433600" y="4779360"/>
              <a:ext cx="6008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35160" y="4779360"/>
              <a:ext cx="5256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62560" y="4779360"/>
              <a:ext cx="1501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439240" y="4779360"/>
              <a:ext cx="2253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64600" y="4779360"/>
              <a:ext cx="67608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110040" y="5304600"/>
              <a:ext cx="52560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36000" y="5304600"/>
              <a:ext cx="3754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288760" y="5654880"/>
              <a:ext cx="525600" cy="368280"/>
              <a:chOff x="5288760" y="5654880"/>
              <a:chExt cx="525600" cy="36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528876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3888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415560" y="5596560"/>
              <a:ext cx="525600" cy="368280"/>
              <a:chOff x="6415560" y="5596560"/>
              <a:chExt cx="525600" cy="368280"/>
            </a:xfrm>
          </p:grpSpPr>
          <p:sp>
            <p:nvSpPr>
              <p:cNvPr id="162" name=""/>
              <p:cNvSpPr/>
              <p:nvPr/>
            </p:nvSpPr>
            <p:spPr>
              <a:xfrm>
                <a:off x="6415560" y="5596560"/>
                <a:ext cx="525600" cy="291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65680" y="55965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514120" y="530460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66040" y="5304600"/>
              <a:ext cx="7488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011840" y="594684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057400" y="3886200"/>
            <a:ext cx="2514600" cy="297180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724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only in this subtre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763-5F0C-4140-B6D2-C2031CAD30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 uses a heuristic function which combines g(n) and h(n): f(n) = g(n) +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exact cost to reach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initial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estimation of the remaining cost to reach the go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36E-26CC-426E-8D23-72701965D73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4915080" y="2057400"/>
            <a:ext cx="609120" cy="474480"/>
            <a:chOff x="4915080" y="2057400"/>
            <a:chExt cx="609120" cy="474480"/>
          </a:xfrm>
        </p:grpSpPr>
        <p:sp>
          <p:nvSpPr>
            <p:cNvPr id="1202" name=""/>
            <p:cNvSpPr/>
            <p:nvPr/>
          </p:nvSpPr>
          <p:spPr>
            <a:xfrm>
              <a:off x="4915080" y="2057400"/>
              <a:ext cx="60912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88960" y="2057400"/>
              <a:ext cx="435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2916360" y="2911320"/>
            <a:ext cx="607680" cy="473040"/>
            <a:chOff x="2916360" y="2911320"/>
            <a:chExt cx="607680" cy="473040"/>
          </a:xfrm>
        </p:grpSpPr>
        <p:sp>
          <p:nvSpPr>
            <p:cNvPr id="1205" name=""/>
            <p:cNvSpPr/>
            <p:nvPr/>
          </p:nvSpPr>
          <p:spPr>
            <a:xfrm>
              <a:off x="29163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898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4394160" y="2911320"/>
            <a:ext cx="607680" cy="473040"/>
            <a:chOff x="4394160" y="2911320"/>
            <a:chExt cx="607680" cy="473040"/>
          </a:xfrm>
        </p:grpSpPr>
        <p:sp>
          <p:nvSpPr>
            <p:cNvPr id="1208" name=""/>
            <p:cNvSpPr/>
            <p:nvPr/>
          </p:nvSpPr>
          <p:spPr>
            <a:xfrm>
              <a:off x="43941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5676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7697880" y="2911320"/>
            <a:ext cx="607680" cy="473040"/>
            <a:chOff x="7697880" y="2911320"/>
            <a:chExt cx="607680" cy="473040"/>
          </a:xfrm>
        </p:grpSpPr>
        <p:sp>
          <p:nvSpPr>
            <p:cNvPr id="1211" name=""/>
            <p:cNvSpPr/>
            <p:nvPr/>
          </p:nvSpPr>
          <p:spPr>
            <a:xfrm>
              <a:off x="769788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87140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5872320" y="2911320"/>
            <a:ext cx="607320" cy="473040"/>
            <a:chOff x="5872320" y="2911320"/>
            <a:chExt cx="607320" cy="473040"/>
          </a:xfrm>
        </p:grpSpPr>
        <p:sp>
          <p:nvSpPr>
            <p:cNvPr id="1214" name=""/>
            <p:cNvSpPr/>
            <p:nvPr/>
          </p:nvSpPr>
          <p:spPr>
            <a:xfrm>
              <a:off x="5872320" y="2911320"/>
              <a:ext cx="60732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045840" y="2911320"/>
              <a:ext cx="43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3524400" y="3763800"/>
            <a:ext cx="607680" cy="474480"/>
            <a:chOff x="3524400" y="3763800"/>
            <a:chExt cx="607680" cy="474480"/>
          </a:xfrm>
        </p:grpSpPr>
        <p:sp>
          <p:nvSpPr>
            <p:cNvPr id="1217" name=""/>
            <p:cNvSpPr/>
            <p:nvPr/>
          </p:nvSpPr>
          <p:spPr>
            <a:xfrm>
              <a:off x="3524400" y="3763800"/>
              <a:ext cx="607680" cy="47448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697920" y="3763800"/>
              <a:ext cx="43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4829040" y="3763800"/>
            <a:ext cx="607680" cy="474480"/>
            <a:chOff x="4829040" y="3763800"/>
            <a:chExt cx="607680" cy="474480"/>
          </a:xfrm>
        </p:grpSpPr>
        <p:sp>
          <p:nvSpPr>
            <p:cNvPr id="1220" name=""/>
            <p:cNvSpPr/>
            <p:nvPr/>
          </p:nvSpPr>
          <p:spPr>
            <a:xfrm>
              <a:off x="482904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0256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5697360" y="3763800"/>
            <a:ext cx="609480" cy="474480"/>
            <a:chOff x="5697360" y="3763800"/>
            <a:chExt cx="609480" cy="474480"/>
          </a:xfrm>
        </p:grpSpPr>
        <p:sp>
          <p:nvSpPr>
            <p:cNvPr id="1223" name=""/>
            <p:cNvSpPr/>
            <p:nvPr/>
          </p:nvSpPr>
          <p:spPr>
            <a:xfrm>
              <a:off x="5697360" y="3763800"/>
              <a:ext cx="6094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71240" y="3763800"/>
              <a:ext cx="43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6827760" y="3763800"/>
            <a:ext cx="607680" cy="474480"/>
            <a:chOff x="6827760" y="3763800"/>
            <a:chExt cx="607680" cy="474480"/>
          </a:xfrm>
        </p:grpSpPr>
        <p:sp>
          <p:nvSpPr>
            <p:cNvPr id="1226" name=""/>
            <p:cNvSpPr/>
            <p:nvPr/>
          </p:nvSpPr>
          <p:spPr>
            <a:xfrm>
              <a:off x="682776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00128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2916360" y="4807080"/>
            <a:ext cx="607680" cy="474120"/>
            <a:chOff x="2916360" y="4807080"/>
            <a:chExt cx="607680" cy="474120"/>
          </a:xfrm>
        </p:grpSpPr>
        <p:sp>
          <p:nvSpPr>
            <p:cNvPr id="1229" name=""/>
            <p:cNvSpPr/>
            <p:nvPr/>
          </p:nvSpPr>
          <p:spPr>
            <a:xfrm>
              <a:off x="291636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08988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4046400" y="4807080"/>
            <a:ext cx="607680" cy="474120"/>
            <a:chOff x="4046400" y="4807080"/>
            <a:chExt cx="607680" cy="474120"/>
          </a:xfrm>
        </p:grpSpPr>
        <p:sp>
          <p:nvSpPr>
            <p:cNvPr id="1232" name=""/>
            <p:cNvSpPr/>
            <p:nvPr/>
          </p:nvSpPr>
          <p:spPr>
            <a:xfrm>
              <a:off x="404640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1992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4046400" y="5850000"/>
            <a:ext cx="608040" cy="4744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219560" y="5850000"/>
            <a:ext cx="4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350880" y="2532240"/>
            <a:ext cx="18255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4829040" y="2532240"/>
            <a:ext cx="3477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176800" y="2532240"/>
            <a:ext cx="8683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176800" y="2532240"/>
            <a:ext cx="27813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176640" y="3384720"/>
            <a:ext cx="6080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829040" y="3384720"/>
            <a:ext cx="1731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5957640" y="3384720"/>
            <a:ext cx="2617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219720" y="3384720"/>
            <a:ext cx="782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263400" y="4238640"/>
            <a:ext cx="6080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871800" y="4238640"/>
            <a:ext cx="4352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5784840" y="4807080"/>
            <a:ext cx="607680" cy="474120"/>
            <a:chOff x="5784840" y="4807080"/>
            <a:chExt cx="607680" cy="474120"/>
          </a:xfrm>
        </p:grpSpPr>
        <p:sp>
          <p:nvSpPr>
            <p:cNvPr id="1247" name=""/>
            <p:cNvSpPr/>
            <p:nvPr/>
          </p:nvSpPr>
          <p:spPr>
            <a:xfrm>
              <a:off x="578484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5836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7088040" y="4713120"/>
            <a:ext cx="609480" cy="473040"/>
            <a:chOff x="7088040" y="4713120"/>
            <a:chExt cx="609480" cy="473040"/>
          </a:xfrm>
        </p:grpSpPr>
        <p:sp>
          <p:nvSpPr>
            <p:cNvPr id="1250" name=""/>
            <p:cNvSpPr/>
            <p:nvPr/>
          </p:nvSpPr>
          <p:spPr>
            <a:xfrm>
              <a:off x="7088040" y="4713120"/>
              <a:ext cx="6094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261920" y="4713120"/>
              <a:ext cx="43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6045120" y="4238640"/>
            <a:ext cx="874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62640" y="4238640"/>
            <a:ext cx="8748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4307040" y="5281560"/>
            <a:ext cx="8712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3504960" y="2666880"/>
            <a:ext cx="1447560" cy="990720"/>
            <a:chOff x="3504960" y="2666880"/>
            <a:chExt cx="1447560" cy="990720"/>
          </a:xfrm>
        </p:grpSpPr>
        <p:sp>
          <p:nvSpPr>
            <p:cNvPr id="1256" name=""/>
            <p:cNvSpPr/>
            <p:nvPr/>
          </p:nvSpPr>
          <p:spPr>
            <a:xfrm flipH="1">
              <a:off x="3504960" y="2666880"/>
              <a:ext cx="144756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505320" y="2971800"/>
              <a:ext cx="456840" cy="685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3809880" y="4419720"/>
            <a:ext cx="152640" cy="15238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657600" y="2895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276720" y="5257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066680" y="3733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n) = g(n)+h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685-B34D-4533-8387-57D23E31D2C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3" name="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5" name=""/>
          <p:cNvGrpSpPr/>
          <p:nvPr/>
        </p:nvGrpSpPr>
        <p:grpSpPr>
          <a:xfrm>
            <a:off x="380880" y="1828800"/>
            <a:ext cx="3429000" cy="4559400"/>
            <a:chOff x="380880" y="1828800"/>
            <a:chExt cx="3429000" cy="4559400"/>
          </a:xfrm>
        </p:grpSpPr>
        <p:grpSp>
          <p:nvGrpSpPr>
            <p:cNvPr id="1266" name=""/>
            <p:cNvGrpSpPr/>
            <p:nvPr/>
          </p:nvGrpSpPr>
          <p:grpSpPr>
            <a:xfrm>
              <a:off x="2133720" y="1981080"/>
              <a:ext cx="457200" cy="457200"/>
              <a:chOff x="2133720" y="1981080"/>
              <a:chExt cx="457200" cy="457200"/>
            </a:xfrm>
          </p:grpSpPr>
          <p:sp>
            <p:nvSpPr>
              <p:cNvPr id="1267" name=""/>
              <p:cNvSpPr/>
              <p:nvPr/>
            </p:nvSpPr>
            <p:spPr>
              <a:xfrm>
                <a:off x="2133720" y="1981080"/>
                <a:ext cx="457200" cy="4572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209680" y="2057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3200400" y="2514600"/>
              <a:ext cx="457200" cy="457200"/>
              <a:chOff x="3200400" y="2514600"/>
              <a:chExt cx="457200" cy="457200"/>
            </a:xfrm>
          </p:grpSpPr>
          <p:sp>
            <p:nvSpPr>
              <p:cNvPr id="1270" name=""/>
              <p:cNvSpPr/>
              <p:nvPr/>
            </p:nvSpPr>
            <p:spPr>
              <a:xfrm>
                <a:off x="3200400" y="25146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276360" y="25909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533520" y="3429000"/>
              <a:ext cx="457200" cy="457200"/>
              <a:chOff x="533520" y="3429000"/>
              <a:chExt cx="457200" cy="457200"/>
            </a:xfrm>
          </p:grpSpPr>
          <p:sp>
            <p:nvSpPr>
              <p:cNvPr id="1273" name=""/>
              <p:cNvSpPr/>
              <p:nvPr/>
            </p:nvSpPr>
            <p:spPr>
              <a:xfrm>
                <a:off x="533520" y="34290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09480" y="35053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1066680" y="2666880"/>
              <a:ext cx="457200" cy="457200"/>
              <a:chOff x="1066680" y="2666880"/>
              <a:chExt cx="457200" cy="457200"/>
            </a:xfrm>
          </p:grpSpPr>
          <p:sp>
            <p:nvSpPr>
              <p:cNvPr id="1276" name=""/>
              <p:cNvSpPr/>
              <p:nvPr/>
            </p:nvSpPr>
            <p:spPr>
              <a:xfrm>
                <a:off x="1066680" y="2666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142640" y="2743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2209680" y="3124080"/>
              <a:ext cx="457200" cy="457200"/>
              <a:chOff x="2209680" y="3124080"/>
              <a:chExt cx="457200" cy="457200"/>
            </a:xfrm>
          </p:grpSpPr>
          <p:sp>
            <p:nvSpPr>
              <p:cNvPr id="1279" name=""/>
              <p:cNvSpPr/>
              <p:nvPr/>
            </p:nvSpPr>
            <p:spPr>
              <a:xfrm>
                <a:off x="2209680" y="31240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285640" y="3200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2895480" y="4038480"/>
              <a:ext cx="457200" cy="457200"/>
              <a:chOff x="2895480" y="4038480"/>
              <a:chExt cx="45720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289548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297144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1905120" y="5715000"/>
              <a:ext cx="457200" cy="457200"/>
              <a:chOff x="1905120" y="5715000"/>
              <a:chExt cx="457200" cy="457200"/>
            </a:xfrm>
          </p:grpSpPr>
          <p:sp>
            <p:nvSpPr>
              <p:cNvPr id="1285" name=""/>
              <p:cNvSpPr/>
              <p:nvPr/>
            </p:nvSpPr>
            <p:spPr>
              <a:xfrm>
                <a:off x="1905120" y="571500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981080" y="5791320"/>
                <a:ext cx="3049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7" name=""/>
            <p:cNvSpPr/>
            <p:nvPr/>
          </p:nvSpPr>
          <p:spPr>
            <a:xfrm>
              <a:off x="2438280" y="358128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133360" y="4495680"/>
              <a:ext cx="9903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66880" y="35053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666880" y="5105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2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1" name=""/>
            <p:cNvGrpSpPr/>
            <p:nvPr/>
          </p:nvGrpSpPr>
          <p:grpSpPr>
            <a:xfrm>
              <a:off x="1371600" y="4038480"/>
              <a:ext cx="457200" cy="457200"/>
              <a:chOff x="1371600" y="4038480"/>
              <a:chExt cx="457200" cy="457200"/>
            </a:xfrm>
          </p:grpSpPr>
          <p:sp>
            <p:nvSpPr>
              <p:cNvPr id="1292" name=""/>
              <p:cNvSpPr/>
              <p:nvPr/>
            </p:nvSpPr>
            <p:spPr>
              <a:xfrm>
                <a:off x="137160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4756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1143000" y="4952880"/>
              <a:ext cx="457200" cy="457200"/>
              <a:chOff x="1143000" y="4952880"/>
              <a:chExt cx="457200" cy="457200"/>
            </a:xfrm>
          </p:grpSpPr>
          <p:sp>
            <p:nvSpPr>
              <p:cNvPr id="1295" name=""/>
              <p:cNvSpPr/>
              <p:nvPr/>
            </p:nvSpPr>
            <p:spPr>
              <a:xfrm>
                <a:off x="1143000" y="4952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218960" y="5029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7" name=""/>
            <p:cNvSpPr/>
            <p:nvPr/>
          </p:nvSpPr>
          <p:spPr>
            <a:xfrm flipH="1">
              <a:off x="1523880" y="35812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1371240" y="44956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71600" y="54100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600200" y="3505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2320" y="243828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362320" y="2438280"/>
              <a:ext cx="75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1295280" y="243828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761760" y="312408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59092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438280" y="60199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o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990720" y="4572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295280" y="5486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819520" y="2133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71600" y="22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80880" y="3048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362320" y="2681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502-0D29-4414-BA93-4F9C3669962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15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A94-5561-4027-83DC-AD15610C6ED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20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23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26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29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04E-BF93-42CF-8FCB-01C5F7025D2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43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46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49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52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355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360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2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A77-C082-4F0D-A169-98A9C2DAEE6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78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81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84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87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390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395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7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412" name="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201-4FD7-481D-9303-0E09D027B53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19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22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25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28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31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434" name="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39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442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4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35A-9487-4EE1-9E85-A2777B91653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67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70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73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76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79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482" name="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87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490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2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514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4A8-7B33-4C54-BDBA-68E994EBD6D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20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23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26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29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32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35" name="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40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43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5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567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9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2ED-0081-40E6-B450-745BB133E9D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Tahoma"/>
              </a:rPr>
              <a:t>More formally, why heuristic functions work?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y search problem where there are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 at each node and a dep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goal node, a naive search algorithm would have to, in the worst case, search arou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before finding a solution (Exponential Time Complexit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s improve the efficiency of search algorithms by reduci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fectiv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branching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(ideally) a low constant b* such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&lt; b* &lt;&lt;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BCF-8058-42BE-9A59-1216833E07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73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76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79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82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85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88" name="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93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96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8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20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2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07C-67A5-4714-9E5E-4D393756351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with f() not Admi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) overestimates the cost to reach the goal st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not admissible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628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631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634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637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640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643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646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8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653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656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8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–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H-I) Overestim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5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83C-C3D6-4474-B66B-F48156A81D1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678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E00-5C9B-446F-AB1A-0586290CB69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683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5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686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689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692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4A9-71D8-4066-B441-8B84B6F9CAF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06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09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12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15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718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0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723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5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61E-9BDC-41C3-AFF3-D31DE91BC0F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41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44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47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9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50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753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758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0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775" name="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7" name="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E8C-7570-45F2-B3BF-21935CC26D4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82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85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88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91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794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799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802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823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5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CD5-A326-4ECA-8D15-89B35037356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28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29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32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35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7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38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41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3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46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849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1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870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875" name="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7" name="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8CB-1771-4BC2-92E1-E446A5A1768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81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84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87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90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93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98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01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3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22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4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27" name="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E52-8259-45F1-B97E-45B9EBB0125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uristic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euristic function i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giv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sti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“cost” of getting from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goal state – so that the node with the least cost among all possible choices can be selected for expansion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pproaches to defin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sures the value of the current state (its “goodness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from the current sta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an estimate of the cost to get fro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a go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state from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the cost of the existing path to it.  Often, in this case, 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the cost to get 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m initial state)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00E-7BEE-424F-BBF9-3EEE797FAF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32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33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5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36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39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1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42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4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45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7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9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950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2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53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5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3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74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6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79" name="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182-1DC2-4BEA-82CB-ED8E04C32D5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84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85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7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88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0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91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3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94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6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97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02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05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7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5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26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8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31" name="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3" name="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905120" y="5715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not optimal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7F4-2344-4295-9C49-6129D68CBB8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* with systematic checking for repeated stat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 Search queue Q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 Place the start state s in Q with f  value h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 If Q is empty, return fail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 Take node n from Q with lowest 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Keep Q sorted by f  values and pick the first elemen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  If n is a goal node, stop and return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  Generate successors of node 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   For each successor n’ of n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Compute f(n’) = g(n) + cost(n,n’) + h(n’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If n’ is new (never generated before), add n’ to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If node n’ is already in Q with a higher f value, replace it with current f(n’) and place it in sorted order in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  Go back to step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223-B5B0-4466-81C6-CF92A37A351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41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42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4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045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048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051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054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057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9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060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2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6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067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070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2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809880" y="168444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complete except if there is an infinity of nodes with f &lt; f(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optimal if heuristic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dmi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mplexity depends on the quality of heuristic but is still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ace complexity, A* keeps all nodes in memory. A* has worst case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pace complexity, but an iterative deepening version is possible (IDA*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740-A9C7-407A-B94B-22521A23AAD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A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rative Deepening A*:IDA*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) = g(N) + h(N) with admissible and consistent 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iteration is depth-first with cutoff on the value of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expanded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A58-1ED6-4516-82C9-4BCD05B09F6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istent Heuristic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dmissible heuristic h is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r satisfies the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monotone restri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f for every node N and every successor N’ of 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(N)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 c(N,N’) + h(N’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triangular inequ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sistent heuristic is admi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5" name=""/>
          <p:cNvGrpSpPr/>
          <p:nvPr/>
        </p:nvGrpSpPr>
        <p:grpSpPr>
          <a:xfrm>
            <a:off x="6863040" y="3200400"/>
            <a:ext cx="1773720" cy="2133360"/>
            <a:chOff x="6863040" y="3200400"/>
            <a:chExt cx="1773720" cy="2133360"/>
          </a:xfrm>
        </p:grpSpPr>
        <p:grpSp>
          <p:nvGrpSpPr>
            <p:cNvPr id="2096" name=""/>
            <p:cNvGrpSpPr/>
            <p:nvPr/>
          </p:nvGrpSpPr>
          <p:grpSpPr>
            <a:xfrm>
              <a:off x="7467480" y="3352680"/>
              <a:ext cx="762120" cy="1981080"/>
              <a:chOff x="7467480" y="3352680"/>
              <a:chExt cx="762120" cy="1981080"/>
            </a:xfrm>
          </p:grpSpPr>
          <p:sp>
            <p:nvSpPr>
              <p:cNvPr id="2097" name=""/>
              <p:cNvSpPr/>
              <p:nvPr/>
            </p:nvSpPr>
            <p:spPr>
              <a:xfrm>
                <a:off x="7772400" y="3352680"/>
                <a:ext cx="15228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467480" y="4267080"/>
                <a:ext cx="15264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8077320" y="5181480"/>
                <a:ext cx="152280" cy="1522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>
                <a:off x="7543440" y="3504960"/>
                <a:ext cx="30492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543800" y="4419360"/>
                <a:ext cx="60948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848720" y="3504960"/>
                <a:ext cx="30456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3" name=""/>
            <p:cNvSpPr/>
            <p:nvPr/>
          </p:nvSpPr>
          <p:spPr>
            <a:xfrm>
              <a:off x="7455240" y="32004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080120" y="411480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003520" y="41148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169400" y="464796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’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863040" y="365760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c(N,N’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BD8-4618-4122-8FE6-6B3513A794B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DA* Algorith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first iteration, we determine a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“f-cost limit”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g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+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wher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start n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expand nodes using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pth-first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backtrack whenever f(n) for an expanded node n exceeds the cut-of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is search does not succeed, determine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lowest f-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mong the nodes that were visited but not expan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is f-value as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ew limit value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do another depth-first 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this procedure until a goal node is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091-0B8A-4778-9B23-8199A08E8B1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11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112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123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133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134" name="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4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8AD-5A1C-4D6B-8FDC-4D3AD80A93C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1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Value of the Current Stat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the case when solving optimiz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a state such that the value of the metr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ptim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in these cas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uld be a weighted sum of a set of componen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-Que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number of queens under attack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“predictive-ness” (a.k.a. accuracy) of a rule dis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775-810D-4103-868E-7BD3DD7E01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149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160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9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170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171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1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2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183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184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5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186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5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6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198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199" name="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9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0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648-7F30-4046-9EF8-511BE8C22B8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12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13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24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34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35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5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247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248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9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250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9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0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262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263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4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265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4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276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277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7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8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F1E-0673-43A1-A839-960B8447E73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90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91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302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312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313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3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25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26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7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28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37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8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9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340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341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2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343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2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3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354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355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5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367" name="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368" name="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8" name="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9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C1C-6193-42DC-BC49-05671571DA3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0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381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382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2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395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5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406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416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417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8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419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8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31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32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3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43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445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446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6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458" name="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459" name="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0" name=""/>
          <p:cNvGrpSpPr/>
          <p:nvPr/>
        </p:nvGrpSpPr>
        <p:grpSpPr>
          <a:xfrm>
            <a:off x="1828800" y="2133720"/>
            <a:ext cx="1219320" cy="1752120"/>
            <a:chOff x="1828800" y="2133720"/>
            <a:chExt cx="1219320" cy="1752120"/>
          </a:xfrm>
        </p:grpSpPr>
        <p:grpSp>
          <p:nvGrpSpPr>
            <p:cNvPr id="2471" name=""/>
            <p:cNvGrpSpPr/>
            <p:nvPr/>
          </p:nvGrpSpPr>
          <p:grpSpPr>
            <a:xfrm>
              <a:off x="2590920" y="2133720"/>
              <a:ext cx="457200" cy="779760"/>
              <a:chOff x="2590920" y="2133720"/>
              <a:chExt cx="457200" cy="779760"/>
            </a:xfrm>
          </p:grpSpPr>
          <p:sp>
            <p:nvSpPr>
              <p:cNvPr id="2472" name=""/>
              <p:cNvSpPr/>
              <p:nvPr/>
            </p:nvSpPr>
            <p:spPr>
              <a:xfrm>
                <a:off x="2590920" y="21337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74320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5909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2743200" y="22860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895480" y="22860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2743200" y="24382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25909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2895480" y="24382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2895480" y="21337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266472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2" name=""/>
            <p:cNvSpPr/>
            <p:nvPr/>
          </p:nvSpPr>
          <p:spPr>
            <a:xfrm flipV="1">
              <a:off x="1828800" y="2361960"/>
              <a:ext cx="762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7A1-BBF7-4EF5-9702-AC98FB5211C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85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486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6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497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6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507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508" name="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8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1C8-954D-4D08-A208-C4ABCD75F26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22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23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3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534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3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544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545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5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6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557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558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9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69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0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1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572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573" name="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4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0C4-940A-4DF3-B878-D1AE3E4386C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86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87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598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08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09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9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21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22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3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24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3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4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5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636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637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8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639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8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9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650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651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1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2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C5B-071A-4845-B84C-0459B4D09CA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64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665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5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76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86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87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7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8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99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700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1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702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1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2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3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14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15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6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17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26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28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29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9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0" name=""/>
          <p:cNvGrpSpPr/>
          <p:nvPr/>
        </p:nvGrpSpPr>
        <p:grpSpPr>
          <a:xfrm>
            <a:off x="5029200" y="4648320"/>
            <a:ext cx="457200" cy="778320"/>
            <a:chOff x="5029200" y="4648320"/>
            <a:chExt cx="457200" cy="778320"/>
          </a:xfrm>
        </p:grpSpPr>
        <p:sp>
          <p:nvSpPr>
            <p:cNvPr id="2741" name=""/>
            <p:cNvSpPr/>
            <p:nvPr/>
          </p:nvSpPr>
          <p:spPr>
            <a:xfrm>
              <a:off x="5029200" y="464832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181480" y="4800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029200" y="4800600"/>
              <a:ext cx="152280" cy="152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334120" y="480060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029200" y="4952880"/>
              <a:ext cx="152280" cy="152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334120" y="46483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334120" y="495288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181480" y="4648320"/>
              <a:ext cx="1526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115960" y="502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0" name=""/>
          <p:cNvSpPr/>
          <p:nvPr/>
        </p:nvSpPr>
        <p:spPr>
          <a:xfrm>
            <a:off x="5181480" y="4952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4267080" y="43434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AD6-4E93-4C5D-BFC5-DDD7CDFCB21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54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755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5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766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5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776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777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7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789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790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1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792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1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2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3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804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805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6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807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6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7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818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819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9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0" name="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2831" name="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2832" name="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2" name="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3" name="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2844" name="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2845" name="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5" name="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6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9D9-66F7-4D2E-AF25-BACB285FAFE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58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859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9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870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880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881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1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2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893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894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5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896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05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6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7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908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909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0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20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1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922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923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3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4" name="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2935" name="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2936" name="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7" name="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2948" name="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2949" name="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9" name="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2961" name="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2962" name="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2" name="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3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D19-6307-482D-9F43-7E54412561B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2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Cost to the Goal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better than 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the estimated cost of getting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goal is lower than tha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becau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closer to the goal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45120" y="4089240"/>
            <a:ext cx="3809880" cy="1930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4920" y="4191120"/>
            <a:ext cx="449568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–Puzz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misplaced tiles (squares with numb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m of the distances of the tiles from their goal pos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D37-7518-4355-AFB2-5EA5628694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5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976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6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987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997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998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8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3010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3011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2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3013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22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3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4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3025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3026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7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3028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37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3039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3040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0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052" name="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053" name="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3" name="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4" name="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065" name="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066" name="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078" name="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079" name="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9" name="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0" name=""/>
          <p:cNvSpPr/>
          <p:nvPr/>
        </p:nvSpPr>
        <p:spPr>
          <a:xfrm>
            <a:off x="6705720" y="39625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EF2-0AA5-443C-8EF6-DFE06C6584A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to Use Search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small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no other available techniques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not worth the effort to develop a more efficient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large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other available techniques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exist 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heu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2D9-1B47-4795-8CC3-67E632CFB2E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ustr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n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arch led to the idea of using domain specific knowledge in a search so that one can intelligently explore only the relevant part of the search space that has a good chance of containing the goal state. These new techniques are called informed (heuristic) search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ough heuristics improve the performance of informed search algorithms, they are still time consuming especially for large size insta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7B7-A670-4290-86F0-C94FA297EA5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Approach 3: </a:t>
            </a:r>
            <a:r>
              <a:rPr b="0" i="1" lang="en-US" sz="3000" spc="-1" strike="noStrike">
                <a:solidFill>
                  <a:srgbClr val="333399"/>
                </a:solidFill>
                <a:latin typeface="Tahoma"/>
              </a:rPr>
              <a:t>f 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measures the total cost of the solution path (Admissible Heuristic Functions)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heuristic function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 = g(n) + 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dmissible if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verestimates the cost to reach the goal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ble heuristics are “optimistic”: “the cost is not that much …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owever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g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the exact cost to reac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rom the initial stat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ever over-estimate the true cost to reach the goal state throug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Theorem: A search is optimal if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is admissibl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.e. The search using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 returns an optimal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Given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&gt; 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1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for all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n,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it’s always more </a:t>
            </a:r>
            <a:r>
              <a:rPr b="0" lang="en-US" sz="2300" spc="-1" strike="noStrike" u="sng">
                <a:solidFill>
                  <a:srgbClr val="971103"/>
                </a:solidFill>
                <a:uFillTx/>
                <a:latin typeface="Times New Roman"/>
              </a:rPr>
              <a:t>efficient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to use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s more realistic than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(more informed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, though both are optim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43D-4B35-425A-B839-4AE2A480B1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19:02Z</dcterms:created>
  <dc:creator>mbatouche</dc:creator>
  <dc:description/>
  <dc:language>en-US</dc:language>
  <cp:lastModifiedBy> </cp:lastModifiedBy>
  <dcterms:modified xsi:type="dcterms:W3CDTF">2009-03-10T07:03:21Z</dcterms:modified>
  <cp:revision>95</cp:revision>
  <dc:subject/>
  <dc:title>Artificial Intelligence CSC 361</dc:title>
</cp:coreProperties>
</file>