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6C4-F992-448F-A34A-F7FE02DF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11C-BA68-4463-BD7C-611EE772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EB6-BE5A-412C-A459-C5B750FA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1B4-1214-41D1-8938-6DC8035A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F85-B330-4821-9706-60A0E982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FFA-1A64-47BD-970F-DD91995F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5C0-DAF3-4AAB-8FC1-D47CDA99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374-0333-43FF-9170-7939417A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B73-2B6E-467C-B89A-5CC8DB53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CB3E-5786-4801-AF1D-48A3015D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D499-07F7-45B2-929F-A6A7F9FC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99DD-DB84-4FB4-8C57-E0CEEC83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0D28-947B-4A0A-8E53-A0CD38538C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Order Log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AAA-47BF-41D3-9921-91910BCB17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elation (Predicate)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predicate symbol is used to represent a relation in a universe of dis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sen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lation(Term1, Term2,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s either TRUE or FALSE depending on whether Relation holds of Term1, Term2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o write “Malek wrote Muata” in a universe of discourse of names and written wor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rote(Malek, Mu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s sentence is true in the intended interpre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othe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nstructor (CAP492, Souh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983-A351-4A45-9FD5-80BD02943E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Function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unctions talk about the binary relation of pairs of  obje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or example, the Father relation might represent all  pairs of persons in father-daughter or father-son relationship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ather(Ali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Refers to the father of 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ather(x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Refers to the father of variabl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6361-2BDD-457C-A0A7-C8400242AC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properties of qua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not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Loves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There is a person who loves everyone in the wor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Loves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eryone in the world is loved by at least one pers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Quantifier duality: each can be expressed using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Likes(x,IceCream) ≡ ¬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¬Likes(x,IceCr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Likes(x,Broccoli) ≡ ¬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¬Likes(x,Brocco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BB7-99EC-4C69-9907-71AD210C28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Atom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Atomic sentence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predicate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,...,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n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    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Term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,...,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n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constant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Example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Brother(Ali , Moham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Greater(Length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, Length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C602-0F22-49DE-8FDA-6A7D13A19E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Complex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Complex sentences are made from atomic sentences using connectives and by applying quantif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Garamond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Sibling(Ali,Mohamed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Sibling(Mohamed,A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greater(1,2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∨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less-or-equal(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x,y Sibling(x,y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Sibling(y,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BDE-002D-41FF-A820-01D74C8DBA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just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While constant symbols, variables and connectives  are like propositional logic, “What are functions and predicate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language of logic is based on set theo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t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lation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un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861-EF8C-4564-995F-AC829750A8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Garamond"/>
              </a:rPr>
              <a:t>SETS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he set of objects defines a “Universe of Discourse.” [Objects are represented by Constant Symbols.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39640" y="2852640"/>
            <a:ext cx="4114440" cy="2285640"/>
            <a:chOff x="539640" y="2852640"/>
            <a:chExt cx="4114440" cy="2285640"/>
          </a:xfrm>
        </p:grpSpPr>
        <p:sp>
          <p:nvSpPr>
            <p:cNvPr id="89" name=""/>
            <p:cNvSpPr/>
            <p:nvPr/>
          </p:nvSpPr>
          <p:spPr>
            <a:xfrm>
              <a:off x="539640" y="366912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15800" y="38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15800" y="33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15800" y="28526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79160" y="38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79160" y="33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20120" y="3031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97520" y="3619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91760" y="40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83480" y="3587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83480" y="4077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796000" y="270828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nterpre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920160" y="5516640"/>
            <a:ext cx="10705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example, in this blocks world, the universe of discourse is {a,b,c,d,e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0C0-5966-4AB7-84E2-06A1DACB90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RELA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f: A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a set of ordered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xample:  Consider set of blocks {a,b,c,d,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492360" y="2349360"/>
            <a:ext cx="4114440" cy="2285640"/>
            <a:chOff x="3492360" y="2349360"/>
            <a:chExt cx="4114440" cy="2285640"/>
          </a:xfrm>
        </p:grpSpPr>
        <p:sp>
          <p:nvSpPr>
            <p:cNvPr id="106" name=""/>
            <p:cNvSpPr/>
            <p:nvPr/>
          </p:nvSpPr>
          <p:spPr>
            <a:xfrm>
              <a:off x="3492360" y="316584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68520" y="332892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68520" y="28389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8520" y="23493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31880" y="332892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31880" y="28389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72840" y="2527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50240" y="3116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4480" y="357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36200" y="3083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36200" y="3573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68360" y="458136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on” 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= {&lt;a,b&gt;, &lt;b,c&gt;, &lt;d,e&gt;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dicate On(A,B) can be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interpre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: &lt;a,b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(A,B) is TRUE, but  On(A,C) and On(C,D) are FALSE in this interpre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F71-F88F-4C16-BCE7-BCDE18A5FB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FUNC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65420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function is a binary relation such that no two distinct members have the same first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other words, if F is a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&lt;x,y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F   and   &lt;x,z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F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y=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 &lt;x,y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x is an argument of F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y is the value of F at x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y is the image of x  unde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(x) designates the object y such that y=F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DE08-71FD-45FC-B23F-3D13F121FF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FUNC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5229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165420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284720" y="1052640"/>
            <a:ext cx="4114440" cy="2285640"/>
            <a:chOff x="4284720" y="1052640"/>
            <a:chExt cx="4114440" cy="2285640"/>
          </a:xfrm>
        </p:grpSpPr>
        <p:sp>
          <p:nvSpPr>
            <p:cNvPr id="127" name=""/>
            <p:cNvSpPr/>
            <p:nvPr/>
          </p:nvSpPr>
          <p:spPr>
            <a:xfrm>
              <a:off x="4284720" y="186912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0880" y="20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60880" y="15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0880" y="10526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24240" y="20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24240" y="15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65200" y="1231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42600" y="1819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36840" y="22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28560" y="1787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28560" y="2277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0" y="1628640"/>
            <a:ext cx="50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at = {&lt;c,b&gt;, &lt;b,a&gt;,&lt;e,d&gt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 (c)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(b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(d) is not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t(E) can be interpreted as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43657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4076640"/>
            <a:ext cx="82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00"/>
                </a:solidFill>
                <a:uFillTx/>
                <a:latin typeface="Garamond"/>
              </a:rPr>
              <a:t>Using FO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A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D,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A,Hat(C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B25-8ED0-4F33-BD6F-F14F90E4B9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is 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is compositional:  meaning of B1,1 ∧ P1,2 is derived from meaning of B1,1 and of P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eaning in propositional logic is context-independent unlike natural language, where meaning depends o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has limited expressive power unlike natur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.g., cannot say "pits cause breezes in adjacent square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except by writing one sentence for each squ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A4D-9703-42FB-AADF-F70ADF00F6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yntax of First Ord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Atomic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 connective Sentenc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Quantifier variable,…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¬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Atomic Sentence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redicate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Term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…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erm=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erm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Term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,…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Constant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Connectiv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⇔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∧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∨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Quantifie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Constant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Variabl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x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s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redicat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Befor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hascolo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Function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Mothe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Leftleg |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6237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811-DA95-4262-A398-788EF66609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in FOL can be perform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Reducing first-order inference to propositional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U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Generalized Modus Po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ward ch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Backward ch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DD0-4715-4376-9B7A-A7EA77EE80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From FOL to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First order inference can be done by converting the knowledge base to PL and using propositional in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Two question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How to convert universal quantif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</a:rPr>
              <a:t>Replace variable by groun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How to convert existential quantif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</a:rPr>
              <a:t>Skolemization</a:t>
            </a:r>
            <a:r>
              <a:rPr b="1" lang="fr-FR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04B-584D-4952-80F8-A32030AA02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iven a sentenc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 binding li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the result of applying the </a:t>
            </a: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substitution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t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is denoted by Subs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 {x/Ali, y/Fatima}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= Likes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bst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{x/Sam, y/Pam}, Likes(x,y)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= Likes(Ali, fati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9FD-1521-4F4A-A77E-A25DAB93CF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990000"/>
                </a:solidFill>
                <a:latin typeface="Garamond"/>
              </a:rPr>
              <a:t>Universal instantiation (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ery instantiation of a universally qua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entence is entailed by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v 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Subst({v/g}, 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 any variable v and ground term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e.g., ∀x King(x) ∧ Greedy(x) ⇒ Evil(x) y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John) ∧ Greedy(John) ⇒ Evil(Joh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Richard) ∧ Greedy(Richard) ⇒ Evil(Rich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Father(John)) ∧ Greedy(Father(John)) ⇒ Evil(Father(John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71628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A170-461C-485A-A3E6-30B79EDD0A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990000"/>
                </a:solidFill>
                <a:latin typeface="Garamond"/>
              </a:rPr>
              <a:t>Existential instantiation (E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 any sentence α, variable v, and constant symbol k that does not appear elsewhere in the knowledge b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∃</a:t>
            </a:r>
            <a:r>
              <a:rPr b="0" i="1" lang="fr-FR" sz="28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ubst({v/k}, 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.g., ∃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 Crow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∧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OnHead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,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yie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row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∧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OnHead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,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vide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s a new constant symbol, called a Skolem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800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3640" y="386064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459-9718-4E1F-9410-40EA92E967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</a:rPr>
              <a:t>Reduction to propositional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uppose the KB contains just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King(x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Evi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Greedy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Brother(Richard,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Instantiating the universal sentence in all possible ways, we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John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John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Evil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Richard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Richard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il(Rich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The new KB is proposition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3AD-94AD-462C-9774-0D0BE3EFA4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Reduction to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CLAIM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A ground sentence is entailed by a new KB i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ntailed by the original K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CLAIM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Every FOL KB can be propositionalized so a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eserve entai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IDE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propositionalize KB and query, apply resolution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etur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PROBLEM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with function symbols, there are infinitely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ground terms, e.g.,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FC5-67C5-40AD-AD6D-7A76D26657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nstead of translating the knowledge base to PL, we can make the inference rules work in F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or example,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x King(x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Greedy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Evil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King(Joh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y Greed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t is intuitively clear that we can sub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{x/John,y/John} and obtain that Evil(Joh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08A7-E118-42E8-9AD2-8B80AA0125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U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We can make the inference if we can find a substitution such that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(x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(x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atch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(John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{x/John,y/John}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Unify(α ,β) = θ if Subst(θ, α) = Subst(θ, 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α                      β                           Sub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 Knows(John,Jane)                              {x/Jan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 Knows(y,OJ)                                    {x/OJ,y/Joh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Knows(y,Mother(y))                   {y/John,x/Mother(John)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Knows(x,OJ)                                        {fail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1280" y="4508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4437000"/>
            <a:ext cx="0" cy="20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11F-F040-405B-B8A1-E317879789C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From propositional logic (PL) to First order logic (F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things we can s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en are mort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Man(x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ta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body loves some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oves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aning of the word “ab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bove(x,y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n(x,y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∨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(on(x,z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ve(z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404-80CA-435E-85EC-7DAEFD6FA9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Generalized Modus Ponens (G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ppose that Subst( 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pi’) =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 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pi) for all i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1', p2', … , pn',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 p1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2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…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q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q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1'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               p1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2'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                 p2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θ is {x/John,y/John}      q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Evil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θ, q)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Evil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ll variables assumed universally qua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270828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4E9-BAF5-491E-B5FD-B12DB14D52A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ull first-order ver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,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Subst(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j-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where θ =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ify(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¬m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Rich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happy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 ,   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Rich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Ken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happy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Ken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with θ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= {x/Ke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pply resolution steps to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NF(KB </a:t>
            </a: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¬α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; complete for F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2708280"/>
            <a:ext cx="705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43657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63F2-3164-478D-BF01-7DFFBB75046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For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en a new fact P is added to the K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 each rule such that P unifies with a pre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f the other premises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n add the conclusion to the KB and continue ch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ward chaining is </a:t>
            </a: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data-driven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.g., inferring properties and categories from per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DA5-BFAD-4519-AEF7-95C520A7A8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</a:t>
            </a:r>
            <a:r>
              <a:rPr b="1" lang="fr-FR" sz="2000" spc="-1" strike="noStrike">
                <a:solidFill>
                  <a:srgbClr val="990000"/>
                </a:solidFill>
                <a:latin typeface="Garamond"/>
                <a:ea typeface="Times New Roman"/>
              </a:rPr>
              <a:t>Forward chaining exampl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uffalo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x,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lug(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y, z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x, 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y, 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x, 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uffalo(Bob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P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lug(Steve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w facts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Bob,Pat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Pat, Steve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 (Bob, Ste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12360" y="58053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Buffalo(Bo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4400" y="580536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Pig (P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11640" y="4652640"/>
            <a:ext cx="1008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465300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43720" y="479736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y/Pa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48690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{x/Bob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97800" y="4221000"/>
            <a:ext cx="22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 (Bob,P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49520" y="5805360"/>
            <a:ext cx="16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Slug(Ste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156360" y="4724280"/>
            <a:ext cx="1295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1640" y="4724280"/>
            <a:ext cx="576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59680" y="4149720"/>
            <a:ext cx="23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(Pat,Ste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6360" y="2852640"/>
            <a:ext cx="1008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42880" y="2276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(Bob,Ste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822440" y="4960800"/>
            <a:ext cx="12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z/Stev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292360" y="2852640"/>
            <a:ext cx="863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21400" y="350028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{x/Bob, y/Pat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90760" y="350028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{y/Pat, z/Stev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86D-556D-4BE7-8203-72B05F25F63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Back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ackward chaining starts with a hypothesis and work backwards , according to the rules in the knowledge base until reaching confirmed findings or f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637000"/>
            <a:ext cx="4174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g(y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ug(z)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aster (y,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imy(a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Creeps(a)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ug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g(P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imy(Ste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eps(Ste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211640" y="2565360"/>
            <a:ext cx="4537080" cy="347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F41-8531-4FCF-A2BD-609FD16045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Semantic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 semantic network consists of entities and relations between the ent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Generally it is represented as a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26640" y="4076640"/>
            <a:ext cx="723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 bird is a kind of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Flying is the normal moving method of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n albatross is a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lbert is an albatross, and so is 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131-BF17-4103-B31B-0D01DA72D69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Semantic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01160" y="306864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B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89280" y="3141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day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87240" y="2997360"/>
            <a:ext cx="5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89560" y="19162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64000" y="328464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131640" y="3357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003640" y="2276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76280" y="458964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albat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987640" y="3428640"/>
            <a:ext cx="2016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9240" y="5805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Black and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834920" y="5084640"/>
            <a:ext cx="718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33560" y="6093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l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99560" y="580536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2843280" y="5013000"/>
            <a:ext cx="433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14760" y="586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348000" y="5013000"/>
            <a:ext cx="1152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97880" y="501336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72680" y="53737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32880" y="52372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01040" y="37162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07960" y="2708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Moving-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51520" y="278136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Active-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195-9D5F-4462-AD6A-645E1720326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2.   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 frame is a data structure whose components are called slo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lots have names and accomodate information of various ki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rame: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_kind_of: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oving_method: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ctive_at:day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B50-B70C-451B-A484-7591B76FFDA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Definition:</a:t>
            </a: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an ES is a program that behaves like an expert for some problem dom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Should be capable of explaining its decisions and the underlying rea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Often, it is expected to be able to deal with uncertain and incomplet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Application domains: Medical diagnosis (MYCIN), locating equipment failur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899-1445-40D8-8C22-B5656CEB29F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xpert systems are designed to lve problems that require expert knowledge in a particular domain </a:t>
            </a:r>
            <a:r>
              <a:rPr b="1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possessing knowledge in some fo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S are known as knowledge based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xpert systems have to have a friendly user interaction capability that will make the system’s reasoning transparent to the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6F5F-D040-43DA-B41C-4BB2B710FD1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First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Whereas propositional logic assumes the world contains facts, first-order logic (like natural language) assumes the world 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Objects: people, houses, numbers, color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elations: red, round, prime, brother of, bigger than, part of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unctions: Sqrt, Plu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n expres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neighboring the Wumpus are smell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neighboring a pit are bree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438-D9E3-4D30-9754-856A7BE0DC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structure of an ES includes three main modu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 knowledg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n inference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 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292640"/>
            <a:ext cx="165708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19640" y="4292640"/>
            <a:ext cx="1584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I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72360" y="4149720"/>
            <a:ext cx="1871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0920" y="4869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48360" y="47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17080" y="4724280"/>
            <a:ext cx="61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98440" y="42210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48000" y="386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587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88360" y="378900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276360" y="378936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47080" y="533556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8BB0-FBAC-4B78-B663-DB5CD4F4965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knowledge base comprises the knowledge that is specific to the domain of application: simple facts, rules, constraints and possibly also methods, heuristics and ideas for solving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engine: designed to use actively the knowledge in the base deriving new knoweldge to help decision m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User interface: caters for smooth communication between the user and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A44-183E-4548-88E9-B46482F6C17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990000"/>
                </a:solidFill>
                <a:uFillTx/>
                <a:latin typeface="Garamond"/>
                <a:ea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FOL extends PL by adding new concepts such as sets, relations and functions and new primitives such as variables, equality and quantif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re exist sevaral alternatives to perform inference in F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Logic is not the only one alternative to represent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algorithms depend on the way knowledge is re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Development of expert systems relies heavily on knoweldge representation and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2C55-2D12-475E-9A6E-BB04194B232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User defines these primi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Constant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i.e., the "individuals" in the world) e.g., Mary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Function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mapping individuals to individuals) e.g., father-of(Mary) = John, colorof(Sky) =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Predicate/relation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mapping from individuals to truth values) e.g., greater(5,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green(apple), color(apple, Gr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9DA-BA87-4A76-8443-7114EB3A56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FOL supplies these primi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Variable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. e.g., x,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Connectives.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Same as in PL: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,∧,∨, 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Equality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Quantifiers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: Universal (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) and Existential (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A legitimate expression of predicate calculus is called a </a:t>
            </a:r>
            <a:r>
              <a:rPr b="0" lang="en-US" sz="4400" spc="-1" strike="noStrike">
                <a:solidFill>
                  <a:srgbClr val="990000"/>
                </a:solidFill>
                <a:latin typeface="Garamond"/>
              </a:rPr>
              <a:t>well-formed formula (wff) o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r, simply,</a:t>
            </a:r>
            <a:r>
              <a:rPr b="1" lang="en-US" sz="4400" spc="-1" strike="noStrike">
                <a:solidFill>
                  <a:srgbClr val="bbe0e3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990000"/>
                </a:solidFill>
                <a:latin typeface="Garamond"/>
              </a:rPr>
              <a:t>a sent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C09-40F4-4303-8D77-25EF7482DA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Quantifier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: Universal (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 and Existential (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Allow us to express properties of collections of objects instead of enumerating objects b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Universal: “for all”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∀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&lt;variables&gt; &lt;sentenc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Existential: “there exist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∃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&lt;variables&gt; &lt;sentenc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D2F-3936-4D8D-8BE8-3C97B66F3D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onstant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A symbol, e.g. Wumpus, Al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ach constant symbol names exactly one object in a </a:t>
            </a:r>
            <a:r>
              <a:rPr b="1" lang="en-US" sz="3600" spc="-1" strike="noStrike">
                <a:solidFill>
                  <a:srgbClr val="990000"/>
                </a:solidFill>
                <a:latin typeface="Garamond"/>
              </a:rPr>
              <a:t>universe of discourse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b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t all objects have symbol na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ome objects have several symbol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sually denoted with upper-case first let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3B1-2A9B-412F-8CFE-78F1CAAEB0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ed to represent objects or properties of objects without explicitly naming th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ually lower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FBD4-EFBE-4122-9834-2E42B29F27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5:45:51Z</dcterms:created>
  <dc:creator>Hichem</dc:creator>
  <dc:description/>
  <dc:language>en-US</dc:language>
  <cp:lastModifiedBy> </cp:lastModifiedBy>
  <dcterms:modified xsi:type="dcterms:W3CDTF">2009-03-22T05:56:00Z</dcterms:modified>
  <cp:revision>170</cp:revision>
  <dc:subject/>
  <dc:title>Game Playing: Adversarial Search  chapter 6</dc:title>
</cp:coreProperties>
</file>