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B91-C156-4926-89A6-84ADD26A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89C-05DA-44D1-9848-79B5C554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DEF-EC2F-4BA0-9FB1-7CBBA0F4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F73-BDBC-4677-B215-83DDA129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121-F9C5-484A-822F-4CBB3E8F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BB0-59F1-42E9-A505-DA653A4D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B9F-8CF1-4EA3-AB18-12634502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877-5EFA-4E23-A34A-1268D791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459-3E6E-464B-9F35-B5312AEE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43F-51AD-44F2-AE6D-5BE26E1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4C8-CCC5-4FCB-BBAA-7B1B887A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E77-E1D8-47D5-9A6B-DED0FF5B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6465-5153-44FD-A625-895FC2C8B7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Log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E35-2900-4FD9-96DE-0701499FAD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tion (Predicate)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predicate symbol is used to represent a relation in a universe of dis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en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lation(Term1, Term2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either TRUE or FALSE depending on whether Relation holds of Term1, Term2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 write “Malek wrote Muata” in a universe of discourse of names and written w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rote(Malek, Mu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sentence is true in the intended interpre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othe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structor (CAP492, Sou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4EE-EF49-4CF6-9FD8-88DDB672E4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Function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 talk about the binary relation of pairs of 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or example, the Father relation might represent all  pairs of persons in father-daughter or father-son relationshi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Ali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x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369-23C8-496C-BC19-AC829BEFD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properties of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not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re is a person who loves everyone in the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one in the world is loved by at least one 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Quantifier duality: each can be expressed using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IceCream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IceCr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Broccoli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Brocco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7D9-2E7B-4F8D-BECC-BE20FD4113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Atom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Atomic sentenc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predicate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Term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ample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Brother(Ali , Moham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Greater(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, 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871-A499-4B5E-AEAA-C68E1B220D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Complex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Complex sentences are made from atomic sentences using connectives and by applying quantif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Garamond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Ali,Mohamed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Mohamed,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ater(1,2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less-or-equal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x,y Sibling(x,y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ibling(y,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5DA-AD21-4985-8599-D16B59B9F6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While constant symbols, variables and connectives  are like propositional logic, “What are functions and predica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language of logic is based on set the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t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lation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F2F-297E-4C87-A22A-0CF0527985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SETS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set of objects defines a “Universe of Discourse.” [Objects are represented by Constant Symbols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9640" y="2852640"/>
            <a:ext cx="4114440" cy="2285640"/>
            <a:chOff x="539640" y="2852640"/>
            <a:chExt cx="4114440" cy="2285640"/>
          </a:xfrm>
        </p:grpSpPr>
        <p:sp>
          <p:nvSpPr>
            <p:cNvPr id="89" name=""/>
            <p:cNvSpPr/>
            <p:nvPr/>
          </p:nvSpPr>
          <p:spPr>
            <a:xfrm>
              <a:off x="539640" y="36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1580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15800" y="28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7916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7916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0120" y="30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97520" y="36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1760" y="40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83480" y="35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3480" y="40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796000" y="270828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920160" y="5516640"/>
            <a:ext cx="10705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in this blocks world, the universe of discourse is {a,b,c,d,e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9CD-2E2E-458E-9893-BB986F99E1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RELA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: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ample:  Consider set of blocks {a,b,c,d,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492360" y="2349360"/>
            <a:ext cx="4114440" cy="2285640"/>
            <a:chOff x="3492360" y="2349360"/>
            <a:chExt cx="4114440" cy="2285640"/>
          </a:xfrm>
        </p:grpSpPr>
        <p:sp>
          <p:nvSpPr>
            <p:cNvPr id="106" name=""/>
            <p:cNvSpPr/>
            <p:nvPr/>
          </p:nvSpPr>
          <p:spPr>
            <a:xfrm>
              <a:off x="3492360" y="316584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852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852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8520" y="23493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3188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3188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2840" y="2527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0240" y="3116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4480" y="35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6200" y="308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6200" y="357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8360" y="4581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on”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= {&lt;a,b&gt;, &lt;b,c&gt;, &lt;d,e&gt;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dicate On(A,B) can be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interpr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: &lt;a,b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(A,B) is TRUE, but  On(A,C) and On(C,D) are FALSE in this interpre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1A4-7FD1-40EF-81D9-C0C295022C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function is a binary relation such that no two distinct members have the same first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other words, if F is 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and   &lt;x,z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y=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 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x is an argument of F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value of F at 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image of x  unde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(x) designates the object y such that y=F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D13-E3A5-47D4-8F6F-CFBD262C4C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522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284720" y="1052640"/>
            <a:ext cx="4114440" cy="2285640"/>
            <a:chOff x="4284720" y="1052640"/>
            <a:chExt cx="4114440" cy="2285640"/>
          </a:xfrm>
        </p:grpSpPr>
        <p:sp>
          <p:nvSpPr>
            <p:cNvPr id="127" name=""/>
            <p:cNvSpPr/>
            <p:nvPr/>
          </p:nvSpPr>
          <p:spPr>
            <a:xfrm>
              <a:off x="4284720" y="18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88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088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0880" y="10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2424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2424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5200" y="12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2600" y="18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36840" y="22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28560" y="17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8560" y="22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628640"/>
            <a:ext cx="50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t = {&lt;c,b&gt;, &lt;b,a&gt;,&lt;e,d&gt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 (c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b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d) is not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(E) can be interpreted as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365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07664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Garamond"/>
              </a:rPr>
              <a:t>Using FO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D,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Hat(C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A98-6BC7-487F-9DD0-42825FC7AB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compositional:  meaning of B1,1 ∧ P1,2 is derived from meaning of B1,1 and of P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eaning in propositional logic is context-independent unlike natural language, where meaning depends 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has limited expressive power unlike natu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cannot say "pits cause breezes in adjacent squar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except by writing one sentence for each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06D-9642-429B-A718-1F2D5A3B52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yntax of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tomic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 connective 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Quantifier variable,…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¬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tomic Sentence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=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nectiv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⇔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∧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∨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Quantifi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nstant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x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Befor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hascolo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Moth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Leftleg |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6237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2C9-7EA7-47E6-9350-0E5DDE5FD4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in FOL can be perform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ducing first-order inference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eneralized Modus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ack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D98-F2D5-41AB-9CD1-2D2A44A594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FOL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irst order inference can be done by converting the knowledge base to PL and using propositional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wo 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univers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Replace variable by groun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existenti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Skolemization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CB4-13A4-4F89-A89C-9FDDAA526D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iven a sentenc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binding li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result of applying the </a:t>
            </a: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is denoted by Subs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{x/Ali, y/Fatima}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bst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{x/Sam, y/Pam}, Likes(x,y)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Ali, fat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971-23FB-4C86-8F51-41DB1AF8C4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Universal instantiation (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 instantiation of a universally qua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entence is entailed by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v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ubst({v/g}, 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variable v and ground term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e.g., ∀x King(x) ∧ Greedy(x) ⇒ Evil(x) 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John) ∧ Greedy(John) ⇒ Evil(Joh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Richard) ∧ Greedy(Richard) ⇒ Evil(Ric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Father(John)) ∧ Greedy(Father(John)) ⇒ Evil(Father(Joh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7162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F7F-694F-4D9F-A15E-4D8267DE50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Existential instantiation (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sentence α, variable v, and constant symbol k that does not appear elsewhere in the knowledge 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∃</a:t>
            </a:r>
            <a:r>
              <a:rPr b="0" i="1" lang="fr-FR" sz="28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bst({v/k}, 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∃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 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vide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s a new constant symbol, called a Skole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3860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33A-C182-4D4F-A4B4-31D408C5A8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</a:rPr>
              <a:t>Reduction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ppose the KB contains just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reedy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rother(Richard,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Instantiating the universal sentence in all possible ways,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Joh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Richard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Richard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il(Rich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 new KB is proposition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725-D8D6-43CC-9724-4DCC46E12F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Reduction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A ground sentence is entailed by a new KB i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ntailed by the original K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ery FOL KB can be propositionalized so a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eserve entai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IDE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propositionalize KB and query, apply resolu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tur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PROBLE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with function symbols, there are infinitely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round terms, e.g.,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665-548B-4BCA-B65E-B6F3ED2D6E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nstead of translating the knowledge base to PL, we can make the inference rules work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or example,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y 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t is intuitively clear that we can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and obtain that Evil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760-824A-4D73-AA12-06D3B2867D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e can make the inference if we can find a substitution such that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atch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y(α ,β) = θ if Subst(θ, α) = Subst(θ, 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α                      β                           Su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John,Jane)                              {x/Ja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y,OJ)                                    {x/OJ,y/Joh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Knows(y,Mother(y))                   {y/John,x/Mother(John)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Knows(x,OJ)                                        {fai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4508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437000"/>
            <a:ext cx="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E58-B6F7-4B9A-80EC-288BBEEEE4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propositional logic (PL) to First order logic (F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things we can s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n are mor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Man(x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body loves some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ves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ing of the word “ab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bove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(on(x,z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(z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7D9-E79E-4689-B64D-AFC511518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Generalized Modus Ponens (G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ppose that 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’) =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) for all i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1', p2', … , pn',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p1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2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q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q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1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p1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2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  p2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θ is {x/John,y/John}      q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, q)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ll variables assumed universally qua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270828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206-EEE1-4D0B-B811-8D473341C7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ll first-order 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ubst(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here θ =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ify(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¬m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,   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ith θ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= {x/Ke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pply resolution steps to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NF(KB 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¬α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; complete for 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270828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4365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6A4-6055-4428-BEEE-A5B7271B25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n a new fact P is added to the K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each rule such that P unifies with a pre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f the other premise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n add the conclusion to the KB and continue ch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ward chaining is </a:t>
            </a: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data-driven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inferring properties and categories from per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61A-0CDC-452C-9D7B-1D2B565592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</a:t>
            </a: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Forward chaining examp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y, 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x, 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y, 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Bob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w facts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Bob,Pat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Pat, 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 (Bob, St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12360" y="58053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Buffalo(B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4400" y="580536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Pig (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11640" y="4652640"/>
            <a:ext cx="10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4653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43720" y="4797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/P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86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7800" y="422100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 (Bob,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49520" y="580536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lug(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156360" y="472428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4724280"/>
            <a:ext cx="576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59680" y="414972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Pat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2852640"/>
            <a:ext cx="100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42880" y="2276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Bob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22440" y="4960800"/>
            <a:ext cx="12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z/Ste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292360" y="285264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21400" y="3500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, y/Pa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90760" y="3500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y/Pat, z/Ste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48A-1196-4EFC-9484-221BCDAABD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ckward chaining starts with a hypothesis and work backwards , according to the rules in the knowledge base until reaching confirmed findings or f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637000"/>
            <a:ext cx="417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y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aster (y,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a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reeps(a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eps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4537080" cy="34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14B-74B1-4787-84A2-D2C5C1EC7B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semantic network consists of entities and relations between the ent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enerally it is represented as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26640" y="4076640"/>
            <a:ext cx="72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 bird is a kind of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Flying is the normal moving method of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n albatross is a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lbert is an albatross, and so is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9CA-199C-4B0E-A205-14B41F1ECE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1160" y="306864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89280" y="3141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day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87240" y="299736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89560" y="1916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3284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13164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003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6280" y="458964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lbat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87640" y="3428640"/>
            <a:ext cx="20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9240" y="58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lack and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834920" y="5084640"/>
            <a:ext cx="718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33560" y="6093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99560" y="580536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843280" y="5013000"/>
            <a:ext cx="433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1476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8000" y="5013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97880" y="50133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72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32880" y="5237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01040" y="3716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7960" y="2708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Moving-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51520" y="2781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ctive-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4E8-1CC7-42E6-AE1A-0552CE85DA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2.   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frame is a data structure whose components are called s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lots have names and accomodate information of various k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rame: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_kind_of: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oving_method: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ctive_at:day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ED9-E168-4AD1-ABA3-0CB459143D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Definition: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an ES is a program that behaves like an expert for some problem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Should be capable of explaining its decisions and the underlying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Often, it is expected to be able to deal with uncertain and incomple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Application domains: Medical diagnosis (MYCIN), locating equipment failur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454-C65C-4A82-A006-CDCFBC7CB8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are designed to lve problems that require expert knowledge in a particular domain </a:t>
            </a:r>
            <a:r>
              <a:rPr b="1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possessing knowledge in some f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S are known as knowledge bas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have to have a friendly user interaction capability that will make the system’s reasoning transparent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0A7-A42D-4F9E-8E70-A2F2B10B4F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hereas propositional logic assumes the world contains facts, first-order logic (like natural language) assumes the world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Objects: people, houses, numbers, colo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lations: red, round, prime, brother of, bigger than, part of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nctions: Sqrt, Plu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expre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the Wumpus are smel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a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EBA-1157-4458-B07B-43E3FDC98E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structure of an ES includes three main modu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 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292640"/>
            <a:ext cx="16570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19640" y="4292640"/>
            <a:ext cx="1584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I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72360" y="4149720"/>
            <a:ext cx="1871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4869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8360" y="47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7080" y="472428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98440" y="4221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587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88360" y="3789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276360" y="378936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47080" y="533556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2A9-D628-4FBF-8C47-DCF52305650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knowledge base comprises the knowledge that is specific to the domain of application: simple facts, rules, constraints and possibly also methods, heuristics and ideas for solving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engine: designed to use actively the knowledge in the base deriving new knoweldge to help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r interface: caters for smooth communication between the user and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665-10D8-40AE-9444-25A0A453E84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990000"/>
                </a:solidFill>
                <a:uFillTx/>
                <a:latin typeface="Garamond"/>
                <a:ea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OL extends PL by adding new concepts such as sets, relations and functions and new primitives such as variables, equality and quantif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re exist sevaral alternatives to perform inference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 is not the only one alternative to represent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algorithms depend on the way knowledge is re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Development of expert systems relies heavily on knoweldge representation and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BB1-76F5-4EC7-A80A-FDBD9FEFAB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ser defin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Constant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i.e., the "individuals" in the world) e.g., Mary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Func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individuals to individuals) e.g., father-of(Mary) = John, colorof(Sky) =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Predicate/rela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from individuals to truth values) e.g., greater(5,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en(apple), color(apple,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186-6199-495B-A379-795B27D9D8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OL suppli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Variable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. e.g., x,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nectives.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Same as in PL: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,∧,∨, 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Equality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 legitimate expression of predicate calculus is called a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well-formed formula (wff) o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, simply,</a:t>
            </a:r>
            <a:r>
              <a:rPr b="1" lang="en-US" sz="4400" spc="-1" strike="noStrike">
                <a:solidFill>
                  <a:srgbClr val="bbe0e3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a sent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667-3E54-4384-9345-CDBE92CAF5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Allow us to express properties of collections of objects instead of enumerating objects b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niversal: “for all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∀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istential: “there exist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∃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006-4680-4C22-8515-00D3626831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onstan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 symbol, e.g. Wumpus, A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ch constant symbol names exactly one object in a </a:t>
            </a:r>
            <a:r>
              <a:rPr b="1" lang="en-US" sz="3600" spc="-1" strike="noStrike">
                <a:solidFill>
                  <a:srgbClr val="990000"/>
                </a:solidFill>
                <a:latin typeface="Garamond"/>
              </a:rPr>
              <a:t>universe of discourse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b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t all objects have symbol na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objects have several symbol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sually denoted with upper-case first l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E14-87A2-4BA4-8AC4-5908D8CE79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ed to represent objects or properties of objects without explicitly naming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ually lower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6C9-374D-4B83-99B8-029812477B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 </cp:lastModifiedBy>
  <dcterms:modified xsi:type="dcterms:W3CDTF">2009-03-22T05:56:00Z</dcterms:modified>
  <cp:revision>170</cp:revision>
  <dc:subject/>
  <dc:title>Game Playing: Adversarial Search  chapter 6</dc:title>
</cp:coreProperties>
</file>