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8E0ADC8-2F87-4289-BF54-14FCBAEDB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9BA437-A97E-45A7-B68E-F33DE9A4C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B762C1D-4A3A-4B30-8781-DF0605F45D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A726B5C-991E-4A10-924F-B8F0393B1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F8ACC-D9A0-46DA-9D57-67E5A07228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5A2A1-07AF-48CD-ACBE-446D51F20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E21B3-0AC1-4691-86CF-C0BBC8FE7A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7C6B6-115B-43CB-8565-874336C15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84D2A-A4EE-472E-8600-93687E75F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0E896-726F-4ECE-B869-6FD1F3705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B429A-7C72-48F7-A13B-6A7B1203E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CBF4662-9D45-4979-98D2-2F13E4A94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43AEF-A5B7-4A16-BAB9-01BF22377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BC649-9B13-4CEE-833E-AF8387450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59822-B6F9-4FCA-A90C-19727B598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693707-B98B-423C-99D0-90F5073267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49D81-1CDC-4D84-B6E8-CCEDC970C1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118CFC-1866-4D73-BF8E-2B03EE61F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14AFCF4-6052-4CEE-856A-ED580F8DE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1829CF6-56B7-45F6-8619-0A56EBDB7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80D1E56-4930-4C5E-BE3E-3BB2EEBFC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3C6102C-2D03-4528-A69E-F50B1AA82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1F00E2B-A49E-4845-A9DC-04CF512E57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BF5BAB5-65BF-4A48-916E-C8AB52876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99265-AF97-4F1A-A534-D96DE6C990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0C918-9C6D-458A-B004-98A74D84C0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ciencedirect.com/"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solidFill>
                  <a:srgbClr val="e5e5ff"/>
                </a:solidFill>
                <a:latin typeface="Garamond"/>
              </a:rPr>
              <a:t>طرق وأساليب البحث العلمي</a:t>
            </a:r>
            <a:br>
              <a:rPr sz="5400"/>
            </a:br>
            <a:r>
              <a:rPr b="1" lang="hi-IN" sz="5400" spc="-1" strike="noStrike">
                <a:solidFill>
                  <a:srgbClr val="e5e5ff"/>
                </a:solidFill>
                <a:latin typeface="Garamond"/>
              </a:rPr>
              <a:t>جمع المعلومات والبحث  عن المعلومات بالحاسب الآلي</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الأستاذ الدكتور</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إبراهيم محمد إبراهيم عارف</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قسم الإنتاج النباتي</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Garamond"/>
              </a:rPr>
              <a:t>كلية علوم الأغذية والزراعة</a:t>
            </a:r>
            <a:endParaRPr b="0" lang="en-US" sz="2000" spc="-1" strike="noStrike">
              <a:solidFill>
                <a:srgbClr val="ffffff"/>
              </a:solidFill>
              <a:latin typeface="Garamond"/>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aref@ksu.edu.sa</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المصدر الثالث لجمع المعلومة:</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الرسائل الجامعية (ماجستير و دكتوراه و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ثال لرسالة ( الاسم و العنوان و رسالة ماجستير أو دكتوراه و الجامعة والسنة وعدد الصفحات</a:t>
            </a:r>
            <a:endParaRPr b="0" lang="en-US" sz="3200" spc="-1" strike="noStrike">
              <a:solidFill>
                <a:srgbClr val="ffffff"/>
              </a:solidFill>
              <a:latin typeface="Garamond"/>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مصدر الرابع للبحث عن المعلومات:</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Garamond"/>
              </a:rPr>
              <a:t>التقارير</a:t>
            </a:r>
            <a:endParaRPr b="0" lang="en-US" sz="3200" spc="-1" strike="noStrike">
              <a:solidFill>
                <a:srgbClr val="ffffff"/>
              </a:solidFill>
              <a:latin typeface="Garamond"/>
            </a:endParaRPr>
          </a:p>
          <a:p>
            <a:pPr marL="325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عادة يطلب من جهات معينة كتابة تقرير عن قضية معينة ويتم تدوين هذه المعلومات على شكل تقارير وكثير من هذه التقارير ليس ملزمة بوقت معين في كتابتها وليس لها منهجية معينة لكتابته وقد يصدر هذا التقرير سنوياً أو شهرياً أو لحالة طارية وبالتالي قد يلجأ له بعض الباحثين في حالة عدم وجود مصدر أقوى منه في التوثيق</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النشر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قد تصدر هذه النشرات من جهات حكومية وقد تكون شهرية أو نصف سنوية أو سنوية ولكن هذه النشرات غير محكمة.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وقد قد تصدر هذه النشرات من مراكز بحوث وغالباً تكون محكم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خرائط</a:t>
            </a:r>
            <a:endParaRPr b="0" lang="en-US" sz="3200" spc="-1" strike="noStrike">
              <a:solidFill>
                <a:srgbClr val="ffffff"/>
              </a:solidFill>
              <a:latin typeface="Garamond"/>
            </a:endParaRPr>
          </a:p>
          <a:p>
            <a:pPr marL="335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عتبر من أهم المصادر في حالة البحث عن معلومات توضح مواقع معينة ( مدن و قرى وجبال وأودية و طرق وغيرها من المعلومات التى تحتاج إلي خريطة لتوضيح المعلومة بشكل جيد وتختلف الخرائط في مقياس الرسم وغالبأً تكون ذات مقياس رسم كبير ولكن في بعض الحالات يمكن الحصول على مقياس أصغر)  ويمكن الحصول عليها من المساحة العسكرية</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الحاسب الآلي</a:t>
            </a: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قراص الكمبيوتر</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حصل كل مكتبة على أقراص و تحتوي على معلومات علمية وكل مجموعة من الأراص يخص فرع من العلوم المتختلفة وقد تكون هذه الأقراص ملخصات أو كامل الأبحاث وفي فروع:</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زراعة</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طب</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بيولوجي</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فيزياء وغيرها من العلوم</a:t>
            </a:r>
            <a:endParaRPr b="0" lang="en-US" sz="3200" spc="-1" strike="noStrike">
              <a:solidFill>
                <a:srgbClr val="ffffff"/>
              </a:solidFill>
              <a:latin typeface="Garamond"/>
            </a:endParaRPr>
          </a:p>
          <a:p>
            <a:pPr marL="33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الحاسب الآلي</a:t>
            </a:r>
            <a:endParaRPr b="1" lang="en-US" sz="44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شبكة الانترنت</a:t>
            </a:r>
            <a:endParaRPr b="0" lang="en-US" sz="3200" spc="-1" strike="noStrike">
              <a:solidFill>
                <a:srgbClr val="ffffff"/>
              </a:solidFill>
              <a:latin typeface="Garamond"/>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قد اختصرت الطريق بشكل قد يصل إلي أكثر من </a:t>
            </a:r>
            <a:r>
              <a:rPr b="0" lang="ar-SA" sz="3200" spc="-1" strike="noStrike">
                <a:solidFill>
                  <a:srgbClr val="ffffff"/>
                </a:solidFill>
                <a:latin typeface="Garamond"/>
              </a:rPr>
              <a:t>50</a:t>
            </a:r>
            <a:r>
              <a:rPr b="0" lang="ar-SA" sz="3200" spc="-1" strike="noStrike">
                <a:solidFill>
                  <a:srgbClr val="ffffff"/>
                </a:solidFill>
                <a:latin typeface="Garamond"/>
              </a:rPr>
              <a:t>% من مما سبق استخدامه حيث يمكن للباحث الحصول على المعلومات في و قت قياسى جداً</a:t>
            </a:r>
            <a:endParaRPr b="0" lang="en-US" sz="3200" spc="-1" strike="noStrike">
              <a:solidFill>
                <a:srgbClr val="ffffff"/>
              </a:solidFill>
              <a:latin typeface="Garamond"/>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قد يكون الاستخدام على النحو التالي:</a:t>
            </a:r>
            <a:endParaRPr b="0" lang="en-US" sz="3200" spc="-1" strike="noStrike">
              <a:solidFill>
                <a:srgbClr val="ffffff"/>
              </a:solidFill>
              <a:latin typeface="Garamond"/>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شتراك الشخصي مع مجلة علمية محددة وهو الذي يدفع الاشتراك</a:t>
            </a:r>
            <a:endParaRPr b="0" lang="en-US" sz="3200" spc="-1" strike="noStrike">
              <a:solidFill>
                <a:srgbClr val="ffffff"/>
              </a:solidFill>
              <a:latin typeface="Garamond"/>
            </a:endParaRPr>
          </a:p>
          <a:p>
            <a:pPr marL="3290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شتراك الحكومي (مراكز البحوث أو المكتبات) وعادة تكون غالية التكاليف</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الحاسب الآلي</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ولكن الاشتراك يكون في أكثر من مجل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ويمكن استخدام شبكة الانترنت للحصول على معلومات من مراكز مختلفة وتكون هذه مجاناً خاصة المعلومات مثل معلومات عن المناخ أو معلومات عم الحياة الفطرية أو الغابات ولكن قد لا تكون نتيجة بحثي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الحاسب الآلي</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ثال لاشتراك جامعة الملك سعود في شبكة الانترن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ص كامل</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ience direc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sciencedirect.com</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r Name: kingsaud1</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assword: saud1</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خطوات إعداد البحث</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548280" indent="-548280" algn="r" rtl="1">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جمع المعلومات</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قبل أن تجمع المعلومات هناك أسئلة يجب أن يتم الإجابة عليها</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س</a:t>
            </a:r>
            <a:r>
              <a:rPr b="0" lang="en-US" sz="3200" spc="-1" strike="noStrike">
                <a:solidFill>
                  <a:srgbClr val="ffffff"/>
                </a:solidFill>
                <a:latin typeface="Garamond"/>
              </a:rPr>
              <a:t>1</a:t>
            </a:r>
            <a:r>
              <a:rPr b="0" lang="en-US" sz="3200" spc="-1" strike="noStrike">
                <a:solidFill>
                  <a:srgbClr val="ffffff"/>
                </a:solidFill>
                <a:latin typeface="Garamond"/>
              </a:rPr>
              <a:t> ما هو الهدف  من جمع المعلومة</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س</a:t>
            </a:r>
            <a:r>
              <a:rPr b="0" lang="en-US" sz="3200" spc="-1" strike="noStrike">
                <a:solidFill>
                  <a:srgbClr val="ffffff"/>
                </a:solidFill>
                <a:latin typeface="Garamond"/>
              </a:rPr>
              <a:t>2</a:t>
            </a:r>
            <a:r>
              <a:rPr b="0" lang="en-US" sz="3200" spc="-1" strike="noStrike">
                <a:solidFill>
                  <a:srgbClr val="ffffff"/>
                </a:solidFill>
                <a:latin typeface="Garamond"/>
              </a:rPr>
              <a:t> هل تبحث عن معلومات تؤكد نتيجة لديك ( تحتاج المصدر لأنك تحتاج جزء من المعلومات في الكتابة)</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س</a:t>
            </a:r>
            <a:r>
              <a:rPr b="0" lang="en-US" sz="3200" spc="-1" strike="noStrike">
                <a:solidFill>
                  <a:srgbClr val="ffffff"/>
                </a:solidFill>
                <a:latin typeface="Garamond"/>
              </a:rPr>
              <a:t>3</a:t>
            </a:r>
            <a:r>
              <a:rPr b="0" lang="en-US" sz="3200" spc="-1" strike="noStrike">
                <a:solidFill>
                  <a:srgbClr val="ffffff"/>
                </a:solidFill>
                <a:latin typeface="Garamond"/>
              </a:rPr>
              <a:t> هل تحتاج معلومات لتساعدك في زيادة المعرفة الثقافية عن الموضوع ( قد لا تحتاج ذكر المصدر لأن المعلومات لم تسجل كما ذكرت في الأصل)</a:t>
            </a:r>
            <a:endParaRPr b="0" lang="en-US" sz="3200" spc="-1" strike="noStrike">
              <a:solidFill>
                <a:srgbClr val="ffffff"/>
              </a:solidFill>
              <a:latin typeface="Garamond"/>
            </a:endParaRPr>
          </a:p>
          <a:p>
            <a:pPr marL="5482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خطوات إعداد البحث</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تسجيل المعلومات</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يتم تسجيل المعلومات بطرق كثيرة وقد تطورت هذه الطرق فقد كانت تكتب على شكل بطاقات صغيرة ويكتب جميع البيانات عليها</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أسم المؤلف</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أسم الكتاب أو المجلة أو.......الخ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لخص للمطلو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ffff"/>
                </a:solidFill>
                <a:latin typeface="Garamond"/>
              </a:rPr>
              <a:t>المكتبة وما تحتويه</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 تحوي المكتبات  العلمية العامة التالي:</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Garamond"/>
              </a:rPr>
              <a:t>قسم العلاقات العامة (لمتابعة أعمال المكتبة)</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Garamond"/>
              </a:rPr>
              <a:t>الكتب بجميع أشكالها العربية الاجنبية</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Garamond"/>
              </a:rPr>
              <a:t>الدوريات</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ff"/>
                </a:solidFill>
                <a:latin typeface="Garamond"/>
              </a:rPr>
              <a:t>المطبوعات الحكومية (المحلية والمنظمات الأخرى)</a:t>
            </a:r>
            <a:endParaRPr b="0" lang="en-US" sz="3600" spc="-1" strike="noStrike">
              <a:solidFill>
                <a:srgbClr val="ffffff"/>
              </a:solidFill>
              <a:latin typeface="Garamond"/>
            </a:endParaRPr>
          </a:p>
          <a:p>
            <a:pPr marL="332640" indent="0" algn="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2640" indent="0" algn="r" rtl="1">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e5e5ff"/>
                </a:solidFill>
                <a:latin typeface="Garamond"/>
              </a:rPr>
              <a:t>خطوات إعداد البحث</a:t>
            </a:r>
            <a:endParaRPr b="1" lang="en-US" sz="44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حالياً تطورت الطرق ويمكن استخدام جهاز الكمبيوتر مباشرة بحيث يتم ترتيب المعلومات بشكل يسهل الحصول عليها.</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ويعتمد على الباحث في كتابة المعلومات وعلى حسب ما يريد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تقرير.........له طريقة</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ماجستير..... فهو يحتاج معلومات </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لمقدمة</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طريقة العمل</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لدراسات السابقة</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لنتائج</a:t>
            </a:r>
            <a:endParaRPr b="0" lang="en-US" sz="2800" spc="-1" strike="noStrike">
              <a:solidFill>
                <a:srgbClr val="ffffff"/>
              </a:solidFill>
              <a:latin typeface="Garamond"/>
            </a:endParaRPr>
          </a:p>
          <a:p>
            <a:pPr marL="31896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للمناقشة</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e5e5ff"/>
                </a:solidFill>
                <a:latin typeface="Garamond"/>
              </a:rPr>
              <a:t>اخيراً</a:t>
            </a:r>
            <a:br>
              <a:rPr sz="4000"/>
            </a:br>
            <a:endParaRPr b="1" lang="en-US" sz="4000" spc="-1" strike="noStrike">
              <a:solidFill>
                <a:srgbClr val="e5e5ff"/>
              </a:solidFill>
              <a:latin typeface="Garamond"/>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في نهاية الدور تكتمل الصور بشكل كبير حيث تستطيع أن تعرف نظرياً ولكن لا بد من أن تقوم بإجراء بحث وخاصة من يرغب في مواصلة دراسته أو يريد عمل بحث وينشره في المجلات المحلية أو العربية أو غيرها</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وفي الختام</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أنا أحد المصادر فإذا أرت معلومة في مجالي فلا تتردد </a:t>
            </a:r>
            <a:endParaRPr b="0" lang="en-US" sz="3200" spc="-1" strike="noStrike">
              <a:solidFill>
                <a:srgbClr val="ffffff"/>
              </a:solidFill>
              <a:latin typeface="Garamond"/>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ع تحياتي لكم بدوام التوفيق والنجاح</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a:t>
            </a:r>
            <a:endParaRPr b="1" lang="en-US" sz="4400" spc="-1" strike="noStrike">
              <a:solidFill>
                <a:srgbClr val="e5e5ff"/>
              </a:solidFill>
              <a:latin typeface="Garamond"/>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المحفوظات</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مركز للمعلومات الصحفية</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قسم وسائل سمعية وبصرية</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التجليد</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قسم لتقنية المعلومات</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قسم الفهرسة والتصنيف</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الفهرسة والتصنيف</a:t>
            </a:r>
            <a:endParaRPr b="0" lang="en-US" sz="4000" spc="-1" strike="noStrike">
              <a:solidFill>
                <a:srgbClr val="ffffff"/>
              </a:solidFill>
              <a:latin typeface="Garamond"/>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Garamond"/>
              </a:rPr>
              <a:t>التصوير العلمي</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 (مثال )</a:t>
            </a: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تحتوي مكتبة الأمير سلمان بجامعة الملك سعود على:</a:t>
            </a:r>
            <a:endParaRPr b="0" lang="en-US" sz="4000" spc="-1" strike="noStrike">
              <a:solidFill>
                <a:srgbClr val="ffffff"/>
              </a:solidFill>
              <a:latin typeface="Garamond"/>
            </a:endParaRPr>
          </a:p>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بلغت جملة مقتنيات المكتبة من الكتب والمراجع العربية والاجنبية </a:t>
            </a:r>
            <a:r>
              <a:rPr b="0" lang="ar-SA" sz="4000" spc="-1" strike="noStrike">
                <a:solidFill>
                  <a:srgbClr val="ffffff"/>
                </a:solidFill>
                <a:latin typeface="Garamond"/>
              </a:rPr>
              <a:t>591775</a:t>
            </a:r>
            <a:r>
              <a:rPr b="0" lang="ar-SA" sz="4000" spc="-1" strike="noStrike">
                <a:solidFill>
                  <a:srgbClr val="ffffff"/>
                </a:solidFill>
                <a:latin typeface="Garamond"/>
              </a:rPr>
              <a:t> عنوان</a:t>
            </a:r>
            <a:endParaRPr b="0" lang="en-US" sz="4000" spc="-1" strike="noStrike">
              <a:solidFill>
                <a:srgbClr val="ffffff"/>
              </a:solidFill>
              <a:latin typeface="Garamond"/>
            </a:endParaRPr>
          </a:p>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1215248</a:t>
            </a:r>
            <a:r>
              <a:rPr b="0" lang="ar-SA" sz="4000" spc="-1" strike="noStrike">
                <a:solidFill>
                  <a:srgbClr val="ffffff"/>
                </a:solidFill>
                <a:latin typeface="Garamond"/>
              </a:rPr>
              <a:t> مجلد</a:t>
            </a:r>
            <a:endParaRPr b="0" lang="en-US" sz="4000" spc="-1" strike="noStrike">
              <a:solidFill>
                <a:srgbClr val="ffffff"/>
              </a:solidFill>
              <a:latin typeface="Garamond"/>
            </a:endParaRPr>
          </a:p>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المخطوطات </a:t>
            </a:r>
            <a:r>
              <a:rPr b="0" lang="ar-SA" sz="4000" spc="-1" strike="noStrike">
                <a:solidFill>
                  <a:srgbClr val="ffffff"/>
                </a:solidFill>
                <a:latin typeface="Garamond"/>
              </a:rPr>
              <a:t>20187</a:t>
            </a:r>
            <a:endParaRPr b="0" lang="en-US" sz="4000" spc="-1" strike="noStrike">
              <a:solidFill>
                <a:srgbClr val="ffffff"/>
              </a:solidFill>
              <a:latin typeface="Garamond"/>
            </a:endParaRPr>
          </a:p>
          <a:p>
            <a:pPr marL="312120" indent="-312120" algn="r" rtl="1">
              <a:lnSpc>
                <a:spcPct val="9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Garamond"/>
              </a:rPr>
              <a:t>رسائل ماجستير دكتواره </a:t>
            </a:r>
            <a:r>
              <a:rPr b="0" lang="ar-SA" sz="4000" spc="-1" strike="noStrike">
                <a:solidFill>
                  <a:srgbClr val="ffffff"/>
                </a:solidFill>
                <a:latin typeface="Garamond"/>
              </a:rPr>
              <a:t>9337</a:t>
            </a:r>
            <a:r>
              <a:rPr b="0" lang="ar-SA" sz="4000" spc="-1" strike="noStrike">
                <a:solidFill>
                  <a:srgbClr val="ffffff"/>
                </a:solidFill>
                <a:latin typeface="Garamond"/>
              </a:rPr>
              <a:t> عنوان</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قراءة والمكتبة (تابع)</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12492</a:t>
            </a:r>
            <a:r>
              <a:rPr b="0" lang="ar-SA" sz="3200" spc="-1" strike="noStrike">
                <a:solidFill>
                  <a:srgbClr val="ffffff"/>
                </a:solidFill>
                <a:latin typeface="Garamond"/>
              </a:rPr>
              <a:t> مجلد</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24</a:t>
            </a:r>
            <a:r>
              <a:rPr b="0" lang="ar-SA" sz="3200" spc="-1" strike="noStrike">
                <a:solidFill>
                  <a:srgbClr val="ffffff"/>
                </a:solidFill>
                <a:latin typeface="Garamond"/>
              </a:rPr>
              <a:t> ميكروفيلم</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915</a:t>
            </a:r>
            <a:r>
              <a:rPr b="0" lang="ar-SA" sz="3200" spc="-1" strike="noStrike">
                <a:solidFill>
                  <a:srgbClr val="ffffff"/>
                </a:solidFill>
                <a:latin typeface="Garamond"/>
              </a:rPr>
              <a:t> ميكروفيش</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جمالي المطبوعات الحكومية عربية وأجنبية </a:t>
            </a:r>
            <a:r>
              <a:rPr b="0" lang="ar-SA" sz="3200" spc="-1" strike="noStrike">
                <a:solidFill>
                  <a:srgbClr val="ffffff"/>
                </a:solidFill>
                <a:latin typeface="Garamond"/>
              </a:rPr>
              <a:t>65136</a:t>
            </a:r>
            <a:r>
              <a:rPr b="0" lang="ar-SA" sz="3200" spc="-1" strike="noStrike">
                <a:solidFill>
                  <a:srgbClr val="ffffff"/>
                </a:solidFill>
                <a:latin typeface="Garamond"/>
              </a:rPr>
              <a:t> و </a:t>
            </a:r>
            <a:r>
              <a:rPr b="0" lang="ar-SA" sz="3200" spc="-1" strike="noStrike">
                <a:solidFill>
                  <a:srgbClr val="ffffff"/>
                </a:solidFill>
                <a:latin typeface="Garamond"/>
              </a:rPr>
              <a:t>13934</a:t>
            </a:r>
            <a:r>
              <a:rPr b="0" lang="ar-SA" sz="3200" spc="-1" strike="noStrike">
                <a:solidFill>
                  <a:srgbClr val="ffffff"/>
                </a:solidFill>
                <a:latin typeface="Garamond"/>
              </a:rPr>
              <a:t> مجلد</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إجمالي الخرائط </a:t>
            </a:r>
            <a:r>
              <a:rPr b="0" lang="ar-SA" sz="3200" spc="-1" strike="noStrike">
                <a:solidFill>
                  <a:srgbClr val="ffffff"/>
                </a:solidFill>
                <a:latin typeface="Garamond"/>
              </a:rPr>
              <a:t>879</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الملفات الصحفية </a:t>
            </a:r>
            <a:r>
              <a:rPr b="0" lang="ar-SA" sz="3200" spc="-1" strike="noStrike">
                <a:solidFill>
                  <a:srgbClr val="ffffff"/>
                </a:solidFill>
                <a:latin typeface="Garamond"/>
              </a:rPr>
              <a:t>13943</a:t>
            </a:r>
            <a:endParaRPr b="0" lang="en-US" sz="3200" spc="-1" strike="noStrike">
              <a:solidFill>
                <a:srgbClr val="ffffff"/>
              </a:solidFill>
              <a:latin typeface="Garamond"/>
            </a:endParaRPr>
          </a:p>
          <a:p>
            <a:pPr marL="343080" indent="-343080" algn="r" rtl="1">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وسائل السمعية والبصرية </a:t>
            </a:r>
            <a:r>
              <a:rPr b="0" lang="ar-SA" sz="3200" spc="-1" strike="noStrike">
                <a:solidFill>
                  <a:srgbClr val="ffffff"/>
                </a:solidFill>
                <a:latin typeface="Garamond"/>
              </a:rPr>
              <a:t>1869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529920" indent="0" algn="ct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طريقة البحث عن المعلومات في أوعية النشر</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Garamond"/>
              </a:rPr>
              <a:t>المصدر الأول الكتب و طريقة أخذ المعلومة منها </a:t>
            </a:r>
            <a:endParaRPr b="0" lang="en-US" sz="3200" spc="-1" strike="noStrike">
              <a:solidFill>
                <a:srgbClr val="ffffff"/>
              </a:solidFill>
              <a:latin typeface="Garamond"/>
            </a:endParaRPr>
          </a:p>
          <a:p>
            <a:pPr marL="529920" indent="-529920" algn="r" rtl="1">
              <a:lnSpc>
                <a:spcPct val="90000"/>
              </a:lnSpc>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حتويات الكتاب</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a:t>
            </a:r>
            <a:r>
              <a:rPr b="0" lang="en-US" sz="3200" spc="-1" strike="noStrike">
                <a:solidFill>
                  <a:srgbClr val="ffffff"/>
                </a:solidFill>
                <a:latin typeface="Garamond"/>
              </a:rPr>
              <a:t>. فهرس الكتاب</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ويتم الاشارة إلي رقم الصفحة أو الصفحات التي تم أخذ المعلومة منها) ويكتب اسم الكتاب والناشر كامل مع المراجع </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مثال لذلك وقد ذكر </a:t>
            </a:r>
            <a:r>
              <a:rPr b="0" i="1" lang="hi-IN" sz="3200" spc="-1" strike="noStrike">
                <a:solidFill>
                  <a:srgbClr val="ffffff"/>
                </a:solidFill>
                <a:latin typeface="Garamond"/>
              </a:rPr>
              <a:t>أبو الحسن </a:t>
            </a:r>
            <a:r>
              <a:rPr b="0" lang="en-US" sz="3200" spc="-1" strike="noStrike">
                <a:solidFill>
                  <a:srgbClr val="ffffff"/>
                </a:solidFill>
                <a:latin typeface="Garamond"/>
              </a:rPr>
              <a:t>1984</a:t>
            </a:r>
            <a:r>
              <a:rPr b="0" lang="en-US" sz="3200" spc="-1" strike="noStrike">
                <a:solidFill>
                  <a:srgbClr val="ffffff"/>
                </a:solidFill>
                <a:latin typeface="Garamond"/>
              </a:rPr>
              <a:t> بأن الغابات في المملكة تقدربحوالي</a:t>
            </a:r>
            <a:r>
              <a:rPr b="0" lang="en-US" sz="3200" spc="-1" strike="noStrike">
                <a:solidFill>
                  <a:srgbClr val="ffffff"/>
                </a:solidFill>
                <a:latin typeface="Garamond"/>
              </a:rPr>
              <a:t>1.2</a:t>
            </a:r>
            <a:r>
              <a:rPr b="0" lang="hi-IN" sz="3200" spc="-1" strike="noStrike">
                <a:solidFill>
                  <a:srgbClr val="ffffff"/>
                </a:solidFill>
                <a:latin typeface="Garamond"/>
              </a:rPr>
              <a:t>من مساحة المملكة.</a:t>
            </a: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299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كتب في المراجع كالاتي:</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أبوالحسن عطالله أحمد (</a:t>
            </a:r>
            <a:r>
              <a:rPr b="0" lang="ar-SA" sz="3200" spc="-1" strike="noStrike">
                <a:solidFill>
                  <a:srgbClr val="ffffff"/>
                </a:solidFill>
                <a:latin typeface="Garamond"/>
              </a:rPr>
              <a:t>1984</a:t>
            </a:r>
            <a:r>
              <a:rPr b="0" lang="ar-SA" sz="3200" spc="-1" strike="noStrike">
                <a:solidFill>
                  <a:srgbClr val="ffffff"/>
                </a:solidFill>
                <a:latin typeface="Garamond"/>
              </a:rPr>
              <a:t>). الغابات الطبيعية في المملكة العربية السعودية، مدينة الملك عبدالعزيز للعلوم والتقنية، الرياض، المملكة العربية السعوديةالطبعو ، </a:t>
            </a:r>
            <a:r>
              <a:rPr b="0" lang="ar-SA" sz="3200" spc="-1" strike="noStrike">
                <a:solidFill>
                  <a:srgbClr val="ffffff"/>
                </a:solidFill>
                <a:latin typeface="Garamond"/>
              </a:rPr>
              <a:t>200</a:t>
            </a:r>
            <a:r>
              <a:rPr b="0" lang="ar-SA" sz="3200" spc="-1" strike="noStrike">
                <a:solidFill>
                  <a:srgbClr val="ffffff"/>
                </a:solidFill>
                <a:latin typeface="Garamond"/>
              </a:rPr>
              <a:t>صفحة.</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وهكذا </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لفصل مؤلف في كتاب (الاسم والسنة والعنوان و المصدر و رقم الصفحات (</a:t>
            </a:r>
            <a:r>
              <a:rPr b="0" lang="ar-SA" sz="3200" spc="-1" strike="noStrike">
                <a:solidFill>
                  <a:srgbClr val="ffffff"/>
                </a:solidFill>
                <a:latin typeface="Garamond"/>
              </a:rPr>
              <a:t>169</a:t>
            </a:r>
            <a:r>
              <a:rPr b="0" lang="ar-SA" sz="3200" spc="-1" strike="noStrike">
                <a:solidFill>
                  <a:srgbClr val="ffffff"/>
                </a:solidFill>
                <a:latin typeface="Garamond"/>
              </a:rPr>
              <a:t>-</a:t>
            </a:r>
            <a:r>
              <a:rPr b="0" lang="ar-SA" sz="3200" spc="-1" strike="noStrike">
                <a:solidFill>
                  <a:srgbClr val="ffffff"/>
                </a:solidFill>
                <a:latin typeface="Garamond"/>
              </a:rPr>
              <a:t>175</a:t>
            </a:r>
            <a:endParaRPr b="0" lang="en-US" sz="3200" spc="-1" strike="noStrike">
              <a:solidFill>
                <a:srgbClr val="ffffff"/>
              </a:solidFill>
              <a:latin typeface="Garamond"/>
            </a:endParaRPr>
          </a:p>
          <a:p>
            <a:pPr marL="31212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مثال لكتاب ترجمة (اسم المترجم و السنة والعنوان و (تأليف الأصلي) الناشر  عدد الصفح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e5e5ff"/>
                </a:solidFill>
                <a:latin typeface="Garamond"/>
              </a:rPr>
              <a:t>البحث عن المعلومات في أوعية النشر</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Garamond"/>
              </a:rPr>
              <a:t>المصدر الثاني للبحث عن المعلومات:</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معلومة من دوريات </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المجلات العلمية المحكمة وغير المحكمة العربية والأجنبية</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الملخصات (ملخص الأبحاث)</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Garamond"/>
              </a:rPr>
              <a:t>المراجعات (بعض الدوريات تنشر مواضيع علمية غير بحثية ميدانية وهي عبارة عن تجميع معلومات لموضوع معين)</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1" lang="hi-IN" sz="2800" spc="-1" strike="noStrike">
                <a:solidFill>
                  <a:srgbClr val="ffffff"/>
                </a:solidFill>
                <a:latin typeface="Garamond"/>
              </a:rPr>
              <a:t>طريقة تدوين المعلومات من الدوريات:</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الاسم و السنة والعنوان و رقم الدورية والمجلد وعدد الصفحات)</a:t>
            </a:r>
            <a:endParaRPr b="0" lang="en-US" sz="2800" spc="-1" strike="noStrike">
              <a:solidFill>
                <a:srgbClr val="ffffff"/>
              </a:solidFill>
              <a:latin typeface="Garamond"/>
            </a:endParaRPr>
          </a:p>
          <a:p>
            <a:pPr marL="335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4T06:56:08Z</dcterms:created>
  <dc:creator>فراس ال صقر</dc:creator>
  <dc:description/>
  <dc:language>en-US</dc:language>
  <cp:lastModifiedBy>فراس ال صقر</cp:lastModifiedBy>
  <dcterms:modified xsi:type="dcterms:W3CDTF">2006-03-04T09:34:05Z</dcterms:modified>
  <cp:revision>11</cp:revision>
  <dc:subject/>
  <dc:title>طرق وأساليب البحث العلمي</dc:title>
</cp:coreProperties>
</file>