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68D7-77D8-4ECB-B869-D1BF05A9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71F9-8C8F-4AD0-90E1-3F1F282E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6F1-8AFB-465D-A11E-A49DEB85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EC1-7020-45A6-B989-1F2EA622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3ED-EBDE-4DFD-B0AA-F3F82552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D24-8085-46D4-97C8-7F82CF99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EDD-F8F7-4B30-ADA5-F401F39F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FAF-4CDD-4834-8C1C-5365255B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630-234F-4910-B656-E15785E8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AA36-F9E4-46E0-90BD-ED552D3A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4D6-988F-4F2E-A2A7-B3538AFE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58E9-62FF-460F-8B93-3B18D14C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1FA-FB69-486A-84FE-13EA13772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0"/>
            <a:ext cx="88390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9: One- and Two-Sample Estimation 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8763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1 Int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Suppose we have a population with some unknown parameter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Normal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We need to draw conclusions (make inferences) about the unknown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 We select samples, compute some statistics, and make inferences about the unknown parameters based on the sampling distributions of the statist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4724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* Statistical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Estimation of the parameters (Chapter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ests of hypotheses about the parameters (Chapter 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380880" y="127080"/>
            <a:ext cx="8686800" cy="3690360"/>
            <a:chOff x="380880" y="127080"/>
            <a:chExt cx="8686800" cy="3690360"/>
          </a:xfrm>
        </p:grpSpPr>
        <p:sp>
          <p:nvSpPr>
            <p:cNvPr id="142" name=""/>
            <p:cNvSpPr/>
            <p:nvPr/>
          </p:nvSpPr>
          <p:spPr>
            <a:xfrm>
              <a:off x="380880" y="127080"/>
              <a:ext cx="8686800" cy="36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    All fractional values of                   are rounded up to the   next whole numb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    I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unknown, we could take a preliminary sample of size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 to provide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n us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 an approximatio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 Theorem 9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could determine approximately how many observations are   needed to provide the desired degree of accurac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114440" y="482760"/>
                  <a:ext cx="1676520" cy="73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>
                            <m:t xml:space="preserve">e</m:t>
                          </m:r>
                        </m:den>
                      </m:f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456840" y="2013120"/>
                  <a:ext cx="274320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"/>
          <p:cNvSpPr/>
          <p:nvPr/>
        </p:nvSpPr>
        <p:spPr>
          <a:xfrm>
            <a:off x="76320" y="340056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large a sample is required in Example 9.2 if we want to be 95% confident that our estimate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off by less than 0.0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76320" y="155520"/>
            <a:ext cx="8915400" cy="3385440"/>
            <a:chOff x="76320" y="155520"/>
            <a:chExt cx="8915400" cy="3385440"/>
          </a:xfrm>
        </p:grpSpPr>
        <p:sp>
          <p:nvSpPr>
            <p:cNvPr id="147" name=""/>
            <p:cNvSpPr/>
            <p:nvPr/>
          </p:nvSpPr>
          <p:spPr>
            <a:xfrm>
              <a:off x="76320" y="155520"/>
              <a:ext cx="8915400" cy="33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hav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3 ,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 Then by Theorem 9.2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we can be 95% confident that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39 will provide an estimate   differing from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0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2590920" y="623880"/>
                  <a:ext cx="1066680" cy="59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752480" y="1214280"/>
                  <a:ext cx="4648320" cy="99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6</m:t>
                              </m:r>
                              <m:r>
                                <m:t xml:space="preserve"> </m:t>
                              </m:r>
                              <m:r>
                                <m:t xml:space="preserve">×</m:t>
                              </m:r>
                              <m:f>
                                <m:num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5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t xml:space="preserve">≈</m:t>
                      </m:r>
                      <m:r>
                        <m:rPr>
                          <m:lit/>
                          <m:nor/>
                        </m:rPr>
                        <m:t xml:space="preserve">13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5361120" y="274320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" name=""/>
          <p:cNvGrpSpPr/>
          <p:nvPr/>
        </p:nvGrpSpPr>
        <p:grpSpPr>
          <a:xfrm>
            <a:off x="76320" y="3429000"/>
            <a:ext cx="8686800" cy="1842840"/>
            <a:chOff x="76320" y="3429000"/>
            <a:chExt cx="8686800" cy="1842840"/>
          </a:xfrm>
        </p:grpSpPr>
        <p:sp>
          <p:nvSpPr>
            <p:cNvPr id="152" name=""/>
            <p:cNvSpPr/>
            <p:nvPr/>
          </p:nvSpPr>
          <p:spPr>
            <a:xfrm>
              <a:off x="76320" y="34290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i) Second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un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457560" y="4419360"/>
              <a:ext cx="3047760" cy="852480"/>
              <a:chOff x="457560" y="4419360"/>
              <a:chExt cx="3047760" cy="852480"/>
            </a:xfrm>
          </p:grpSpPr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1066680" y="4419360"/>
                    <a:ext cx="2438640" cy="852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5" name=""/>
              <p:cNvSpPr/>
              <p:nvPr/>
            </p:nvSpPr>
            <p:spPr>
              <a:xfrm>
                <a:off x="457560" y="4647960"/>
                <a:ext cx="531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Wingdings" charset="2"/>
                  <a:buChar char="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76320" y="152280"/>
            <a:ext cx="8915400" cy="2138040"/>
            <a:chOff x="76320" y="152280"/>
            <a:chExt cx="8915400" cy="2138040"/>
          </a:xfrm>
        </p:grpSpPr>
        <p:sp>
          <p:nvSpPr>
            <p:cNvPr id="157" name=""/>
            <p:cNvSpPr/>
            <p:nvPr/>
          </p:nvSpPr>
          <p:spPr>
            <a:xfrm>
              <a:off x="76320" y="5508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e the sample me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the sample standard deviatio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rom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 normal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opulation (distribution) with un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533520" y="533160"/>
                  <a:ext cx="1295280" cy="66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456840"/>
                  <a:ext cx="28195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79560" y="1522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64320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00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73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3844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09480" y="2590920"/>
            <a:ext cx="7315200" cy="3124080"/>
            <a:chOff x="609480" y="2590920"/>
            <a:chExt cx="7315200" cy="3124080"/>
          </a:xfrm>
        </p:grpSpPr>
        <p:graphicFrame>
          <p:nvGraphicFramePr>
            <p:cNvPr id="166" name=""/>
            <p:cNvGraphicFramePr/>
            <p:nvPr/>
          </p:nvGraphicFramePr>
          <p:xfrm>
            <a:off x="4876560" y="2743200"/>
            <a:ext cx="2630520" cy="2818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560" y="2743200"/>
                      <a:ext cx="2630520" cy="281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8" name=""/>
            <p:cNvGrpSpPr/>
            <p:nvPr/>
          </p:nvGrpSpPr>
          <p:grpSpPr>
            <a:xfrm>
              <a:off x="838080" y="2895480"/>
              <a:ext cx="3276360" cy="2513880"/>
              <a:chOff x="838080" y="2895480"/>
              <a:chExt cx="3276360" cy="2513880"/>
            </a:xfrm>
          </p:grpSpPr>
          <mc:AlternateContent>
            <mc:Choice xmlns:a14="http://schemas.microsoft.com/office/drawing/2010/main" Requires="a14">
              <p:sp>
                <p:nvSpPr>
                  <p:cNvPr id="169" name=""/>
                  <p:cNvSpPr txBox="1"/>
                  <p:nvPr/>
                </p:nvSpPr>
                <p:spPr>
                  <a:xfrm>
                    <a:off x="838080" y="2895480"/>
                    <a:ext cx="3012840" cy="826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0" name=""/>
                  <p:cNvSpPr txBox="1"/>
                  <p:nvPr/>
                </p:nvSpPr>
                <p:spPr>
                  <a:xfrm>
                    <a:off x="954000" y="3733560"/>
                    <a:ext cx="125568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914040" y="4582800"/>
                    <a:ext cx="3200400" cy="82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2" name=""/>
            <p:cNvSpPr/>
            <p:nvPr/>
          </p:nvSpPr>
          <p:spPr>
            <a:xfrm>
              <a:off x="609480" y="2590920"/>
              <a:ext cx="731520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76320" y="152280"/>
            <a:ext cx="8839080" cy="1831320"/>
            <a:chOff x="76320" y="152280"/>
            <a:chExt cx="8839080" cy="1831320"/>
          </a:xfrm>
        </p:grpSpPr>
        <p:sp>
          <p:nvSpPr>
            <p:cNvPr id="174" name=""/>
            <p:cNvSpPr/>
            <p:nvPr/>
          </p:nvSpPr>
          <p:spPr>
            <a:xfrm>
              <a:off x="76320" y="152280"/>
              <a:ext cx="8839080" cy="183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degrees of freedom leav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area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 to the right; i.e., P(T&g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, or equivalently, P(T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066680" y="22860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"/>
                <p:cNvSpPr txBox="1"/>
                <p:nvPr/>
              </p:nvSpPr>
              <p:spPr>
                <a:xfrm>
                  <a:off x="5199120" y="838080"/>
                  <a:ext cx="363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932040" y="1219320"/>
                  <a:ext cx="3632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"/>
          <p:cNvSpPr/>
          <p:nvPr/>
        </p:nvSpPr>
        <p:spPr>
          <a:xfrm>
            <a:off x="76320" y="20574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tents of 7 similar containers of sulfuric acid are 9.8, 10.2, 10.4, 9.8, 10.0, 10.2, and 9.6 liters. Find a 95% C.I. for the mean of all such containers, assuming an approximate normal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76320" y="4282920"/>
            <a:ext cx="8001000" cy="1812960"/>
            <a:chOff x="76320" y="4282920"/>
            <a:chExt cx="8001000" cy="1812960"/>
          </a:xfrm>
        </p:grpSpPr>
        <p:sp>
          <p:nvSpPr>
            <p:cNvPr id="180" name=""/>
            <p:cNvSpPr/>
            <p:nvPr/>
          </p:nvSpPr>
          <p:spPr>
            <a:xfrm>
              <a:off x="76320" y="42829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7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595520" y="4572000"/>
                  <a:ext cx="21384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4343400" y="4572000"/>
                  <a:ext cx="3733920" cy="76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(</m:t>
                                  </m:r>
                                </m:den>
                              </m:f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ra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83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6320" y="5410080"/>
              <a:ext cx="426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4343400" y="5308560"/>
                  <a:ext cx="236232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6320" y="152280"/>
            <a:ext cx="8001000" cy="6329160"/>
            <a:chOff x="76320" y="152280"/>
            <a:chExt cx="8001000" cy="6329160"/>
          </a:xfrm>
        </p:grpSpPr>
        <p:sp>
          <p:nvSpPr>
            <p:cNvPr id="186" name=""/>
            <p:cNvSpPr/>
            <p:nvPr/>
          </p:nvSpPr>
          <p:spPr>
            <a:xfrm>
              <a:off x="76320" y="152280"/>
              <a:ext cx="8001000" cy="22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Now, we need to find a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Garamond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5%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100%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 95=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0.05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2=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t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2.447   (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=6 degrees of freedo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304920" y="1219320"/>
                  <a:ext cx="390240" cy="81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88" name=""/>
            <p:cNvGrpSpPr/>
            <p:nvPr/>
          </p:nvGrpSpPr>
          <p:grpSpPr>
            <a:xfrm>
              <a:off x="152280" y="2362320"/>
              <a:ext cx="6324840" cy="4119120"/>
              <a:chOff x="152280" y="2362320"/>
              <a:chExt cx="6324840" cy="4119120"/>
            </a:xfrm>
          </p:grpSpPr>
          <mc:AlternateContent>
            <mc:Choice xmlns:a14="http://schemas.microsoft.com/office/drawing/2010/main" Requires="a14">
              <p:sp>
                <p:nvSpPr>
                  <p:cNvPr id="189" name=""/>
                  <p:cNvSpPr txBox="1"/>
                  <p:nvPr/>
                </p:nvSpPr>
                <p:spPr>
                  <a:xfrm>
                    <a:off x="609480" y="2362320"/>
                    <a:ext cx="1295640" cy="853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0" name=""/>
                  <p:cNvSpPr txBox="1"/>
                  <p:nvPr/>
                </p:nvSpPr>
                <p:spPr>
                  <a:xfrm>
                    <a:off x="609480" y="3200400"/>
                    <a:ext cx="3353040" cy="866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91" name=""/>
                  <p:cNvSpPr txBox="1"/>
                  <p:nvPr/>
                </p:nvSpPr>
                <p:spPr>
                  <a:xfrm>
                    <a:off x="609480" y="4114800"/>
                    <a:ext cx="586764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7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3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7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92" name=""/>
              <p:cNvSpPr/>
              <p:nvPr/>
            </p:nvSpPr>
            <p:spPr>
              <a:xfrm>
                <a:off x="152280" y="4924440"/>
                <a:ext cx="60199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.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262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0 + 0.26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.74 &lt;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&lt; 10.2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 are 95% confident tha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9.74 , 10.26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1000" y="42670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71000" y="3352680"/>
                <a:ext cx="46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95" name=""/>
          <p:cNvGraphicFramePr/>
          <p:nvPr/>
        </p:nvGraphicFramePr>
        <p:xfrm>
          <a:off x="5410080" y="2158920"/>
          <a:ext cx="2819160" cy="1346400"/>
        </p:xfrm>
        <a:graphic>
          <a:graphicData uri="http://schemas.openxmlformats.org/drawingml/2006/table">
            <a:tbl>
              <a:tblPr/>
              <a:tblGrid>
                <a:gridCol w="533160"/>
                <a:gridCol w="228600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0.0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2.447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 (Arabic)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52280" y="152280"/>
            <a:ext cx="8610840" cy="6616800"/>
            <a:chOff x="152280" y="152280"/>
            <a:chExt cx="8610840" cy="6616800"/>
          </a:xfrm>
        </p:grpSpPr>
        <p:sp>
          <p:nvSpPr>
            <p:cNvPr id="197" name=""/>
            <p:cNvSpPr/>
            <p:nvPr/>
          </p:nvSpPr>
          <p:spPr>
            <a:xfrm>
              <a:off x="152280" y="152280"/>
              <a:ext cx="8610840" cy="66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5 Standard Error of a Point Estima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standard error of an estimator is its standard devi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 use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as a point estimator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and we u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ampling distribution of      to make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standard deviation of     , which is                ,is called the standard error of . We writ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s.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known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: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unknown and the distribution is normal,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df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676520" y="790560"/>
                  <a:ext cx="145260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886200" y="1600200"/>
                  <a:ext cx="30780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4267080" y="2328840"/>
                  <a:ext cx="308160" cy="33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943600" y="2235240"/>
                  <a:ext cx="152388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</m:sub>
                      </m:sSub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048280" y="2666880"/>
                  <a:ext cx="1504800" cy="4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2209680" y="3505320"/>
                  <a:ext cx="3429000" cy="88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s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286000" y="5410080"/>
                  <a:ext cx="340344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S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acc>
                        <m:accPr>
                          <m:chr m:val="^"/>
                        </m:accPr>
                        <m:e>
                          <m:r>
                            <m:t xml:space="preserve">s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6320" y="152280"/>
            <a:ext cx="89154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9.7 Two Samples: Estimating the Difference between Two Means (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1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Symbol"/>
                <a:ea typeface="Symbol"/>
              </a:rPr>
              <a:t></a:t>
            </a:r>
            <a:r>
              <a:rPr b="1" lang="en-US" sz="2400" spc="-1" strike="noStrike" u="sng" baseline="-30000">
                <a:solidFill>
                  <a:srgbClr val="006600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al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two independent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09840" y="1600200"/>
            <a:ext cx="5714640" cy="4437000"/>
            <a:chOff x="609840" y="1600200"/>
            <a:chExt cx="5714640" cy="4437000"/>
          </a:xfrm>
        </p:grpSpPr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1295280" y="1600200"/>
                  <a:ext cx="374832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1295280" y="2438280"/>
                  <a:ext cx="414036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295280" y="3583080"/>
                  <a:ext cx="4092840" cy="95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295280" y="4673520"/>
                  <a:ext cx="3200400" cy="13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1" name=""/>
            <p:cNvSpPr/>
            <p:nvPr/>
          </p:nvSpPr>
          <p:spPr>
            <a:xfrm>
              <a:off x="4876920" y="4800600"/>
              <a:ext cx="14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~N(0,1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9840" y="1600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09840" y="26668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840" y="38862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840" y="48006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228600" y="152280"/>
            <a:ext cx="8229600" cy="957240"/>
            <a:chOff x="228600" y="152280"/>
            <a:chExt cx="8229600" cy="957240"/>
          </a:xfrm>
        </p:grpSpPr>
        <p:sp>
          <p:nvSpPr>
            <p:cNvPr id="217" name=""/>
            <p:cNvSpPr/>
            <p:nvPr/>
          </p:nvSpPr>
          <p:spPr>
            <a:xfrm>
              <a:off x="228600" y="152280"/>
              <a:ext cx="82296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143000" y="609480"/>
                  <a:ext cx="9144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19" name=""/>
            <p:cNvSpPr/>
            <p:nvPr/>
          </p:nvSpPr>
          <p:spPr>
            <a:xfrm>
              <a:off x="533880" y="5335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6320" y="914400"/>
            <a:ext cx="6933960" cy="891360"/>
            <a:chOff x="76320" y="914400"/>
            <a:chExt cx="6933960" cy="891360"/>
          </a:xfrm>
        </p:grpSpPr>
        <p:sp>
          <p:nvSpPr>
            <p:cNvPr id="221" name=""/>
            <p:cNvSpPr/>
            <p:nvPr/>
          </p:nvSpPr>
          <p:spPr>
            <a:xfrm>
              <a:off x="76320" y="914400"/>
              <a:ext cx="693396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Confidence Interval of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1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</a:t>
              </a:r>
              <a:r>
                <a:rPr b="1" i="1" lang="en-US" sz="2400" spc="-1" strike="noStrike" u="sng" baseline="-30000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2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   and     are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3035160" y="1295280"/>
                  <a:ext cx="39384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108160" y="1295280"/>
                  <a:ext cx="378000" cy="45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533880" y="1828800"/>
            <a:ext cx="7772040" cy="4800600"/>
            <a:chOff x="533880" y="1828800"/>
            <a:chExt cx="7772040" cy="4800600"/>
          </a:xfrm>
        </p:grpSpPr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1146240" y="1828800"/>
                  <a:ext cx="3882960" cy="12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535320" y="19573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43000" y="3063960"/>
              <a:ext cx="66294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880" y="30481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219320" y="3905280"/>
                  <a:ext cx="708660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1600200" y="4729320"/>
                  <a:ext cx="297180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31" name=""/>
            <p:cNvSpPr/>
            <p:nvPr/>
          </p:nvSpPr>
          <p:spPr>
            <a:xfrm>
              <a:off x="1144800" y="4952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1600200" y="5640480"/>
                  <a:ext cx="6400800" cy="98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Sup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1144800" y="58672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828800" y="1219320"/>
                <a:ext cx="38098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76320" y="30240"/>
            <a:ext cx="8610480" cy="1404720"/>
            <a:chOff x="76320" y="30240"/>
            <a:chExt cx="8610480" cy="1404720"/>
          </a:xfrm>
        </p:grpSpPr>
        <p:grpSp>
          <p:nvGrpSpPr>
            <p:cNvPr id="236" name=""/>
            <p:cNvGrpSpPr/>
            <p:nvPr/>
          </p:nvGrpSpPr>
          <p:grpSpPr>
            <a:xfrm>
              <a:off x="76320" y="30240"/>
              <a:ext cx="8610480" cy="1404720"/>
              <a:chOff x="76320" y="30240"/>
              <a:chExt cx="8610480" cy="140472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76320" y="30240"/>
                <a:ext cx="7696080" cy="505800"/>
                <a:chOff x="76320" y="30240"/>
                <a:chExt cx="7696080" cy="505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6320" y="76320"/>
                  <a:ext cx="769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(ii) Second Case:       =      =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Symbol"/>
                      <a:ea typeface="Symbol"/>
                    </a:rPr>
                    <a:t></a:t>
                  </a:r>
                  <a:r>
                    <a:rPr b="0" lang="en-US" sz="2400" spc="-1" strike="noStrike" u="sng" baseline="30000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2</a:t>
                  </a:r>
                  <a:r>
                    <a:rPr b="0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 </a:t>
                  </a:r>
                  <a:r>
                    <a:rPr b="1" lang="en-US" sz="2400" spc="-1" strike="noStrike" u="sng">
                      <a:solidFill>
                        <a:srgbClr val="3333cc"/>
                      </a:solidFill>
                      <a:uFillTx/>
                      <a:latin typeface="Arial"/>
                      <a:ea typeface="Arial"/>
                    </a:rPr>
                    <a:t>is unknown: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9" name=""/>
                    <p:cNvSpPr txBox="1"/>
                    <p:nvPr/>
                  </p:nvSpPr>
                  <p:spPr>
                    <a:xfrm>
                      <a:off x="269064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40" name=""/>
                    <p:cNvSpPr txBox="1"/>
                    <p:nvPr/>
                  </p:nvSpPr>
                  <p:spPr>
                    <a:xfrm>
                      <a:off x="3452760" y="30240"/>
                      <a:ext cx="433440" cy="503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41" name=""/>
              <p:cNvSpPr/>
              <p:nvPr/>
            </p:nvSpPr>
            <p:spPr>
              <a:xfrm>
                <a:off x="152280" y="609480"/>
                <a:ext cx="8534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539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  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      and     are unknown but    =   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then the pooled estimate 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48006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543384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4" name=""/>
                  <p:cNvSpPr txBox="1"/>
                  <p:nvPr/>
                </p:nvSpPr>
                <p:spPr>
                  <a:xfrm>
                    <a:off x="93816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5" name=""/>
                  <p:cNvSpPr txBox="1"/>
                  <p:nvPr/>
                </p:nvSpPr>
                <p:spPr>
                  <a:xfrm>
                    <a:off x="2057400" y="563400"/>
                    <a:ext cx="433440" cy="503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46" name=""/>
            <p:cNvSpPr/>
            <p:nvPr/>
          </p:nvSpPr>
          <p:spPr>
            <a:xfrm>
              <a:off x="78120" y="60948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6680" y="2133720"/>
            <a:ext cx="8686440" cy="1304640"/>
            <a:chOff x="76680" y="2133720"/>
            <a:chExt cx="8686440" cy="1304640"/>
          </a:xfrm>
        </p:grpSpPr>
        <p:grpSp>
          <p:nvGrpSpPr>
            <p:cNvPr id="248" name=""/>
            <p:cNvGrpSpPr/>
            <p:nvPr/>
          </p:nvGrpSpPr>
          <p:grpSpPr>
            <a:xfrm>
              <a:off x="152280" y="2181240"/>
              <a:ext cx="8610840" cy="1257120"/>
              <a:chOff x="152280" y="2181240"/>
              <a:chExt cx="8610840" cy="1257120"/>
            </a:xfrm>
          </p:grpSpPr>
          <p:sp>
            <p:nvSpPr>
              <p:cNvPr id="249" name=""/>
              <p:cNvSpPr/>
              <p:nvPr/>
            </p:nvSpPr>
            <p:spPr>
              <a:xfrm>
                <a:off x="152280" y="2181240"/>
                <a:ext cx="861084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is the variance of the 1-st sample and    is the variance of the 2-nd sample. The degrees of freedom of    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0" name=""/>
                  <p:cNvSpPr txBox="1"/>
                  <p:nvPr/>
                </p:nvSpPr>
                <p:spPr>
                  <a:xfrm>
                    <a:off x="1600200" y="2182680"/>
                    <a:ext cx="39996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1" name=""/>
                  <p:cNvSpPr txBox="1"/>
                  <p:nvPr/>
                </p:nvSpPr>
                <p:spPr>
                  <a:xfrm>
                    <a:off x="7467480" y="2182680"/>
                    <a:ext cx="400320" cy="48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2" name=""/>
                  <p:cNvSpPr txBox="1"/>
                  <p:nvPr/>
                </p:nvSpPr>
                <p:spPr>
                  <a:xfrm>
                    <a:off x="7981920" y="2514600"/>
                    <a:ext cx="39996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3" name=""/>
            <p:cNvSpPr/>
            <p:nvPr/>
          </p:nvSpPr>
          <p:spPr>
            <a:xfrm>
              <a:off x="76680" y="213372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76680" y="3429000"/>
            <a:ext cx="8610120" cy="2962440"/>
            <a:chOff x="76680" y="3429000"/>
            <a:chExt cx="8610120" cy="2962440"/>
          </a:xfrm>
        </p:grpSpPr>
        <p:sp>
          <p:nvSpPr>
            <p:cNvPr id="255" name=""/>
            <p:cNvSpPr/>
            <p:nvPr/>
          </p:nvSpPr>
          <p:spPr>
            <a:xfrm>
              <a:off x="304920" y="3460680"/>
              <a:ext cx="83818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680" y="3429000"/>
              <a:ext cx="5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Wingdings" charset="2"/>
                <a:buChar char="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7" name=""/>
                <p:cNvSpPr txBox="1"/>
                <p:nvPr/>
              </p:nvSpPr>
              <p:spPr>
                <a:xfrm>
                  <a:off x="609480" y="4267080"/>
                  <a:ext cx="739152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09480" y="5486400"/>
                  <a:ext cx="7848720" cy="90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59" name=""/>
            <p:cNvSpPr/>
            <p:nvPr/>
          </p:nvSpPr>
          <p:spPr>
            <a:xfrm>
              <a:off x="154080" y="56386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76320" y="1014480"/>
            <a:ext cx="9144000" cy="2864160"/>
            <a:chOff x="76320" y="1014480"/>
            <a:chExt cx="9144000" cy="2864160"/>
          </a:xfrm>
        </p:grpSpPr>
        <mc:AlternateContent>
          <mc:Choice xmlns:a14="http://schemas.microsoft.com/office/drawing/2010/main" Requires="a14">
            <p:sp>
              <p:nvSpPr>
                <p:cNvPr id="261" name=""/>
                <p:cNvSpPr txBox="1"/>
                <p:nvPr/>
              </p:nvSpPr>
              <p:spPr>
                <a:xfrm>
                  <a:off x="1100160" y="1014480"/>
                  <a:ext cx="3111480" cy="84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1066680" y="1828440"/>
                  <a:ext cx="655344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f>
                                <m:num>
                                  <m:r>
                                    <m:t xml:space="preserve">α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ad>
                            <m:radPr>
                              <m:degHide m:val="1"/>
                            </m:radPr>
                            <m:deg/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3" name=""/>
            <p:cNvSpPr/>
            <p:nvPr/>
          </p:nvSpPr>
          <p:spPr>
            <a:xfrm>
              <a:off x="459000" y="1142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9000" y="1981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20" y="2987280"/>
              <a:ext cx="914400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is the t-value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 degrees of freedom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1136520" y="3047760"/>
                  <a:ext cx="3636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320" y="76320"/>
            <a:ext cx="8915400" cy="2654280"/>
            <a:chOff x="76320" y="76320"/>
            <a:chExt cx="8915400" cy="2654280"/>
          </a:xfrm>
        </p:grpSpPr>
        <p:sp>
          <p:nvSpPr>
            <p:cNvPr id="45" name=""/>
            <p:cNvSpPr/>
            <p:nvPr/>
          </p:nvSpPr>
          <p:spPr>
            <a:xfrm>
              <a:off x="76320" y="76320"/>
              <a:ext cx="89154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3 Classical Methods of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Point Estim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point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single value    of a statistic    . For example, the value    of the statist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d from a sample of size n is a point estimate of the population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" name=""/>
                <p:cNvSpPr txBox="1"/>
                <p:nvPr/>
              </p:nvSpPr>
              <p:spPr>
                <a:xfrm>
                  <a:off x="914400" y="1523880"/>
                  <a:ext cx="274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2895480" y="1523880"/>
                  <a:ext cx="3049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152280" y="1905120"/>
                  <a:ext cx="3603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6477120" y="1600200"/>
                  <a:ext cx="30456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2666880"/>
            <a:ext cx="8839080" cy="1589040"/>
            <a:chOff x="76320" y="2666880"/>
            <a:chExt cx="8839080" cy="1589040"/>
          </a:xfrm>
        </p:grpSpPr>
        <p:sp>
          <p:nvSpPr>
            <p:cNvPr id="51" name=""/>
            <p:cNvSpPr/>
            <p:nvPr/>
          </p:nvSpPr>
          <p:spPr>
            <a:xfrm>
              <a:off x="76320" y="266688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terval Estimation (Confidence Interval = C.I.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interval estimate of some population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n interval of the form (   ,   ), i.e, 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. This interval contains the true valu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"with probability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", that is  P(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)=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3355920" y="3446280"/>
                  <a:ext cx="3780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4400640" y="339876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2895480" y="3446280"/>
                  <a:ext cx="3621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34120" y="3398760"/>
                  <a:ext cx="4190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6934320" y="3751200"/>
                  <a:ext cx="39996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7696080" y="3751200"/>
                  <a:ext cx="419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" name=""/>
          <p:cNvGrpSpPr/>
          <p:nvPr/>
        </p:nvGrpSpPr>
        <p:grpSpPr>
          <a:xfrm>
            <a:off x="380880" y="4194000"/>
            <a:ext cx="8763120" cy="2654280"/>
            <a:chOff x="380880" y="4194000"/>
            <a:chExt cx="8763120" cy="2654280"/>
          </a:xfrm>
        </p:grpSpPr>
        <p:sp>
          <p:nvSpPr>
            <p:cNvPr id="59" name=""/>
            <p:cNvSpPr/>
            <p:nvPr/>
          </p:nvSpPr>
          <p:spPr>
            <a:xfrm>
              <a:off x="380880" y="4194000"/>
              <a:ext cx="87631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   ,   ) =   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    is called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(C.I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called the confidence coeffic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low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upper confidence li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1, 0.05, 0.025, 0.01  (0&lt;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1)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22748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3640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903240" y="4270320"/>
                  <a:ext cx="316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527120" y="4270320"/>
                  <a:ext cx="3016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754200" y="5261040"/>
                  <a:ext cx="35856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750960" y="5641920"/>
                  <a:ext cx="37620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θ</m:t>
                              </m:r>
                            </m:e>
                          </m:acc>
                        </m:e>
                        <m:sub>
                          <m:r>
                            <m:t xml:space="preserve">U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76320" y="685800"/>
            <a:ext cx="8915400" cy="4570920"/>
            <a:chOff x="76320" y="685800"/>
            <a:chExt cx="8915400" cy="4570920"/>
          </a:xfrm>
        </p:grpSpPr>
        <p:sp>
          <p:nvSpPr>
            <p:cNvPr id="268" name=""/>
            <p:cNvSpPr/>
            <p:nvPr/>
          </p:nvSpPr>
          <p:spPr>
            <a:xfrm>
              <a:off x="76320" y="707760"/>
              <a:ext cx="8915400" cy="454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6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s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and      are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experiment was conducted in which two types of engine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re compared. Gas mileage in miles per gallon was measured. 50 experiments were conducted using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75 experiments were done for engine typ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The gasoline used and other conditions were held constant. The average gas mile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36 miles per gallon and the average for engin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as 42 miles per gallon. Find 96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her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population mean gas mileage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 Assume that the population standard deviations are 6 and 8 for engin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respectivel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"/>
                <p:cNvSpPr txBox="1"/>
                <p:nvPr/>
              </p:nvSpPr>
              <p:spPr>
                <a:xfrm>
                  <a:off x="342900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4406760" y="685800"/>
                  <a:ext cx="3938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76320" y="76320"/>
            <a:ext cx="9067680" cy="6118200"/>
            <a:chOff x="76320" y="76320"/>
            <a:chExt cx="9067680" cy="6118200"/>
          </a:xfrm>
        </p:grpSpPr>
        <p:grpSp>
          <p:nvGrpSpPr>
            <p:cNvPr id="272" name=""/>
            <p:cNvGrpSpPr/>
            <p:nvPr/>
          </p:nvGrpSpPr>
          <p:grpSpPr>
            <a:xfrm>
              <a:off x="76320" y="76320"/>
              <a:ext cx="9067680" cy="4385880"/>
              <a:chOff x="76320" y="76320"/>
              <a:chExt cx="9067680" cy="4385880"/>
            </a:xfrm>
          </p:grpSpPr>
          <p:sp>
            <p:nvSpPr>
              <p:cNvPr id="273" name=""/>
              <p:cNvSpPr/>
              <p:nvPr/>
            </p:nvSpPr>
            <p:spPr>
              <a:xfrm>
                <a:off x="76320" y="76320"/>
                <a:ext cx="9067680" cy="43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Solution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ngine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5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7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3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=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4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6=6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?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6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6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4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0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96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4" name=""/>
                  <p:cNvSpPr txBox="1"/>
                  <p:nvPr/>
                </p:nvSpPr>
                <p:spPr>
                  <a:xfrm>
                    <a:off x="838080" y="1174680"/>
                    <a:ext cx="457200" cy="42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5" name=""/>
                  <p:cNvSpPr txBox="1"/>
                  <p:nvPr/>
                </p:nvSpPr>
                <p:spPr>
                  <a:xfrm>
                    <a:off x="4952880" y="1219320"/>
                    <a:ext cx="457200" cy="42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6" name=""/>
                  <p:cNvSpPr txBox="1"/>
                  <p:nvPr/>
                </p:nvSpPr>
                <p:spPr>
                  <a:xfrm>
                    <a:off x="4572000" y="1981080"/>
                    <a:ext cx="1066680" cy="400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7" name=""/>
                  <p:cNvSpPr txBox="1"/>
                  <p:nvPr/>
                </p:nvSpPr>
                <p:spPr>
                  <a:xfrm>
                    <a:off x="609480" y="3048120"/>
                    <a:ext cx="484200" cy="761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609480" y="4191120"/>
                  <a:ext cx="7848720" cy="91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533520" y="5181480"/>
                  <a:ext cx="3429000" cy="101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76320" y="396720"/>
            <a:ext cx="6858000" cy="3395520"/>
            <a:chOff x="76320" y="396720"/>
            <a:chExt cx="6858000" cy="3395520"/>
          </a:xfrm>
        </p:grpSpPr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85800" y="1390320"/>
                  <a:ext cx="2666880" cy="91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6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609480" y="396720"/>
                  <a:ext cx="3200400" cy="94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42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sSup>
                                <m:e>
                                  <m:r>
                                    <m:t xml:space="preserve">8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p>
                                <m:e>
                                  <m:r>
                                    <m:t xml:space="preserve">6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83" name=""/>
            <p:cNvSpPr/>
            <p:nvPr/>
          </p:nvSpPr>
          <p:spPr>
            <a:xfrm>
              <a:off x="76320" y="2835000"/>
              <a:ext cx="68580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43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8.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96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.43, 8.57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685800" y="2454120"/>
                  <a:ext cx="129528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±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7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76320" y="3978360"/>
            <a:ext cx="9067680" cy="898560"/>
            <a:chOff x="76320" y="3978360"/>
            <a:chExt cx="9067680" cy="898560"/>
          </a:xfrm>
        </p:grpSpPr>
        <p:sp>
          <p:nvSpPr>
            <p:cNvPr id="286" name=""/>
            <p:cNvSpPr/>
            <p:nvPr/>
          </p:nvSpPr>
          <p:spPr>
            <a:xfrm>
              <a:off x="76320" y="4038480"/>
              <a:ext cx="906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 9.7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=      unknown) Reading Assign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se:       =      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51648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389736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3048120" y="4359240"/>
                  <a:ext cx="446040" cy="51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4125960" y="3978360"/>
                  <a:ext cx="4460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76320" y="95400"/>
            <a:ext cx="891540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mpare the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that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 experiment shows the following results based on two independent samples (original data multiplied by 1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, 138, 143, 142, 144, 1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5, 140, 136, 142, 138,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ing equal variances, find 95% confidence interval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is the mean resistance of w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76320" y="2895480"/>
            <a:ext cx="7772400" cy="2593440"/>
            <a:chOff x="76320" y="2895480"/>
            <a:chExt cx="7772400" cy="2593440"/>
          </a:xfrm>
        </p:grpSpPr>
        <p:sp>
          <p:nvSpPr>
            <p:cNvPr id="293" name=""/>
            <p:cNvSpPr/>
            <p:nvPr/>
          </p:nvSpPr>
          <p:spPr>
            <a:xfrm>
              <a:off x="76320" y="2895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3308400"/>
              <a:ext cx="762012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A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	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Wire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B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   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762120" y="4191120"/>
                  <a:ext cx="1523880" cy="43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5000760" y="4195800"/>
                  <a:ext cx="15523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762120" y="4729320"/>
              <a:ext cx="18288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86690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4729320"/>
              <a:ext cx="19814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7.10009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50292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________________________________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76320" y="139680"/>
            <a:ext cx="8915400" cy="5734080"/>
            <a:chOff x="76320" y="139680"/>
            <a:chExt cx="8915400" cy="5734080"/>
          </a:xfrm>
        </p:grpSpPr>
        <p:grpSp>
          <p:nvGrpSpPr>
            <p:cNvPr id="301" name=""/>
            <p:cNvGrpSpPr/>
            <p:nvPr/>
          </p:nvGrpSpPr>
          <p:grpSpPr>
            <a:xfrm>
              <a:off x="76320" y="139680"/>
              <a:ext cx="8915400" cy="1841400"/>
              <a:chOff x="76320" y="139680"/>
              <a:chExt cx="8915400" cy="1841400"/>
            </a:xfrm>
          </p:grpSpPr>
          <p:sp>
            <p:nvSpPr>
              <p:cNvPr id="302" name=""/>
              <p:cNvSpPr/>
              <p:nvPr/>
            </p:nvSpPr>
            <p:spPr>
              <a:xfrm>
                <a:off x="76320" y="139680"/>
                <a:ext cx="8915400" cy="175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 point estimate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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              =140.67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8.50=2.17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5%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100%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0. 95 =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0.05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= 0.0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df =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i="1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2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t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Arial"/>
                    <a:ea typeface="Arial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=  2.2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03" name=""/>
                  <p:cNvSpPr txBox="1"/>
                  <p:nvPr/>
                </p:nvSpPr>
                <p:spPr>
                  <a:xfrm>
                    <a:off x="4114800" y="228600"/>
                    <a:ext cx="990720" cy="371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04" name=""/>
                  <p:cNvSpPr txBox="1"/>
                  <p:nvPr/>
                </p:nvSpPr>
                <p:spPr>
                  <a:xfrm>
                    <a:off x="255600" y="1239840"/>
                    <a:ext cx="353880" cy="741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228600" y="1981080"/>
                  <a:ext cx="342900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609480" y="2909880"/>
                  <a:ext cx="5867640" cy="82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6690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0009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83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228600" y="3733920"/>
                  <a:ext cx="403848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835</m:t>
                          </m:r>
                        </m:e>
                      </m:rad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8" name=""/>
            <p:cNvSpPr/>
            <p:nvPr/>
          </p:nvSpPr>
          <p:spPr>
            <a:xfrm>
              <a:off x="152280" y="4419720"/>
              <a:ext cx="40388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>
                  <a:off x="152280" y="5029200"/>
                  <a:ext cx="79250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  <m:r>
                        <m:t xml:space="preserve">&lt;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&lt;</m:t>
                      </m:r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228600" y="228600"/>
            <a:ext cx="6629400" cy="3166920"/>
            <a:chOff x="228600" y="228600"/>
            <a:chExt cx="6629400" cy="316692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85800" y="228600"/>
                  <a:ext cx="342900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±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230400" y="3808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304920" y="1066680"/>
                  <a:ext cx="5790960" cy="91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4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8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t xml:space="preserve">)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8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356</m:t>
                      </m:r>
                      <m:r>
                        <m:t xml:space="preserve">)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304920" y="2057400"/>
                  <a:ext cx="1923840" cy="3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±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5189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5" name=""/>
            <p:cNvSpPr/>
            <p:nvPr/>
          </p:nvSpPr>
          <p:spPr>
            <a:xfrm>
              <a:off x="228600" y="2438280"/>
              <a:ext cx="662940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5.6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i="1" lang="en-US" sz="2400" spc="-1" strike="noStrike" baseline="-30000">
                  <a:solidFill>
                    <a:srgbClr val="000000"/>
                  </a:solidFill>
                  <a:latin typeface="Times New Roman"/>
                  <a:ea typeface="Garamond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35, 5.69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7600" y="609480"/>
            <a:ext cx="33400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6320" y="92160"/>
            <a:ext cx="8229600" cy="5879880"/>
            <a:chOff x="76320" y="92160"/>
            <a:chExt cx="8229600" cy="5879880"/>
          </a:xfrm>
        </p:grpSpPr>
        <p:sp>
          <p:nvSpPr>
            <p:cNvPr id="68" name=""/>
            <p:cNvSpPr/>
            <p:nvPr/>
          </p:nvSpPr>
          <p:spPr>
            <a:xfrm>
              <a:off x="76320" y="9216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9.4 Single Sample: Estimation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Recal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143000" y="914400"/>
                  <a:ext cx="228600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1066680" y="1371600"/>
                  <a:ext cx="2819520" cy="98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σ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066680" y="2286000"/>
                  <a:ext cx="1882800" cy="90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μ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954000" y="3276720"/>
                  <a:ext cx="2627280" cy="90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σ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0,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3581280" y="345456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990720" y="4140360"/>
                  <a:ext cx="266688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S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n</m:t>
                                  </m:r>
                                </m:e>
                              </m:rad>
                            </m:den>
                          </m:f>
                        </m:den>
                      </m:f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rPr>
                          <m:lit/>
                          <m:nor/>
                        </m:rPr>
                        <m:t xml:space="preserve"> t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" name=""/>
            <p:cNvSpPr/>
            <p:nvPr/>
          </p:nvSpPr>
          <p:spPr>
            <a:xfrm>
              <a:off x="3657600" y="436896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unknow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4400" y="5146560"/>
              <a:ext cx="609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use the sampling distribution of       to make inferences abou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5867280" y="5181480"/>
                  <a:ext cx="3142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368280"/>
            <a:ext cx="56386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Z-value leaving an area of a to the right; i.e., P(Z&g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a or equivalently, P(Z&lt;Z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34040" y="36360"/>
            <a:ext cx="2629080" cy="233388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152280" y="2165400"/>
            <a:ext cx="9144000" cy="1373760"/>
            <a:chOff x="152280" y="2165400"/>
            <a:chExt cx="9144000" cy="1373760"/>
          </a:xfrm>
        </p:grpSpPr>
        <p:sp>
          <p:nvSpPr>
            <p:cNvPr id="81" name=""/>
            <p:cNvSpPr/>
            <p:nvPr/>
          </p:nvSpPr>
          <p:spPr>
            <a:xfrm>
              <a:off x="152280" y="2165400"/>
              <a:ext cx="9144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  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Point Estimation of the Mean (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i="1" lang="en-US" sz="2400" spc="-1" strike="noStrike" u="sng">
                  <a:solidFill>
                    <a:srgbClr val="ff00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The sample mean                       is a "good"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895480" y="2590920"/>
                  <a:ext cx="1600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" name=""/>
          <p:cNvGrpSpPr/>
          <p:nvPr/>
        </p:nvGrpSpPr>
        <p:grpSpPr>
          <a:xfrm>
            <a:off x="76320" y="3429000"/>
            <a:ext cx="8915400" cy="2592720"/>
            <a:chOff x="76320" y="3429000"/>
            <a:chExt cx="8915400" cy="2592720"/>
          </a:xfrm>
        </p:grpSpPr>
        <p:sp>
          <p:nvSpPr>
            <p:cNvPr id="84" name=""/>
            <p:cNvSpPr/>
            <p:nvPr/>
          </p:nvSpPr>
          <p:spPr>
            <a:xfrm>
              <a:off x="76320" y="3429000"/>
              <a:ext cx="8915400" cy="25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Interval Estimation (Confidence Interval) of the Mean (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Symbol"/>
                  <a:ea typeface="Symbol"/>
                </a:rPr>
                <a:t></a:t>
              </a: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i) First Case: </a:t>
              </a:r>
              <a:r>
                <a:rPr b="1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1" lang="en-US" sz="2400" spc="-1" strike="noStrike" baseline="30000">
                  <a:solidFill>
                    <a:srgbClr val="3333cc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is know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Resul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 is the sample mean of a random sample of siz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a population (distribution) with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known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a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ce interval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"/>
                <p:cNvSpPr txBox="1"/>
                <p:nvPr/>
              </p:nvSpPr>
              <p:spPr>
                <a:xfrm>
                  <a:off x="606600" y="4584600"/>
                  <a:ext cx="13762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10280" y="380880"/>
            <a:ext cx="2805120" cy="304812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76320" y="352440"/>
            <a:ext cx="5867280" cy="4829040"/>
            <a:chOff x="76320" y="352440"/>
            <a:chExt cx="5867280" cy="4829040"/>
          </a:xfrm>
        </p:grpSpPr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838080" y="352440"/>
                  <a:ext cx="335916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914400" y="1143000"/>
                  <a:ext cx="1593720" cy="9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880920" y="2057400"/>
                  <a:ext cx="369108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304920" y="1295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4920" y="2133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76320" y="3048120"/>
              <a:ext cx="5867280" cy="2133360"/>
              <a:chOff x="76320" y="3048120"/>
              <a:chExt cx="5867280" cy="2133360"/>
            </a:xfrm>
          </p:grpSpPr>
          <p:sp>
            <p:nvSpPr>
              <p:cNvPr id="94" name=""/>
              <p:cNvSpPr/>
              <p:nvPr/>
            </p:nvSpPr>
            <p:spPr>
              <a:xfrm>
                <a:off x="76320" y="3048120"/>
                <a:ext cx="586728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here         is the Z-value leaving an are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 to the right; i.e., P(Z&gt;      )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, 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quivalently, P(Z&lt;        )=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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/2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5" name=""/>
                  <p:cNvSpPr txBox="1"/>
                  <p:nvPr/>
                </p:nvSpPr>
                <p:spPr>
                  <a:xfrm>
                    <a:off x="1066680" y="312408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6" name=""/>
                  <p:cNvSpPr txBox="1"/>
                  <p:nvPr/>
                </p:nvSpPr>
                <p:spPr>
                  <a:xfrm>
                    <a:off x="2819520" y="4495680"/>
                    <a:ext cx="53316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4038480" y="3733920"/>
                    <a:ext cx="533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98" name=""/>
          <p:cNvGrpSpPr/>
          <p:nvPr/>
        </p:nvGrpSpPr>
        <p:grpSpPr>
          <a:xfrm>
            <a:off x="76320" y="5045040"/>
            <a:ext cx="8458200" cy="1114560"/>
            <a:chOff x="76320" y="5045040"/>
            <a:chExt cx="8458200" cy="1114560"/>
          </a:xfrm>
        </p:grpSpPr>
        <p:sp>
          <p:nvSpPr>
            <p:cNvPr id="99" name=""/>
            <p:cNvSpPr/>
            <p:nvPr/>
          </p:nvSpPr>
          <p:spPr>
            <a:xfrm>
              <a:off x="76320" y="5045040"/>
              <a:ext cx="6019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r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4120" y="5334120"/>
                  <a:ext cx="320040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7632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ample 9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verage zinc concentration recorded from a sample of zinc measurements in 36 different locations is found to be 2.6 gram/milliliter. Find a 95% and 99% confidence interval (C.I.) for the mean zinc concentration in the river. Assume that the population standard deviation is 0.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6320" y="2266920"/>
            <a:ext cx="6476760" cy="4483080"/>
            <a:chOff x="76320" y="2266920"/>
            <a:chExt cx="6476760" cy="4483080"/>
          </a:xfrm>
        </p:grpSpPr>
        <p:sp>
          <p:nvSpPr>
            <p:cNvPr id="103" name=""/>
            <p:cNvSpPr/>
            <p:nvPr/>
          </p:nvSpPr>
          <p:spPr>
            <a:xfrm>
              <a:off x="76320" y="2266920"/>
              <a:ext cx="647676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the mean zinc concentration in the riv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Population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0" lang="en-US" sz="2400" spc="-1" strike="noStrike" u="sng">
                  <a:solidFill>
                    <a:srgbClr val="3333cc"/>
                  </a:solidFill>
                  <a:uFillTx/>
                  <a:latin typeface="Arial"/>
                </a:rPr>
                <a:t>Sam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??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2.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rst, a point estimate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is      =2.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a) We want to find 95% C.I.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5%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 95 =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0.0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/2 = 0.02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191120" y="4191120"/>
                  <a:ext cx="30456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638680" y="3252960"/>
            <a:ext cx="3276720" cy="29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52280" y="152280"/>
            <a:ext cx="6324840" cy="5214600"/>
            <a:chOff x="152280" y="152280"/>
            <a:chExt cx="6324840" cy="5214600"/>
          </a:xfrm>
        </p:grpSpPr>
        <p:grpSp>
          <p:nvGrpSpPr>
            <p:cNvPr id="107" name=""/>
            <p:cNvGrpSpPr/>
            <p:nvPr/>
          </p:nvGrpSpPr>
          <p:grpSpPr>
            <a:xfrm>
              <a:off x="380880" y="152280"/>
              <a:ext cx="2819520" cy="1257120"/>
              <a:chOff x="380880" y="152280"/>
              <a:chExt cx="28195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80880" y="152280"/>
                <a:ext cx="2819520" cy="12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Z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</a:rPr>
                  <a:t>0.02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 1.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95% C.I.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9" name=""/>
                  <p:cNvSpPr txBox="1"/>
                  <p:nvPr/>
                </p:nvSpPr>
                <p:spPr>
                  <a:xfrm>
                    <a:off x="642960" y="171360"/>
                    <a:ext cx="42372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838080" y="1371600"/>
                  <a:ext cx="13716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±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838080" y="2168640"/>
                  <a:ext cx="331020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+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5228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838080" y="3008160"/>
                  <a:ext cx="5105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 </m:t>
                      </m:r>
                      <m:r>
                        <m:t xml:space="preserve">&lt;</m:t>
                      </m:r>
                      <m:r>
                        <m:t xml:space="preserve">μ</m:t>
                      </m:r>
                      <m:r>
                        <m:t xml:space="preserve">&lt;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152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280" y="3809880"/>
              <a:ext cx="6324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buClr>
                  <a:srgbClr val="000000"/>
                </a:buClr>
                <a:buFont typeface="Symbol" charset="2"/>
                <a:buChar char="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.098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 + 0.0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502 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&lt; 2.6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e are 95% confident that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.502 , 2.698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6320" y="1522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) Similarly, we can find that (Homework) A 99% C.I.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7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2.7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99% confident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2.471 , 2.7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a 99% C.I. is wider that a 95% C.I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2057400"/>
            <a:ext cx="7315200" cy="2745720"/>
            <a:chOff x="152280" y="2057400"/>
            <a:chExt cx="7315200" cy="2745720"/>
          </a:xfrm>
        </p:grpSpPr>
        <p:sp>
          <p:nvSpPr>
            <p:cNvPr id="118" name=""/>
            <p:cNvSpPr/>
            <p:nvPr/>
          </p:nvSpPr>
          <p:spPr>
            <a:xfrm>
              <a:off x="152280" y="2057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r>
                <a:rPr b="0" i="1" lang="en-GB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720" y="2514600"/>
              <a:ext cx="6476760" cy="22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rr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______|____________________________|____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----------------------|--------------------------|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6320" y="4924440"/>
            <a:ext cx="8839080" cy="1908000"/>
            <a:chOff x="76320" y="4924440"/>
            <a:chExt cx="8839080" cy="1908000"/>
          </a:xfrm>
        </p:grpSpPr>
        <p:sp>
          <p:nvSpPr>
            <p:cNvPr id="121" name=""/>
            <p:cNvSpPr/>
            <p:nvPr/>
          </p:nvSpPr>
          <p:spPr>
            <a:xfrm>
              <a:off x="76320" y="4924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is used as an estimate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imation) will not excee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407880" y="5334120"/>
                  <a:ext cx="27792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3" name=""/>
                <p:cNvSpPr txBox="1"/>
                <p:nvPr/>
              </p:nvSpPr>
              <p:spPr>
                <a:xfrm>
                  <a:off x="3962520" y="6019920"/>
                  <a:ext cx="885600" cy="81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76320" y="219240"/>
            <a:ext cx="8381880" cy="1990440"/>
            <a:chOff x="76320" y="219240"/>
            <a:chExt cx="8381880" cy="1990440"/>
          </a:xfrm>
        </p:grpSpPr>
        <p:sp>
          <p:nvSpPr>
            <p:cNvPr id="125" name=""/>
            <p:cNvSpPr/>
            <p:nvPr/>
          </p:nvSpPr>
          <p:spPr>
            <a:xfrm>
              <a:off x="76320" y="21924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9.2, we are 95% confident that the sample mean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ffers from the true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y an amount less th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52280" y="1025640"/>
                  <a:ext cx="914400" cy="34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228600" y="1406520"/>
                  <a:ext cx="3224160" cy="80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6</m:t>
                      </m:r>
                      <m:r>
                        <m:t xml:space="preserve">)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</m:t>
                                  </m:r>
                                </m:e>
                              </m:rad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8" name=""/>
          <p:cNvGrpSpPr/>
          <p:nvPr/>
        </p:nvGrpSpPr>
        <p:grpSpPr>
          <a:xfrm>
            <a:off x="76320" y="2303640"/>
            <a:ext cx="8534160" cy="1887480"/>
            <a:chOff x="76320" y="2303640"/>
            <a:chExt cx="8534160" cy="1887480"/>
          </a:xfrm>
        </p:grpSpPr>
        <p:sp>
          <p:nvSpPr>
            <p:cNvPr id="129" name=""/>
            <p:cNvSpPr/>
            <p:nvPr/>
          </p:nvSpPr>
          <p:spPr>
            <a:xfrm>
              <a:off x="76320" y="2303640"/>
              <a:ext cx="8534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e the maximum amount of the error, tha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934320" y="2576520"/>
                  <a:ext cx="129528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f>
                            <m:num>
                              <m:r>
                                <m:t xml:space="preserve">α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b>
                      </m:sSub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31" name=""/>
            <p:cNvGrpSpPr/>
            <p:nvPr/>
          </p:nvGrpSpPr>
          <p:grpSpPr>
            <a:xfrm>
              <a:off x="1219320" y="3110040"/>
              <a:ext cx="5105160" cy="1081080"/>
              <a:chOff x="1219320" y="3110040"/>
              <a:chExt cx="5105160" cy="1081080"/>
            </a:xfrm>
          </p:grpSpPr>
          <mc:AlternateContent>
            <mc:Choice xmlns:a14="http://schemas.microsoft.com/office/drawing/2010/main" Requires="a14">
              <p:sp>
                <p:nvSpPr>
                  <p:cNvPr id="132" name=""/>
                  <p:cNvSpPr txBox="1"/>
                  <p:nvPr/>
                </p:nvSpPr>
                <p:spPr>
                  <a:xfrm>
                    <a:off x="1219320" y="3338640"/>
                    <a:ext cx="121896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3" name=""/>
                  <p:cNvSpPr txBox="1"/>
                  <p:nvPr/>
                </p:nvSpPr>
                <p:spPr>
                  <a:xfrm>
                    <a:off x="2971800" y="3338640"/>
                    <a:ext cx="1295280" cy="787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=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4" name=""/>
                  <p:cNvSpPr txBox="1"/>
                  <p:nvPr/>
                </p:nvSpPr>
                <p:spPr>
                  <a:xfrm>
                    <a:off x="4800600" y="3110040"/>
                    <a:ext cx="1523880" cy="10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n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f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r>
                                      <m:t xml:space="preserve">e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5" name=""/>
              <p:cNvSpPr/>
              <p:nvPr/>
            </p:nvSpPr>
            <p:spPr>
              <a:xfrm>
                <a:off x="24382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341460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76320" y="4300560"/>
            <a:ext cx="8915400" cy="2176560"/>
            <a:chOff x="76320" y="4300560"/>
            <a:chExt cx="8915400" cy="2176560"/>
          </a:xfrm>
        </p:grpSpPr>
        <p:sp>
          <p:nvSpPr>
            <p:cNvPr id="138" name=""/>
            <p:cNvSpPr/>
            <p:nvPr/>
          </p:nvSpPr>
          <p:spPr>
            <a:xfrm>
              <a:off x="76320" y="4300560"/>
              <a:ext cx="8915400" cy="18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Theorem 9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is used as an estimat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can then be (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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100% confident that the error (in estimation) will not exceed a specifi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ou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hen the sample size 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90680" y="4710240"/>
                  <a:ext cx="3474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4876920" y="5396040"/>
                  <a:ext cx="1523880" cy="108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f>
                                    <m:num>
                                      <m:r>
                                        <m:t xml:space="preserve">α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sub>
                              </m:sSub>
                              <m:f>
                                <m:num>
                                  <m:r>
                                    <m:t xml:space="preserve">σ</m:t>
                                  </m:r>
                                </m:num>
                                <m:den>
                                  <m:r>
                                    <m:t xml:space="preserve">e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3T12:16:21Z</dcterms:created>
  <dc:creator> </dc:creator>
  <dc:description/>
  <dc:language>en-US</dc:language>
  <cp:lastModifiedBy> </cp:lastModifiedBy>
  <dcterms:modified xsi:type="dcterms:W3CDTF">2004-07-29T13:21:33Z</dcterms:modified>
  <cp:revision>9</cp:revision>
  <dc:subject/>
  <dc:title>عرض تقديمي من PowerPoint</dc:title>
</cp:coreProperties>
</file>