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98F-FD66-465C-9901-9CCDD89E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67A-0207-4F98-A274-7EDD920B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0C2-347C-4A6F-A96F-9C2AA672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1EC-6129-4555-A05E-8D4940A2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23E-CFC0-4D35-A34A-743A2E99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10A-082A-4B1F-98A5-596BE435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A7C-0194-4596-AB42-135DE93C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B99-E876-48D6-9180-1105F596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DF8-9ACA-4018-98B5-4CBB59D0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75D-306F-48FA-99C8-8E687D33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54C-84F4-4070-A916-74DDE81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65A-90AD-4A15-8735-993DD27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0B2D-AAB8-4927-8E10-26462CC40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9: One- and Two-Sample Estimation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1 Int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Suppose we have a population with some unknown parameter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Norma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need to draw conclusions (make inferences) about the unknow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We select samples, compute some statistics, and make inferences about the unknown parameters based on the sampling distributions of the 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4724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* Statistical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Estimation of the parameters (Chapter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ests of hypotheses about the parameters (Chapter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80880" y="127080"/>
            <a:ext cx="8686800" cy="3690360"/>
            <a:chOff x="380880" y="127080"/>
            <a:chExt cx="8686800" cy="3690360"/>
          </a:xfrm>
        </p:grpSpPr>
        <p:sp>
          <p:nvSpPr>
            <p:cNvPr id="142" name=""/>
            <p:cNvSpPr/>
            <p:nvPr/>
          </p:nvSpPr>
          <p:spPr>
            <a:xfrm>
              <a:off x="380880" y="127080"/>
              <a:ext cx="8686800" cy="36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All fractional values of                   are rounded up to the   next whole numb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could take a preliminary sample of size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to provide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n 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an approximatio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orem 9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uld determine approximately how many observations are   needed to provide the desired degree of accurac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4114440" y="482760"/>
                  <a:ext cx="1676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56840" y="2013120"/>
                  <a:ext cx="27432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"/>
          <p:cNvSpPr/>
          <p:nvPr/>
        </p:nvSpPr>
        <p:spPr>
          <a:xfrm>
            <a:off x="76320" y="34005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large a sample is required in Example 9.2 if we want to be 95% confident that our estimat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off by less than 0.0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6320" y="155520"/>
            <a:ext cx="8915400" cy="3385440"/>
            <a:chOff x="76320" y="155520"/>
            <a:chExt cx="8915400" cy="3385440"/>
          </a:xfrm>
        </p:grpSpPr>
        <p:sp>
          <p:nvSpPr>
            <p:cNvPr id="147" name=""/>
            <p:cNvSpPr/>
            <p:nvPr/>
          </p:nvSpPr>
          <p:spPr>
            <a:xfrm>
              <a:off x="76320" y="155520"/>
              <a:ext cx="8915400" cy="33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hav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3 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 Then by Theorem 9.2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we can be 95% confident tha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39 will provide an estimate   differing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590920" y="623880"/>
                  <a:ext cx="10666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752480" y="1214280"/>
                  <a:ext cx="464832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  <m:r>
                                <m:t xml:space="preserve"> </m:t>
                              </m:r>
                              <m:r>
                                <m:t xml:space="preserve">×</m:t>
                              </m:r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13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5361120" y="274320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"/>
          <p:cNvGrpSpPr/>
          <p:nvPr/>
        </p:nvGrpSpPr>
        <p:grpSpPr>
          <a:xfrm>
            <a:off x="76320" y="3429000"/>
            <a:ext cx="8686800" cy="1842840"/>
            <a:chOff x="76320" y="3429000"/>
            <a:chExt cx="8686800" cy="1842840"/>
          </a:xfrm>
        </p:grpSpPr>
        <p:sp>
          <p:nvSpPr>
            <p:cNvPr id="152" name=""/>
            <p:cNvSpPr/>
            <p:nvPr/>
          </p:nvSpPr>
          <p:spPr>
            <a:xfrm>
              <a:off x="76320" y="34290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i) Second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un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57560" y="4419360"/>
              <a:ext cx="3047760" cy="852480"/>
              <a:chOff x="457560" y="4419360"/>
              <a:chExt cx="3047760" cy="852480"/>
            </a:xfrm>
          </p:grpSpPr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1066680" y="4419360"/>
                    <a:ext cx="2438640" cy="85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5" name=""/>
              <p:cNvSpPr/>
              <p:nvPr/>
            </p:nvSpPr>
            <p:spPr>
              <a:xfrm>
                <a:off x="457560" y="464796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76320" y="152280"/>
            <a:ext cx="8915400" cy="2138040"/>
            <a:chOff x="76320" y="152280"/>
            <a:chExt cx="8915400" cy="2138040"/>
          </a:xfrm>
        </p:grpSpPr>
        <p:sp>
          <p:nvSpPr>
            <p:cNvPr id="157" name=""/>
            <p:cNvSpPr/>
            <p:nvPr/>
          </p:nvSpPr>
          <p:spPr>
            <a:xfrm>
              <a:off x="76320" y="5508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the sample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the sample standard deviatio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 norm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opulation (distribution) with un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533520" y="533160"/>
                  <a:ext cx="129528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456840"/>
                  <a:ext cx="28195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79560" y="1522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6432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00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67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384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2590920"/>
            <a:ext cx="7315200" cy="3124080"/>
            <a:chOff x="609480" y="2590920"/>
            <a:chExt cx="7315200" cy="3124080"/>
          </a:xfrm>
        </p:grpSpPr>
        <p:graphicFrame>
          <p:nvGraphicFramePr>
            <p:cNvPr id="166" name=""/>
            <p:cNvGraphicFramePr/>
            <p:nvPr/>
          </p:nvGraphicFramePr>
          <p:xfrm>
            <a:off x="4876560" y="2743200"/>
            <a:ext cx="2630520" cy="281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560" y="2743200"/>
                      <a:ext cx="263052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8" name=""/>
            <p:cNvGrpSpPr/>
            <p:nvPr/>
          </p:nvGrpSpPr>
          <p:grpSpPr>
            <a:xfrm>
              <a:off x="838080" y="2895480"/>
              <a:ext cx="3276360" cy="2513880"/>
              <a:chOff x="838080" y="2895480"/>
              <a:chExt cx="3276360" cy="2513880"/>
            </a:xfrm>
          </p:grpSpPr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838080" y="2895480"/>
                    <a:ext cx="3012840" cy="82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954000" y="3733560"/>
                    <a:ext cx="125568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914040" y="4582800"/>
                    <a:ext cx="320040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" name=""/>
            <p:cNvSpPr/>
            <p:nvPr/>
          </p:nvSpPr>
          <p:spPr>
            <a:xfrm>
              <a:off x="609480" y="2590920"/>
              <a:ext cx="73152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6320" y="152280"/>
            <a:ext cx="8839080" cy="1831320"/>
            <a:chOff x="76320" y="152280"/>
            <a:chExt cx="8839080" cy="1831320"/>
          </a:xfrm>
        </p:grpSpPr>
        <p:sp>
          <p:nvSpPr>
            <p:cNvPr id="174" name=""/>
            <p:cNvSpPr/>
            <p:nvPr/>
          </p:nvSpPr>
          <p:spPr>
            <a:xfrm>
              <a:off x="76320" y="152280"/>
              <a:ext cx="883908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degrees of freedom lea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area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to the right; i.e., P(T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, or equivalently, P(T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066680" y="22860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199120" y="83808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932040" y="1219320"/>
                  <a:ext cx="3632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76320" y="20574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nts of 7 similar containers of sulfuric acid are 9.8, 10.2, 10.4, 9.8, 10.0, 10.2, and 9.6 liters. Find a 95% C.I. for the mean of all such containers, assuming an approximate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320" y="4282920"/>
            <a:ext cx="8001000" cy="1812960"/>
            <a:chOff x="76320" y="4282920"/>
            <a:chExt cx="8001000" cy="1812960"/>
          </a:xfrm>
        </p:grpSpPr>
        <p:sp>
          <p:nvSpPr>
            <p:cNvPr id="180" name=""/>
            <p:cNvSpPr/>
            <p:nvPr/>
          </p:nvSpPr>
          <p:spPr>
            <a:xfrm>
              <a:off x="76320" y="42829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595520" y="4572000"/>
                  <a:ext cx="21384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4343400" y="4572000"/>
                  <a:ext cx="373392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6320" y="54100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4343400" y="5308560"/>
                  <a:ext cx="2362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6320" y="152280"/>
            <a:ext cx="8001000" cy="6329160"/>
            <a:chOff x="76320" y="152280"/>
            <a:chExt cx="8001000" cy="6329160"/>
          </a:xfrm>
        </p:grpSpPr>
        <p:sp>
          <p:nvSpPr>
            <p:cNvPr id="186" name=""/>
            <p:cNvSpPr/>
            <p:nvPr/>
          </p:nvSpPr>
          <p:spPr>
            <a:xfrm>
              <a:off x="76320" y="152280"/>
              <a:ext cx="8001000" cy="22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Now, we need to find a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5%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100%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 95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0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=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2.447   (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=6 degrees of freed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04920" y="1219320"/>
                  <a:ext cx="39024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88" name=""/>
            <p:cNvGrpSpPr/>
            <p:nvPr/>
          </p:nvGrpSpPr>
          <p:grpSpPr>
            <a:xfrm>
              <a:off x="152280" y="2362320"/>
              <a:ext cx="6324840" cy="4119120"/>
              <a:chOff x="152280" y="2362320"/>
              <a:chExt cx="6324840" cy="4119120"/>
            </a:xfrm>
          </p:grpSpPr>
          <mc:AlternateContent>
            <mc:Choice xmlns:a14="http://schemas.microsoft.com/office/drawing/2010/main" Requires="a14">
              <p:sp>
                <p:nvSpPr>
                  <p:cNvPr id="189" name=""/>
                  <p:cNvSpPr txBox="1"/>
                  <p:nvPr/>
                </p:nvSpPr>
                <p:spPr>
                  <a:xfrm>
                    <a:off x="609480" y="2362320"/>
                    <a:ext cx="12956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609480" y="3200400"/>
                    <a:ext cx="3353040" cy="8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609480" y="4114800"/>
                    <a:ext cx="586764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2" name=""/>
              <p:cNvSpPr/>
              <p:nvPr/>
            </p:nvSpPr>
            <p:spPr>
              <a:xfrm>
                <a:off x="152280" y="4924440"/>
                <a:ext cx="60199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.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262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0 + 0.26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.74 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 are 95% confident tha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1000" y="42670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1000" y="33526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95" name=""/>
          <p:cNvGraphicFramePr/>
          <p:nvPr/>
        </p:nvGraphicFramePr>
        <p:xfrm>
          <a:off x="5410080" y="2158920"/>
          <a:ext cx="2819160" cy="1346400"/>
        </p:xfrm>
        <a:graphic>
          <a:graphicData uri="http://schemas.openxmlformats.org/drawingml/2006/table">
            <a:tbl>
              <a:tblPr/>
              <a:tblGrid>
                <a:gridCol w="533160"/>
                <a:gridCol w="2286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.44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52280" y="152280"/>
            <a:ext cx="8610840" cy="6616800"/>
            <a:chOff x="152280" y="152280"/>
            <a:chExt cx="8610840" cy="6616800"/>
          </a:xfrm>
        </p:grpSpPr>
        <p:sp>
          <p:nvSpPr>
            <p:cNvPr id="197" name=""/>
            <p:cNvSpPr/>
            <p:nvPr/>
          </p:nvSpPr>
          <p:spPr>
            <a:xfrm>
              <a:off x="152280" y="152280"/>
              <a:ext cx="8610840" cy="66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5 Standard Error of a Point Estima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tandard error of an estimator is its standard devi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use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as a point estimator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nd we u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    to make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tandard deviation of     , which is                ,is called the standard error of . We wri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.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known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unknown and the distribution is normal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676520" y="790560"/>
                  <a:ext cx="14526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886200" y="1600200"/>
                  <a:ext cx="3078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4267080" y="2328840"/>
                  <a:ext cx="3081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943600" y="2235240"/>
                  <a:ext cx="15238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048280" y="2666880"/>
                  <a:ext cx="150480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209680" y="3505320"/>
                  <a:ext cx="342900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286000" y="5410080"/>
                  <a:ext cx="340344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7 Two Samples: Estimating the Difference between Two Means (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1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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9840" y="1600200"/>
            <a:ext cx="5714640" cy="4437000"/>
            <a:chOff x="609840" y="1600200"/>
            <a:chExt cx="5714640" cy="44370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1295280" y="1600200"/>
                  <a:ext cx="37483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295280" y="2438280"/>
                  <a:ext cx="41403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95280" y="3583080"/>
                  <a:ext cx="409284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95280" y="4673520"/>
                  <a:ext cx="3200400" cy="13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4876920" y="4800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0,1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840" y="1600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840" y="26668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840" y="3886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8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28600" y="152280"/>
            <a:ext cx="8229600" cy="957240"/>
            <a:chOff x="228600" y="152280"/>
            <a:chExt cx="8229600" cy="957240"/>
          </a:xfrm>
        </p:grpSpPr>
        <p:sp>
          <p:nvSpPr>
            <p:cNvPr id="217" name=""/>
            <p:cNvSpPr/>
            <p:nvPr/>
          </p:nvSpPr>
          <p:spPr>
            <a:xfrm>
              <a:off x="228600" y="152280"/>
              <a:ext cx="82296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143000" y="609480"/>
                  <a:ext cx="9144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533880" y="5335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6320" y="914400"/>
            <a:ext cx="6933960" cy="891360"/>
            <a:chOff x="76320" y="914400"/>
            <a:chExt cx="6933960" cy="891360"/>
          </a:xfrm>
        </p:grpSpPr>
        <p:sp>
          <p:nvSpPr>
            <p:cNvPr id="221" name=""/>
            <p:cNvSpPr/>
            <p:nvPr/>
          </p:nvSpPr>
          <p:spPr>
            <a:xfrm>
              <a:off x="76320" y="914400"/>
              <a:ext cx="693396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Confidence Interval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   and     are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035160" y="1295280"/>
                  <a:ext cx="39384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108160" y="1295280"/>
                  <a:ext cx="3780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533880" y="1828800"/>
            <a:ext cx="7772040" cy="4800600"/>
            <a:chOff x="533880" y="1828800"/>
            <a:chExt cx="7772040" cy="480060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1146240" y="1828800"/>
                  <a:ext cx="388296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535320" y="19573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3000" y="3063960"/>
              <a:ext cx="66294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880" y="3048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219320" y="3905280"/>
                  <a:ext cx="70866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600200" y="4729320"/>
                  <a:ext cx="297180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1144800" y="495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600200" y="5640480"/>
                  <a:ext cx="640080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1144800" y="5867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828800" y="1219320"/>
                <a:ext cx="3809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76320" y="30240"/>
            <a:ext cx="8610480" cy="1404720"/>
            <a:chOff x="76320" y="30240"/>
            <a:chExt cx="8610480" cy="1404720"/>
          </a:xfrm>
        </p:grpSpPr>
        <p:grpSp>
          <p:nvGrpSpPr>
            <p:cNvPr id="236" name=""/>
            <p:cNvGrpSpPr/>
            <p:nvPr/>
          </p:nvGrpSpPr>
          <p:grpSpPr>
            <a:xfrm>
              <a:off x="76320" y="30240"/>
              <a:ext cx="8610480" cy="1404720"/>
              <a:chOff x="76320" y="30240"/>
              <a:chExt cx="8610480" cy="1404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6320" y="30240"/>
                <a:ext cx="7696080" cy="505800"/>
                <a:chOff x="76320" y="30240"/>
                <a:chExt cx="7696080" cy="505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6320" y="76320"/>
                  <a:ext cx="769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(ii) Second Case:       =      =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Symbol"/>
                      <a:ea typeface="Symbol"/>
                    </a:rPr>
                    <a:t></a:t>
                  </a:r>
                  <a:r>
                    <a:rPr b="0" lang="en-US" sz="2400" spc="-1" strike="noStrike" u="sng" baseline="30000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2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is unknown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269064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40" name=""/>
                    <p:cNvSpPr txBox="1"/>
                    <p:nvPr/>
                  </p:nvSpPr>
                  <p:spPr>
                    <a:xfrm>
                      <a:off x="345276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1" name=""/>
              <p:cNvSpPr/>
              <p:nvPr/>
            </p:nvSpPr>
            <p:spPr>
              <a:xfrm>
                <a:off x="152280" y="609480"/>
                <a:ext cx="853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 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      and     are unknown but    =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then the pooled estimate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48006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543384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93816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5" name=""/>
                  <p:cNvSpPr txBox="1"/>
                  <p:nvPr/>
                </p:nvSpPr>
                <p:spPr>
                  <a:xfrm>
                    <a:off x="20574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6" name=""/>
            <p:cNvSpPr/>
            <p:nvPr/>
          </p:nvSpPr>
          <p:spPr>
            <a:xfrm>
              <a:off x="78120" y="609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680" y="2133720"/>
            <a:ext cx="8686440" cy="1304640"/>
            <a:chOff x="76680" y="2133720"/>
            <a:chExt cx="8686440" cy="1304640"/>
          </a:xfrm>
        </p:grpSpPr>
        <p:grpSp>
          <p:nvGrpSpPr>
            <p:cNvPr id="248" name=""/>
            <p:cNvGrpSpPr/>
            <p:nvPr/>
          </p:nvGrpSpPr>
          <p:grpSpPr>
            <a:xfrm>
              <a:off x="152280" y="2181240"/>
              <a:ext cx="8610840" cy="1257120"/>
              <a:chOff x="152280" y="2181240"/>
              <a:chExt cx="8610840" cy="1257120"/>
            </a:xfrm>
          </p:grpSpPr>
          <p:sp>
            <p:nvSpPr>
              <p:cNvPr id="249" name=""/>
              <p:cNvSpPr/>
              <p:nvPr/>
            </p:nvSpPr>
            <p:spPr>
              <a:xfrm>
                <a:off x="152280" y="2181240"/>
                <a:ext cx="861084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is the variance of the 1-st sample and    is the variance of the 2-nd sample. The degrees of freedom of    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0" name=""/>
                  <p:cNvSpPr txBox="1"/>
                  <p:nvPr/>
                </p:nvSpPr>
                <p:spPr>
                  <a:xfrm>
                    <a:off x="1600200" y="2182680"/>
                    <a:ext cx="39996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1" name=""/>
                  <p:cNvSpPr txBox="1"/>
                  <p:nvPr/>
                </p:nvSpPr>
                <p:spPr>
                  <a:xfrm>
                    <a:off x="7467480" y="2182680"/>
                    <a:ext cx="40032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2" name=""/>
                  <p:cNvSpPr txBox="1"/>
                  <p:nvPr/>
                </p:nvSpPr>
                <p:spPr>
                  <a:xfrm>
                    <a:off x="7981920" y="2514600"/>
                    <a:ext cx="39996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3" name=""/>
            <p:cNvSpPr/>
            <p:nvPr/>
          </p:nvSpPr>
          <p:spPr>
            <a:xfrm>
              <a:off x="766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6680" y="3429000"/>
            <a:ext cx="8610120" cy="2962440"/>
            <a:chOff x="76680" y="3429000"/>
            <a:chExt cx="8610120" cy="2962440"/>
          </a:xfrm>
        </p:grpSpPr>
        <p:sp>
          <p:nvSpPr>
            <p:cNvPr id="255" name=""/>
            <p:cNvSpPr/>
            <p:nvPr/>
          </p:nvSpPr>
          <p:spPr>
            <a:xfrm>
              <a:off x="304920" y="3460680"/>
              <a:ext cx="83818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680" y="3429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609480" y="4267080"/>
                  <a:ext cx="739152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09480" y="5486400"/>
                  <a:ext cx="784872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154080" y="56386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76320" y="1014480"/>
            <a:ext cx="9144000" cy="2864160"/>
            <a:chOff x="76320" y="1014480"/>
            <a:chExt cx="9144000" cy="286416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1100160" y="1014480"/>
                  <a:ext cx="311148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1066680" y="1828440"/>
                  <a:ext cx="655344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459000" y="1142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9000" y="1981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2987280"/>
              <a:ext cx="91440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degrees of freedom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1136520" y="3047760"/>
                  <a:ext cx="3636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6320" y="76320"/>
            <a:ext cx="8915400" cy="2654280"/>
            <a:chOff x="76320" y="76320"/>
            <a:chExt cx="8915400" cy="2654280"/>
          </a:xfrm>
        </p:grpSpPr>
        <p:sp>
          <p:nvSpPr>
            <p:cNvPr id="45" name=""/>
            <p:cNvSpPr/>
            <p:nvPr/>
          </p:nvSpPr>
          <p:spPr>
            <a:xfrm>
              <a:off x="76320" y="76320"/>
              <a:ext cx="8915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3 Classical Methods of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oint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point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single value    of a statistic    . For example, the value    of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d from a sample of size n is a point estimate of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914400" y="1523880"/>
                  <a:ext cx="274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895480" y="1523880"/>
                  <a:ext cx="304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2280" y="1905120"/>
                  <a:ext cx="360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6477120" y="1600200"/>
                  <a:ext cx="3045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2666880"/>
            <a:ext cx="8839080" cy="1589040"/>
            <a:chOff x="76320" y="2666880"/>
            <a:chExt cx="8839080" cy="1589040"/>
          </a:xfrm>
        </p:grpSpPr>
        <p:sp>
          <p:nvSpPr>
            <p:cNvPr id="51" name=""/>
            <p:cNvSpPr/>
            <p:nvPr/>
          </p:nvSpPr>
          <p:spPr>
            <a:xfrm>
              <a:off x="76320" y="266688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terval Estimation (Confidence Interval = C.I.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interval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n interval of the form (   ,   ), i.e, 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. This interval contains the true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"with probability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", that is  P(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355920" y="3446280"/>
                  <a:ext cx="378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400640" y="339876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895480" y="3446280"/>
                  <a:ext cx="3621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34120" y="3398760"/>
                  <a:ext cx="4190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6934320" y="375120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96080" y="3751200"/>
                  <a:ext cx="419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380880" y="4194000"/>
            <a:ext cx="8763120" cy="2654280"/>
            <a:chOff x="380880" y="4194000"/>
            <a:chExt cx="8763120" cy="2654280"/>
          </a:xfrm>
        </p:grpSpPr>
        <p:sp>
          <p:nvSpPr>
            <p:cNvPr id="59" name=""/>
            <p:cNvSpPr/>
            <p:nvPr/>
          </p:nvSpPr>
          <p:spPr>
            <a:xfrm>
              <a:off x="380880" y="4194000"/>
              <a:ext cx="8763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,   ) =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is called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(C.I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called the confidence coef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low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upp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1, 0.05, 0.025, 0.01  (0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1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2748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3640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9032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52712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754200" y="5261040"/>
                  <a:ext cx="3585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50960" y="5641920"/>
                  <a:ext cx="3762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6320" y="685800"/>
            <a:ext cx="8915400" cy="4570920"/>
            <a:chOff x="76320" y="685800"/>
            <a:chExt cx="8915400" cy="4570920"/>
          </a:xfrm>
        </p:grpSpPr>
        <p:sp>
          <p:nvSpPr>
            <p:cNvPr id="268" name=""/>
            <p:cNvSpPr/>
            <p:nvPr/>
          </p:nvSpPr>
          <p:spPr>
            <a:xfrm>
              <a:off x="76320" y="707760"/>
              <a:ext cx="8915400" cy="45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6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and      are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experiment was conducted in which two types of engine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re compared. Gas mileage in miles per gallon was measured. 50 experiments were conducted using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75 experiments were done for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 gasoline used and other conditions were held constant. The average gas mile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36 miles per gallon and the aver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42 miles per gallon. Find 96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her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population mean gas mileage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 Assume that the population standard deviations are 6 and 8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42900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40676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6320" y="76320"/>
            <a:ext cx="9067680" cy="6118200"/>
            <a:chOff x="76320" y="76320"/>
            <a:chExt cx="9067680" cy="6118200"/>
          </a:xfrm>
        </p:grpSpPr>
        <p:grpSp>
          <p:nvGrpSpPr>
            <p:cNvPr id="272" name=""/>
            <p:cNvGrpSpPr/>
            <p:nvPr/>
          </p:nvGrpSpPr>
          <p:grpSpPr>
            <a:xfrm>
              <a:off x="76320" y="76320"/>
              <a:ext cx="9067680" cy="4385880"/>
              <a:chOff x="76320" y="76320"/>
              <a:chExt cx="9067680" cy="4385880"/>
            </a:xfrm>
          </p:grpSpPr>
          <p:sp>
            <p:nvSpPr>
              <p:cNvPr id="273" name=""/>
              <p:cNvSpPr/>
              <p:nvPr/>
            </p:nvSpPr>
            <p:spPr>
              <a:xfrm>
                <a:off x="76320" y="76320"/>
                <a:ext cx="9067680" cy="43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5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3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=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4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6=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?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6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96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838080" y="1174680"/>
                    <a:ext cx="45720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5" name=""/>
                  <p:cNvSpPr txBox="1"/>
                  <p:nvPr/>
                </p:nvSpPr>
                <p:spPr>
                  <a:xfrm>
                    <a:off x="4952880" y="1219320"/>
                    <a:ext cx="4572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4572000" y="1981080"/>
                    <a:ext cx="1066680" cy="40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09480" y="3048120"/>
                    <a:ext cx="4842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609480" y="4191120"/>
                  <a:ext cx="784872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33520" y="5181480"/>
                  <a:ext cx="342900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76320" y="396720"/>
            <a:ext cx="6858000" cy="3395520"/>
            <a:chOff x="76320" y="396720"/>
            <a:chExt cx="6858000" cy="3395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85800" y="1390320"/>
                  <a:ext cx="266688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09480" y="396720"/>
                  <a:ext cx="320040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2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76320" y="2835000"/>
              <a:ext cx="6858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4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8.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96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.43, 8.57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85800" y="2454120"/>
                  <a:ext cx="12952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±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7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76320" y="3978360"/>
            <a:ext cx="9067680" cy="898560"/>
            <a:chOff x="76320" y="3978360"/>
            <a:chExt cx="9067680" cy="898560"/>
          </a:xfrm>
        </p:grpSpPr>
        <p:sp>
          <p:nvSpPr>
            <p:cNvPr id="286" name=""/>
            <p:cNvSpPr/>
            <p:nvPr/>
          </p:nvSpPr>
          <p:spPr>
            <a:xfrm>
              <a:off x="76320" y="4038480"/>
              <a:ext cx="90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7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=      unknown) Reading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  =      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51648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89736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304812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412596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6320" y="95400"/>
            <a:ext cx="89154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ompare the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that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 experiment shows the following results based on two independent samples (original data multiplied by 100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, 138, 143, 142, 144, 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5, 140, 136, 142, 138,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ing equal variances, find 95% confidence interval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the mean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6320" y="2895480"/>
            <a:ext cx="7772400" cy="2593440"/>
            <a:chOff x="76320" y="2895480"/>
            <a:chExt cx="7772400" cy="2593440"/>
          </a:xfrm>
        </p:grpSpPr>
        <p:sp>
          <p:nvSpPr>
            <p:cNvPr id="293" name=""/>
            <p:cNvSpPr/>
            <p:nvPr/>
          </p:nvSpPr>
          <p:spPr>
            <a:xfrm>
              <a:off x="7632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3308400"/>
              <a:ext cx="762012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762120" y="4191120"/>
                  <a:ext cx="15238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000760" y="4195800"/>
                  <a:ext cx="15523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762120" y="4729320"/>
              <a:ext cx="1828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8669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4729320"/>
              <a:ext cx="198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10009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5029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___________________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76320" y="139680"/>
            <a:ext cx="8915400" cy="5734080"/>
            <a:chOff x="76320" y="139680"/>
            <a:chExt cx="8915400" cy="5734080"/>
          </a:xfrm>
        </p:grpSpPr>
        <p:grpSp>
          <p:nvGrpSpPr>
            <p:cNvPr id="301" name=""/>
            <p:cNvGrpSpPr/>
            <p:nvPr/>
          </p:nvGrpSpPr>
          <p:grpSpPr>
            <a:xfrm>
              <a:off x="76320" y="139680"/>
              <a:ext cx="8915400" cy="1841400"/>
              <a:chOff x="76320" y="139680"/>
              <a:chExt cx="8915400" cy="1841400"/>
            </a:xfrm>
          </p:grpSpPr>
          <p:sp>
            <p:nvSpPr>
              <p:cNvPr id="302" name=""/>
              <p:cNvSpPr/>
              <p:nvPr/>
            </p:nvSpPr>
            <p:spPr>
              <a:xfrm>
                <a:off x="76320" y="139680"/>
                <a:ext cx="8915400" cy="17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              =140.6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8.50=2.17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5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5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5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df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t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2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3" name=""/>
                  <p:cNvSpPr txBox="1"/>
                  <p:nvPr/>
                </p:nvSpPr>
                <p:spPr>
                  <a:xfrm>
                    <a:off x="4114800" y="228600"/>
                    <a:ext cx="99072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4" name=""/>
                  <p:cNvSpPr txBox="1"/>
                  <p:nvPr/>
                </p:nvSpPr>
                <p:spPr>
                  <a:xfrm>
                    <a:off x="255600" y="1239840"/>
                    <a:ext cx="3538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228600" y="1981080"/>
                  <a:ext cx="342900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609480" y="2909880"/>
                  <a:ext cx="586764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6690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09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8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28600" y="3733920"/>
                  <a:ext cx="40384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835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152280" y="4419720"/>
              <a:ext cx="40388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52280" y="5029200"/>
                  <a:ext cx="79250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28600" y="228600"/>
            <a:ext cx="6629400" cy="3166920"/>
            <a:chOff x="228600" y="228600"/>
            <a:chExt cx="6629400" cy="316692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85800" y="228600"/>
                  <a:ext cx="3429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230400" y="38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304920" y="1066680"/>
                  <a:ext cx="579096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8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304920" y="2057400"/>
                  <a:ext cx="1923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189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228600" y="2438280"/>
              <a:ext cx="66294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5.6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, 5.6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7600" y="609480"/>
            <a:ext cx="33400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6320" y="92160"/>
            <a:ext cx="8229600" cy="5879880"/>
            <a:chOff x="76320" y="92160"/>
            <a:chExt cx="8229600" cy="5879880"/>
          </a:xfrm>
        </p:grpSpPr>
        <p:sp>
          <p:nvSpPr>
            <p:cNvPr id="68" name=""/>
            <p:cNvSpPr/>
            <p:nvPr/>
          </p:nvSpPr>
          <p:spPr>
            <a:xfrm>
              <a:off x="76320" y="9216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4 Single Sample: Estimation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914400"/>
                  <a:ext cx="2286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1066680" y="1371600"/>
                  <a:ext cx="28195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066680" y="2286000"/>
                  <a:ext cx="18828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954000" y="3276720"/>
                  <a:ext cx="262728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3581280" y="3454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990720" y="4140360"/>
                  <a:ext cx="266688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3657600" y="43689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5146560"/>
              <a:ext cx="609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use the sampling distribution of      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867280" y="5181480"/>
                  <a:ext cx="314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368280"/>
            <a:ext cx="56386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Z-value leaving an area of a to the right; i.e., P(Z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a or equivalently, P(Z&l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34040" y="36360"/>
            <a:ext cx="2629080" cy="233388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152280" y="2165400"/>
            <a:ext cx="9144000" cy="1373760"/>
            <a:chOff x="152280" y="2165400"/>
            <a:chExt cx="9144000" cy="1373760"/>
          </a:xfrm>
        </p:grpSpPr>
        <p:sp>
          <p:nvSpPr>
            <p:cNvPr id="81" name=""/>
            <p:cNvSpPr/>
            <p:nvPr/>
          </p:nvSpPr>
          <p:spPr>
            <a:xfrm>
              <a:off x="152280" y="2165400"/>
              <a:ext cx="914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the Mean (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e mean                       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895480" y="2590920"/>
                  <a:ext cx="1600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" name=""/>
          <p:cNvGrpSpPr/>
          <p:nvPr/>
        </p:nvGrpSpPr>
        <p:grpSpPr>
          <a:xfrm>
            <a:off x="76320" y="3429000"/>
            <a:ext cx="8915400" cy="2592720"/>
            <a:chOff x="76320" y="3429000"/>
            <a:chExt cx="8915400" cy="2592720"/>
          </a:xfrm>
        </p:grpSpPr>
        <p:sp>
          <p:nvSpPr>
            <p:cNvPr id="84" name=""/>
            <p:cNvSpPr/>
            <p:nvPr/>
          </p:nvSpPr>
          <p:spPr>
            <a:xfrm>
              <a:off x="76320" y="3429000"/>
              <a:ext cx="89154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 is the sample mea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a population (distribu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6600" y="4584600"/>
                  <a:ext cx="13762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0280" y="380880"/>
            <a:ext cx="2805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76320" y="352440"/>
            <a:ext cx="5867280" cy="4829040"/>
            <a:chOff x="76320" y="352440"/>
            <a:chExt cx="5867280" cy="48290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838080" y="352440"/>
                  <a:ext cx="3359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14400" y="1143000"/>
                  <a:ext cx="159372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880920" y="2057400"/>
                  <a:ext cx="36910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304920" y="1295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6320" y="3048120"/>
              <a:ext cx="5867280" cy="2133360"/>
              <a:chOff x="76320" y="3048120"/>
              <a:chExt cx="5867280" cy="2133360"/>
            </a:xfrm>
          </p:grpSpPr>
          <p:sp>
            <p:nvSpPr>
              <p:cNvPr id="94" name=""/>
              <p:cNvSpPr/>
              <p:nvPr/>
            </p:nvSpPr>
            <p:spPr>
              <a:xfrm>
                <a:off x="76320" y="3048120"/>
                <a:ext cx="58672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     is the Z-value leaving an are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to the right; i.e., P(Z&gt;      )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, 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valently, P(Z&lt;        )=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066680" y="312408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2819520" y="4495680"/>
                    <a:ext cx="53316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4038480" y="373392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8" name=""/>
          <p:cNvGrpSpPr/>
          <p:nvPr/>
        </p:nvGrpSpPr>
        <p:grpSpPr>
          <a:xfrm>
            <a:off x="76320" y="5045040"/>
            <a:ext cx="8458200" cy="1114560"/>
            <a:chOff x="76320" y="5045040"/>
            <a:chExt cx="8458200" cy="1114560"/>
          </a:xfrm>
        </p:grpSpPr>
        <p:sp>
          <p:nvSpPr>
            <p:cNvPr id="99" name=""/>
            <p:cNvSpPr/>
            <p:nvPr/>
          </p:nvSpPr>
          <p:spPr>
            <a:xfrm>
              <a:off x="76320" y="5045040"/>
              <a:ext cx="601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34120" y="5334120"/>
                  <a:ext cx="32004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verage zinc concentration recorded from a sample of zinc measurements in 36 different locations is found to be 2.6 gram/milliliter. Find a 95% and 99% confidence interval (C.I.) for the mean zinc concentration in the river. Assume that the population standard deviation is 0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320" y="2266920"/>
            <a:ext cx="6476760" cy="4483080"/>
            <a:chOff x="76320" y="2266920"/>
            <a:chExt cx="6476760" cy="4483080"/>
          </a:xfrm>
        </p:grpSpPr>
        <p:sp>
          <p:nvSpPr>
            <p:cNvPr id="103" name=""/>
            <p:cNvSpPr/>
            <p:nvPr/>
          </p:nvSpPr>
          <p:spPr>
            <a:xfrm>
              <a:off x="76320" y="2266920"/>
              <a:ext cx="6476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the mean zinc concentration in the riv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Population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?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2.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     =2.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) We want to find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5%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 95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2 = 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191120"/>
                  <a:ext cx="304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3252960"/>
            <a:ext cx="3276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52280" y="152280"/>
            <a:ext cx="6324840" cy="5214600"/>
            <a:chOff x="152280" y="152280"/>
            <a:chExt cx="6324840" cy="5214600"/>
          </a:xfrm>
        </p:grpSpPr>
        <p:grpSp>
          <p:nvGrpSpPr>
            <p:cNvPr id="107" name=""/>
            <p:cNvGrpSpPr/>
            <p:nvPr/>
          </p:nvGrpSpPr>
          <p:grpSpPr>
            <a:xfrm>
              <a:off x="380880" y="152280"/>
              <a:ext cx="2819520" cy="1257120"/>
              <a:chOff x="380880" y="152280"/>
              <a:chExt cx="28195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80880" y="152280"/>
                <a:ext cx="281952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 1.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95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642960" y="171360"/>
                    <a:ext cx="42372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38080" y="1371600"/>
                  <a:ext cx="13716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838080" y="2168640"/>
                  <a:ext cx="33102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522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838080" y="3008160"/>
                  <a:ext cx="5105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152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280" y="3809880"/>
              <a:ext cx="6324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buClr>
                  <a:srgbClr val="000000"/>
                </a:buClr>
                <a:buFont typeface="Symbol" charset="2"/>
                <a:buChar char="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098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 + 0.0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502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Similarly, we can find that (Homework) A 99% C.I.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7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.7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99% confident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a 99% C.I. is wider that a 95% C.I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280" y="2057400"/>
            <a:ext cx="7315200" cy="2745720"/>
            <a:chOff x="152280" y="2057400"/>
            <a:chExt cx="7315200" cy="2745720"/>
          </a:xfrm>
        </p:grpSpPr>
        <p:sp>
          <p:nvSpPr>
            <p:cNvPr id="118" name=""/>
            <p:cNvSpPr/>
            <p:nvPr/>
          </p:nvSpPr>
          <p:spPr>
            <a:xfrm>
              <a:off x="152280" y="2057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r>
                <a:rPr b="0" i="1" lang="en-GB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2514600"/>
              <a:ext cx="64767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|____________________________|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-----------|---------------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320" y="4924440"/>
            <a:ext cx="8839080" cy="1908000"/>
            <a:chOff x="76320" y="4924440"/>
            <a:chExt cx="8839080" cy="1908000"/>
          </a:xfrm>
        </p:grpSpPr>
        <p:sp>
          <p:nvSpPr>
            <p:cNvPr id="121" name=""/>
            <p:cNvSpPr/>
            <p:nvPr/>
          </p:nvSpPr>
          <p:spPr>
            <a:xfrm>
              <a:off x="76320" y="4924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is used as an estimate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ion) will not exce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07880" y="5334120"/>
                  <a:ext cx="2779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3962520" y="6019920"/>
                  <a:ext cx="8856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219240"/>
            <a:ext cx="8381880" cy="1990440"/>
            <a:chOff x="76320" y="219240"/>
            <a:chExt cx="8381880" cy="1990440"/>
          </a:xfrm>
        </p:grpSpPr>
        <p:sp>
          <p:nvSpPr>
            <p:cNvPr id="125" name=""/>
            <p:cNvSpPr/>
            <p:nvPr/>
          </p:nvSpPr>
          <p:spPr>
            <a:xfrm>
              <a:off x="76320" y="21924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9.2, we are 95% confident that the sample mean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ffers from the true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152280" y="1025640"/>
                  <a:ext cx="91440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8600" y="1406520"/>
                  <a:ext cx="32241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76320" y="2303640"/>
            <a:ext cx="8534160" cy="1887480"/>
            <a:chOff x="76320" y="2303640"/>
            <a:chExt cx="8534160" cy="1887480"/>
          </a:xfrm>
        </p:grpSpPr>
        <p:sp>
          <p:nvSpPr>
            <p:cNvPr id="129" name=""/>
            <p:cNvSpPr/>
            <p:nvPr/>
          </p:nvSpPr>
          <p:spPr>
            <a:xfrm>
              <a:off x="76320" y="230364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maximum amount of the error, tha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934320" y="2576520"/>
                  <a:ext cx="129528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"/>
            <p:cNvGrpSpPr/>
            <p:nvPr/>
          </p:nvGrpSpPr>
          <p:grpSpPr>
            <a:xfrm>
              <a:off x="1219320" y="3110040"/>
              <a:ext cx="5105160" cy="1081080"/>
              <a:chOff x="1219320" y="3110040"/>
              <a:chExt cx="5105160" cy="108108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219320" y="3338640"/>
                    <a:ext cx="121896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2971800" y="3338640"/>
                    <a:ext cx="129528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800600" y="3110040"/>
                    <a:ext cx="1523880" cy="10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f>
                                  <m:num>
                                    <m:r>
                                      <m:t xml:space="preserve">σ</m:t>
                                    </m:r>
                                  </m:num>
                                  <m:den>
                                    <m:r>
                                      <m:t xml:space="preserve">e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" name=""/>
              <p:cNvSpPr/>
              <p:nvPr/>
            </p:nvSpPr>
            <p:spPr>
              <a:xfrm>
                <a:off x="24382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70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76320" y="4300560"/>
            <a:ext cx="8915400" cy="2176560"/>
            <a:chOff x="76320" y="4300560"/>
            <a:chExt cx="8915400" cy="2176560"/>
          </a:xfrm>
        </p:grpSpPr>
        <p:sp>
          <p:nvSpPr>
            <p:cNvPr id="138" name=""/>
            <p:cNvSpPr/>
            <p:nvPr/>
          </p:nvSpPr>
          <p:spPr>
            <a:xfrm>
              <a:off x="76320" y="4300560"/>
              <a:ext cx="891540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is used as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 estimation) will not exceed a spec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u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hen the sample size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90680" y="471024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876920" y="5396040"/>
                  <a:ext cx="15238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2:16:21Z</dcterms:created>
  <dc:creator> </dc:creator>
  <dc:description/>
  <dc:language>en-US</dc:language>
  <cp:lastModifiedBy> </cp:lastModifiedBy>
  <dcterms:modified xsi:type="dcterms:W3CDTF">2004-07-29T13:21:33Z</dcterms:modified>
  <cp:revision>9</cp:revision>
  <dc:subject/>
  <dc:title>عرض تقديمي من PowerPoint</dc:title>
</cp:coreProperties>
</file>