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AFDD-4656-461E-BD16-A8F0E0F8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C4C-F276-4373-8E86-A0E0D870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5CF6-2A7E-46FB-9FA7-CE5D2FDE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95C-EA53-494C-A99A-12A16FC8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03A-4AF6-4FD3-9A71-C955776E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D384-9F29-4226-A3F0-5F4901F9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004-4673-4C9D-8125-3959B582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E36-397A-42C2-95E9-5D2468CB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657-8BB4-48F5-92B5-8F0E622A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20A-3A1E-4617-AE41-CADDCF90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98D-CA75-468B-AC8F-F709724C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362-D2CD-4E7A-9B79-97A9C005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FBB8-19B7-4DC5-8C63-E9BC1F941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8390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8: Fundamental Sampling Distributions and Data Descri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8.1 Random Sampling: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5238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opulation consists of the totality of the observations with which we are concerned. (Population=Probability Distrib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260676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ample is a subset of a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352680"/>
            <a:ext cx="8763120" cy="34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Each observation in a population is a value of a random variable X having some probability distribution f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o eliminate bias in the sampling procedure, we select a random sample in the sense that the observations are made independently and at ran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he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       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servations selected independently and randomly from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828800" y="609480"/>
          <a:ext cx="495288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609480"/>
                    <a:ext cx="495288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152280"/>
            <a:ext cx="8839080" cy="5384880"/>
            <a:chOff x="76320" y="152280"/>
            <a:chExt cx="8839080" cy="5384880"/>
          </a:xfrm>
        </p:grpSpPr>
        <p:sp>
          <p:nvSpPr>
            <p:cNvPr id="125" name=""/>
            <p:cNvSpPr/>
            <p:nvPr/>
          </p:nvSpPr>
          <p:spPr>
            <a:xfrm>
              <a:off x="76320" y="152280"/>
              <a:ext cx="88390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large, then the sampling distribution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is approximately normal with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7467480" y="560520"/>
                  <a:ext cx="10670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638360" y="1295280"/>
                  <a:ext cx="4381560" cy="54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76320" y="18288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vari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1523880" y="2058840"/>
                  <a:ext cx="4876920" cy="98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"/>
            <p:cNvSpPr/>
            <p:nvPr/>
          </p:nvSpPr>
          <p:spPr>
            <a:xfrm>
              <a:off x="76320" y="2819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at is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447920" y="3048120"/>
              <a:ext cx="4343400" cy="1036440"/>
              <a:chOff x="1447920" y="3048120"/>
              <a:chExt cx="4343400" cy="1036440"/>
            </a:xfrm>
          </p:grpSpPr>
          <mc:AlternateContent>
            <mc:Choice xmlns:a14="http://schemas.microsoft.com/office/drawing/2010/main" Requires="a14">
              <p:sp>
                <p:nvSpPr>
                  <p:cNvPr id="132" name=""/>
                  <p:cNvSpPr txBox="1"/>
                  <p:nvPr/>
                </p:nvSpPr>
                <p:spPr>
                  <a:xfrm>
                    <a:off x="1447920" y="3276360"/>
                    <a:ext cx="1828800" cy="480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3" name=""/>
                  <p:cNvSpPr txBox="1"/>
                  <p:nvPr/>
                </p:nvSpPr>
                <p:spPr>
                  <a:xfrm>
                    <a:off x="3141720" y="3234960"/>
                    <a:ext cx="1184400" cy="498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4" name=""/>
                  <p:cNvSpPr txBox="1"/>
                  <p:nvPr/>
                </p:nvSpPr>
                <p:spPr>
                  <a:xfrm>
                    <a:off x="4267440" y="3048120"/>
                    <a:ext cx="1523880" cy="103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371600" y="4038480"/>
                  <a:ext cx="4572000" cy="14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"/>
          <p:cNvGrpSpPr/>
          <p:nvPr/>
        </p:nvGrpSpPr>
        <p:grpSpPr>
          <a:xfrm>
            <a:off x="152280" y="5334120"/>
            <a:ext cx="8382240" cy="1344600"/>
            <a:chOff x="152280" y="5334120"/>
            <a:chExt cx="8382240" cy="1344600"/>
          </a:xfrm>
        </p:grpSpPr>
        <p:sp>
          <p:nvSpPr>
            <p:cNvPr id="137" name=""/>
            <p:cNvSpPr/>
            <p:nvPr/>
          </p:nvSpPr>
          <p:spPr>
            <a:xfrm>
              <a:off x="152280" y="5334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609480" y="5638680"/>
                  <a:ext cx="7925040" cy="104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1522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5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68580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levision picture tubes of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a mean lifetime of 6.5 years and standard deviation of 0.9 year, while those of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a mean lifetime of 6 years and standard deviation of 0.8 year. What is the probability that a random sample of 36 tubes from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ll have a mean lifetime that is at least 1 year more than the mean lifetime of a random sample of 49 tubes from manufactur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3733920"/>
            <a:ext cx="876276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52280" y="139680"/>
            <a:ext cx="8839440" cy="5857920"/>
            <a:chOff x="152280" y="139680"/>
            <a:chExt cx="8839440" cy="5857920"/>
          </a:xfrm>
        </p:grpSpPr>
        <p:grpSp>
          <p:nvGrpSpPr>
            <p:cNvPr id="143" name=""/>
            <p:cNvGrpSpPr/>
            <p:nvPr/>
          </p:nvGrpSpPr>
          <p:grpSpPr>
            <a:xfrm>
              <a:off x="152280" y="139680"/>
              <a:ext cx="8839440" cy="1585800"/>
              <a:chOff x="152280" y="139680"/>
              <a:chExt cx="8839440" cy="1585800"/>
            </a:xfrm>
          </p:grpSpPr>
          <p:sp>
            <p:nvSpPr>
              <p:cNvPr id="144" name=""/>
              <p:cNvSpPr/>
              <p:nvPr/>
            </p:nvSpPr>
            <p:spPr>
              <a:xfrm>
                <a:off x="152280" y="139680"/>
                <a:ext cx="88394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We need to find the probability that the mean lifetime of manufacturer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t least 1 year more than the mean lifetime of manufacturer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which is P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The sampling distribution  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45" name=""/>
                  <p:cNvSpPr txBox="1"/>
                  <p:nvPr/>
                </p:nvSpPr>
                <p:spPr>
                  <a:xfrm>
                    <a:off x="3962520" y="973080"/>
                    <a:ext cx="1371600" cy="39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6" name=""/>
                  <p:cNvSpPr txBox="1"/>
                  <p:nvPr/>
                </p:nvSpPr>
                <p:spPr>
                  <a:xfrm>
                    <a:off x="4495680" y="1295280"/>
                    <a:ext cx="1067040" cy="430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47" name=""/>
            <p:cNvGrpSpPr/>
            <p:nvPr/>
          </p:nvGrpSpPr>
          <p:grpSpPr>
            <a:xfrm>
              <a:off x="685800" y="1752480"/>
              <a:ext cx="4343400" cy="1036800"/>
              <a:chOff x="685800" y="1752480"/>
              <a:chExt cx="4343400" cy="1036800"/>
            </a:xfrm>
          </p:grpSpPr>
          <mc:AlternateContent>
            <mc:Choice xmlns:a14="http://schemas.microsoft.com/office/drawing/2010/main" Requires="a14">
              <p:sp>
                <p:nvSpPr>
                  <p:cNvPr id="148" name=""/>
                  <p:cNvSpPr txBox="1"/>
                  <p:nvPr/>
                </p:nvSpPr>
                <p:spPr>
                  <a:xfrm>
                    <a:off x="685800" y="1981080"/>
                    <a:ext cx="1828800" cy="48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9" name=""/>
                  <p:cNvSpPr txBox="1"/>
                  <p:nvPr/>
                </p:nvSpPr>
                <p:spPr>
                  <a:xfrm>
                    <a:off x="2379600" y="1939680"/>
                    <a:ext cx="1184400" cy="49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0" name=""/>
                  <p:cNvSpPr txBox="1"/>
                  <p:nvPr/>
                </p:nvSpPr>
                <p:spPr>
                  <a:xfrm>
                    <a:off x="3505320" y="1752480"/>
                    <a:ext cx="1523880" cy="1036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685800" y="2819520"/>
                  <a:ext cx="640080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85800" y="3379680"/>
                  <a:ext cx="8305920" cy="104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9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55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762120" y="4368960"/>
                  <a:ext cx="5562360" cy="11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3556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8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838080" y="5486400"/>
                  <a:ext cx="327672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,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89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533520" y="304920"/>
            <a:ext cx="8153280" cy="6250680"/>
            <a:chOff x="533520" y="304920"/>
            <a:chExt cx="8153280" cy="6250680"/>
          </a:xfrm>
        </p:grpSpPr>
        <p:sp>
          <p:nvSpPr>
            <p:cNvPr id="156" name=""/>
            <p:cNvSpPr/>
            <p:nvPr/>
          </p:nvSpPr>
          <p:spPr>
            <a:xfrm>
              <a:off x="533520" y="30492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al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1600200" y="609480"/>
                  <a:ext cx="4572000" cy="150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1792440" y="2133720"/>
                  <a:ext cx="4684680" cy="52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≥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≥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1747800" y="2743200"/>
                  <a:ext cx="5567400" cy="215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(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rad>
                            </m:den>
                          </m:f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sSubSup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0" name=""/>
                <p:cNvSpPr txBox="1"/>
                <p:nvPr/>
              </p:nvSpPr>
              <p:spPr>
                <a:xfrm>
                  <a:off x="1752480" y="5022720"/>
                  <a:ext cx="2349720" cy="97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9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61" name=""/>
            <p:cNvSpPr/>
            <p:nvPr/>
          </p:nvSpPr>
          <p:spPr>
            <a:xfrm>
              <a:off x="1752480" y="609588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P(Z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5) 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P(Z&lt;2.65)=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9960  = 0.00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28600" y="369720"/>
            <a:ext cx="8763120" cy="5116680"/>
            <a:chOff x="228600" y="369720"/>
            <a:chExt cx="8763120" cy="5116680"/>
          </a:xfrm>
        </p:grpSpPr>
        <p:sp>
          <p:nvSpPr>
            <p:cNvPr id="163" name=""/>
            <p:cNvSpPr/>
            <p:nvPr/>
          </p:nvSpPr>
          <p:spPr>
            <a:xfrm>
              <a:off x="228600" y="369720"/>
              <a:ext cx="876312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7 t-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Recall that,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2043000" y="1741320"/>
                  <a:ext cx="290988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228600" y="2763720"/>
              <a:ext cx="8763120" cy="23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can apply this result only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known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nknown, we replace the populatio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ith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mple variance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o have the following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2590920" y="3417840"/>
                  <a:ext cx="2286000" cy="11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523880" y="4560840"/>
                  <a:ext cx="152424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6320" y="228600"/>
            <a:ext cx="8839080" cy="3035160"/>
            <a:chOff x="76320" y="228600"/>
            <a:chExt cx="8839080" cy="3035160"/>
          </a:xfrm>
        </p:grpSpPr>
        <p:sp>
          <p:nvSpPr>
            <p:cNvPr id="169" name=""/>
            <p:cNvSpPr/>
            <p:nvPr/>
          </p:nvSpPr>
          <p:spPr>
            <a:xfrm>
              <a:off x="76320" y="228600"/>
              <a:ext cx="883908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the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676520" y="1523880"/>
                  <a:ext cx="152388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76320" y="243828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s a t-distribution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degrees of freedom (df), and we write T~ t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27080" y="3352680"/>
            <a:ext cx="574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-distribution is a continuous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pe of t-distribution is similar to the shape of the standard normal distrib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943600" y="3505320"/>
            <a:ext cx="304812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52280" y="152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ation:</a:t>
            </a:r>
            <a:r>
              <a:rPr b="0" i="1" lang="en-GB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181480" cy="2776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8600" y="3762360"/>
            <a:ext cx="8763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The t-value above which we find an area equal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that is   P(T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Since the curve of the pdf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~ t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 symmetric about 0, we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1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Garamond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Value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aramond"/>
              </a:rPr>
              <a:t> are tabulated in Table A-4 (p.68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22860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t-valu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4 (df) that leaves an area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             0.95 to the 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            0.95 to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1828800"/>
            <a:ext cx="807696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4   (df);  T~ t(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) The t-value that leaves an area of 0.95 to the lef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7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95280" y="3505320"/>
          <a:ext cx="6172200" cy="27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05320"/>
                    <a:ext cx="6172200" cy="279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320" y="609480"/>
            <a:ext cx="88390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) The t-value that leaves an area of 0.95 to the righ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1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0.9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t 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= 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1.7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371600" y="1957320"/>
          <a:ext cx="5638680" cy="30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57320"/>
                    <a:ext cx="5638680" cy="30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320" y="1396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8.2 Some Important Stat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8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function of the random sample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a stat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76320" y="1752480"/>
            <a:ext cx="8915400" cy="2613240"/>
            <a:chOff x="76320" y="1752480"/>
            <a:chExt cx="8915400" cy="2613240"/>
          </a:xfrm>
        </p:grpSpPr>
        <p:sp>
          <p:nvSpPr>
            <p:cNvPr id="47" name=""/>
            <p:cNvSpPr/>
            <p:nvPr/>
          </p:nvSpPr>
          <p:spPr>
            <a:xfrm>
              <a:off x="76320" y="1752480"/>
              <a:ext cx="891540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Central Tendency in the S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sample mean is defined to be the statistic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1581120" y="3124080"/>
                  <a:ext cx="4210200" cy="124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6553080" y="3657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28600" y="4194000"/>
            <a:ext cx="8763120" cy="2724840"/>
            <a:chOff x="228600" y="4194000"/>
            <a:chExt cx="8763120" cy="2724840"/>
          </a:xfrm>
        </p:grpSpPr>
        <p:sp>
          <p:nvSpPr>
            <p:cNvPr id="51" name=""/>
            <p:cNvSpPr/>
            <p:nvPr/>
          </p:nvSpPr>
          <p:spPr>
            <a:xfrm>
              <a:off x="228600" y="4194000"/>
              <a:ext cx="876312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is a statistic because it is a function of the random sample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has same unit o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 measures the central tendency in the sample (location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457200" y="457200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380880" y="5410080"/>
                  <a:ext cx="3492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380880" y="5943600"/>
                  <a:ext cx="3492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28132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3029040"/>
          <a:ext cx="579600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029040"/>
                    <a:ext cx="579600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52280" y="168120"/>
            <a:ext cx="79250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0 degrees of freedom (df), find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006560"/>
            <a:ext cx="655344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3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t 0.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.093    (t 0.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.09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76320" y="152280"/>
            <a:ext cx="8915400" cy="2590920"/>
            <a:chOff x="76320" y="152280"/>
            <a:chExt cx="8915400" cy="2590920"/>
          </a:xfrm>
        </p:grpSpPr>
        <p:sp>
          <p:nvSpPr>
            <p:cNvPr id="56" name=""/>
            <p:cNvSpPr/>
            <p:nvPr/>
          </p:nvSpPr>
          <p:spPr>
            <a:xfrm>
              <a:off x="76320" y="152280"/>
              <a:ext cx="8915400" cy="162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Variability in the S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9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sample variance is defined to be the statistic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762120" y="1752480"/>
                  <a:ext cx="655308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7543800" y="2133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320" y="2714760"/>
            <a:ext cx="7010280" cy="1523880"/>
            <a:chOff x="76320" y="2714760"/>
            <a:chExt cx="7010280" cy="1523880"/>
          </a:xfrm>
        </p:grpSpPr>
        <p:sp>
          <p:nvSpPr>
            <p:cNvPr id="60" name=""/>
            <p:cNvSpPr/>
            <p:nvPr/>
          </p:nvSpPr>
          <p:spPr>
            <a:xfrm>
              <a:off x="76320" y="2714760"/>
              <a:ext cx="70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1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(Computational Formulas for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471680" y="3117960"/>
                  <a:ext cx="4471920" cy="112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228600" y="4010040"/>
            <a:ext cx="8915400" cy="2771640"/>
            <a:chOff x="228600" y="4010040"/>
            <a:chExt cx="8915400" cy="2771640"/>
          </a:xfrm>
        </p:grpSpPr>
        <p:grpSp>
          <p:nvGrpSpPr>
            <p:cNvPr id="63" name=""/>
            <p:cNvGrpSpPr/>
            <p:nvPr/>
          </p:nvGrpSpPr>
          <p:grpSpPr>
            <a:xfrm>
              <a:off x="228600" y="4010040"/>
              <a:ext cx="8915400" cy="2771640"/>
              <a:chOff x="228600" y="4010040"/>
              <a:chExt cx="8915400" cy="2771640"/>
            </a:xfrm>
          </p:grpSpPr>
          <p:sp>
            <p:nvSpPr>
              <p:cNvPr id="64" name=""/>
              <p:cNvSpPr/>
              <p:nvPr/>
            </p:nvSpPr>
            <p:spPr>
              <a:xfrm>
                <a:off x="228600" y="4010040"/>
                <a:ext cx="8915400" cy="162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  </a:t>
                </a:r>
                <a:r>
                  <a:rPr b="0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Note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statistic because it is a function of the random sample X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X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…, X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·    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measures the variability in the sampl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5" name=""/>
                  <p:cNvSpPr txBox="1"/>
                  <p:nvPr/>
                </p:nvSpPr>
                <p:spPr>
                  <a:xfrm>
                    <a:off x="1562040" y="5580000"/>
                    <a:ext cx="3162240" cy="120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6" name=""/>
            <p:cNvSpPr/>
            <p:nvPr/>
          </p:nvSpPr>
          <p:spPr>
            <a:xfrm>
              <a:off x="6248520" y="609588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108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8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8.9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280" y="1371600"/>
            <a:ext cx="8763120" cy="2872440"/>
            <a:chOff x="152280" y="1371600"/>
            <a:chExt cx="8763120" cy="2872440"/>
          </a:xfrm>
        </p:grpSpPr>
        <p:sp>
          <p:nvSpPr>
            <p:cNvPr id="69" name=""/>
            <p:cNvSpPr/>
            <p:nvPr/>
          </p:nvSpPr>
          <p:spPr>
            <a:xfrm>
              <a:off x="152280" y="1371600"/>
              <a:ext cx="8763120" cy="287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4 Sampling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8.1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distribution of a statistic is called a sampling distrib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Example: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epresent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probability distribution of   is called the sampling distribution of the sample mean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6434280" y="3352680"/>
                  <a:ext cx="3474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5900760" y="3733920"/>
                  <a:ext cx="34776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" name=""/>
          <p:cNvGrpSpPr/>
          <p:nvPr/>
        </p:nvGrpSpPr>
        <p:grpSpPr>
          <a:xfrm>
            <a:off x="76320" y="4191120"/>
            <a:ext cx="9067680" cy="2400120"/>
            <a:chOff x="76320" y="4191120"/>
            <a:chExt cx="9067680" cy="2400120"/>
          </a:xfrm>
        </p:grpSpPr>
        <p:sp>
          <p:nvSpPr>
            <p:cNvPr id="73" name=""/>
            <p:cNvSpPr/>
            <p:nvPr/>
          </p:nvSpPr>
          <p:spPr>
            <a:xfrm>
              <a:off x="76320" y="4191120"/>
              <a:ext cx="906768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8.5 Sampling Distributions of Mea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taken from a normal distribu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i.e.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the sample mean       has a normal distribution with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2133720" y="5638680"/>
                  <a:ext cx="34740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2362320" y="6081840"/>
                  <a:ext cx="205740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6320" y="152280"/>
            <a:ext cx="9067680" cy="2971800"/>
            <a:chOff x="76320" y="152280"/>
            <a:chExt cx="9067680" cy="2971800"/>
          </a:xfrm>
        </p:grpSpPr>
        <p:sp>
          <p:nvSpPr>
            <p:cNvPr id="77" name=""/>
            <p:cNvSpPr/>
            <p:nvPr/>
          </p:nvSpPr>
          <p:spPr>
            <a:xfrm>
              <a:off x="76320" y="15228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vari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2057400" y="380880"/>
                  <a:ext cx="2438280" cy="85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152280" y="1143000"/>
              <a:ext cx="899172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t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N(      ,      ) or     ~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      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295280" y="1523880"/>
                  <a:ext cx="457200" cy="43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1893960" y="1447920"/>
                  <a:ext cx="4683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57200" y="1523880"/>
                  <a:ext cx="380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089240" y="1447920"/>
                  <a:ext cx="48276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79200" y="2251080"/>
                  <a:ext cx="56358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·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  <m:r>
                        <m:t xml:space="preserve">⇔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2895480" y="1523880"/>
                  <a:ext cx="38124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4953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76320" y="139680"/>
            <a:ext cx="8991360" cy="3670200"/>
            <a:chOff x="76320" y="139680"/>
            <a:chExt cx="8991360" cy="3670200"/>
          </a:xfrm>
        </p:grpSpPr>
        <p:sp>
          <p:nvSpPr>
            <p:cNvPr id="88" name=""/>
            <p:cNvSpPr/>
            <p:nvPr/>
          </p:nvSpPr>
          <p:spPr>
            <a:xfrm>
              <a:off x="76320" y="139680"/>
              <a:ext cx="899136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8.2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Central Limit Theore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any distribution (population)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finite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, if the sample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large, the random vari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2590920" y="1600200"/>
                  <a:ext cx="15238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>
              <a:off x="76320" y="2590920"/>
              <a:ext cx="84582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pproximately standard normal random variable, i.e.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oximat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304920" y="3009960"/>
                  <a:ext cx="237312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" name=""/>
          <p:cNvGrpSpPr/>
          <p:nvPr/>
        </p:nvGrpSpPr>
        <p:grpSpPr>
          <a:xfrm>
            <a:off x="304920" y="3733920"/>
            <a:ext cx="8610480" cy="3124080"/>
            <a:chOff x="304920" y="3733920"/>
            <a:chExt cx="8610480" cy="3124080"/>
          </a:xfrm>
        </p:grpSpPr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685800" y="3733920"/>
                  <a:ext cx="4268880" cy="79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  <m:r>
                        <m:t xml:space="preserve">⇔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4" name=""/>
            <p:cNvSpPr/>
            <p:nvPr/>
          </p:nvSpPr>
          <p:spPr>
            <a:xfrm>
              <a:off x="533520" y="4648320"/>
              <a:ext cx="48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conside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large whe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3600" y="38862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04920" y="5105520"/>
              <a:ext cx="8610480" cy="1295280"/>
              <a:chOff x="304920" y="5105520"/>
              <a:chExt cx="8610480" cy="1295280"/>
            </a:xfrm>
          </p:grpSpPr>
          <p:sp>
            <p:nvSpPr>
              <p:cNvPr id="97" name=""/>
              <p:cNvSpPr/>
              <p:nvPr/>
            </p:nvSpPr>
            <p:spPr>
              <a:xfrm>
                <a:off x="304920" y="5121360"/>
                <a:ext cx="8610480" cy="10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 large sample siz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    has approximately a norm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istribution with mean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nd variance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, i.e.,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8" name=""/>
                  <p:cNvSpPr txBox="1"/>
                  <p:nvPr/>
                </p:nvSpPr>
                <p:spPr>
                  <a:xfrm>
                    <a:off x="3809880" y="5105520"/>
                    <a:ext cx="381240" cy="380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9" name=""/>
                  <p:cNvSpPr txBox="1"/>
                  <p:nvPr/>
                </p:nvSpPr>
                <p:spPr>
                  <a:xfrm>
                    <a:off x="5562720" y="5486400"/>
                    <a:ext cx="54612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80880" y="6087960"/>
                  <a:ext cx="173052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1" name=""/>
            <p:cNvSpPr/>
            <p:nvPr/>
          </p:nvSpPr>
          <p:spPr>
            <a:xfrm>
              <a:off x="2212920" y="6172200"/>
              <a:ext cx="216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roximat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28600" y="380880"/>
            <a:ext cx="8915400" cy="825480"/>
            <a:chOff x="228600" y="380880"/>
            <a:chExt cx="8915400" cy="825480"/>
          </a:xfrm>
        </p:grpSpPr>
        <p:sp>
          <p:nvSpPr>
            <p:cNvPr id="103" name=""/>
            <p:cNvSpPr/>
            <p:nvPr/>
          </p:nvSpPr>
          <p:spPr>
            <a:xfrm>
              <a:off x="228600" y="38088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ampling distribution of      is used for inferences about the population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4191120" y="457200"/>
                  <a:ext cx="3808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" name=""/>
          <p:cNvSpPr/>
          <p:nvPr/>
        </p:nvSpPr>
        <p:spPr>
          <a:xfrm>
            <a:off x="76320" y="1295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xample 8.1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lectric firm manufactures light bulbs that have a length of life that is approximately normally distributed with mean equal to 800 hours and a standard deviation of 40 hours. Find the probability that a random sample of 16 bulbs will have an average life of less than 775 hour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6320" y="3581280"/>
            <a:ext cx="3200400" cy="2998800"/>
            <a:chOff x="76320" y="3581280"/>
            <a:chExt cx="3200400" cy="2998800"/>
          </a:xfrm>
        </p:grpSpPr>
        <p:sp>
          <p:nvSpPr>
            <p:cNvPr id="107" name=""/>
            <p:cNvSpPr/>
            <p:nvPr/>
          </p:nvSpPr>
          <p:spPr>
            <a:xfrm>
              <a:off x="76320" y="3581280"/>
              <a:ext cx="3200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= the length of lif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00  ,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~N(800, 4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152280" y="5411880"/>
                  <a:ext cx="1640160" cy="45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80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52280" y="5791320"/>
                  <a:ext cx="2590920" cy="78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029200" y="3160800"/>
            <a:ext cx="38098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52280" y="228600"/>
            <a:ext cx="5105520" cy="4800600"/>
            <a:chOff x="152280" y="228600"/>
            <a:chExt cx="5105520" cy="4800600"/>
          </a:xfrm>
        </p:grpSpPr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609480" y="228600"/>
                  <a:ext cx="34290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N</m:t>
                      </m:r>
                      <m:r>
                        <m:t xml:space="preserve">(</m:t>
                      </m:r>
                      <m:r>
                        <m:t xml:space="preserve">μ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80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152280" y="1114560"/>
                  <a:ext cx="5105520" cy="94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0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914400" y="2133720"/>
                  <a:ext cx="3429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  <m:r>
                            <m:t xml:space="preserve">&lt;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7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914400" y="3084480"/>
                  <a:ext cx="27432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&lt;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775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914400" y="4089240"/>
                  <a:ext cx="217980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Z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</m:d>
                        </m:e>
                        <m:e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6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52280" y="372960"/>
            <a:ext cx="8839440" cy="5797440"/>
            <a:chOff x="152280" y="372960"/>
            <a:chExt cx="8839440" cy="5797440"/>
          </a:xfrm>
        </p:grpSpPr>
        <p:sp>
          <p:nvSpPr>
            <p:cNvPr id="118" name=""/>
            <p:cNvSpPr/>
            <p:nvPr/>
          </p:nvSpPr>
          <p:spPr>
            <a:xfrm>
              <a:off x="152280" y="372960"/>
              <a:ext cx="883944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ampling Distribution of the Difference between Two Mea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we have two popula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1-st popula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2-nd population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are interested in compar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or equivalently, making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1-st population and another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2-nd pop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be the sample mean of the 1-st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      be the sample mean of the 2-nd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sampling distribution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sed to make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1117440" y="3726000"/>
                  <a:ext cx="4064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1066680" y="4183200"/>
                  <a:ext cx="457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4543560" y="4564080"/>
                  <a:ext cx="101916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8T18:33:06Z</dcterms:created>
  <dc:creator> </dc:creator>
  <dc:description/>
  <dc:language>en-US</dc:language>
  <cp:lastModifiedBy> </cp:lastModifiedBy>
  <dcterms:modified xsi:type="dcterms:W3CDTF">2004-07-18T21:49:23Z</dcterms:modified>
  <cp:revision>1</cp:revision>
  <dc:subject/>
  <dc:title>عرض تقديمي من PowerPoint</dc:title>
</cp:coreProperties>
</file>