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37D5-E9DD-49FE-A2ED-035872C68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2656-DF31-4126-8EC5-BE97DF694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8A49-212F-4B18-938E-343EDB3E3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6FD5-80E1-49B1-8439-64EB1B5FA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FD35-36EB-43A9-A4B1-35D717EAF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9769-9803-44D3-8BD5-7B7D3C541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26FD-AE75-488F-BD9A-DFE1C7EDA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1EE8-2ACA-42E4-882A-CF8B38071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4EEC-FFA1-4DBF-9A56-79A78A315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BA0F-CB8C-4383-93C3-EEC5BFBBA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73A7-AEC8-4EC4-A09B-2D3EEE646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35F4-3EBB-4904-897A-D9A2CA775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1C1EA-3EF9-4DDE-921D-53A1231E97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89154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6600"/>
                </a:solidFill>
                <a:uFillTx/>
                <a:latin typeface="Arial"/>
                <a:ea typeface="Arial"/>
              </a:rPr>
              <a:t>6.4 Application of the Normal Distribu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Example 6.7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ing assig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Example 6.8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ing assig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320" y="1981080"/>
            <a:ext cx="8991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Example 6.9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 an industrial process, the diameter of a ball bearing is an important component part. The buyer sets specifications on the diameter to be 3.00±0.01 cm.  The implication is that no part falling outside these specifications will be accepted. It is known that, in the process, the diameter of a ball bearing has a normal distribution with mean 3.00 cm and standard deviation 0.005 cm. On the average, how many manufactured ball bearings will be scrapp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838080" y="380880"/>
                <a:ext cx="3962520" cy="156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[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t xml:space="preserve">8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×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 </m:t>
                        </m:r>
                        <m:r>
                          <m:t xml:space="preserve">×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t xml:space="preserve">8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]</m:t>
                        </m:r>
                      </m:e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373</m:t>
                        </m:r>
                      </m:e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627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123120" y="152280"/>
            <a:ext cx="7107120" cy="5715000"/>
            <a:chOff x="123120" y="152280"/>
            <a:chExt cx="7107120" cy="5715000"/>
          </a:xfrm>
        </p:grpSpPr>
        <p:sp>
          <p:nvSpPr>
            <p:cNvPr id="44" name=""/>
            <p:cNvSpPr/>
            <p:nvPr/>
          </p:nvSpPr>
          <p:spPr>
            <a:xfrm>
              <a:off x="123120" y="152280"/>
              <a:ext cx="7107120" cy="394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Solu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3.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0.00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X=diamet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X~N(3.00, 0.005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specification limits ar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3.00±0.0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Lower limit=3.00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0.01=2.9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Upper limit=3.00+0.01=3.0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(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&lt;X&lt; 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=P(2.99&lt;X&lt;3.01)=P(X&lt;3.01)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(X&lt;2.99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" name=""/>
            <p:cNvGrpSpPr/>
            <p:nvPr/>
          </p:nvGrpSpPr>
          <p:grpSpPr>
            <a:xfrm>
              <a:off x="1752480" y="4022640"/>
              <a:ext cx="5181840" cy="1844640"/>
              <a:chOff x="1752480" y="4022640"/>
              <a:chExt cx="5181840" cy="1844640"/>
            </a:xfrm>
          </p:grpSpPr>
          <mc:AlternateContent>
            <mc:Choice xmlns:a14="http://schemas.microsoft.com/office/drawing/2010/main" Requires="a14">
              <p:sp>
                <p:nvSpPr>
                  <p:cNvPr id="46" name=""/>
                  <p:cNvSpPr txBox="1"/>
                  <p:nvPr/>
                </p:nvSpPr>
                <p:spPr>
                  <a:xfrm>
                    <a:off x="1752480" y="4022640"/>
                    <a:ext cx="4478400" cy="8542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=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≤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μ</m:t>
                                </m:r>
                              </m:num>
                              <m:den>
                                <m:r>
                                  <m:t xml:space="preserve">σ</m:t>
                                </m:r>
                              </m:den>
                            </m:f>
                          </m:e>
                        </m:d>
                        <m:r>
                          <m:t xml:space="preserve">−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≤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99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μ</m:t>
                                </m:r>
                              </m:num>
                              <m:den>
                                <m:r>
                                  <m:t xml:space="preserve">σ</m:t>
                                </m:r>
                              </m:den>
                            </m:f>
                          </m:e>
                        </m:d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47" name=""/>
                  <p:cNvSpPr txBox="1"/>
                  <p:nvPr/>
                </p:nvSpPr>
                <p:spPr>
                  <a:xfrm>
                    <a:off x="1752480" y="5013360"/>
                    <a:ext cx="5181840" cy="8539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=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≤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0</m:t>
                                </m:r>
                              </m:num>
                              <m:den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05</m:t>
                                </m:r>
                              </m:den>
                            </m:f>
                          </m:e>
                        </m:d>
                        <m:r>
                          <m:t xml:space="preserve">−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≤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99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0</m:t>
                                </m:r>
                              </m:num>
                              <m:den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05</m:t>
                                </m:r>
                              </m:den>
                            </m:f>
                          </m:e>
                        </m:d>
                      </m:oMath>
                    </a14:m>
                  </a:p>
                </p:txBody>
              </p:sp>
            </mc:Choice>
            <mc:Fallback/>
          </mc:AlternateContent>
        </p:grpSp>
      </p:grp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724280" y="507960"/>
            <a:ext cx="388620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6320" y="152280"/>
            <a:ext cx="9067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 P(Z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00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(Z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  0.977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0.02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 0.95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refore, on the average, 95.44% of manufactured ball bearings will be accepted and 4.56% will be scrapped?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2133720"/>
            <a:ext cx="9067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Example 6.10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auges are use to reject all components where a certain dimension is not within the specifications 1.50±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 It is known that this measurement is normally distributed with mean 1.50 and standard deviation 0.20. Determine the valu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uch that the specifications cover 95% of the measurem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6320" y="4559400"/>
            <a:ext cx="4419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1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0.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=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~N(1.5, 0.2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76320" y="152280"/>
            <a:ext cx="6248160" cy="6324840"/>
            <a:chOff x="76320" y="152280"/>
            <a:chExt cx="6248160" cy="6324840"/>
          </a:xfrm>
        </p:grpSpPr>
        <p:sp>
          <p:nvSpPr>
            <p:cNvPr id="53" name=""/>
            <p:cNvSpPr/>
            <p:nvPr/>
          </p:nvSpPr>
          <p:spPr>
            <a:xfrm>
              <a:off x="76320" y="152280"/>
              <a:ext cx="6248160" cy="315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specification limits ar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.5±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Lower limit=1.5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Upper limit=1.5+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(X&gt; 1.5+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= 0.025 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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P(X&lt; 1.5+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= 0.97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(X&lt; 1.5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= 0.02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(X&lt; 1.5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= 0.02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304920" y="2743200"/>
              <a:ext cx="4922280" cy="3733920"/>
              <a:chOff x="304920" y="2743200"/>
              <a:chExt cx="4922280" cy="3733920"/>
            </a:xfrm>
          </p:grpSpPr>
          <mc:AlternateContent>
            <mc:Choice xmlns:a14="http://schemas.microsoft.com/office/drawing/2010/main" Requires="a14">
              <p:sp>
                <p:nvSpPr>
                  <p:cNvPr id="55" name=""/>
                  <p:cNvSpPr txBox="1"/>
                  <p:nvPr/>
                </p:nvSpPr>
                <p:spPr>
                  <a:xfrm>
                    <a:off x="328320" y="2743200"/>
                    <a:ext cx="4898880" cy="9558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⇔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μ</m:t>
                                </m:r>
                              </m:num>
                              <m:den>
                                <m:r>
                                  <m:t xml:space="preserve">σ</m:t>
                                </m:r>
                              </m:den>
                            </m:f>
                            <m:r>
                              <m:t xml:space="preserve">≤</m:t>
                            </m:r>
                            <m:f>
                              <m:num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5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d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μ</m:t>
                                </m:r>
                              </m:num>
                              <m:den>
                                <m:r>
                                  <m:t xml:space="preserve">σ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5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56" name=""/>
                  <p:cNvSpPr txBox="1"/>
                  <p:nvPr/>
                </p:nvSpPr>
                <p:spPr>
                  <a:xfrm>
                    <a:off x="328320" y="3657600"/>
                    <a:ext cx="4309920" cy="9558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⇔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≤</m:t>
                            </m:r>
                            <m:f>
                              <m:num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5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d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μ</m:t>
                                </m:r>
                              </m:num>
                              <m:den>
                                <m:r>
                                  <m:t xml:space="preserve">σ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5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57" name=""/>
                  <p:cNvSpPr txBox="1"/>
                  <p:nvPr/>
                </p:nvSpPr>
                <p:spPr>
                  <a:xfrm>
                    <a:off x="315720" y="4572000"/>
                    <a:ext cx="4508280" cy="9558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⇔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≤</m:t>
                            </m:r>
                            <m:f>
                              <m:num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5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d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5</m:t>
                                </m:r>
                              </m:num>
                              <m:den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0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5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58" name=""/>
                  <p:cNvSpPr txBox="1"/>
                  <p:nvPr/>
                </p:nvSpPr>
                <p:spPr>
                  <a:xfrm>
                    <a:off x="304920" y="5516640"/>
                    <a:ext cx="3322440" cy="960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⇔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≤</m:t>
                            </m:r>
                            <m:f>
                              <m:num>
                                <m:r>
                                  <m:t xml:space="preserve">−</m:t>
                                </m:r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0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5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</p:grpSp>
      <p:graphicFrame>
        <p:nvGraphicFramePr>
          <p:cNvPr id="59" name=""/>
          <p:cNvGraphicFramePr/>
          <p:nvPr/>
        </p:nvGraphicFramePr>
        <p:xfrm>
          <a:off x="5410080" y="2185920"/>
          <a:ext cx="3657600" cy="1928520"/>
        </p:xfrm>
        <a:graphic>
          <a:graphicData uri="http://schemas.openxmlformats.org/drawingml/2006/table">
            <a:tbl>
              <a:tblPr/>
              <a:tblGrid>
                <a:gridCol w="914400"/>
                <a:gridCol w="914400"/>
                <a:gridCol w="914400"/>
                <a:gridCol w="914400"/>
              </a:tblGrid>
              <a:tr h="513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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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3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.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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60" name=""/>
          <p:cNvGrpSpPr/>
          <p:nvPr/>
        </p:nvGrpSpPr>
        <p:grpSpPr>
          <a:xfrm>
            <a:off x="5410080" y="4111560"/>
            <a:ext cx="3657600" cy="2365560"/>
            <a:chOff x="5410080" y="4111560"/>
            <a:chExt cx="3657600" cy="2365560"/>
          </a:xfrm>
        </p:grpSpPr>
        <p:grpSp>
          <p:nvGrpSpPr>
            <p:cNvPr id="61" name=""/>
            <p:cNvGrpSpPr/>
            <p:nvPr/>
          </p:nvGrpSpPr>
          <p:grpSpPr>
            <a:xfrm>
              <a:off x="5638680" y="4111560"/>
              <a:ext cx="2971800" cy="2289240"/>
              <a:chOff x="5638680" y="4111560"/>
              <a:chExt cx="2971800" cy="2289240"/>
            </a:xfrm>
          </p:grpSpPr>
          <mc:AlternateContent>
            <mc:Choice xmlns:a14="http://schemas.microsoft.com/office/drawing/2010/main" Requires="a14">
              <p:sp>
                <p:nvSpPr>
                  <p:cNvPr id="62" name=""/>
                  <p:cNvSpPr txBox="1"/>
                  <p:nvPr/>
                </p:nvSpPr>
                <p:spPr>
                  <a:xfrm>
                    <a:off x="5638680" y="4111560"/>
                    <a:ext cx="2362320" cy="22892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Z</m:t>
                            </m:r>
                            <m:r>
                              <m:t xml:space="preserve">≤</m:t>
                            </m:r>
                            <m:f>
                              <m:num>
                                <m:r>
                                  <m:t xml:space="preserve">−</m:t>
                                </m:r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0</m:t>
                                </m:r>
                              </m:den>
                            </m:f>
                            <m:r>
                              <m:t xml:space="preserve">)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25</m:t>
                            </m:r>
                          </m:e>
                          <m:e>
                            <m:f>
                              <m:num>
                                <m:r>
                                  <m:t xml:space="preserve">−</m:t>
                                </m:r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0</m:t>
                                </m:r>
                              </m:den>
                            </m:f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6</m:t>
                            </m:r>
                          </m:e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ote</m:t>
                            </m:r>
                            <m:r>
                              <m:t xml:space="preserve">:</m:t>
                            </m:r>
                            <m:f>
                              <m:num>
                                <m:r>
                                  <m:t xml:space="preserve">−</m:t>
                                </m:r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0</m:t>
                                </m:r>
                              </m:den>
                            </m:f>
                            <m:r>
                              <m:t xml:space="preserve">=</m:t>
                            </m:r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63" name=""/>
              <p:cNvSpPr/>
              <p:nvPr/>
            </p:nvSpPr>
            <p:spPr>
              <a:xfrm>
                <a:off x="7315200" y="5791320"/>
                <a:ext cx="1295280" cy="52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Z</a:t>
                </a:r>
                <a:r>
                  <a:rPr b="0" lang="en-US" sz="2400" spc="-1" strike="noStrike" baseline="-30000">
                    <a:solidFill>
                      <a:srgbClr val="000000"/>
                    </a:solidFill>
                    <a:latin typeface="Times New Roman"/>
                  </a:rPr>
                  <a:t>0.02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" name=""/>
            <p:cNvSpPr/>
            <p:nvPr/>
          </p:nvSpPr>
          <p:spPr>
            <a:xfrm>
              <a:off x="5410080" y="4114800"/>
              <a:ext cx="3657600" cy="23623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492120" y="76320"/>
                <a:ext cx="3241800" cy="193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⇔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d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6</m:t>
                        </m:r>
                      </m:e>
                      <m:e>
                        <m:r>
                          <m:t xml:space="preserve">⇔</m:t>
                        </m:r>
                        <m:r>
                          <m:t xml:space="preserve">−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6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⇔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9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6" name=""/>
          <p:cNvSpPr/>
          <p:nvPr/>
        </p:nvSpPr>
        <p:spPr>
          <a:xfrm>
            <a:off x="76320" y="2057400"/>
            <a:ext cx="7238880" cy="20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specification limits 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Lower limit=1.5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 = 1.5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0.392 = 1.1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Upper limit=1.5+d=1.5+0.392= 1.89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refore, 95% of the measurements fall within the specifications (1.108, 1.892)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2280" y="4025880"/>
            <a:ext cx="6400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Example 6.11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ing assig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Example 6.12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ing assig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Example 6.13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ing assig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Example 6.14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ing assig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52280" y="152280"/>
            <a:ext cx="7315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Arial"/>
              </a:rPr>
              <a:t>TAB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eas Under The Standard Normal Cur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Z~Normal(0,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629400" y="228600"/>
            <a:ext cx="2286000" cy="172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562720" y="895320"/>
            <a:ext cx="3276360" cy="2424240"/>
          </a:xfrm>
          <a:prstGeom prst="rect">
            <a:avLst/>
          </a:prstGeom>
          <a:ln w="0">
            <a:noFill/>
          </a:ln>
        </p:spPr>
      </p:pic>
      <p:grpSp>
        <p:nvGrpSpPr>
          <p:cNvPr id="71" name=""/>
          <p:cNvGrpSpPr/>
          <p:nvPr/>
        </p:nvGrpSpPr>
        <p:grpSpPr>
          <a:xfrm>
            <a:off x="76320" y="152280"/>
            <a:ext cx="5257800" cy="4345920"/>
            <a:chOff x="76320" y="152280"/>
            <a:chExt cx="5257800" cy="4345920"/>
          </a:xfrm>
        </p:grpSpPr>
        <p:sp>
          <p:nvSpPr>
            <p:cNvPr id="72" name=""/>
            <p:cNvSpPr/>
            <p:nvPr/>
          </p:nvSpPr>
          <p:spPr>
            <a:xfrm>
              <a:off x="76320" y="152280"/>
              <a:ext cx="5257800" cy="259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 u="sng">
                  <a:solidFill>
                    <a:srgbClr val="006600"/>
                  </a:solidFill>
                  <a:uFillTx/>
                  <a:latin typeface="Arial"/>
                  <a:ea typeface="Arial"/>
                </a:rPr>
                <a:t>6.6 Exponential Distribution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Defini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continuous random variable X has an exponential distribution with parameter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if its probability density function is given by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3" name=""/>
                <p:cNvSpPr txBox="1"/>
                <p:nvPr/>
              </p:nvSpPr>
              <p:spPr>
                <a:xfrm>
                  <a:off x="1752480" y="2590920"/>
                  <a:ext cx="3276720" cy="1411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β</m:t>
                                  </m:r>
                                </m:den>
                              </m:f>
                              <m:r>
                                <m:t xml:space="preserve"> </m:t>
                              </m:r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f>
                                    <m:fPr>
                                      <m:type m:val="lin"/>
                                    </m:fPr>
                                    <m:num>
                                      <m:r>
                                        <m:t xml:space="preserve">−</m:t>
                                      </m:r>
                                      <m:r>
                                        <m:t xml:space="preserve">x</m:t>
                                      </m:r>
                                    </m:num>
                                    <m:den>
                                      <m:r>
                                        <m:t xml:space="preserve">β</m:t>
                                      </m:r>
                                    </m:den>
                                  </m:f>
                                </m:sup>
                              </m:sSup>
                              <m:r>
                                <m:t xml:space="preserve"> </m:t>
                              </m:r>
                              <m:r>
                                <m:t xml:space="preserve">;</m:t>
                              </m:r>
                              <m:r>
                                <m:t xml:space="preserve"> </m:t>
                              </m:r>
                              <m:r>
                                <m:t xml:space="preserve">x</m:t>
                              </m:r>
                              <m:r>
                                <m:t xml:space="preserve">&gt;</m:t>
                              </m:r>
                              <m:r>
                                <m:t xml:space="preserve">0</m:t>
                              </m:r>
                            </m:e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74" name=""/>
            <p:cNvSpPr/>
            <p:nvPr/>
          </p:nvSpPr>
          <p:spPr>
            <a:xfrm>
              <a:off x="76320" y="4038480"/>
              <a:ext cx="403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nd we write X~Exp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76320" y="4422600"/>
            <a:ext cx="8915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Theore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the random variable X has an exponential distribution with paramete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i.e., X~Exp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, then the mean and the variance of X 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(X)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ar(X)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76320" y="152280"/>
            <a:ext cx="8839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xample 6.17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ppose that a system contains a certain type of component whose time in years to failure is given by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 The random variabl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s modeled nicely by the exponential distribution with mean time to failur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5. If 5 of these components are installed in different systems, what is the probability that at least 2 are still functioning at the end of 8 year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76320" y="2895480"/>
            <a:ext cx="8915400" cy="3737160"/>
            <a:chOff x="76320" y="2895480"/>
            <a:chExt cx="8915400" cy="3737160"/>
          </a:xfrm>
        </p:grpSpPr>
        <p:sp>
          <p:nvSpPr>
            <p:cNvPr id="78" name=""/>
            <p:cNvSpPr/>
            <p:nvPr/>
          </p:nvSpPr>
          <p:spPr>
            <a:xfrm>
              <a:off x="76320" y="2895480"/>
              <a:ext cx="82296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Solu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~Exp(5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pdf of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s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9" name=""/>
                <p:cNvSpPr txBox="1"/>
                <p:nvPr/>
              </p:nvSpPr>
              <p:spPr>
                <a:xfrm>
                  <a:off x="1371600" y="4343400"/>
                  <a:ext cx="2895480" cy="1353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5</m:t>
                                  </m:r>
                                </m:den>
                              </m:f>
                              <m:r>
                                <m:t xml:space="preserve"> </m:t>
                              </m:r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f>
                                    <m:fPr>
                                      <m:type m:val="lin"/>
                                    </m:fPr>
                                    <m:num>
                                      <m:r>
                                        <m:t xml:space="preserve">−</m:t>
                                      </m:r>
                                      <m:r>
                                        <m:t xml:space="preserve">t</m:t>
                                      </m:r>
                                    </m:num>
                                    <m:den>
                                      <m:r>
                                        <m:t xml:space="preserve">5</m:t>
                                      </m:r>
                                    </m:den>
                                  </m:f>
                                </m:sup>
                              </m:sSup>
                              <m:r>
                                <m:t xml:space="preserve"> </m:t>
                              </m:r>
                              <m:r>
                                <m:t xml:space="preserve">;</m:t>
                              </m:r>
                              <m:r>
                                <m:t xml:space="preserve"> </m:t>
                              </m:r>
                              <m:r>
                                <m:t xml:space="preserve">t</m:t>
                              </m:r>
                              <m:r>
                                <m:t xml:space="preserve">&gt;</m:t>
                              </m:r>
                              <m:r>
                                <m:t xml:space="preserve">0</m:t>
                              </m:r>
                            </m:e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80" name=""/>
            <p:cNvSpPr/>
            <p:nvPr/>
          </p:nvSpPr>
          <p:spPr>
            <a:xfrm>
              <a:off x="76320" y="5807160"/>
              <a:ext cx="8915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probability that a given component is still functioning after 8 years is given by: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76320" y="291960"/>
            <a:ext cx="8762760" cy="4121280"/>
            <a:chOff x="76320" y="291960"/>
            <a:chExt cx="8762760" cy="4121280"/>
          </a:xfrm>
        </p:grpSpPr>
        <mc:AlternateContent>
          <mc:Choice xmlns:a14="http://schemas.microsoft.com/office/drawing/2010/main" Requires="a14">
            <p:sp>
              <p:nvSpPr>
                <p:cNvPr id="82" name=""/>
                <p:cNvSpPr txBox="1"/>
                <p:nvPr/>
              </p:nvSpPr>
              <p:spPr>
                <a:xfrm>
                  <a:off x="1143000" y="291960"/>
                  <a:ext cx="6019920" cy="1038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&gt;</m:t>
                      </m:r>
                      <m:r>
                        <m:t xml:space="preserve">8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t xml:space="preserve">8</m:t>
                          </m:r>
                        </m:sub>
                        <m:sup>
                          <m:r>
                            <m:t xml:space="preserve">∞</m:t>
                          </m:r>
                        </m:sup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e>
                      </m:nary>
                      <m:r>
                        <m:t xml:space="preserve">=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t xml:space="preserve">8</m:t>
                          </m:r>
                        </m:sub>
                        <m:sup>
                          <m:r>
                            <m:t xml:space="preserve">∞</m:t>
                          </m:r>
                        </m:sup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5</m:t>
                              </m:r>
                            </m:den>
                          </m:f>
                          <m:r>
                            <m:t xml:space="preserve"> 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f>
                                <m:fPr>
                                  <m:type m:val="lin"/>
                                </m:fPr>
                                <m:num>
                                  <m:r>
                                    <m:t xml:space="preserve">−</m:t>
                                  </m:r>
                                  <m:r>
                                    <m:t xml:space="preserve">t</m:t>
                                  </m:r>
                                </m:num>
                                <m:den>
                                  <m:r>
                                    <m:t xml:space="preserve">5</m:t>
                                  </m:r>
                                </m:den>
                              </m:f>
                            </m:sup>
                          </m:sSup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e>
                      </m:nary>
                      <m:r>
                        <m:t xml:space="preserve">=</m:t>
                      </m:r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−</m:t>
                              </m:r>
                              <m:r>
                                <m:t xml:space="preserve">8</m:t>
                              </m:r>
                            </m:num>
                            <m:den>
                              <m:r>
                                <m:t xml:space="preserve">5</m:t>
                              </m:r>
                            </m:den>
                          </m:f>
                        </m:sup>
                      </m:sSup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83" name=""/>
            <p:cNvSpPr/>
            <p:nvPr/>
          </p:nvSpPr>
          <p:spPr>
            <a:xfrm>
              <a:off x="76320" y="1371600"/>
              <a:ext cx="87627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w define the random variabl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X= number of components functioning after 8 years out of 5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mponen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X~ Binomial(5, 0.2)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5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 P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&gt;8)= 0.2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4" name=""/>
                <p:cNvSpPr txBox="1"/>
                <p:nvPr/>
              </p:nvSpPr>
              <p:spPr>
                <a:xfrm>
                  <a:off x="380880" y="3014640"/>
                  <a:ext cx="7696440" cy="139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b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;</m:t>
                      </m:r>
                      <m:r>
                        <m:t xml:space="preserve">5,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2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m>
                                    <m:mr>
                                      <m:e>
                                        <m:r>
                                          <m:t xml:space="preserve">5</m:t>
                                        </m:r>
                                      </m:e>
                                    </m:mr>
                                    <m:m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mr>
                                  </m:m>
                                </m:e>
                              </m:d>
                              <m:r>
                                <m:t xml:space="preserve"> </m:t>
                              </m:r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sSup>
                                <m:e>
                                  <m:r>
                                    <m:t xml:space="preserve">2</m:t>
                                  </m:r>
                                </m:e>
                                <m:sup>
                                  <m:r>
                                    <m:t xml:space="preserve">x</m:t>
                                  </m:r>
                                </m:sup>
                              </m:sSup>
                              <m:r>
                                <m:t xml:space="preserve"> </m:t>
                              </m:r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sSup>
                                <m:e>
                                  <m:r>
                                    <m:t xml:space="preserve">8</m:t>
                                  </m:r>
                                </m:e>
                                <m:sup>
                                  <m:r>
                                    <m:t xml:space="preserve">5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x</m:t>
                                  </m:r>
                                </m:sup>
                              </m:sSup>
                              <m:r>
                                <m:t xml:space="preserve"> </m:t>
                              </m:r>
                              <m:r>
                                <m:t xml:space="preserve">;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</m:t>
                              </m:r>
                              <m:r>
                                <m:t xml:space="preserve"> </m:t>
                              </m:r>
                              <m:r>
                                <m:t xml:space="preserve">x</m:t>
                              </m:r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  <m:r>
                                <m:t xml:space="preserve"> </m:t>
                              </m:r>
                              <m:r>
                                <m:t xml:space="preserve">1</m:t>
                              </m:r>
                              <m:r>
                                <m:t xml:space="preserve">,</m:t>
                              </m:r>
                              <m:r>
                                <m:t xml:space="preserve"> </m:t>
                              </m:r>
                              <m:r>
                                <m:t xml:space="preserve">…</m:t>
                              </m:r>
                              <m:r>
                                <m:t xml:space="preserve">,</m:t>
                              </m:r>
                              <m:r>
                                <m:t xml:space="preserve"> </m:t>
                              </m:r>
                              <m:r>
                                <m:t xml:space="preserve">5</m:t>
                              </m:r>
                            </m:e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5" name=""/>
          <p:cNvGrpSpPr/>
          <p:nvPr/>
        </p:nvGrpSpPr>
        <p:grpSpPr>
          <a:xfrm>
            <a:off x="76320" y="4435560"/>
            <a:ext cx="8915400" cy="2270160"/>
            <a:chOff x="76320" y="4435560"/>
            <a:chExt cx="8915400" cy="2270160"/>
          </a:xfrm>
        </p:grpSpPr>
        <p:sp>
          <p:nvSpPr>
            <p:cNvPr id="86" name=""/>
            <p:cNvSpPr/>
            <p:nvPr/>
          </p:nvSpPr>
          <p:spPr>
            <a:xfrm>
              <a:off x="76320" y="4435560"/>
              <a:ext cx="89154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probability that at least 2 are still functioning at the end of 8 years is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(X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)=1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P(X&lt;2)=1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[P(X=0)+P(X=1)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7" name=""/>
                <p:cNvSpPr txBox="1"/>
                <p:nvPr/>
              </p:nvSpPr>
              <p:spPr>
                <a:xfrm>
                  <a:off x="838080" y="5694480"/>
                  <a:ext cx="5105520" cy="1011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−</m:t>
                      </m:r>
                      <m:r>
                        <m:t xml:space="preserve">[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m>
                            <m:mr>
                              <m:e>
                                <m:r>
                                  <m:t xml:space="preserve">5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0</m:t>
                                </m:r>
                              </m:e>
                            </m:mr>
                          </m:m>
                        </m:e>
                      </m:d>
                      <m:r>
                        <m:t xml:space="preserve"> 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r>
                            <m:t xml:space="preserve">0</m:t>
                          </m:r>
                        </m:sup>
                      </m:sSup>
                      <m:r>
                        <m:t xml:space="preserve"> 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sSup>
                        <m:e>
                          <m:r>
                            <m:t xml:space="preserve">8</m:t>
                          </m:r>
                        </m:e>
                        <m:sup>
                          <m:r>
                            <m:t xml:space="preserve">5</m:t>
                          </m:r>
                          <m:r>
                            <m:t xml:space="preserve">−</m:t>
                          </m:r>
                          <m:r>
                            <m:t xml:space="preserve">0</m:t>
                          </m:r>
                        </m:sup>
                      </m:sSup>
                      <m:r>
                        <m:t xml:space="preserve">+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m>
                            <m:mr>
                              <m:e>
                                <m:r>
                                  <m:t xml:space="preserve">5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1</m:t>
                                </m:r>
                              </m:e>
                            </m:mr>
                          </m:m>
                        </m:e>
                      </m:d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r>
                            <m:t xml:space="preserve">1</m:t>
                          </m:r>
                        </m:sup>
                      </m:sSup>
                      <m:r>
                        <m:t xml:space="preserve"> 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sSup>
                        <m:e>
                          <m:r>
                            <m:t xml:space="preserve">8</m:t>
                          </m:r>
                        </m:e>
                        <m:sup>
                          <m:r>
                            <m:t xml:space="preserve">5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p>
                      </m:sSup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6T12:02:23Z</dcterms:created>
  <dc:creator> </dc:creator>
  <dc:description/>
  <dc:language>en-US</dc:language>
  <cp:lastModifiedBy> </cp:lastModifiedBy>
  <dcterms:modified xsi:type="dcterms:W3CDTF">2004-07-16T12:32:56Z</dcterms:modified>
  <cp:revision>2</cp:revision>
  <dc:subject/>
  <dc:title>عرض تقديمي من PowerPoint</dc:title>
</cp:coreProperties>
</file>