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9CC-4D51-4C4A-B8EB-920D9CFF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E80-46F6-49EB-AF29-BF298F32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9E2-36E3-418C-BAE0-A81F1940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57E7-C46B-473F-84E6-164BC16C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0B81-C857-4202-B765-C10534EF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537-F36A-4AB2-ABA9-33ED5C8E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D0D-E46F-4209-8196-D2B18432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079D-F255-4E92-AE04-56F21476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9A1-3557-4B1A-B293-DA055F25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E00-14C8-484C-86A3-41E60075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705-8BBE-408F-80EE-6742B197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19AE-C1CD-49BA-96D2-1AC53B13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361E-EC2B-4D4D-9F5E-78FCC02DA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8915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6.4 Application of the Normal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8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981080"/>
            <a:ext cx="899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n industrial process, the diameter of a ball bearing is an important component part. The buyer sets specifications on the diameter to be 3.00±0.01 cm.  The implication is that no part falling outside these specifications will be accepted. It is known that, in the process, the diameter of a ball bearing has a normal distribution with mean 3.00 cm and standard deviation 0.005 cm. On the average, how many manufactured ball bearings will be scrapp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838080" y="380880"/>
                <a:ext cx="3962520" cy="15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73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2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23120" y="152280"/>
            <a:ext cx="7107120" cy="5715000"/>
            <a:chOff x="123120" y="152280"/>
            <a:chExt cx="7107120" cy="5715000"/>
          </a:xfrm>
        </p:grpSpPr>
        <p:sp>
          <p:nvSpPr>
            <p:cNvPr id="44" name=""/>
            <p:cNvSpPr/>
            <p:nvPr/>
          </p:nvSpPr>
          <p:spPr>
            <a:xfrm>
              <a:off x="123120" y="152280"/>
              <a:ext cx="7107120" cy="39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3.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=diame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~N(3.00, 0.00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pecification limits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00±0.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Lower limit=3.0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=2.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Upper limit=3.00+0.01=3.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P(2.99&lt;X&lt;3.01)=P(X&lt;3.01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lt;2.99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1752480" y="4022640"/>
              <a:ext cx="5181840" cy="1844640"/>
              <a:chOff x="1752480" y="4022640"/>
              <a:chExt cx="5181840" cy="1844640"/>
            </a:xfrm>
          </p:grpSpPr>
          <mc:AlternateContent>
            <mc:Choice xmlns:a14="http://schemas.microsoft.com/office/drawing/2010/main" Requires="a14">
              <p:sp>
                <p:nvSpPr>
                  <p:cNvPr id="46" name=""/>
                  <p:cNvSpPr txBox="1"/>
                  <p:nvPr/>
                </p:nvSpPr>
                <p:spPr>
                  <a:xfrm>
                    <a:off x="1752480" y="4022640"/>
                    <a:ext cx="4478400" cy="854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9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7" name=""/>
                  <p:cNvSpPr txBox="1"/>
                  <p:nvPr/>
                </p:nvSpPr>
                <p:spPr>
                  <a:xfrm>
                    <a:off x="1752480" y="5013360"/>
                    <a:ext cx="5181840" cy="85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5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9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5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24280" y="507960"/>
            <a:ext cx="38862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5228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0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0.977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.02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0.95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on the average, 95.44% of manufactured ball bearings will be accepted and 4.56% will be scrapped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2133720"/>
            <a:ext cx="90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uges are use to reject all components where a certain dimension is not within the specifications 1.50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It is known that this measurement is normally distributed with mean 1.50 and standard deviation 0.20. Determine the val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ch that the specifications cover 95% of the measu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4559400"/>
            <a:ext cx="441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~N(1.5, 0.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76320" y="152280"/>
            <a:ext cx="6248160" cy="6324840"/>
            <a:chOff x="76320" y="152280"/>
            <a:chExt cx="6248160" cy="6324840"/>
          </a:xfrm>
        </p:grpSpPr>
        <p:sp>
          <p:nvSpPr>
            <p:cNvPr id="53" name=""/>
            <p:cNvSpPr/>
            <p:nvPr/>
          </p:nvSpPr>
          <p:spPr>
            <a:xfrm>
              <a:off x="76320" y="152280"/>
              <a:ext cx="6248160" cy="31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pecification limits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5±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Lower limit=1.5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Upper limit=1.5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gt; 1.5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025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X&lt; 1.5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9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lt; 1.5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0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lt; 1.5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0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04920" y="2743200"/>
              <a:ext cx="4922280" cy="3733920"/>
              <a:chOff x="304920" y="2743200"/>
              <a:chExt cx="4922280" cy="3733920"/>
            </a:xfrm>
          </p:grpSpPr>
          <mc:AlternateContent>
            <mc:Choice xmlns:a14="http://schemas.microsoft.com/office/drawing/2010/main" Requires="a14">
              <p:sp>
                <p:nvSpPr>
                  <p:cNvPr id="55" name=""/>
                  <p:cNvSpPr txBox="1"/>
                  <p:nvPr/>
                </p:nvSpPr>
                <p:spPr>
                  <a:xfrm>
                    <a:off x="328320" y="2743200"/>
                    <a:ext cx="4898880" cy="95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6" name=""/>
                  <p:cNvSpPr txBox="1"/>
                  <p:nvPr/>
                </p:nvSpPr>
                <p:spPr>
                  <a:xfrm>
                    <a:off x="328320" y="3657600"/>
                    <a:ext cx="4309920" cy="95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7" name=""/>
                  <p:cNvSpPr txBox="1"/>
                  <p:nvPr/>
                </p:nvSpPr>
                <p:spPr>
                  <a:xfrm>
                    <a:off x="315720" y="4572000"/>
                    <a:ext cx="4508280" cy="95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8" name=""/>
                  <p:cNvSpPr txBox="1"/>
                  <p:nvPr/>
                </p:nvSpPr>
                <p:spPr>
                  <a:xfrm>
                    <a:off x="304920" y="5516640"/>
                    <a:ext cx="3322440" cy="96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aphicFrame>
        <p:nvGraphicFramePr>
          <p:cNvPr id="59" name=""/>
          <p:cNvGraphicFramePr/>
          <p:nvPr/>
        </p:nvGraphicFramePr>
        <p:xfrm>
          <a:off x="5410080" y="2185920"/>
          <a:ext cx="3657600" cy="1928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</a:tblGrid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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10080" y="4111560"/>
            <a:ext cx="3657600" cy="2365560"/>
            <a:chOff x="5410080" y="4111560"/>
            <a:chExt cx="3657600" cy="2365560"/>
          </a:xfrm>
        </p:grpSpPr>
        <p:grpSp>
          <p:nvGrpSpPr>
            <p:cNvPr id="61" name=""/>
            <p:cNvGrpSpPr/>
            <p:nvPr/>
          </p:nvGrpSpPr>
          <p:grpSpPr>
            <a:xfrm>
              <a:off x="5638680" y="4111560"/>
              <a:ext cx="2971800" cy="2289240"/>
              <a:chOff x="5638680" y="4111560"/>
              <a:chExt cx="2971800" cy="2289240"/>
            </a:xfrm>
          </p:grpSpPr>
          <mc:AlternateContent>
            <mc:Choice xmlns:a14="http://schemas.microsoft.com/office/drawing/2010/main" Requires="a14">
              <p:sp>
                <p:nvSpPr>
                  <p:cNvPr id="62" name=""/>
                  <p:cNvSpPr txBox="1"/>
                  <p:nvPr/>
                </p:nvSpPr>
                <p:spPr>
                  <a:xfrm>
                    <a:off x="5638680" y="4111560"/>
                    <a:ext cx="2362320" cy="2289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e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te</m:t>
                            </m:r>
                            <m:r>
                              <m:t xml:space="preserve">: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=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" name=""/>
              <p:cNvSpPr/>
              <p:nvPr/>
            </p:nvSpPr>
            <p:spPr>
              <a:xfrm>
                <a:off x="7315200" y="5791320"/>
                <a:ext cx="129528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0.0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5410080" y="4114800"/>
              <a:ext cx="365760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92120" y="76320"/>
                <a:ext cx="324180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⇔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e>
                      <m:e>
                        <m:r>
                          <m:t xml:space="preserve">⇔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⇔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76320" y="2057400"/>
            <a:ext cx="723888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ecification limit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Lower limit=1.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= 1.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.392 = 1.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Upper limit=1.5+d=1.5+0.392= 1.8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95% of the measurements fall within the specifications (1.108, 1.892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402588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3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4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1522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as Under The Standard Normal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~Normal(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2860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62720" y="895320"/>
            <a:ext cx="3276360" cy="242424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76320" y="152280"/>
            <a:ext cx="5257800" cy="4345920"/>
            <a:chOff x="76320" y="152280"/>
            <a:chExt cx="5257800" cy="4345920"/>
          </a:xfrm>
        </p:grpSpPr>
        <p:sp>
          <p:nvSpPr>
            <p:cNvPr id="72" name=""/>
            <p:cNvSpPr/>
            <p:nvPr/>
          </p:nvSpPr>
          <p:spPr>
            <a:xfrm>
              <a:off x="76320" y="152280"/>
              <a:ext cx="5257800" cy="25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6.6 Exponential Distribu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ontinuous random variable X has an exponential distribution with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f its probability density function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1752480" y="2590920"/>
                  <a:ext cx="3276720" cy="14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β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x</m:t>
                                      </m:r>
                                    </m:num>
                                    <m:den>
                                      <m:r>
                                        <m:t xml:space="preserve">β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76320" y="403848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we write X~Ex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6320" y="442260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andom variable X has an exponential distribution with parame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i.e., X~Ex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then the mean and the variance of X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X)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320" y="15228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6.1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a system contains a certain type of component whose time in years to failure is given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 random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modeled nicely by the exponential distribution with mean time to fail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. If 5 of these components are installed in different systems, what is the probability that at least 2 are still functioning at the end of 8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6320" y="2895480"/>
            <a:ext cx="8915400" cy="3737160"/>
            <a:chOff x="76320" y="2895480"/>
            <a:chExt cx="8915400" cy="3737160"/>
          </a:xfrm>
        </p:grpSpPr>
        <p:sp>
          <p:nvSpPr>
            <p:cNvPr id="78" name=""/>
            <p:cNvSpPr/>
            <p:nvPr/>
          </p:nvSpPr>
          <p:spPr>
            <a:xfrm>
              <a:off x="76320" y="2895480"/>
              <a:ext cx="8229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Exp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1371600" y="4343400"/>
                  <a:ext cx="2895480" cy="13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t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76320" y="580716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that a given component is still functioning after 8 years is given by: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76320" y="291960"/>
            <a:ext cx="8762760" cy="4121280"/>
            <a:chOff x="76320" y="291960"/>
            <a:chExt cx="8762760" cy="4121280"/>
          </a:xfrm>
        </p:grpSpPr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1143000" y="291960"/>
                  <a:ext cx="6019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8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76320" y="1371600"/>
              <a:ext cx="8762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 define the random vari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= number of components functioning after 8 years out of 5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on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~ Binomial(5, 0.2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gt;8)= 0.2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380880" y="3014640"/>
                  <a:ext cx="7696440" cy="13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5,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5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p>
                                <m:e>
                                  <m:r>
                                    <m:t xml:space="preserve">8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…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5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5" name=""/>
          <p:cNvGrpSpPr/>
          <p:nvPr/>
        </p:nvGrpSpPr>
        <p:grpSpPr>
          <a:xfrm>
            <a:off x="76320" y="4435560"/>
            <a:ext cx="8915400" cy="2270160"/>
            <a:chOff x="76320" y="4435560"/>
            <a:chExt cx="8915400" cy="2270160"/>
          </a:xfrm>
        </p:grpSpPr>
        <p:sp>
          <p:nvSpPr>
            <p:cNvPr id="86" name=""/>
            <p:cNvSpPr/>
            <p:nvPr/>
          </p:nvSpPr>
          <p:spPr>
            <a:xfrm>
              <a:off x="76320" y="4435560"/>
              <a:ext cx="8915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that at least 2 are still functioning at the end of 8 years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)=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(X&lt;2)=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[P(X=0)+P(X=1)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838080" y="5694480"/>
                  <a:ext cx="5105520" cy="101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[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</m:sup>
                      </m:sSup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12:02:23Z</dcterms:created>
  <dc:creator> </dc:creator>
  <dc:description/>
  <dc:language>en-US</dc:language>
  <cp:lastModifiedBy> </cp:lastModifiedBy>
  <dcterms:modified xsi:type="dcterms:W3CDTF">2004-07-16T12:32:56Z</dcterms:modified>
  <cp:revision>2</cp:revision>
  <dc:subject/>
  <dc:title>عرض تقديمي من PowerPoint</dc:title>
</cp:coreProperties>
</file>