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3FE-0AB7-4A7C-B5A9-33F6C854B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524-4402-47FC-A25A-5E5E97B0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C58-EB38-46B3-ACD5-B9D7297B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918-0DD5-4304-8851-48834454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C54-B613-43F5-9DF9-179E3D3B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D56-AEE6-4CB4-BDA0-224657D6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1A5-2FF5-4CD7-BE25-A50E12F9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62C4-3CE0-427F-BE81-0A5612E1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096-6AC9-4E11-95D5-E3B5A125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8DDD-BFB1-4E37-AC2A-293CF866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6C0-3A67-4809-80C1-C8C1F2FB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7A44-DC36-44C3-A9E3-CD2F1C5B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94D2-F652-4BC5-804C-55EA10224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676520"/>
            <a:ext cx="5334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ctangular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ensity function of the continuous uniform random variable X on the interval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562720" y="1828800"/>
          <a:ext cx="34290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828800"/>
                    <a:ext cx="34290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76320" y="22716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6: Some Continuous Probability Distribu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1 Continuous Uniform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57200" y="3505320"/>
                <a:ext cx="47624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≤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28600" y="51055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write X~Uniform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041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)=0.933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733920" y="81288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3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57200" y="248616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83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163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33920" y="2565360"/>
          <a:ext cx="3809880" cy="1701720"/>
        </p:xfrm>
        <a:graphic>
          <a:graphicData uri="http://schemas.openxmlformats.org/drawingml/2006/table">
            <a:tbl>
              <a:tblPr/>
              <a:tblGrid>
                <a:gridCol w="952560"/>
                <a:gridCol w="95220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836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80880" y="426708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9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.90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733920" y="4349880"/>
          <a:ext cx="3809880" cy="2127240"/>
        </p:xfrm>
        <a:graphic>
          <a:graphicData uri="http://schemas.openxmlformats.org/drawingml/2006/table">
            <a:tbl>
              <a:tblPr/>
              <a:tblGrid>
                <a:gridCol w="952200"/>
                <a:gridCol w="952560"/>
                <a:gridCol w="952560"/>
                <a:gridCol w="9525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9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2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304920" y="63244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P(Z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=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68580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Z~N(0,1).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ch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 0.02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04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724280" y="558720"/>
          <a:ext cx="4114800" cy="233676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</a:tblGrid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0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152280" y="30481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3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52280" y="3978360"/>
            <a:ext cx="6248520" cy="2090520"/>
            <a:chOff x="152280" y="3978360"/>
            <a:chExt cx="6248520" cy="2090520"/>
          </a:xfrm>
        </p:grpSpPr>
        <p:sp>
          <p:nvSpPr>
            <p:cNvPr id="143" name=""/>
            <p:cNvSpPr/>
            <p:nvPr/>
          </p:nvSpPr>
          <p:spPr>
            <a:xfrm>
              <a:off x="152280" y="3978360"/>
              <a:ext cx="472464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robabilities of X~N(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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,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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 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Resul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3200400" y="4346640"/>
                  <a:ext cx="320040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Ν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457200" y="5257800"/>
                  <a:ext cx="541008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 </m:t>
                      </m:r>
                      <m:r>
                        <m:t xml:space="preserve">Z</m:t>
                      </m:r>
                      <m:r>
                        <m:t xml:space="preserve">≤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>
              <a:off x="168120" y="44956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4080" y="541008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0880" y="320760"/>
            <a:ext cx="8305560" cy="3871440"/>
            <a:chOff x="380880" y="320760"/>
            <a:chExt cx="8305560" cy="38714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388800" y="320760"/>
                  <a:ext cx="3657600" cy="97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380880" y="1316160"/>
                  <a:ext cx="6103800" cy="98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≥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0880" y="2308320"/>
                  <a:ext cx="83055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b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≤</m:t>
                          </m:r>
                          <m:r>
                            <m:t xml:space="preserve">a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b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  <m:r>
                        <m:t xml:space="preserve">−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≤</m:t>
                          </m:r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</m:num>
                            <m:den>
                              <m:r>
                                <m:t xml:space="preserve">σ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456840" y="3245040"/>
              <a:ext cx="480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4) P(X=a)=0 for every 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5)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P(X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=0.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460368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12708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hemoglobin level for healthy adults mal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6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1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d the probability that a randomly chosen healthy adult male has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at is the percentage of healthy adult males who have hemoglobin level less than 1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52280" y="3171960"/>
            <a:ext cx="8534520" cy="2606400"/>
            <a:chOff x="152280" y="3171960"/>
            <a:chExt cx="8534520" cy="2606400"/>
          </a:xfrm>
        </p:grpSpPr>
        <p:grpSp>
          <p:nvGrpSpPr>
            <p:cNvPr id="156" name=""/>
            <p:cNvGrpSpPr/>
            <p:nvPr/>
          </p:nvGrpSpPr>
          <p:grpSpPr>
            <a:xfrm>
              <a:off x="152280" y="3171960"/>
              <a:ext cx="8534520" cy="2606400"/>
              <a:chOff x="152280" y="3171960"/>
              <a:chExt cx="8534520" cy="2606400"/>
            </a:xfrm>
          </p:grpSpPr>
          <p:sp>
            <p:nvSpPr>
              <p:cNvPr id="157" name=""/>
              <p:cNvSpPr/>
              <p:nvPr/>
            </p:nvSpPr>
            <p:spPr>
              <a:xfrm>
                <a:off x="152280" y="3171960"/>
                <a:ext cx="85345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 the hemoglobin level for a healthy adult ma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~ N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= N(16, 0.9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9320" y="4343400"/>
                <a:ext cx="5790960" cy="91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2438280" y="5257800"/>
                <a:ext cx="411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2.22)=0.013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85800" y="4495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320" y="152280"/>
            <a:ext cx="5105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percentage of healthy adult males who have hemoglobin level less than 14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= 0.013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  =1.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1.32% of healthy adult males have hemoglobin level less than 1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228600"/>
            <a:ext cx="3504960" cy="2690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320" y="3371760"/>
            <a:ext cx="90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birth weight of Saudi babies has a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4 and 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Find the probability that a randomly chosen Saudi baby has a birth weight between 3.0 and 4.0 k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What is the percentage of Saudi babies who have a birth weight between 3.0 and 4.0 k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743200" cy="2379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76320" y="76320"/>
            <a:ext cx="6400800" cy="5320080"/>
            <a:chOff x="76320" y="76320"/>
            <a:chExt cx="6400800" cy="5320080"/>
          </a:xfrm>
        </p:grpSpPr>
        <p:sp>
          <p:nvSpPr>
            <p:cNvPr id="166" name=""/>
            <p:cNvSpPr/>
            <p:nvPr/>
          </p:nvSpPr>
          <p:spPr>
            <a:xfrm>
              <a:off x="76320" y="76320"/>
              <a:ext cx="6400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birth weight of a Saudi bab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3.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35 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= 0.3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122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3.4,0.35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P(3.0&lt;X&lt;4.0)=P(X&lt;4.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&lt;3.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09480" y="1981080"/>
              <a:ext cx="5334120" cy="3415320"/>
              <a:chOff x="609480" y="1981080"/>
              <a:chExt cx="5334120" cy="3415320"/>
            </a:xfrm>
          </p:grpSpPr>
          <mc:AlternateContent>
            <mc:Choice xmlns:a14="http://schemas.microsoft.com/office/drawing/2010/main" Requires="a14">
              <p:sp>
                <p:nvSpPr>
                  <p:cNvPr id="168" name=""/>
                  <p:cNvSpPr txBox="1"/>
                  <p:nvPr/>
                </p:nvSpPr>
                <p:spPr>
                  <a:xfrm>
                    <a:off x="684360" y="1981080"/>
                    <a:ext cx="4954320" cy="100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</m:num>
                              <m:den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685800" y="3048120"/>
                    <a:ext cx="525780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≤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0" name=""/>
              <p:cNvSpPr/>
              <p:nvPr/>
            </p:nvSpPr>
            <p:spPr>
              <a:xfrm>
                <a:off x="609480" y="4022640"/>
                <a:ext cx="449604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P(Z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71)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P(Z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1.14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 0.9564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0.127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= 0.829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76320" y="536580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percentage of Saudi babies who have a birth weight between 3.0 and 4.0 kg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3.0&lt;X&lt;4.0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0.829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%= 82.9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10080" y="399960"/>
            <a:ext cx="3200400" cy="26481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152280"/>
            <a:ext cx="259092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ult: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362320"/>
            <a:ext cx="43434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9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~ N(0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0.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57800" y="3336840"/>
          <a:ext cx="3733920" cy="1870200"/>
        </p:xfrm>
        <a:graphic>
          <a:graphicData uri="http://schemas.openxmlformats.org/drawingml/2006/table">
            <a:tbl>
              <a:tblPr/>
              <a:tblGrid>
                <a:gridCol w="933120"/>
                <a:gridCol w="933480"/>
                <a:gridCol w="933840"/>
                <a:gridCol w="933480"/>
              </a:tblGrid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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1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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9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5410080" y="5273640"/>
            <a:ext cx="31244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.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 1.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152280"/>
            <a:ext cx="8762760" cy="2907000"/>
            <a:chOff x="76320" y="152280"/>
            <a:chExt cx="8762760" cy="2907000"/>
          </a:xfrm>
        </p:grpSpPr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591000" y="2209680"/>
                  <a:ext cx="1438200" cy="84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3124080" y="2362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320" y="152280"/>
              <a:ext cx="876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6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continuous uniform distribution on the interval [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]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3352680" y="1366920"/>
                  <a:ext cx="138744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"/>
          <p:cNvSpPr/>
          <p:nvPr/>
        </p:nvSpPr>
        <p:spPr>
          <a:xfrm>
            <a:off x="533520" y="3048120"/>
            <a:ext cx="82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6.1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, for a certain company, the conference time, X, has a uniform distribution on the interval [0,4]  (hou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What is the probability density function of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 What is the probability that any conference lasts at least 3 ho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6320" y="76320"/>
            <a:ext cx="5867280" cy="2286000"/>
            <a:chOff x="76320" y="76320"/>
            <a:chExt cx="5867280" cy="2286000"/>
          </a:xfrm>
        </p:grpSpPr>
        <p:sp>
          <p:nvSpPr>
            <p:cNvPr id="54" name=""/>
            <p:cNvSpPr/>
            <p:nvPr/>
          </p:nvSpPr>
          <p:spPr>
            <a:xfrm>
              <a:off x="76320" y="76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295280" y="76320"/>
                  <a:ext cx="449604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0,4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1295280" y="1344600"/>
                  <a:ext cx="4648320" cy="101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4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733560" cy="26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0" y="2239920"/>
            <a:ext cx="9144000" cy="4377960"/>
            <a:chOff x="0" y="2239920"/>
            <a:chExt cx="9144000" cy="4377960"/>
          </a:xfrm>
        </p:grpSpPr>
        <p:sp>
          <p:nvSpPr>
            <p:cNvPr id="59" name=""/>
            <p:cNvSpPr/>
            <p:nvPr/>
          </p:nvSpPr>
          <p:spPr>
            <a:xfrm>
              <a:off x="76320" y="2239920"/>
              <a:ext cx="90676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6.2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1" lang="en-US" sz="28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Normal  Distribution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normal distribution is one of the most important continuous distributions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20" y="3505320"/>
              <a:ext cx="51814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y measurable characteristics are normally or approximately normally distributed, such as, height and weigh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5060880"/>
              <a:ext cx="525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graph of the probability density function (pdf) of a normal distribution, called the normal curve, is a bell-shaped curv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6320" y="152280"/>
            <a:ext cx="8915400" cy="3595680"/>
            <a:chOff x="76320" y="152280"/>
            <a:chExt cx="8915400" cy="3595680"/>
          </a:xfrm>
        </p:grpSpPr>
        <p:sp>
          <p:nvSpPr>
            <p:cNvPr id="63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the normal distribution depends on two parameters: mean = E(X)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and  variance =Var(X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random variable X has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wri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X ~ Normal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833400" y="2438280"/>
                  <a:ext cx="6253200" cy="13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,</m:t>
                      </m:r>
                      <m:r>
                        <m:t xml:space="preserve">σ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x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μ</m:t>
                                      </m:r>
                                    </m:num>
                                    <m:den>
                                      <m:r>
                                        <m:t xml:space="preserve">σ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∞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σ</m:t>
                                </m:r>
                                <m:r>
                                  <m:t xml:space="preserve">&g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52280" y="3809880"/>
            <a:ext cx="8839440" cy="2848680"/>
            <a:chOff x="152280" y="3809880"/>
            <a:chExt cx="8839440" cy="2848680"/>
          </a:xfrm>
        </p:grpSpPr>
        <p:sp>
          <p:nvSpPr>
            <p:cNvPr id="66" name=""/>
            <p:cNvSpPr/>
            <p:nvPr/>
          </p:nvSpPr>
          <p:spPr>
            <a:xfrm>
              <a:off x="152280" y="3885840"/>
              <a:ext cx="4496040" cy="27727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location of the normal distribution depends on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ts shape depends on 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we have two normal distributions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----------  N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5029200" y="3809880"/>
              <a:ext cx="34290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943600" y="612576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648320" y="3885840"/>
              <a:ext cx="4343400" cy="2667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04920" y="304920"/>
            <a:ext cx="8381880" cy="3124080"/>
            <a:chOff x="304920" y="304920"/>
            <a:chExt cx="8381880" cy="31240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609480" y="511200"/>
              <a:ext cx="3429000" cy="23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4724280" y="380880"/>
              <a:ext cx="365760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447920" y="2895480"/>
              <a:ext cx="20574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2895480"/>
              <a:ext cx="198144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920" y="304920"/>
              <a:ext cx="8381880" cy="3124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43400" y="304920"/>
              <a:ext cx="0" cy="3124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57200" y="379728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operties of the normal cur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of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symmetric about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has two points of inflection at x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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total area under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The highest point of the curve o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 the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1522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6.3 Areas Under the Normal Cur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320" y="685800"/>
            <a:ext cx="906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finition 6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The Standard Normal 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is called the standard normal distribution and is denoted by Normal(0,1) or N(0,1). If the random variable Z has the standard normal distribution, we write Z~Normal(0,1) or Z~N(0,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28600" y="3200400"/>
            <a:ext cx="8381880" cy="2362320"/>
            <a:chOff x="228600" y="3200400"/>
            <a:chExt cx="8381880" cy="2362320"/>
          </a:xfrm>
        </p:grpSpPr>
        <p:sp>
          <p:nvSpPr>
            <p:cNvPr id="81" name=""/>
            <p:cNvSpPr/>
            <p:nvPr/>
          </p:nvSpPr>
          <p:spPr>
            <a:xfrm>
              <a:off x="457200" y="320040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df of Z~N(0,1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609480" y="4232160"/>
                  <a:ext cx="3886200" cy="102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  <m: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5181480" y="3276720"/>
              <a:ext cx="335268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28600" y="3200400"/>
              <a:ext cx="8381880" cy="23623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52880" y="3200400"/>
              <a:ext cx="0" cy="2362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860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andard normal distribution, Z~N(0,1), is very important because probabilities of any normal distribution can be  calculated from the probabilities of the standard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of the standard normal distribution Z~N(0,1) of the form P(Z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are tabulated (Table A.3, p68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0880" y="2819520"/>
            <a:ext cx="8001000" cy="2895480"/>
            <a:chOff x="380880" y="2819520"/>
            <a:chExt cx="8001000" cy="28954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514440" y="2925720"/>
              <a:ext cx="3600360" cy="267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800600" y="2971800"/>
              <a:ext cx="3504960" cy="2288520"/>
              <a:chOff x="4800600" y="2971800"/>
              <a:chExt cx="3504960" cy="2288520"/>
            </a:xfrm>
          </p:grpSpPr>
          <p:sp>
            <p:nvSpPr>
              <p:cNvPr id="90" name=""/>
              <p:cNvSpPr/>
              <p:nvPr/>
            </p:nvSpPr>
            <p:spPr>
              <a:xfrm>
                <a:off x="4800600" y="32767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Z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)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1" name=""/>
                  <p:cNvSpPr txBox="1"/>
                  <p:nvPr/>
                </p:nvSpPr>
                <p:spPr>
                  <a:xfrm>
                    <a:off x="6019560" y="2971800"/>
                    <a:ext cx="1219320" cy="976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2" name=""/>
                  <p:cNvSpPr txBox="1"/>
                  <p:nvPr/>
                </p:nvSpPr>
                <p:spPr>
                  <a:xfrm>
                    <a:off x="5846760" y="3833640"/>
                    <a:ext cx="2154240" cy="96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π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3" name=""/>
              <p:cNvSpPr/>
              <p:nvPr/>
            </p:nvSpPr>
            <p:spPr>
              <a:xfrm>
                <a:off x="5790960" y="48006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from the table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80880" y="2819520"/>
              <a:ext cx="8001000" cy="28954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95680" y="2819520"/>
              <a:ext cx="0" cy="2895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52280" y="228600"/>
            <a:ext cx="8686800" cy="1801800"/>
            <a:chOff x="152280" y="228600"/>
            <a:chExt cx="8686800" cy="1801800"/>
          </a:xfrm>
        </p:grpSpPr>
        <p:sp>
          <p:nvSpPr>
            <p:cNvPr id="97" name=""/>
            <p:cNvSpPr/>
            <p:nvPr/>
          </p:nvSpPr>
          <p:spPr>
            <a:xfrm>
              <a:off x="152280" y="2286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transfer any normal distribution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to the  standard normal distribution, Z~N(0,1) by using the following    resul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3581280" y="1143000"/>
                  <a:ext cx="269712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76320" y="20289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as Under the Normal Curve of X~N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ies of the normal distribution 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depends 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52280" y="3200400"/>
            <a:ext cx="8763120" cy="3429000"/>
            <a:chOff x="152280" y="3200400"/>
            <a:chExt cx="8763120" cy="3429000"/>
          </a:xfrm>
        </p:grpSpPr>
        <p:graphicFrame>
          <p:nvGraphicFramePr>
            <p:cNvPr id="101" name=""/>
            <p:cNvGraphicFramePr/>
            <p:nvPr/>
          </p:nvGraphicFramePr>
          <p:xfrm>
            <a:off x="228600" y="3429000"/>
            <a:ext cx="2616120" cy="2152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3429000"/>
                      <a:ext cx="2616120" cy="21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"/>
            <p:cNvGraphicFramePr/>
            <p:nvPr/>
          </p:nvGraphicFramePr>
          <p:xfrm>
            <a:off x="3192480" y="3241800"/>
            <a:ext cx="2751120" cy="232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92480" y="3241800"/>
                      <a:ext cx="2751120" cy="23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5880" y="3276720"/>
            <a:ext cx="2667240" cy="2385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95880" y="3276720"/>
                      <a:ext cx="2667240" cy="238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68280" y="5672160"/>
                  <a:ext cx="246384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a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3352680" y="5684760"/>
                  <a:ext cx="2237040" cy="88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6095880" y="5638680"/>
                  <a:ext cx="2667240" cy="88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>
              <a:off x="152280" y="3200400"/>
              <a:ext cx="8763120" cy="34290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563868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43600" y="3200400"/>
              <a:ext cx="0" cy="3429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522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obabilities of Z~N(0,1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Z ~ N(0,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52280" y="1143000"/>
            <a:ext cx="8763120" cy="3200400"/>
            <a:chOff x="152280" y="1143000"/>
            <a:chExt cx="8763120" cy="3200400"/>
          </a:xfrm>
        </p:grpSpPr>
        <p:graphicFrame>
          <p:nvGraphicFramePr>
            <p:cNvPr id="116" name=""/>
            <p:cNvGraphicFramePr/>
            <p:nvPr/>
          </p:nvGraphicFramePr>
          <p:xfrm>
            <a:off x="250920" y="1257480"/>
            <a:ext cx="2639880" cy="210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1257480"/>
                      <a:ext cx="2639880" cy="210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" name=""/>
            <p:cNvGraphicFramePr/>
            <p:nvPr/>
          </p:nvGraphicFramePr>
          <p:xfrm>
            <a:off x="3070080" y="1201680"/>
            <a:ext cx="2557440" cy="21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70080" y="1201680"/>
                      <a:ext cx="2557440" cy="21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0" name=""/>
            <p:cNvGraphicFramePr/>
            <p:nvPr/>
          </p:nvGraphicFramePr>
          <p:xfrm>
            <a:off x="5965920" y="1143000"/>
            <a:ext cx="2873160" cy="2171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965920" y="1143000"/>
                      <a:ext cx="287316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304920" y="3505320"/>
              <a:ext cx="266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 =Fro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 (A.3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3535200"/>
              <a:ext cx="2743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3505320"/>
              <a:ext cx="2514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a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Z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1143000"/>
              <a:ext cx="8763120" cy="32004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52280" y="3429000"/>
              <a:ext cx="87631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7280" y="1143000"/>
              <a:ext cx="0" cy="3200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63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Z=a)=0  for every 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9:02:57Z</dcterms:created>
  <dc:creator> </dc:creator>
  <dc:description/>
  <dc:language>en-US</dc:language>
  <cp:lastModifiedBy> </cp:lastModifiedBy>
  <dcterms:modified xsi:type="dcterms:W3CDTF">2004-07-16T12:42:09Z</dcterms:modified>
  <cp:revision>9</cp:revision>
  <dc:subject/>
  <dc:title>عرض تقديمي من PowerPoint</dc:title>
</cp:coreProperties>
</file>