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2D32-DC85-41E4-AE78-1F88A677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A1F-BB21-4BF5-8E21-CCC1B06F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415-6269-44A4-AA40-C779A352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775F-4499-4835-8287-8368025F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A11A-8C3F-4BB1-A0C5-2D4F272B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3CC-E5AD-4A28-BE8B-C600E74D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EA2A-966A-4549-9CA8-9D4527C1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FF23-CA3B-45A3-A201-BBBDC144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28F0-4402-43D9-8BF7-C1AB346B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B6FE-9BF3-4E13-BEDA-A82BACF5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679-223D-49C0-A3CD-AF9DDEA8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F6BA-10E6-4D53-8DDD-905D3190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8D25-E276-44B3-8F2B-FC878312F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380880"/>
            <a:ext cx="8915400" cy="2446560"/>
            <a:chOff x="76320" y="380880"/>
            <a:chExt cx="8915400" cy="2446560"/>
          </a:xfrm>
        </p:grpSpPr>
        <p:sp>
          <p:nvSpPr>
            <p:cNvPr id="42" name=""/>
            <p:cNvSpPr/>
            <p:nvPr/>
          </p:nvSpPr>
          <p:spPr>
            <a:xfrm>
              <a:off x="76320" y="38088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Theorem 5.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an and the variance of the hypergeometric distribution h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,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4854600" y="1295280"/>
                  <a:ext cx="61128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4876920" y="2057400"/>
                  <a:ext cx="2209680" cy="77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" name=""/>
          <p:cNvSpPr/>
          <p:nvPr/>
        </p:nvSpPr>
        <p:spPr>
          <a:xfrm>
            <a:off x="76320" y="281952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5.9, find the expected value (mean) and the variance of the number of defectives in the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9625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defectives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E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Var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found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h(x;40,5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0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320" y="45720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Theorem 5.6: (Poisson approximation for binomial 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X be a binomial random variable with probability distribution b(x;n,p). If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np remains constant, then the binomial distribution b(x;n,p) can approximated by Poisson distribution p(x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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n and small p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x;n,p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sso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n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838080" y="3549600"/>
                <a:ext cx="64771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≈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sup>
                        </m:s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76320" y="4724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Example 5.18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6320" y="244440"/>
            <a:ext cx="8610480" cy="1203480"/>
            <a:chOff x="76320" y="244440"/>
            <a:chExt cx="8610480" cy="1203480"/>
          </a:xfrm>
        </p:grpSpPr>
        <p:sp>
          <p:nvSpPr>
            <p:cNvPr id="48" name=""/>
            <p:cNvSpPr/>
            <p:nvPr/>
          </p:nvSpPr>
          <p:spPr>
            <a:xfrm>
              <a:off x="76320" y="244440"/>
              <a:ext cx="861048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expected number of defective items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523880" y="630360"/>
                  <a:ext cx="274320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7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" name=""/>
          <p:cNvGrpSpPr/>
          <p:nvPr/>
        </p:nvGrpSpPr>
        <p:grpSpPr>
          <a:xfrm>
            <a:off x="76320" y="1676520"/>
            <a:ext cx="8839080" cy="1272960"/>
            <a:chOff x="76320" y="1676520"/>
            <a:chExt cx="8839080" cy="1272960"/>
          </a:xfrm>
        </p:grpSpPr>
        <p:sp>
          <p:nvSpPr>
            <p:cNvPr id="51" name=""/>
            <p:cNvSpPr/>
            <p:nvPr/>
          </p:nvSpPr>
          <p:spPr>
            <a:xfrm>
              <a:off x="76320" y="1676520"/>
              <a:ext cx="883908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variance of the number of defective items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1533600" y="2057400"/>
                  <a:ext cx="730548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×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40</m:t>
                              </m:r>
                            </m:den>
                          </m:f>
                        </m:e>
                      </m:d>
                      <m:r>
                        <m:t xml:space="preserve">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1129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" name=""/>
          <p:cNvGrpSpPr/>
          <p:nvPr/>
        </p:nvGrpSpPr>
        <p:grpSpPr>
          <a:xfrm>
            <a:off x="76320" y="3216240"/>
            <a:ext cx="9067680" cy="3260880"/>
            <a:chOff x="76320" y="3216240"/>
            <a:chExt cx="9067680" cy="3260880"/>
          </a:xfrm>
        </p:grpSpPr>
        <p:sp>
          <p:nvSpPr>
            <p:cNvPr id="54" name=""/>
            <p:cNvSpPr/>
            <p:nvPr/>
          </p:nvSpPr>
          <p:spPr>
            <a:xfrm>
              <a:off x="76320" y="3216240"/>
              <a:ext cx="88390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lationship to the binomial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* Binomial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* Hypergeometric distribution: 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 </a:t>
              </a: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276720" y="3637080"/>
                  <a:ext cx="55623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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4114800" y="4656240"/>
                  <a:ext cx="5029200" cy="182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K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6320" y="152280"/>
            <a:ext cx="8915400" cy="2288520"/>
            <a:chOff x="76320" y="152280"/>
            <a:chExt cx="8915400" cy="2288520"/>
          </a:xfrm>
        </p:grpSpPr>
        <p:sp>
          <p:nvSpPr>
            <p:cNvPr id="58" name=""/>
            <p:cNvSpPr/>
            <p:nvPr/>
          </p:nvSpPr>
          <p:spPr>
            <a:xfrm>
              <a:off x="76320" y="15228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small compared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hypergeometric distribution h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can be approximated by the binomial distribution b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i.e., for larg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small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     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237200" y="824040"/>
                  <a:ext cx="334800" cy="69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3932280" y="1523880"/>
                  <a:ext cx="334800" cy="7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90720" y="2165400"/>
                <a:ext cx="593856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" name=""/>
          <p:cNvGrpSpPr/>
          <p:nvPr/>
        </p:nvGrpSpPr>
        <p:grpSpPr>
          <a:xfrm>
            <a:off x="76320" y="3781440"/>
            <a:ext cx="8839080" cy="1781280"/>
            <a:chOff x="76320" y="3781440"/>
            <a:chExt cx="8839080" cy="1781280"/>
          </a:xfrm>
        </p:grpSpPr>
        <p:sp>
          <p:nvSpPr>
            <p:cNvPr id="63" name=""/>
            <p:cNvSpPr/>
            <p:nvPr/>
          </p:nvSpPr>
          <p:spPr>
            <a:xfrm>
              <a:off x="76320" y="3781440"/>
              <a:ext cx="88390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small compared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re will be almost no difference between selection without replacement and se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replacemen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2514600" y="4863960"/>
                  <a:ext cx="3156120" cy="69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≈</m:t>
                      </m:r>
                      <m:f>
                        <m:num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≈</m:t>
                      </m:r>
                      <m:r>
                        <m:t xml:space="preserve">⋯</m:t>
                      </m:r>
                      <m:r>
                        <m:t xml:space="preserve">≈</m:t>
                      </m:r>
                      <m:f>
                        <m:num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" name=""/>
          <p:cNvSpPr/>
          <p:nvPr/>
        </p:nvSpPr>
        <p:spPr>
          <a:xfrm>
            <a:off x="76320" y="5715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320" y="704880"/>
            <a:ext cx="899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Poisson experiment is an experiment yielding numerical values of a random variable that count the number of outcomes occurring in a given time interval or a specified region denot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= The number of outcomes occurring in a give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 or a specified region denot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600" y="15228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5.6 Poisson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5100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·    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= number of field mice per acr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 ac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 number of typing errors per pag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number of telephone calls received every da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number of telephone calls received every 5 day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 d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0608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the average (mean) number of outcomes per unit time or unit region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1522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The average (mean) number of outcomes (mean of X) in the time interval or reg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763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1327320"/>
            <a:ext cx="8763120" cy="2974680"/>
            <a:chOff x="0" y="1327320"/>
            <a:chExt cx="8763120" cy="2974680"/>
          </a:xfrm>
        </p:grpSpPr>
        <p:sp>
          <p:nvSpPr>
            <p:cNvPr id="73" name=""/>
            <p:cNvSpPr/>
            <p:nvPr/>
          </p:nvSpPr>
          <p:spPr>
            <a:xfrm>
              <a:off x="0" y="1327320"/>
              <a:ext cx="8763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random variable X is called a Poisson random variable with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and we write X~Poisso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if its probability distribution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457200" y="2666880"/>
                  <a:ext cx="7315200" cy="16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μ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eqArr>
                                  <m:e>
                                    <m:r>
                                      <m:t xml:space="preserve"> 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μ</m:t>
                                            </m:r>
                                          </m:sup>
                                        </m:sSup>
                                        <m:sSup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p>
                                            <m:r>
                                              <m:t xml:space="preserve">x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!</m:t>
                                        </m:r>
                                      </m:den>
                                    </m:f>
                                    <m:r>
                                      <m:t xml:space="preserve"> </m:t>
                                    </m:r>
                                    <m:r>
                                      <m:t xml:space="preserve">;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…</m:t>
                                    </m:r>
                                    <m:r>
                                      <m:t xml:space="preserve"> </m:t>
                                    </m:r>
                                  </m:e>
                                  <m:e>
                                    <m:r>
                                      <m:t xml:space="preserve"> </m:t>
                                    </m:r>
                                  </m:e>
                                </m:eqArr>
                              </m:e>
                            </m:mr>
                            <m:m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therwise</m:t>
                                </m:r>
                                <m:r>
                                  <m:t xml:space="preserve"> 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320" y="15228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Theorem 5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ean and the variance of the Poisson distribution Poisson(x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9810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average (mean) of the distribution in the unit tim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 If X=The number of calls received in a month (unit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month) and X~Poisso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)  Y = number of calls received in a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 ~ Poisso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;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i)  W = number of calls received in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 ~ Poisso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;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30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/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55627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320" y="228600"/>
            <a:ext cx="9067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number of typing errors per page has a Poisson distribution with average 6 typing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What is the probability that in a given p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) The number of typing errors will be 7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i) The number of typing errors will at least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What is the probability that in 2 pages there will be 10 typing erro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3) What is the probability that in a half page there will be no typing erro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6320" y="3962520"/>
            <a:ext cx="8839080" cy="2093760"/>
            <a:chOff x="76320" y="3962520"/>
            <a:chExt cx="8839080" cy="2093760"/>
          </a:xfrm>
        </p:grpSpPr>
        <p:sp>
          <p:nvSpPr>
            <p:cNvPr id="80" name=""/>
            <p:cNvSpPr/>
            <p:nvPr/>
          </p:nvSpPr>
          <p:spPr>
            <a:xfrm>
              <a:off x="76320" y="3962520"/>
              <a:ext cx="883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1) X = number of typing errors per pag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Poisson (6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914400" y="5181480"/>
                  <a:ext cx="632448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6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380880"/>
            <a:ext cx="9144000" cy="3599280"/>
            <a:chOff x="0" y="380880"/>
            <a:chExt cx="9144000" cy="3599280"/>
          </a:xfrm>
        </p:grpSpPr>
        <p:grpSp>
          <p:nvGrpSpPr>
            <p:cNvPr id="83" name=""/>
            <p:cNvGrpSpPr/>
            <p:nvPr/>
          </p:nvGrpSpPr>
          <p:grpSpPr>
            <a:xfrm>
              <a:off x="304920" y="380880"/>
              <a:ext cx="8610480" cy="3599280"/>
              <a:chOff x="304920" y="380880"/>
              <a:chExt cx="8610480" cy="3599280"/>
            </a:xfrm>
          </p:grpSpPr>
          <mc:AlternateContent>
            <mc:Choice xmlns:a14="http://schemas.microsoft.com/office/drawing/2010/main" Requires="a14">
              <p:sp>
                <p:nvSpPr>
                  <p:cNvPr id="84" name=""/>
                  <p:cNvSpPr txBox="1"/>
                  <p:nvPr/>
                </p:nvSpPr>
                <p:spPr>
                  <a:xfrm>
                    <a:off x="1295280" y="380880"/>
                    <a:ext cx="5186520" cy="80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7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768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5" name=""/>
              <p:cNvSpPr/>
              <p:nvPr/>
            </p:nvSpPr>
            <p:spPr>
              <a:xfrm>
                <a:off x="304920" y="1295280"/>
                <a:ext cx="815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ii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) = P(X=2)+ P(X=3)+ . . . =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6" name=""/>
                  <p:cNvSpPr txBox="1"/>
                  <p:nvPr/>
                </p:nvSpPr>
                <p:spPr>
                  <a:xfrm>
                    <a:off x="5576760" y="1155600"/>
                    <a:ext cx="1357560" cy="74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7" name=""/>
              <p:cNvSpPr/>
              <p:nvPr/>
            </p:nvSpPr>
            <p:spPr>
              <a:xfrm>
                <a:off x="305280" y="533520"/>
                <a:ext cx="47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i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19320" y="1905120"/>
                <a:ext cx="7696080" cy="20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) = 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P(X&lt;2) 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P(X=0)+ P(X=1)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f(0) + f(1)] 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0.00248+0.01487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0.01735 = 0.9826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9" name=""/>
                  <p:cNvSpPr txBox="1"/>
                  <p:nvPr/>
                </p:nvSpPr>
                <p:spPr>
                  <a:xfrm>
                    <a:off x="6858000" y="2286000"/>
                    <a:ext cx="1676520" cy="80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0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0" name=""/>
            <p:cNvSpPr/>
            <p:nvPr/>
          </p:nvSpPr>
          <p:spPr>
            <a:xfrm>
              <a:off x="0" y="2768760"/>
              <a:ext cx="9144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6320" y="3673440"/>
            <a:ext cx="8762760" cy="2803680"/>
            <a:chOff x="76320" y="3673440"/>
            <a:chExt cx="8762760" cy="2803680"/>
          </a:xfrm>
        </p:grpSpPr>
        <p:sp>
          <p:nvSpPr>
            <p:cNvPr id="92" name=""/>
            <p:cNvSpPr/>
            <p:nvPr/>
          </p:nvSpPr>
          <p:spPr>
            <a:xfrm>
              <a:off x="76320" y="3673440"/>
              <a:ext cx="876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2) X = number of typing errors in 2 p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Poisson(12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2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609480" y="4556160"/>
                  <a:ext cx="685800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609480" y="5553000"/>
                  <a:ext cx="5257800" cy="92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048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76320" y="1143000"/>
            <a:ext cx="9144000" cy="2417760"/>
            <a:chOff x="76320" y="1143000"/>
            <a:chExt cx="9144000" cy="2417760"/>
          </a:xfrm>
        </p:grpSpPr>
        <p:sp>
          <p:nvSpPr>
            <p:cNvPr id="96" name=""/>
            <p:cNvSpPr/>
            <p:nvPr/>
          </p:nvSpPr>
          <p:spPr>
            <a:xfrm>
              <a:off x="76320" y="1143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3) X = number of typing errors in a half pag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Poisson (3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/2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/2=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457200" y="1905120"/>
                  <a:ext cx="6858000" cy="97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457200" y="2667240"/>
                  <a:ext cx="4038480" cy="89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</m:num>
                        <m:den>
                          <m:r>
                            <m:t xml:space="preserve">0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49787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9" name=""/>
          <p:cNvSpPr/>
          <p:nvPr/>
        </p:nvSpPr>
        <p:spPr>
          <a:xfrm>
            <a:off x="2747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7:42:15Z</dcterms:created>
  <dc:creator> </dc:creator>
  <dc:description/>
  <dc:language>en-US</dc:language>
  <cp:lastModifiedBy> </cp:lastModifiedBy>
  <dcterms:modified xsi:type="dcterms:W3CDTF">2004-07-11T19:01:50Z</dcterms:modified>
  <cp:revision>4</cp:revision>
  <dc:subject/>
  <dc:title>عرض تقديمي من PowerPoint</dc:title>
</cp:coreProperties>
</file>