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CA3E-7B8A-43F8-9230-D36041ACD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D136-2A53-4A11-978B-8DC327AC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8131-C23D-49F4-8C09-FB720129F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2D24-8AE2-4A74-9ABD-0F8EAAE66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E243-C56B-4AB7-803C-8776CE5A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1314-7E1D-4964-B6EC-3375349C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3F64-05C7-438F-9A5E-47767452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32A3-BDF2-4B72-8264-3343C47F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B305-D736-403F-91A7-27574BB9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D6B3-3777-4834-B305-828AAD97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545E-3410-4BBD-B593-FDFE3971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AEFE-AE76-4AA7-A665-664FE6EE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637F-6744-433B-A33F-865BB31E5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6320" y="380880"/>
            <a:ext cx="8915400" cy="2446560"/>
            <a:chOff x="76320" y="380880"/>
            <a:chExt cx="8915400" cy="2446560"/>
          </a:xfrm>
        </p:grpSpPr>
        <p:sp>
          <p:nvSpPr>
            <p:cNvPr id="42" name=""/>
            <p:cNvSpPr/>
            <p:nvPr/>
          </p:nvSpPr>
          <p:spPr>
            <a:xfrm>
              <a:off x="76320" y="380880"/>
              <a:ext cx="89154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6600"/>
                  </a:solidFill>
                  <a:latin typeface="Arial"/>
                  <a:ea typeface="Arial"/>
                </a:rPr>
                <a:t>Theorem 5.3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an and the variance of the hypergeometric distribution h(x;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,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ar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4854600" y="1295280"/>
                  <a:ext cx="611280" cy="83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" name=""/>
                <p:cNvSpPr txBox="1"/>
                <p:nvPr/>
              </p:nvSpPr>
              <p:spPr>
                <a:xfrm>
                  <a:off x="4876920" y="2057400"/>
                  <a:ext cx="2209680" cy="77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K</m:t>
                              </m:r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</m:d>
                      <m:r>
                        <m:t xml:space="preserve"> 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5" name=""/>
          <p:cNvSpPr/>
          <p:nvPr/>
        </p:nvSpPr>
        <p:spPr>
          <a:xfrm>
            <a:off x="76320" y="2819520"/>
            <a:ext cx="87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1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Example 5.9, find the expected value (mean) and the variance of the number of defectives in the s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39625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number of defectives in the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We need to find E(X)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Var(X)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We found t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~ h(x;40,5,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40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5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320" y="457200"/>
            <a:ext cx="883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Theorem 5.6: (Poisson approximation for binomial distrib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X be a binomial random variable with probability distribution b(x;n,p). If 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np remains constant, then the binomial distribution b(x;n,p) can approximated by Poisson distribution p(x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00"/>
                </a:solidFill>
                <a:latin typeface="Symbol"/>
                <a:ea typeface="Symbol"/>
              </a:rPr>
              <a:t>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 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n and small p we ha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(x;n,p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sso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n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838080" y="3549600"/>
                <a:ext cx="64771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≈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sup>
                        </m:sSup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76320" y="47242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Example 5.18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76320" y="244440"/>
            <a:ext cx="8610480" cy="1203480"/>
            <a:chOff x="76320" y="244440"/>
            <a:chExt cx="8610480" cy="1203480"/>
          </a:xfrm>
        </p:grpSpPr>
        <p:sp>
          <p:nvSpPr>
            <p:cNvPr id="48" name=""/>
            <p:cNvSpPr/>
            <p:nvPr/>
          </p:nvSpPr>
          <p:spPr>
            <a:xfrm>
              <a:off x="76320" y="244440"/>
              <a:ext cx="861048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expected number of defective items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(X)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523880" y="630360"/>
                  <a:ext cx="2743200" cy="81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×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7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" name=""/>
          <p:cNvGrpSpPr/>
          <p:nvPr/>
        </p:nvGrpSpPr>
        <p:grpSpPr>
          <a:xfrm>
            <a:off x="76320" y="1676520"/>
            <a:ext cx="8839080" cy="1272960"/>
            <a:chOff x="76320" y="1676520"/>
            <a:chExt cx="8839080" cy="1272960"/>
          </a:xfrm>
        </p:grpSpPr>
        <p:sp>
          <p:nvSpPr>
            <p:cNvPr id="51" name=""/>
            <p:cNvSpPr/>
            <p:nvPr/>
          </p:nvSpPr>
          <p:spPr>
            <a:xfrm>
              <a:off x="76320" y="1676520"/>
              <a:ext cx="883908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variance of the number of defective items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(X)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1533600" y="2057400"/>
                  <a:ext cx="7305480" cy="89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n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K</m:t>
                              </m:r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</m:d>
                      <m:r>
                        <m:t xml:space="preserve"> 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×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den>
                      </m:f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40</m:t>
                              </m:r>
                            </m:den>
                          </m:f>
                        </m:e>
                      </m:d>
                      <m:r>
                        <m:t xml:space="preserve">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11298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" name=""/>
          <p:cNvGrpSpPr/>
          <p:nvPr/>
        </p:nvGrpSpPr>
        <p:grpSpPr>
          <a:xfrm>
            <a:off x="76320" y="3216240"/>
            <a:ext cx="9067680" cy="3260880"/>
            <a:chOff x="76320" y="3216240"/>
            <a:chExt cx="9067680" cy="3260880"/>
          </a:xfrm>
        </p:grpSpPr>
        <p:sp>
          <p:nvSpPr>
            <p:cNvPr id="54" name=""/>
            <p:cNvSpPr/>
            <p:nvPr/>
          </p:nvSpPr>
          <p:spPr>
            <a:xfrm>
              <a:off x="76320" y="3216240"/>
              <a:ext cx="883908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Relationship to the binomial distrib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* Binomial distrib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* Hypergeometric distribution: 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  </a:t>
              </a:r>
              <a:r>
                <a:rPr b="0" lang="en-GB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3276720" y="3637080"/>
                  <a:ext cx="556236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n</m:t>
                      </m:r>
                      <m:r>
                        <m:t xml:space="preserve">,</m:t>
                      </m:r>
                      <m:r>
                        <m:t xml:space="preserve">p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 </m:t>
                      </m:r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p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</m:t>
                      </m:r>
                      <m:r>
                        <m:t xml:space="preserve"> 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4114800" y="4656240"/>
                  <a:ext cx="5029200" cy="182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N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  <m:r>
                        <m:t xml:space="preserve">,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K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76320" y="152280"/>
            <a:ext cx="8915400" cy="2288520"/>
            <a:chOff x="76320" y="152280"/>
            <a:chExt cx="8915400" cy="2288520"/>
          </a:xfrm>
        </p:grpSpPr>
        <p:sp>
          <p:nvSpPr>
            <p:cNvPr id="58" name=""/>
            <p:cNvSpPr/>
            <p:nvPr/>
          </p:nvSpPr>
          <p:spPr>
            <a:xfrm>
              <a:off x="76320" y="152280"/>
              <a:ext cx="89154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small compared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the hypergeometric distribution h(x;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can be approximated by the binomial distribution b(x;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 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; i.e., for larg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small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we hav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(x;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b(x;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     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4237200" y="824040"/>
                  <a:ext cx="334800" cy="69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3932280" y="1523880"/>
                  <a:ext cx="334800" cy="70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990720" y="2165400"/>
                <a:ext cx="593856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2" name=""/>
          <p:cNvGrpSpPr/>
          <p:nvPr/>
        </p:nvGrpSpPr>
        <p:grpSpPr>
          <a:xfrm>
            <a:off x="76320" y="3781440"/>
            <a:ext cx="8839080" cy="1781280"/>
            <a:chOff x="76320" y="3781440"/>
            <a:chExt cx="8839080" cy="1781280"/>
          </a:xfrm>
        </p:grpSpPr>
        <p:sp>
          <p:nvSpPr>
            <p:cNvPr id="63" name=""/>
            <p:cNvSpPr/>
            <p:nvPr/>
          </p:nvSpPr>
          <p:spPr>
            <a:xfrm>
              <a:off x="76320" y="3781440"/>
              <a:ext cx="88390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small compared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there will be almost no difference between selection without replacement and sel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th replacement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2514600" y="4863960"/>
                  <a:ext cx="3156120" cy="69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≈</m:t>
                      </m:r>
                      <m:f>
                        <m:num>
                          <m:r>
                            <m:t xml:space="preserve">K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≈</m:t>
                      </m:r>
                      <m:r>
                        <m:t xml:space="preserve">⋯</m:t>
                      </m:r>
                      <m:r>
                        <m:t xml:space="preserve">≈</m:t>
                      </m:r>
                      <m:f>
                        <m:num>
                          <m:r>
                            <m:t xml:space="preserve">K</m:t>
                          </m:r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5" name=""/>
          <p:cNvSpPr/>
          <p:nvPr/>
        </p:nvSpPr>
        <p:spPr>
          <a:xfrm>
            <a:off x="76320" y="57150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11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6320" y="704880"/>
            <a:ext cx="8991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Poisson experiment is an experiment yielding numerical values of a random variable that count the number of outcomes occurring in a given time interval or a specified region denot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= The number of outcomes occurring in a give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val or a specified region denot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9600" y="152280"/>
            <a:ext cx="43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5.6 Poisson Distribu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305100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·    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= number of field mice per acre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1 ac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= number of typing errors per page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 p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=number of telephone calls received every day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 d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=number of telephone calls received every 5 day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5 da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506088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Le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 the average (mean) number of outcomes per unit time or unit region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2280" y="15228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 The average (mean) number of outcomes (mean of X) in the time interval or reg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7636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0" y="1327320"/>
            <a:ext cx="8763120" cy="2974680"/>
            <a:chOff x="0" y="1327320"/>
            <a:chExt cx="8763120" cy="2974680"/>
          </a:xfrm>
        </p:grpSpPr>
        <p:sp>
          <p:nvSpPr>
            <p:cNvPr id="73" name=""/>
            <p:cNvSpPr/>
            <p:nvPr/>
          </p:nvSpPr>
          <p:spPr>
            <a:xfrm>
              <a:off x="0" y="1327320"/>
              <a:ext cx="8763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 The random variable X is called a Poisson random variable with parameter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 and we write X~Poisson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 if its probability distribution is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457200" y="2666880"/>
                  <a:ext cx="7315200" cy="16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μ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eqArr>
                                  <m:e>
                                    <m:r>
                                      <m:t xml:space="preserve"> </m:t>
                                    </m:r>
                                    <m:f>
                                      <m:num>
                                        <m:sSup>
                                          <m:e>
                                            <m:r>
                                              <m:t xml:space="preserve">e</m:t>
                                            </m:r>
                                          </m:e>
                                          <m:sup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μ</m:t>
                                            </m:r>
                                          </m:sup>
                                        </m:sSup>
                                        <m:sSup>
                                          <m:e>
                                            <m:r>
                                              <m:t xml:space="preserve">μ</m:t>
                                            </m:r>
                                          </m:e>
                                          <m:sup>
                                            <m:r>
                                              <m:t xml:space="preserve">x</m:t>
                                            </m:r>
                                          </m:sup>
                                        </m:sSup>
                                      </m:num>
                                      <m:den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!</m:t>
                                        </m:r>
                                      </m:den>
                                    </m:f>
                                    <m:r>
                                      <m:t xml:space="preserve"> </m:t>
                                    </m:r>
                                    <m:r>
                                      <m:t xml:space="preserve">;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3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…</m:t>
                                    </m:r>
                                    <m:r>
                                      <m:t xml:space="preserve"> </m:t>
                                    </m:r>
                                  </m:e>
                                  <m:e>
                                    <m:r>
                                      <m:t xml:space="preserve"> </m:t>
                                    </m:r>
                                  </m:e>
                                </m:eqArr>
                              </m:e>
                            </m:mr>
                            <m:m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;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otherwise</m:t>
                                </m:r>
                                <m:r>
                                  <m:t xml:space="preserve"> 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6320" y="152280"/>
            <a:ext cx="9067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Theorem 5.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ean and the variance of the Poisson distribution Poisson(x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98108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the average (mean) of the distribution in the unit time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 If X=The number of calls received in a month (unit ti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 month) and X~Poisson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i)  Y = number of calls received in a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 ~ Poisson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;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ii)  W = number of calls received in a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 ~ Poisson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;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30 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/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320" y="556272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16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17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320" y="228600"/>
            <a:ext cx="9067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the number of typing errors per page has a Poisson distribution with average 6 typing err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1) What is the probability that in a given p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i) The number of typing errors will be 7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ii) The number of typing errors will at least 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2) What is the probability that in 2 pages there will be 10 typing erro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3) What is the probability that in a half page there will be no typing erro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6320" y="3962520"/>
            <a:ext cx="8839080" cy="2093760"/>
            <a:chOff x="76320" y="3962520"/>
            <a:chExt cx="8839080" cy="2093760"/>
          </a:xfrm>
        </p:grpSpPr>
        <p:sp>
          <p:nvSpPr>
            <p:cNvPr id="80" name=""/>
            <p:cNvSpPr/>
            <p:nvPr/>
          </p:nvSpPr>
          <p:spPr>
            <a:xfrm>
              <a:off x="76320" y="3962520"/>
              <a:ext cx="8839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(1) X = number of typing errors per page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~ Poisson (6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1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6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6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914400" y="5181480"/>
                  <a:ext cx="632448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6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6</m:t>
                              </m:r>
                            </m:e>
                            <m:sup>
                              <m:r>
                                <m:t xml:space="preserve">x</m:t>
                              </m:r>
                            </m:sup>
                          </m:sSup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380880"/>
            <a:ext cx="9144000" cy="3599280"/>
            <a:chOff x="0" y="380880"/>
            <a:chExt cx="9144000" cy="3599280"/>
          </a:xfrm>
        </p:grpSpPr>
        <p:grpSp>
          <p:nvGrpSpPr>
            <p:cNvPr id="83" name=""/>
            <p:cNvGrpSpPr/>
            <p:nvPr/>
          </p:nvGrpSpPr>
          <p:grpSpPr>
            <a:xfrm>
              <a:off x="304920" y="380880"/>
              <a:ext cx="8610480" cy="3599280"/>
              <a:chOff x="304920" y="380880"/>
              <a:chExt cx="8610480" cy="3599280"/>
            </a:xfrm>
          </p:grpSpPr>
          <mc:AlternateContent>
            <mc:Choice xmlns:a14="http://schemas.microsoft.com/office/drawing/2010/main" Requires="a14">
              <p:sp>
                <p:nvSpPr>
                  <p:cNvPr id="84" name=""/>
                  <p:cNvSpPr txBox="1"/>
                  <p:nvPr/>
                </p:nvSpPr>
                <p:spPr>
                  <a:xfrm>
                    <a:off x="1295280" y="380880"/>
                    <a:ext cx="5186520" cy="800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6</m:t>
                                </m:r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7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768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5" name=""/>
              <p:cNvSpPr/>
              <p:nvPr/>
            </p:nvSpPr>
            <p:spPr>
              <a:xfrm>
                <a:off x="304920" y="1295280"/>
                <a:ext cx="815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ii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(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) = P(X=2)+ P(X=3)+ . . . =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6" name=""/>
                  <p:cNvSpPr txBox="1"/>
                  <p:nvPr/>
                </p:nvSpPr>
                <p:spPr>
                  <a:xfrm>
                    <a:off x="5576760" y="1155600"/>
                    <a:ext cx="1357560" cy="749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7" name=""/>
              <p:cNvSpPr/>
              <p:nvPr/>
            </p:nvSpPr>
            <p:spPr>
              <a:xfrm>
                <a:off x="305280" y="533520"/>
                <a:ext cx="47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i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219320" y="1905120"/>
                <a:ext cx="7696080" cy="20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(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) = 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P(X&lt;2) = 1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[P(X=0)+ P(X=1)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1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[f(0) + f(1)] = 1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[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1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[0.00248+0.01487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1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0.01735 = 0.98265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9" name=""/>
                  <p:cNvSpPr txBox="1"/>
                  <p:nvPr/>
                </p:nvSpPr>
                <p:spPr>
                  <a:xfrm>
                    <a:off x="6858000" y="2286000"/>
                    <a:ext cx="1676520" cy="800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6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0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6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!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90" name=""/>
            <p:cNvSpPr/>
            <p:nvPr/>
          </p:nvSpPr>
          <p:spPr>
            <a:xfrm>
              <a:off x="0" y="2768760"/>
              <a:ext cx="9144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76320" y="3673440"/>
            <a:ext cx="8762760" cy="2803680"/>
            <a:chOff x="76320" y="3673440"/>
            <a:chExt cx="8762760" cy="2803680"/>
          </a:xfrm>
        </p:grpSpPr>
        <p:sp>
          <p:nvSpPr>
            <p:cNvPr id="92" name=""/>
            <p:cNvSpPr/>
            <p:nvPr/>
          </p:nvSpPr>
          <p:spPr>
            <a:xfrm>
              <a:off x="76320" y="3673440"/>
              <a:ext cx="8762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(2) X = number of typing errors in 2 pa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~ Poisson(12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2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6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1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609480" y="4556160"/>
                  <a:ext cx="6858000" cy="93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p>
                          </m:sSup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sup>
                              <m:r>
                                <m:t xml:space="preserve">x</m:t>
                              </m:r>
                            </m:sup>
                          </m:sSup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:</m:t>
                      </m:r>
                      <m:r>
                        <m:t xml:space="preserve"> 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609480" y="5553000"/>
                  <a:ext cx="5257800" cy="92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p>
                          </m:sSup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048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76320" y="1143000"/>
            <a:ext cx="9144000" cy="2417760"/>
            <a:chOff x="76320" y="1143000"/>
            <a:chExt cx="9144000" cy="2417760"/>
          </a:xfrm>
        </p:grpSpPr>
        <p:sp>
          <p:nvSpPr>
            <p:cNvPr id="96" name=""/>
            <p:cNvSpPr/>
            <p:nvPr/>
          </p:nvSpPr>
          <p:spPr>
            <a:xfrm>
              <a:off x="76320" y="114300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(3) X = number of typing errors in a half pag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~ Poisson (3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1/2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6,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6/2=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457200" y="1905120"/>
                  <a:ext cx="6858000" cy="97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3</m:t>
                              </m:r>
                            </m:e>
                            <m:sup>
                              <m:r>
                                <m:t xml:space="preserve">x</m:t>
                              </m:r>
                            </m:sup>
                          </m:sSup>
                        </m:num>
                        <m:den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:</m:t>
                      </m:r>
                      <m:r>
                        <m:t xml:space="preserve"> 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  <m:r>
                        <m:t xml:space="preserve"> 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t xml:space="preserve">…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" name=""/>
                <p:cNvSpPr txBox="1"/>
                <p:nvPr/>
              </p:nvSpPr>
              <p:spPr>
                <a:xfrm>
                  <a:off x="457200" y="2667240"/>
                  <a:ext cx="4038480" cy="89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3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0</m:t>
                              </m:r>
                            </m:sup>
                          </m:sSup>
                        </m:num>
                        <m:den>
                          <m:r>
                            <m:t xml:space="preserve">0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 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49787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9" name=""/>
          <p:cNvSpPr/>
          <p:nvPr/>
        </p:nvSpPr>
        <p:spPr>
          <a:xfrm>
            <a:off x="27478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1T17:42:15Z</dcterms:created>
  <dc:creator> </dc:creator>
  <dc:description/>
  <dc:language>en-US</dc:language>
  <cp:lastModifiedBy> </cp:lastModifiedBy>
  <dcterms:modified xsi:type="dcterms:W3CDTF">2004-07-11T19:01:50Z</dcterms:modified>
  <cp:revision>4</cp:revision>
  <dc:subject/>
  <dc:title>عرض تقديمي من PowerPoint</dc:title>
</cp:coreProperties>
</file>