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6B1-73C6-4C0F-8528-B6766F6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FD45-CCF6-4734-BE90-72BAB9E1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F91-148D-42A7-B2FC-AF35C55EE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C22-58A2-44F7-A74B-A8586A44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7E5-28CF-4EDE-B5CF-F653C7C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E70-080E-43BD-ADE4-71781078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BA9-DB49-4C9E-88A5-A63A41DA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9074-63F7-4A31-9912-538F77F1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C27-172F-4887-AB2E-6202F7DA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5BA-3BC0-4F28-AC01-C2E6A367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EB9-8203-454E-811B-FF3DC65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67E3-C1D7-422D-B6B8-C36CCCA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5347-C2FD-4881-90C4-F6E420247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152280"/>
            <a:ext cx="9067680" cy="2971800"/>
            <a:chOff x="76320" y="152280"/>
            <a:chExt cx="9067680" cy="2971800"/>
          </a:xfrm>
        </p:grpSpPr>
        <p:sp>
          <p:nvSpPr>
            <p:cNvPr id="42" name=""/>
            <p:cNvSpPr/>
            <p:nvPr/>
          </p:nvSpPr>
          <p:spPr>
            <a:xfrm>
              <a:off x="76320" y="152280"/>
              <a:ext cx="9067680" cy="24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Chapter 5: Some Discrete Probability Distribution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6600"/>
                  </a:solidFill>
                  <a:uFillTx/>
                  <a:latin typeface="Arial"/>
                  <a:ea typeface="Arial"/>
                </a:rPr>
                <a:t>5.2: Discrete Uniform Distrib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assumes the values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…, x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with equal probabilities, then X has the discrete uniform distribution given by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838080" y="1878120"/>
                  <a:ext cx="5867640" cy="12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;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;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⋯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" name=""/>
          <p:cNvSpPr/>
          <p:nvPr/>
        </p:nvSpPr>
        <p:spPr>
          <a:xfrm>
            <a:off x="304920" y="2895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f(x)=f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P(X=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called the parameter of the distribution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411480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ample spa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1,2,3,4,5,6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ach sample poi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ccurs with the same probability 1/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the number observed when tossing a balanced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 of X i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280" y="763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1520"/>
                <a:tab algn="ctr" pos="1246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914400"/>
          <a:ext cx="2971800" cy="3708360"/>
        </p:xfrm>
        <a:graphic>
          <a:graphicData uri="http://schemas.openxmlformats.org/drawingml/2006/table">
            <a:tbl>
              <a:tblPr/>
              <a:tblGrid>
                <a:gridCol w="609840"/>
                <a:gridCol w="23619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(x)=P(X=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71640" y="1498680"/>
                <a:ext cx="4287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09680" y="2260440"/>
                <a:ext cx="21337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209680" y="3098880"/>
                <a:ext cx="21337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803680" y="3860640"/>
                <a:ext cx="396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320" y="47242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2) Second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trial is the process of inspecting the item. The results are success=D or failure=N, with probability of succes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25/100=1/4=0.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riments is a Bernoulli proces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5228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number of trials: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Probability of succes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=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1752480"/>
                <a:ext cx="731520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320" y="3200400"/>
                <a:ext cx="63244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76320" y="4159080"/>
                <a:ext cx="624816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76320" y="5105520"/>
                <a:ext cx="60958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781680" y="3200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0" y="3962520"/>
          <a:ext cx="2057400" cy="2341440"/>
        </p:xfrm>
        <a:graphic>
          <a:graphicData uri="http://schemas.openxmlformats.org/drawingml/2006/table">
            <a:tbl>
              <a:tblPr/>
              <a:tblGrid>
                <a:gridCol w="533160"/>
                <a:gridCol w="15242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b(x;3,1/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6553080" y="3124080"/>
            <a:ext cx="2514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7664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324840" cy="4159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320" y="402588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orem 5.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ean and the variance of the binomial distribution 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6320" y="49536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expected value (mean) and the variance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9717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defective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fou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pected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(3) (1/4) = 3/4 =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ariance of the number of defective item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(X)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= (3) (1/4) (3/4) = 9/16 = 0.56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320" y="152280"/>
            <a:ext cx="87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previous example, find the following probabil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The probability of getting at lea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) The probability of getting at most two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3,1/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224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2438280"/>
                <a:ext cx="77724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o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12" name=""/>
          <p:cNvGraphicFramePr/>
          <p:nvPr/>
        </p:nvGraphicFramePr>
        <p:xfrm>
          <a:off x="2514600" y="4038480"/>
          <a:ext cx="3733920" cy="2362320"/>
        </p:xfrm>
        <a:graphic>
          <a:graphicData uri="http://schemas.openxmlformats.org/drawingml/2006/table">
            <a:tbl>
              <a:tblPr/>
              <a:tblGrid>
                <a:gridCol w="405000"/>
                <a:gridCol w="33289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f(x)=P(X=x)=b(x;3,1/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76320" y="168120"/>
            <a:ext cx="9144000" cy="1203480"/>
            <a:chOff x="76320" y="168120"/>
            <a:chExt cx="9144000" cy="1203480"/>
          </a:xfrm>
        </p:grpSpPr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5562720" y="596880"/>
                  <a:ext cx="16761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76320" y="168120"/>
              <a:ext cx="914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probability of getting at least two defective item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P(X=2)+P(X=3)= f(2)+f(3)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0" y="1371600"/>
            <a:ext cx="9144000" cy="2743200"/>
            <a:chOff x="0" y="1371600"/>
            <a:chExt cx="9144000" cy="2743200"/>
          </a:xfrm>
        </p:grpSpPr>
        <p:sp>
          <p:nvSpPr>
            <p:cNvPr id="117" name=""/>
            <p:cNvSpPr/>
            <p:nvPr/>
          </p:nvSpPr>
          <p:spPr>
            <a:xfrm>
              <a:off x="0" y="1371600"/>
              <a:ext cx="883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The probability of getting at most two defective item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 = P(X=0)+P(X=1)+P(X=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f(0)+f(1)+f(2) =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4114800" y="2133720"/>
                  <a:ext cx="229392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"/>
            <p:cNvSpPr/>
            <p:nvPr/>
          </p:nvSpPr>
          <p:spPr>
            <a:xfrm>
              <a:off x="0" y="31384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)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&gt;2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(X=3) = 1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(3)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400800" y="3340080"/>
                  <a:ext cx="1430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152280" y="4299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6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320" y="228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4 Hypergeometric Distributio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001000" cy="3516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320" y="436248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Suppose there is a population with 2 types of e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st Type =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nd Type =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population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number of elements of the 1-s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the 2-nd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2280" y="1522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select a samp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lements at random from th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number of elements of 1-st type (number of successes)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6320" y="2133720"/>
            <a:ext cx="8839080" cy="2514600"/>
            <a:chOff x="76320" y="2133720"/>
            <a:chExt cx="8839080" cy="2514600"/>
          </a:xfrm>
        </p:grpSpPr>
        <p:sp>
          <p:nvSpPr>
            <p:cNvPr id="127" name=""/>
            <p:cNvSpPr/>
            <p:nvPr/>
          </p:nvSpPr>
          <p:spPr>
            <a:xfrm>
              <a:off x="76320" y="2133720"/>
              <a:ext cx="8839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There are to two methods of selec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selection with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selection without replac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(1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f we select the elements of the sample at random and with replacement, th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~ Binomial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; whe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167360" y="3728880"/>
                  <a:ext cx="1014120" cy="91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9" name=""/>
          <p:cNvSpPr/>
          <p:nvPr/>
        </p:nvSpPr>
        <p:spPr>
          <a:xfrm>
            <a:off x="76320" y="457524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w, suppose we select the elements of the sample at random and without replacement. When the selection is made without replacement, the random variable X has a hyper 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and we write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447840"/>
                <a:ext cx="4952880" cy="26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eqArr>
                          <m:e/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5715000" y="152280"/>
            <a:ext cx="3220920" cy="3581640"/>
            <a:chOff x="5715000" y="152280"/>
            <a:chExt cx="3220920" cy="358164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5715000" y="152280"/>
              <a:ext cx="3220920" cy="358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flipH="1">
              <a:off x="5715000" y="37339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76320" y="340056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Note tha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320" y="5257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8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ding ass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320" y="763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40 components each are called acceptable if they contain no more than 3 defectives. The procedure for sampling the lot is to select 5 components at random (without replacement) and to reject the lot if a defective is found. What is the probability that exactly one defective is found in the sample if there are 3 defectives in the entire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320" y="2743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8600" y="3276720"/>
            <a:ext cx="8458200" cy="3352680"/>
            <a:chOff x="228600" y="3276720"/>
            <a:chExt cx="8458200" cy="3352680"/>
          </a:xfrm>
        </p:grpSpPr>
        <p:graphicFrame>
          <p:nvGraphicFramePr>
            <p:cNvPr id="139" name=""/>
            <p:cNvGraphicFramePr/>
            <p:nvPr/>
          </p:nvGraphicFramePr>
          <p:xfrm>
            <a:off x="380880" y="3487680"/>
            <a:ext cx="4800600" cy="298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3487680"/>
                      <a:ext cx="4800600" cy="298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" name=""/>
            <p:cNvGraphicFramePr/>
            <p:nvPr/>
          </p:nvGraphicFramePr>
          <p:xfrm>
            <a:off x="5724360" y="3352680"/>
            <a:ext cx="2733840" cy="3200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24360" y="3352680"/>
                      <a:ext cx="273384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28600" y="3276720"/>
              <a:ext cx="8458200" cy="335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327672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66680" y="596880"/>
                <a:ext cx="4972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⋯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7" name=""/>
          <p:cNvGrpSpPr/>
          <p:nvPr/>
        </p:nvGrpSpPr>
        <p:grpSpPr>
          <a:xfrm>
            <a:off x="76320" y="2209680"/>
            <a:ext cx="8915400" cy="3124080"/>
            <a:chOff x="76320" y="2209680"/>
            <a:chExt cx="8915400" cy="3124080"/>
          </a:xfrm>
        </p:grpSpPr>
        <p:sp>
          <p:nvSpPr>
            <p:cNvPr id="48" name=""/>
            <p:cNvSpPr/>
            <p:nvPr/>
          </p:nvSpPr>
          <p:spPr>
            <a:xfrm>
              <a:off x="76320" y="2209680"/>
              <a:ext cx="8915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Theorem 5.1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discrete random variable X has a discrete uniform distribution with parameter k, then the mean and the variance of X a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62120" y="3352680"/>
                  <a:ext cx="1904760" cy="108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50" name=""/>
            <p:cNvGrpSpPr/>
            <p:nvPr/>
          </p:nvGrpSpPr>
          <p:grpSpPr>
            <a:xfrm>
              <a:off x="762120" y="4190760"/>
              <a:ext cx="3962160" cy="1143000"/>
              <a:chOff x="762120" y="4190760"/>
              <a:chExt cx="3962160" cy="1143000"/>
            </a:xfrm>
          </p:grpSpPr>
          <mc:AlternateContent>
            <mc:Choice xmlns:a14="http://schemas.microsoft.com/office/drawing/2010/main" Requires="a14">
              <p:sp>
                <p:nvSpPr>
                  <p:cNvPr id="51" name=""/>
                  <p:cNvSpPr txBox="1"/>
                  <p:nvPr/>
                </p:nvSpPr>
                <p:spPr>
                  <a:xfrm>
                    <a:off x="2583000" y="4190760"/>
                    <a:ext cx="1455480" cy="114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" name=""/>
              <p:cNvSpPr/>
              <p:nvPr/>
            </p:nvSpPr>
            <p:spPr>
              <a:xfrm>
                <a:off x="762120" y="4800600"/>
                <a:ext cx="39621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r(X) =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r>
                  <a:rPr b="0" lang="en-US" sz="2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=</a:t>
                </a:r>
                <a:r>
                  <a:rPr b="0" lang="en-GB" sz="2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17136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X= number of defective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 has a hypergeometric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40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5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X~h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h(x;40,5,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33520" y="2612880"/>
                <a:ext cx="723888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76320" y="490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But the values of X must satis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,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04920"/>
                <a:ext cx="7924680" cy="24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t xml:space="preserve">5,3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76320" y="3200400"/>
            <a:ext cx="8686800" cy="2133720"/>
            <a:chOff x="76320" y="3200400"/>
            <a:chExt cx="8686800" cy="2133720"/>
          </a:xfrm>
        </p:grpSpPr>
        <p:sp>
          <p:nvSpPr>
            <p:cNvPr id="150" name=""/>
            <p:cNvSpPr/>
            <p:nvPr/>
          </p:nvSpPr>
          <p:spPr>
            <a:xfrm>
              <a:off x="76320" y="3200400"/>
              <a:ext cx="86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w, the probability that exactly one defective is found in the sample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f(1)=P(X=1)=h(1;40,5,3)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3833640" y="3759120"/>
                  <a:ext cx="3786480" cy="157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3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52280" y="1828800"/>
            <a:ext cx="7696440" cy="3123720"/>
            <a:chOff x="152280" y="1828800"/>
            <a:chExt cx="7696440" cy="3123720"/>
          </a:xfrm>
        </p:grpSpPr>
        <p:sp>
          <p:nvSpPr>
            <p:cNvPr id="54" name=""/>
            <p:cNvSpPr/>
            <p:nvPr/>
          </p:nvSpPr>
          <p:spPr>
            <a:xfrm>
              <a:off x="152280" y="1828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Arial"/>
                  <a:ea typeface="Arial"/>
                </a:rPr>
                <a:t>Solution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1905120" y="1904760"/>
                  <a:ext cx="3733560" cy="110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380880" y="239220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2209680" y="3001680"/>
                  <a:ext cx="3276720" cy="111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μ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k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k</m:t>
                              </m:r>
                            </m:sup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" name=""/>
            <p:cNvSpPr/>
            <p:nvPr/>
          </p:nvSpPr>
          <p:spPr>
            <a:xfrm>
              <a:off x="380880" y="3504960"/>
              <a:ext cx="1905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(X) = </a:t>
              </a:r>
              <a:r>
                <a:rPr b="0" lang="en-U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0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=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1916280" y="4038480"/>
                  <a:ext cx="593244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6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152280" y="685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 5.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E(X) and Var(X) in Example 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495360"/>
            <a:ext cx="868680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Arial"/>
                <a:ea typeface="Arial"/>
              </a:rPr>
              <a:t>5.3 Binomial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Tr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Bernoulli trial is an experiment with only two possible   outc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 The two possible outcomes are labe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ces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and  failur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probability of success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the probability of failure is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ossing a coin (success=H, failure=T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H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Inspecting an item (success=defective, failure=non-  defective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P(defective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228600"/>
            <a:ext cx="8763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rnoulli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 process is an experiment that must satisfy the following proper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    The experiment consist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peated Bernoulli t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    The probability of success, 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remains constant from   trial to 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    The repeated trials are independent; that is the outcome of   one trial has no effect on the outcome of any other 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346392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inomial Random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the random variabl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successes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s in a Bernou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 a binomial distribution with paramet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umber of trials)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probability of success), and we wr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~ Binomial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 or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b(x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given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617400"/>
                <a:ext cx="79246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mr>
                                </m:m>
                              </m:e>
                            </m:d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;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</m:t>
                            </m:r>
                            <m:r>
                              <m:t xml:space="preserve"> 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…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181840" cy="36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can write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table as foll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3880" y="838080"/>
          <a:ext cx="4267440" cy="5759280"/>
        </p:xfrm>
        <a:graphic>
          <a:graphicData uri="http://schemas.openxmlformats.org/drawingml/2006/table">
            <a:tbl>
              <a:tblPr/>
              <a:tblGrid>
                <a:gridCol w="914400"/>
                <a:gridCol w="33530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=P(X=x)=b(x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9396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646440" y="3994200"/>
                <a:ext cx="2397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90920" y="1346040"/>
                <a:ext cx="309060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90920" y="2184480"/>
                <a:ext cx="18288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90920" y="3038400"/>
                <a:ext cx="18288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585880" y="4392720"/>
                <a:ext cx="221472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90920" y="5232240"/>
                <a:ext cx="2361960" cy="86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  <m:mr>
                            <m:e>
                              <m:r>
                                <m:t xml:space="preserve">n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e>
                        </m:d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320" y="1522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that 25% of the products of a manufacturing process are defective. Three items are selected at random, inspected, and classified as defective (D) or non-defective (N). Find the probability distribution of the number of defective i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46708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Experiment: selecting 3 items at random, inspected, and classified as (D) or (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The sample space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{DDD,DDN,DND,DNN,NDD,NDN,NND,NNN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L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the number of defective items in the 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      We need to find the probability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1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228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1) First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971800" y="203040"/>
          <a:ext cx="4267080" cy="6502680"/>
        </p:xfrm>
        <a:graphic>
          <a:graphicData uri="http://schemas.openxmlformats.org/drawingml/2006/table">
            <a:tbl>
              <a:tblPr/>
              <a:tblGrid>
                <a:gridCol w="1447920"/>
                <a:gridCol w="2133360"/>
                <a:gridCol w="685800"/>
              </a:tblGrid>
              <a:tr h="49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co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648320" y="735120"/>
                <a:ext cx="1676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646520" y="14842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6520" y="22096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646520" y="297180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646520" y="373392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6520" y="4456080"/>
                <a:ext cx="16779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648320" y="5943600"/>
                <a:ext cx="167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648320" y="5181480"/>
                <a:ext cx="167796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0T22:06:25Z</dcterms:created>
  <dc:creator> </dc:creator>
  <dc:description/>
  <dc:language>en-US</dc:language>
  <cp:lastModifiedBy> </cp:lastModifiedBy>
  <dcterms:modified xsi:type="dcterms:W3CDTF">2004-07-11T17:40:38Z</dcterms:modified>
  <cp:revision>6</cp:revision>
  <dc:subject/>
  <dc:title>PowerPoint Presentation</dc:title>
</cp:coreProperties>
</file>