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662-E8A4-4238-B736-36D093C2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3F9-8E24-4D33-BC47-260B0FA0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450B-BA3A-44AE-87DB-B1103748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F2AD-00CC-4612-928F-DA2CE479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6DC-B090-4AAF-BA3E-03C92DC2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C3F7-BC95-4A64-A2A5-FA8161F0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C83-65E4-41C2-A0F3-AF429130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792C-6D97-49D5-8761-A1F3E624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2A22-C8A5-4640-8168-02EB5D3F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52F2-2E5A-4475-BEDF-C6362C77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398-B2B0-45B5-B0B2-83AEA9EC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F23C-86D4-4BF6-AEC9-A1AC4020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5F7E-0F6C-4D8B-9CE1-940F6B588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8915400" cy="30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Chapter 4: Mathematical Expec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4.1 Mean of a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4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. The mean (or expected value) of X is deno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E(X)) and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181160" y="2706840"/>
                <a:ext cx="49910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76320" y="41911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Reading Assig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463536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xample 3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ipment of 8 similar microcomputers to a retail outlet contains 3 that are defective and 5 are non-defective. If a school makes a random purchase of 2 of these computers, find the expected number of defective computers purchas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76320" y="152280"/>
            <a:ext cx="8839080" cy="1922040"/>
            <a:chOff x="76320" y="152280"/>
            <a:chExt cx="8839080" cy="1922040"/>
          </a:xfrm>
        </p:grpSpPr>
        <p:sp>
          <p:nvSpPr>
            <p:cNvPr id="130" name=""/>
            <p:cNvSpPr/>
            <p:nvPr/>
          </p:nvSpPr>
          <p:spPr>
            <a:xfrm>
              <a:off x="76320" y="152280"/>
              <a:ext cx="883908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f(0) + (1) f(1) +(2) f(2) + (3) f(3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(0.51) +  (1) (0.38)  +(2) (0.10) + (3) (0.01) = 0.61   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152280" y="457200"/>
                  <a:ext cx="167652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76320" y="1722600"/>
            <a:ext cx="8839080" cy="2699640"/>
            <a:chOff x="76320" y="1722600"/>
            <a:chExt cx="8839080" cy="2699640"/>
          </a:xfrm>
        </p:grpSpPr>
        <p:sp>
          <p:nvSpPr>
            <p:cNvPr id="133" name=""/>
            <p:cNvSpPr/>
            <p:nvPr/>
          </p:nvSpPr>
          <p:spPr>
            <a:xfrm>
              <a:off x="76320" y="17226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1. First method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33520" y="2116440"/>
                  <a:ext cx="320040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μ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1295280" y="2637000"/>
                  <a:ext cx="2060640" cy="69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36" name=""/>
            <p:cNvSpPr/>
            <p:nvPr/>
          </p:nvSpPr>
          <p:spPr>
            <a:xfrm>
              <a:off x="76320" y="3322800"/>
              <a:ext cx="8839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(0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0)+(1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1)+(2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2)+ (3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3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(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51)+(0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38)+(1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10)+ (2.39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01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0.497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6320" y="4368960"/>
            <a:ext cx="8915400" cy="2184120"/>
            <a:chOff x="76320" y="4368960"/>
            <a:chExt cx="8915400" cy="2184120"/>
          </a:xfrm>
        </p:grpSpPr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533520" y="4719600"/>
                  <a:ext cx="28954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533520" y="5100840"/>
                  <a:ext cx="1981080" cy="6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76320" y="5207040"/>
              <a:ext cx="891540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0) + (1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1) +(2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2) + (3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f(3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(0.51) +  (1) (0.38)  +(4) (0.10) + (9) (0.01) = 0.8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00" y="4368960"/>
              <a:ext cx="252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3300"/>
                  </a:solidFill>
                  <a:latin typeface="Arial"/>
                </a:rPr>
                <a:t>2. Second method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533520" y="6121440"/>
                  <a:ext cx="2895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>
              <a:off x="3352680" y="6121440"/>
              <a:ext cx="3733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=0.87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0.61)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0.497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76320" y="152280"/>
            <a:ext cx="8839080" cy="2517120"/>
            <a:chOff x="76320" y="152280"/>
            <a:chExt cx="8839080" cy="2517120"/>
          </a:xfrm>
        </p:grpSpPr>
        <p:sp>
          <p:nvSpPr>
            <p:cNvPr id="145" name=""/>
            <p:cNvSpPr/>
            <p:nvPr/>
          </p:nvSpPr>
          <p:spPr>
            <a:xfrm>
              <a:off x="76320" y="15228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10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continuous random variable with the following pdf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1371600" y="1193760"/>
                  <a:ext cx="32004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"/>
            <p:cNvSpPr/>
            <p:nvPr/>
          </p:nvSpPr>
          <p:spPr>
            <a:xfrm>
              <a:off x="76320" y="22096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the mean and the variance of 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6320" y="2778120"/>
            <a:ext cx="8229600" cy="2479680"/>
            <a:chOff x="76320" y="2778120"/>
            <a:chExt cx="8229600" cy="2479680"/>
          </a:xfrm>
        </p:grpSpPr>
        <p:sp>
          <p:nvSpPr>
            <p:cNvPr id="149" name=""/>
            <p:cNvSpPr/>
            <p:nvPr/>
          </p:nvSpPr>
          <p:spPr>
            <a:xfrm>
              <a:off x="76320" y="2778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15200" y="3311640"/>
              <a:ext cx="990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3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62920" y="4103640"/>
              <a:ext cx="99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/6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609480" y="3083040"/>
              <a:ext cx="6705720" cy="2174760"/>
              <a:chOff x="609480" y="3083040"/>
              <a:chExt cx="6705720" cy="2174760"/>
            </a:xfrm>
          </p:grpSpPr>
          <p:pic>
            <p:nvPicPr>
              <p:cNvPr id="1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09480" y="3083040"/>
                <a:ext cx="2719440" cy="8254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54" name=""/>
                  <p:cNvSpPr txBox="1"/>
                  <p:nvPr/>
                </p:nvSpPr>
                <p:spPr>
                  <a:xfrm>
                    <a:off x="3352680" y="3083040"/>
                    <a:ext cx="1981440" cy="83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5" name=""/>
                  <p:cNvSpPr txBox="1"/>
                  <p:nvPr/>
                </p:nvSpPr>
                <p:spPr>
                  <a:xfrm>
                    <a:off x="5351400" y="3095640"/>
                    <a:ext cx="1963800" cy="81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pic>
            <p:nvPicPr>
              <p:cNvPr id="1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9480" y="3921120"/>
                <a:ext cx="2514600" cy="812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57" name=""/>
                  <p:cNvSpPr txBox="1"/>
                  <p:nvPr/>
                </p:nvSpPr>
                <p:spPr>
                  <a:xfrm>
                    <a:off x="3124080" y="3938760"/>
                    <a:ext cx="1970280" cy="785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[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8" name=""/>
                  <p:cNvSpPr txBox="1"/>
                  <p:nvPr/>
                </p:nvSpPr>
                <p:spPr>
                  <a:xfrm>
                    <a:off x="5105520" y="3921120"/>
                    <a:ext cx="2057400" cy="80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2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9" name=""/>
                  <p:cNvSpPr txBox="1"/>
                  <p:nvPr/>
                </p:nvSpPr>
                <p:spPr>
                  <a:xfrm>
                    <a:off x="609480" y="4759200"/>
                    <a:ext cx="3733920" cy="49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60" name=""/>
              <p:cNvSpPr/>
              <p:nvPr/>
            </p:nvSpPr>
            <p:spPr>
              <a:xfrm>
                <a:off x="4343400" y="4789440"/>
                <a:ext cx="28195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7/6 –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(5/3)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/8 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76320" y="152280"/>
            <a:ext cx="8915400" cy="3423960"/>
            <a:chOff x="76320" y="152280"/>
            <a:chExt cx="8915400" cy="3423960"/>
          </a:xfrm>
        </p:grpSpPr>
        <p:sp>
          <p:nvSpPr>
            <p:cNvPr id="162" name=""/>
            <p:cNvSpPr/>
            <p:nvPr/>
          </p:nvSpPr>
          <p:spPr>
            <a:xfrm>
              <a:off x="76320" y="152280"/>
              <a:ext cx="891540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3 Means and Variances of Linear Combinations of Random Variabl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 the random variable 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523880" y="1841400"/>
                  <a:ext cx="525780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4" name=""/>
            <p:cNvSpPr/>
            <p:nvPr/>
          </p:nvSpPr>
          <p:spPr>
            <a:xfrm>
              <a:off x="76320" y="2619000"/>
              <a:ext cx="88390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called a linear combination of the random variables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…,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6320" y="3429000"/>
            <a:ext cx="883908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4.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 is a random variable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E(X), and if 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b are constant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a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) = a E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a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±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rollary 1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b) =  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=0 in Theorem 4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rollary 2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E(aX) = a E(X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=0 in Theorem 4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76320" y="152280"/>
            <a:ext cx="8915400" cy="2669760"/>
            <a:chOff x="76320" y="152280"/>
            <a:chExt cx="8915400" cy="2669760"/>
          </a:xfrm>
        </p:grpSpPr>
        <p:sp>
          <p:nvSpPr>
            <p:cNvPr id="167" name=""/>
            <p:cNvSpPr/>
            <p:nvPr/>
          </p:nvSpPr>
          <p:spPr>
            <a:xfrm>
              <a:off x="76320" y="15228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16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random variable with the following probability density fun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1995480" y="1082520"/>
                  <a:ext cx="3110040" cy="129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9" name=""/>
            <p:cNvSpPr/>
            <p:nvPr/>
          </p:nvSpPr>
          <p:spPr>
            <a:xfrm>
              <a:off x="76320" y="236232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E(4X+3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6320" y="2895480"/>
            <a:ext cx="8991360" cy="3429000"/>
            <a:chOff x="76320" y="2895480"/>
            <a:chExt cx="8991360" cy="34290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52280" y="3124080"/>
              <a:ext cx="281952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6320" y="28954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2971800" y="3124080"/>
                  <a:ext cx="175248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]</m:t>
                          </m:r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4724280" y="3124080"/>
                  <a:ext cx="16002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6324480" y="3124080"/>
                  <a:ext cx="205740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8381880" y="3306600"/>
              <a:ext cx="685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5/4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320" y="4038480"/>
              <a:ext cx="5867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4X+3) = 4 E(X)+3 = 4(5/4) + 3=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other 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" name=""/>
                <p:cNvSpPr txBox="1"/>
                <p:nvPr/>
              </p:nvSpPr>
              <p:spPr>
                <a:xfrm>
                  <a:off x="380880" y="4727160"/>
                  <a:ext cx="303372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[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79" name=""/>
            <p:cNvSpPr/>
            <p:nvPr/>
          </p:nvSpPr>
          <p:spPr>
            <a:xfrm>
              <a:off x="3505320" y="4937040"/>
              <a:ext cx="2361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; g(X) = 4X+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320" y="57085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4X+3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1600200" y="5479920"/>
                  <a:ext cx="22096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886200" y="5489280"/>
                  <a:ext cx="328284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]</m:t>
                          </m:r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⋯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76320" y="155520"/>
            <a:ext cx="8839080" cy="2587680"/>
            <a:chOff x="76320" y="155520"/>
            <a:chExt cx="8839080" cy="2587680"/>
          </a:xfrm>
        </p:grpSpPr>
        <p:sp>
          <p:nvSpPr>
            <p:cNvPr id="184" name=""/>
            <p:cNvSpPr/>
            <p:nvPr/>
          </p:nvSpPr>
          <p:spPr>
            <a:xfrm>
              <a:off x="76320" y="155520"/>
              <a:ext cx="8839080" cy="20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 … 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=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…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048120" y="1976400"/>
                  <a:ext cx="295740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E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6" name=""/>
          <p:cNvSpPr/>
          <p:nvPr/>
        </p:nvSpPr>
        <p:spPr>
          <a:xfrm>
            <a:off x="76320" y="2666880"/>
            <a:ext cx="876276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, and Y are random variable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 Y) = E(X) ± E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6320" y="3875040"/>
            <a:ext cx="8915400" cy="2297160"/>
            <a:chOff x="76320" y="3875040"/>
            <a:chExt cx="8915400" cy="2297160"/>
          </a:xfrm>
        </p:grpSpPr>
        <p:sp>
          <p:nvSpPr>
            <p:cNvPr id="188" name=""/>
            <p:cNvSpPr/>
            <p:nvPr/>
          </p:nvSpPr>
          <p:spPr>
            <a:xfrm>
              <a:off x="76320" y="3875040"/>
              <a:ext cx="8915400" cy="19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9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 is a random variable with varianc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if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b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a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= a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Var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5410080" y="4253040"/>
                  <a:ext cx="182880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3648240" y="5700960"/>
                  <a:ext cx="1838160" cy="47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76320" y="284040"/>
            <a:ext cx="8839080" cy="3830760"/>
            <a:chOff x="76320" y="284040"/>
            <a:chExt cx="8839080" cy="3830760"/>
          </a:xfrm>
        </p:grpSpPr>
        <p:sp>
          <p:nvSpPr>
            <p:cNvPr id="192" name=""/>
            <p:cNvSpPr/>
            <p:nvPr/>
          </p:nvSpPr>
          <p:spPr>
            <a:xfrm>
              <a:off x="76320" y="284040"/>
              <a:ext cx="8839080" cy="26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n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independen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random variables and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re constants, the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…+a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     Var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     Var 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+…+      Var(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209680" y="1731960"/>
                  <a:ext cx="3859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3886200" y="1808280"/>
                  <a:ext cx="3859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"/>
                <p:cNvSpPr txBox="1"/>
                <p:nvPr/>
              </p:nvSpPr>
              <p:spPr>
                <a:xfrm>
                  <a:off x="6048360" y="1808280"/>
                  <a:ext cx="42876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2819520" y="2489040"/>
                  <a:ext cx="34909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Var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1676520" y="3554280"/>
                  <a:ext cx="7010280" cy="5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…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r>
                        <m:t xml:space="preserve">…</m:t>
                      </m:r>
                      <m:r>
                        <m:t xml:space="preserve">+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98" name=""/>
            <p:cNvSpPr/>
            <p:nvPr/>
          </p:nvSpPr>
          <p:spPr>
            <a:xfrm>
              <a:off x="4285800" y="317988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28600" y="425448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oll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X, and Y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ndom variables, t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aX+bY)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a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) =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Var(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) = Var(X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307800"/>
            <a:ext cx="876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, and Y be two independent random variables such that E(X)=2, Var(X)=4, E(Y)=7, and Var(Y)=1. Fi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 E(3X+7) and Var(3X+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   E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 and Var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20" y="251784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E(3X+7) = 3E(X)+7 = 3(2)+7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3X+7)= 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(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4) =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E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= 5E(X) + 2E(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= (5)(2) + (2)(7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=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5X+2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)= Var(5X+2Y)=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X) +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r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(25)(4)+(4)(1) = 1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029200" y="942840"/>
            <a:ext cx="3990960" cy="347688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76320" y="228600"/>
            <a:ext cx="5181480" cy="4876920"/>
            <a:chOff x="76320" y="228600"/>
            <a:chExt cx="5181480" cy="4876920"/>
          </a:xfrm>
        </p:grpSpPr>
        <p:sp>
          <p:nvSpPr>
            <p:cNvPr id="204" name=""/>
            <p:cNvSpPr/>
            <p:nvPr/>
          </p:nvSpPr>
          <p:spPr>
            <a:xfrm>
              <a:off x="76320" y="228600"/>
              <a:ext cx="5181480" cy="46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4 Chebyshev's Theor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Suppose that X is any random variable with mean 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nd variance Var(X)=      and standard deviat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Chebyshev's Theorem gives a conservative estimate of the probability  that the random variable X assumes a value within k standard deviations (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 of its mean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ich is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*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548080" y="1295280"/>
                  <a:ext cx="42372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711600" y="4267080"/>
                  <a:ext cx="47952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76320" y="228600"/>
            <a:ext cx="8915400" cy="1969920"/>
            <a:chOff x="76320" y="228600"/>
            <a:chExt cx="8915400" cy="1969920"/>
          </a:xfrm>
        </p:grpSpPr>
        <p:sp>
          <p:nvSpPr>
            <p:cNvPr id="208" name=""/>
            <p:cNvSpPr/>
            <p:nvPr/>
          </p:nvSpPr>
          <p:spPr>
            <a:xfrm>
              <a:off x="76320" y="228600"/>
              <a:ext cx="8915400" cy="17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11:(Chebyshev's Theorem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random variable with mean E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variance 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then for k&gt;1, we hav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7724880" y="1447920"/>
                  <a:ext cx="42840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3990960" y="1447920"/>
                  <a:ext cx="428760" cy="75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828800" y="2266920"/>
            <a:ext cx="3605040" cy="1390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6320" y="381312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having an unknown distribution with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8 and vari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9 (standard deviat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). Find the following proba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&lt;X&lt; 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|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|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76320" y="368280"/>
            <a:ext cx="8839080" cy="5426640"/>
            <a:chOff x="76320" y="368280"/>
            <a:chExt cx="8839080" cy="5426640"/>
          </a:xfrm>
        </p:grpSpPr>
        <p:sp>
          <p:nvSpPr>
            <p:cNvPr id="214" name=""/>
            <p:cNvSpPr/>
            <p:nvPr/>
          </p:nvSpPr>
          <p:spPr>
            <a:xfrm>
              <a:off x="76320" y="368280"/>
              <a:ext cx="8839080" cy="41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a) P(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4 &lt;X&lt; 20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 &lt;X&lt; 20)= 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4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(3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+ k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+ 3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1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k=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k=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505320" y="1066680"/>
                  <a:ext cx="40932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228600" y="3765240"/>
                  <a:ext cx="258120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"/>
            <p:cNvSpPr/>
            <p:nvPr/>
          </p:nvSpPr>
          <p:spPr>
            <a:xfrm>
              <a:off x="76320" y="4603680"/>
              <a:ext cx="83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&lt;X&lt; 20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, and hence,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 &lt;X&lt; 20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(approximate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3962520" y="4527360"/>
                  <a:ext cx="3808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8458200" y="4527360"/>
                  <a:ext cx="38088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76920" y="735120"/>
            <a:ext cx="38862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752480" y="1720800"/>
          <a:ext cx="3810240" cy="1326960"/>
        </p:xfrm>
        <a:graphic>
          <a:graphicData uri="http://schemas.openxmlformats.org/drawingml/2006/table">
            <a:tbl>
              <a:tblPr/>
              <a:tblGrid>
                <a:gridCol w="1752840"/>
                <a:gridCol w="685800"/>
                <a:gridCol w="685800"/>
                <a:gridCol w="68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p(X=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657600" y="2228760"/>
            <a:ext cx="357120" cy="685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352760" y="2276640"/>
                <a:ext cx="3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5038560" y="2276640"/>
                <a:ext cx="338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52280" y="120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= the number of defective computers purch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xample 3.3, we found that the probability distribution of 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09480" y="3425760"/>
                <a:ext cx="468648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6320" y="171360"/>
            <a:ext cx="6781680" cy="5624640"/>
            <a:chOff x="76320" y="171360"/>
            <a:chExt cx="6781680" cy="5624640"/>
          </a:xfrm>
        </p:grpSpPr>
        <p:sp>
          <p:nvSpPr>
            <p:cNvPr id="222" name=""/>
            <p:cNvSpPr/>
            <p:nvPr/>
          </p:nvSpPr>
          <p:spPr>
            <a:xfrm>
              <a:off x="76320" y="171360"/>
              <a:ext cx="6248160" cy="28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(b) P(|X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 6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=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=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= (|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| &lt;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6=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=3k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k=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2665440" y="1235160"/>
                  <a:ext cx="38268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4" name=""/>
                <p:cNvSpPr txBox="1"/>
                <p:nvPr/>
              </p:nvSpPr>
              <p:spPr>
                <a:xfrm>
                  <a:off x="351000" y="2514600"/>
                  <a:ext cx="233676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"/>
            <p:cNvSpPr/>
            <p:nvPr/>
          </p:nvSpPr>
          <p:spPr>
            <a:xfrm>
              <a:off x="76320" y="3416400"/>
              <a:ext cx="6781680" cy="23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&lt;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fore, 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|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6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(approximately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5713560" y="3392640"/>
                  <a:ext cx="23004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5648400" y="3924360"/>
                  <a:ext cx="2300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5029200" y="4421160"/>
                  <a:ext cx="23004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581280" y="4952880"/>
                  <a:ext cx="230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0" name=""/>
                <p:cNvSpPr txBox="1"/>
                <p:nvPr/>
              </p:nvSpPr>
              <p:spPr>
                <a:xfrm>
                  <a:off x="2131920" y="3429000"/>
                  <a:ext cx="2304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334120" y="692280"/>
            <a:ext cx="35049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76320" y="152280"/>
            <a:ext cx="8076960" cy="5865840"/>
            <a:chOff x="76320" y="152280"/>
            <a:chExt cx="8076960" cy="5865840"/>
          </a:xfrm>
        </p:grpSpPr>
        <p:sp>
          <p:nvSpPr>
            <p:cNvPr id="234" name=""/>
            <p:cNvSpPr/>
            <p:nvPr/>
          </p:nvSpPr>
          <p:spPr>
            <a:xfrm>
              <a:off x="76320" y="152280"/>
              <a:ext cx="8076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Another solution for part (b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(|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| &lt; 6) =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 &lt;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 &lt; 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 +8&lt;X &lt; 6+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P(2&lt;X &lt; 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2&lt;X &lt;14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=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X&lt;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k(3)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8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k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3k=6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Garamond"/>
                </a:rPr>
                <a:t> k=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351000" y="2514600"/>
                  <a:ext cx="2336760" cy="83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36" name=""/>
            <p:cNvGrpSpPr/>
            <p:nvPr/>
          </p:nvGrpSpPr>
          <p:grpSpPr>
            <a:xfrm>
              <a:off x="76320" y="3355920"/>
              <a:ext cx="6933960" cy="2662200"/>
              <a:chOff x="76320" y="3355920"/>
              <a:chExt cx="6933960" cy="2662200"/>
            </a:xfrm>
          </p:grpSpPr>
          <p:sp>
            <p:nvSpPr>
              <p:cNvPr id="237" name=""/>
              <p:cNvSpPr/>
              <p:nvPr/>
            </p:nvSpPr>
            <p:spPr>
              <a:xfrm>
                <a:off x="76320" y="3355920"/>
                <a:ext cx="6933960" cy="253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2&lt;X &lt; 14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&lt;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 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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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refore, P(|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|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6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(approximately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8" name=""/>
                  <p:cNvSpPr txBox="1"/>
                  <p:nvPr/>
                </p:nvSpPr>
                <p:spPr>
                  <a:xfrm>
                    <a:off x="2131920" y="3355920"/>
                    <a:ext cx="230400" cy="60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9" name=""/>
                  <p:cNvSpPr txBox="1"/>
                  <p:nvPr/>
                </p:nvSpPr>
                <p:spPr>
                  <a:xfrm>
                    <a:off x="6018120" y="3887640"/>
                    <a:ext cx="23040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0" name=""/>
                  <p:cNvSpPr txBox="1"/>
                  <p:nvPr/>
                </p:nvSpPr>
                <p:spPr>
                  <a:xfrm>
                    <a:off x="4800600" y="3355920"/>
                    <a:ext cx="230040" cy="60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1" name=""/>
                  <p:cNvSpPr txBox="1"/>
                  <p:nvPr/>
                </p:nvSpPr>
                <p:spPr>
                  <a:xfrm>
                    <a:off x="5562720" y="4419720"/>
                    <a:ext cx="23004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2" name=""/>
                  <p:cNvSpPr txBox="1"/>
                  <p:nvPr/>
                </p:nvSpPr>
                <p:spPr>
                  <a:xfrm>
                    <a:off x="5103720" y="4954680"/>
                    <a:ext cx="23040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3579840" y="5410080"/>
                    <a:ext cx="230040" cy="608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76320" y="152280"/>
            <a:ext cx="8915400" cy="3340080"/>
            <a:chOff x="76320" y="152280"/>
            <a:chExt cx="8915400" cy="3340080"/>
          </a:xfrm>
        </p:grpSpPr>
        <p:sp>
          <p:nvSpPr>
            <p:cNvPr id="53" name=""/>
            <p:cNvSpPr/>
            <p:nvPr/>
          </p:nvSpPr>
          <p:spPr>
            <a:xfrm>
              <a:off x="76320" y="15228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expected value of the number of defective computers purchased is the mean (or the expected value) of X, which i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895320" y="882720"/>
                  <a:ext cx="253368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  <m:e>
                          <m:r>
                            <m:t xml:space="preserve">x</m:t>
                          </m:r>
                        </m:e>
                      </m:nary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76320" y="1523880"/>
              <a:ext cx="761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(0) f(0) + (1) f(1) +(2) f(2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" name=""/>
                <p:cNvSpPr txBox="1"/>
                <p:nvPr/>
              </p:nvSpPr>
              <p:spPr>
                <a:xfrm>
                  <a:off x="917640" y="1905120"/>
                  <a:ext cx="319716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914400" y="2666880"/>
                  <a:ext cx="288936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4343400" y="281952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omputers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320" y="3552840"/>
            <a:ext cx="8915400" cy="2942640"/>
            <a:chOff x="76320" y="3552840"/>
            <a:chExt cx="8915400" cy="2942640"/>
          </a:xfrm>
        </p:grpSpPr>
        <p:sp>
          <p:nvSpPr>
            <p:cNvPr id="60" name=""/>
            <p:cNvSpPr/>
            <p:nvPr/>
          </p:nvSpPr>
          <p:spPr>
            <a:xfrm>
              <a:off x="76320" y="3552840"/>
              <a:ext cx="8915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 4.3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 X be a continuous random variable that represents the life (in hours) of a certain electronic device. The pdf of X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143000" y="4648320"/>
                  <a:ext cx="32767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62" name=""/>
            <p:cNvSpPr/>
            <p:nvPr/>
          </p:nvSpPr>
          <p:spPr>
            <a:xfrm>
              <a:off x="76320" y="6035760"/>
              <a:ext cx="79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the expected life of this type of devic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1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228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33520" y="460440"/>
            <a:ext cx="6933960" cy="5114880"/>
            <a:chOff x="533520" y="460440"/>
            <a:chExt cx="6933960" cy="5114880"/>
          </a:xfrm>
        </p:grpSpPr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533520" y="460440"/>
                  <a:ext cx="3138480" cy="91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905120" y="1314360"/>
                  <a:ext cx="1904760" cy="104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00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905120" y="2359080"/>
                  <a:ext cx="2498760" cy="106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nary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d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905120" y="3429000"/>
                  <a:ext cx="3276360" cy="10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70" name=""/>
            <p:cNvGrpSpPr/>
            <p:nvPr/>
          </p:nvGrpSpPr>
          <p:grpSpPr>
            <a:xfrm>
              <a:off x="1905120" y="4495680"/>
              <a:ext cx="5562360" cy="1079640"/>
              <a:chOff x="1905120" y="4495680"/>
              <a:chExt cx="5562360" cy="1079640"/>
            </a:xfrm>
          </p:grpSpPr>
          <mc:AlternateContent>
            <mc:Choice xmlns:a14="http://schemas.microsoft.com/office/drawing/2010/main" Requires="a14">
              <p:sp>
                <p:nvSpPr>
                  <p:cNvPr id="71" name=""/>
                  <p:cNvSpPr txBox="1"/>
                  <p:nvPr/>
                </p:nvSpPr>
                <p:spPr>
                  <a:xfrm>
                    <a:off x="1905120" y="4495680"/>
                    <a:ext cx="4151160" cy="107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000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72" name=""/>
              <p:cNvSpPr/>
              <p:nvPr/>
            </p:nvSpPr>
            <p:spPr>
              <a:xfrm>
                <a:off x="6172200" y="480060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(hour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257800" y="736560"/>
            <a:ext cx="3657600" cy="2730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320" y="56386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we expect that this type of electronic devices to last, on average, 200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6320" y="152280"/>
            <a:ext cx="89154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4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, and let g(X) be a function of the random variable X. The mean (or expected value) of the random variable g(X) is denoted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g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or E[g(X)]) and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066680" y="2057400"/>
                <a:ext cx="58104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76320" y="335268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discrete random variable with the following probability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819520" y="4540320"/>
          <a:ext cx="2743200" cy="13269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657600" y="5048280"/>
                <a:ext cx="357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352760" y="5095800"/>
                <a:ext cx="3384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5038560" y="5095800"/>
                <a:ext cx="3384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6320" y="59594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E[g(X)], where g(X)=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28600" y="704880"/>
            <a:ext cx="7543800" cy="3562200"/>
            <a:chOff x="228600" y="704880"/>
            <a:chExt cx="7543800" cy="3562200"/>
          </a:xfrm>
        </p:grpSpPr>
        <p:sp>
          <p:nvSpPr>
            <p:cNvPr id="84" name=""/>
            <p:cNvSpPr/>
            <p:nvPr/>
          </p:nvSpPr>
          <p:spPr>
            <a:xfrm>
              <a:off x="228600" y="704880"/>
              <a:ext cx="518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(X)=(X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04560" y="1420920"/>
              <a:ext cx="7467840" cy="2846160"/>
              <a:chOff x="304560" y="1420920"/>
              <a:chExt cx="7467840" cy="2846160"/>
            </a:xfrm>
          </p:grpSpPr>
          <mc:AlternateContent>
            <mc:Choice xmlns:a14="http://schemas.microsoft.com/office/drawing/2010/main" Requires="a14">
              <p:sp>
                <p:nvSpPr>
                  <p:cNvPr id="86" name=""/>
                  <p:cNvSpPr txBox="1"/>
                  <p:nvPr/>
                </p:nvSpPr>
                <p:spPr>
                  <a:xfrm>
                    <a:off x="304560" y="1420920"/>
                    <a:ext cx="5334120" cy="73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87" name=""/>
              <p:cNvSpPr/>
              <p:nvPr/>
            </p:nvSpPr>
            <p:spPr>
              <a:xfrm>
                <a:off x="380880" y="2152800"/>
                <a:ext cx="7391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= (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f(0) + (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f(1) +(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f(2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1166760" y="2610000"/>
                <a:ext cx="4242600" cy="838080"/>
                <a:chOff x="1166760" y="2610000"/>
                <a:chExt cx="4242600" cy="83808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89" name=""/>
                    <p:cNvSpPr txBox="1"/>
                    <p:nvPr/>
                  </p:nvSpPr>
                  <p:spPr>
                    <a:xfrm>
                      <a:off x="2209680" y="2610000"/>
                      <a:ext cx="435960" cy="8380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90" name=""/>
                <p:cNvSpPr/>
                <p:nvPr/>
              </p:nvSpPr>
              <p:spPr>
                <a:xfrm>
                  <a:off x="1166760" y="2762280"/>
                  <a:ext cx="1019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= (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)</a:t>
                  </a:r>
                  <a:r>
                    <a:rPr b="0" lang="en-US" sz="2400" spc="-1" strike="noStrike" baseline="30000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" name=""/>
                <p:cNvGrpSpPr/>
                <p:nvPr/>
              </p:nvGrpSpPr>
              <p:grpSpPr>
                <a:xfrm>
                  <a:off x="2749680" y="2685960"/>
                  <a:ext cx="1409040" cy="720720"/>
                  <a:chOff x="2749680" y="2685960"/>
                  <a:chExt cx="1409040" cy="72072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>
                    <a:off x="2749680" y="2779560"/>
                    <a:ext cx="1002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  (0)</a:t>
                    </a:r>
                    <a:r>
                      <a:rPr b="0" lang="en-US" sz="24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93" name=""/>
                      <p:cNvSpPr txBox="1"/>
                      <p:nvPr/>
                    </p:nvSpPr>
                    <p:spPr>
                      <a:xfrm>
                        <a:off x="3744360" y="2685960"/>
                        <a:ext cx="414360" cy="7207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p:grpSp>
              <p:nvGrpSpPr>
                <p:cNvPr id="94" name=""/>
                <p:cNvGrpSpPr/>
                <p:nvPr/>
              </p:nvGrpSpPr>
              <p:grpSpPr>
                <a:xfrm>
                  <a:off x="4147200" y="2685960"/>
                  <a:ext cx="1262160" cy="722160"/>
                  <a:chOff x="4147200" y="2685960"/>
                  <a:chExt cx="1262160" cy="72216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4147200" y="2781000"/>
                    <a:ext cx="916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(1)</a:t>
                    </a:r>
                    <a:r>
                      <a:rPr b="0" lang="en-US" sz="2400" spc="-1" strike="noStrike" baseline="30000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96" name=""/>
                      <p:cNvSpPr txBox="1"/>
                      <p:nvPr/>
                    </p:nvSpPr>
                    <p:spPr>
                      <a:xfrm>
                        <a:off x="4996800" y="2685960"/>
                        <a:ext cx="412560" cy="72216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</p:grpSp>
          <mc:AlternateContent>
            <mc:Choice xmlns:a14="http://schemas.microsoft.com/office/drawing/2010/main" Requires="a14">
              <p:sp>
                <p:nvSpPr>
                  <p:cNvPr id="97" name=""/>
                  <p:cNvSpPr txBox="1"/>
                  <p:nvPr/>
                </p:nvSpPr>
                <p:spPr>
                  <a:xfrm>
                    <a:off x="1143000" y="3402000"/>
                    <a:ext cx="259056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52280" y="162000"/>
            <a:ext cx="4800600" cy="1057320"/>
            <a:chOff x="152280" y="162000"/>
            <a:chExt cx="4800600" cy="1057320"/>
          </a:xfrm>
        </p:grpSpPr>
        <p:sp>
          <p:nvSpPr>
            <p:cNvPr id="99" name=""/>
            <p:cNvSpPr/>
            <p:nvPr/>
          </p:nvSpPr>
          <p:spPr>
            <a:xfrm>
              <a:off x="152280" y="162000"/>
              <a:ext cx="480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Example 4.3, fi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3178080" y="488880"/>
                  <a:ext cx="56376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152280" y="11890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3520" y="1622520"/>
            <a:ext cx="7391160" cy="4625640"/>
            <a:chOff x="533520" y="1622520"/>
            <a:chExt cx="7391160" cy="4625640"/>
          </a:xfrm>
        </p:grpSpPr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533520" y="1622520"/>
                  <a:ext cx="2895480" cy="11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00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p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533520" y="2801880"/>
                  <a:ext cx="119520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558720" y="3627360"/>
                  <a:ext cx="104148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600200" y="3627360"/>
                  <a:ext cx="5410080" cy="82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[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</m:e>
                      </m:nary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1600200" y="4465440"/>
                  <a:ext cx="37339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0000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000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 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334120" y="4465440"/>
                  <a:ext cx="2590560" cy="88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000</m:t>
                          </m:r>
                        </m:num>
                        <m:den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</m:e>
                        <m:e/>
                        <m:e>
                          <m:eqArr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eqArr>
                          <m:r>
                            <m:t xml:space="preserve">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1600200" y="5379840"/>
                  <a:ext cx="434340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00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 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0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000000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67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76320" y="228600"/>
            <a:ext cx="8915400" cy="1371600"/>
            <a:chOff x="76320" y="228600"/>
            <a:chExt cx="8915400" cy="1371600"/>
          </a:xfrm>
        </p:grpSpPr>
        <p:sp>
          <p:nvSpPr>
            <p:cNvPr id="111" name=""/>
            <p:cNvSpPr/>
            <p:nvPr/>
          </p:nvSpPr>
          <p:spPr>
            <a:xfrm>
              <a:off x="76320" y="228600"/>
              <a:ext cx="8915400" cy="13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4.2 Variance (of a Random Variable)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ost important measure of variability of a random variable X is called the variance of X and is denoted by Var(X)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7810560" y="1066680"/>
                  <a:ext cx="495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" name=""/>
          <p:cNvSpPr/>
          <p:nvPr/>
        </p:nvSpPr>
        <p:spPr>
          <a:xfrm>
            <a:off x="76320" y="16002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4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random variable with a probability distribution f(x) and me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 variance of X is defin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85800" y="2724120"/>
                <a:ext cx="739152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ll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x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rete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76320" y="3933720"/>
            <a:ext cx="8839080" cy="1191240"/>
            <a:chOff x="76320" y="3933720"/>
            <a:chExt cx="8839080" cy="1191240"/>
          </a:xfrm>
        </p:grpSpPr>
        <p:sp>
          <p:nvSpPr>
            <p:cNvPr id="116" name=""/>
            <p:cNvSpPr/>
            <p:nvPr/>
          </p:nvSpPr>
          <p:spPr>
            <a:xfrm>
              <a:off x="76320" y="3933720"/>
              <a:ext cx="883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Defini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ositive square root of the variance of X,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,is called the standard deviation of X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6248520" y="4267080"/>
                  <a:ext cx="137160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" name=""/>
          <p:cNvSpPr/>
          <p:nvPr/>
        </p:nvSpPr>
        <p:spPr>
          <a:xfrm>
            <a:off x="76320" y="5137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E[g(X)], where g(X)=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2280" y="76320"/>
            <a:ext cx="8305920" cy="2655720"/>
            <a:chOff x="152280" y="76320"/>
            <a:chExt cx="8305920" cy="2655720"/>
          </a:xfrm>
        </p:grpSpPr>
        <p:sp>
          <p:nvSpPr>
            <p:cNvPr id="120" name=""/>
            <p:cNvSpPr/>
            <p:nvPr/>
          </p:nvSpPr>
          <p:spPr>
            <a:xfrm>
              <a:off x="152280" y="7632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4.2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variance of the random variable  X is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1295280" y="838440"/>
                  <a:ext cx="335304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ar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μ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2" name=""/>
                <p:cNvSpPr txBox="1"/>
                <p:nvPr/>
              </p:nvSpPr>
              <p:spPr>
                <a:xfrm>
                  <a:off x="1295280" y="1295640"/>
                  <a:ext cx="4648320" cy="143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t xml:space="preserve">E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ll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x</m:t>
                                  </m:r>
                                </m:sub>
                                <m:sup/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 </m:t>
                                  </m:r>
                                  <m:r>
                                    <m:t xml:space="preserve">f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s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screte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3" name=""/>
            <p:cNvSpPr/>
            <p:nvPr/>
          </p:nvSpPr>
          <p:spPr>
            <a:xfrm>
              <a:off x="228600" y="17528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52280" y="266688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4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X be a discrete random variable with the following probability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28800" y="3886200"/>
          <a:ext cx="4495680" cy="1104840"/>
        </p:xfrm>
        <a:graphic>
          <a:graphicData uri="http://schemas.openxmlformats.org/drawingml/2006/table">
            <a:tbl>
              <a:tblPr/>
              <a:tblGrid>
                <a:gridCol w="898920"/>
                <a:gridCol w="899280"/>
                <a:gridCol w="898920"/>
                <a:gridCol w="899280"/>
                <a:gridCol w="89928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152280" y="5105520"/>
            <a:ext cx="4419720" cy="609480"/>
            <a:chOff x="152280" y="5105520"/>
            <a:chExt cx="4419720" cy="609480"/>
          </a:xfrm>
        </p:grpSpPr>
        <p:sp>
          <p:nvSpPr>
            <p:cNvPr id="127" name=""/>
            <p:cNvSpPr/>
            <p:nvPr/>
          </p:nvSpPr>
          <p:spPr>
            <a:xfrm>
              <a:off x="152280" y="5197320"/>
              <a:ext cx="441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nd Var(X)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2057400" y="5105520"/>
                  <a:ext cx="568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20:52:19Z</dcterms:created>
  <dc:creator> </dc:creator>
  <dc:description/>
  <dc:language>en-US</dc:language>
  <cp:lastModifiedBy> </cp:lastModifiedBy>
  <dcterms:modified xsi:type="dcterms:W3CDTF">2004-06-20T22:04:17Z</dcterms:modified>
  <cp:revision>4</cp:revision>
  <dc:subject/>
  <dc:title>PowerPoint Presentation</dc:title>
</cp:coreProperties>
</file>