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52C-70A3-450E-AA85-BB181799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7F1-9F29-40FB-9167-2352171F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B2D-7E8C-47BE-B0D5-AF8C5209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1E9-458C-47F5-89F9-8A586E1C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4ED-8BD7-4324-8FE5-0D7D8E94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660-3E99-43B5-A0B8-A873371F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258-CEEB-4AA9-BE18-FB9B086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AE9-70AE-46A4-A03E-E01B9995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CDC-3E2C-4918-B99F-4295DAD6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32E-2E79-4CEE-A5E0-A544C75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5FD-7D27-4D4B-948F-2E059214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939-948F-4F7C-A5EF-D2095C5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DB5-B629-4A08-B849-19219CBC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4: Mathematical Expec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4.1 Mean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. The mean (or expected value) of X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(X)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181160" y="2706840"/>
                <a:ext cx="49910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320" y="41911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ading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63536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xample 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 to a retail outlet contains 3 that are defective and 5 are non-defective. If a school makes a random purchase of 2 of these computers, find the expected number of defective computers purch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76320" y="152280"/>
            <a:ext cx="8839080" cy="1922040"/>
            <a:chOff x="76320" y="152280"/>
            <a:chExt cx="8839080" cy="1922040"/>
          </a:xfrm>
        </p:grpSpPr>
        <p:sp>
          <p:nvSpPr>
            <p:cNvPr id="130" name=""/>
            <p:cNvSpPr/>
            <p:nvPr/>
          </p:nvSpPr>
          <p:spPr>
            <a:xfrm>
              <a:off x="76320" y="152280"/>
              <a:ext cx="88390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+ (3) f(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2) (0.10) + (3) (0.01) = 0.61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52280" y="457200"/>
                  <a:ext cx="16765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76320" y="1722600"/>
            <a:ext cx="8839080" cy="2699640"/>
            <a:chOff x="76320" y="1722600"/>
            <a:chExt cx="8839080" cy="2699640"/>
          </a:xfrm>
        </p:grpSpPr>
        <p:sp>
          <p:nvSpPr>
            <p:cNvPr id="133" name=""/>
            <p:cNvSpPr/>
            <p:nvPr/>
          </p:nvSpPr>
          <p:spPr>
            <a:xfrm>
              <a:off x="76320" y="1722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1. First metho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33520" y="2116440"/>
                  <a:ext cx="32004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95280" y="2637000"/>
                  <a:ext cx="206064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76320" y="3322800"/>
              <a:ext cx="8839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+(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1)+(2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2)+ (3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51)+(0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38)+(1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10)+ (2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0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6320" y="4368960"/>
            <a:ext cx="8915400" cy="2184120"/>
            <a:chOff x="76320" y="4368960"/>
            <a:chExt cx="8915400" cy="218412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33520" y="4719600"/>
                  <a:ext cx="2895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33520" y="5100840"/>
                  <a:ext cx="19810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76320" y="5207040"/>
              <a:ext cx="89154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0) + (1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1) +(2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2) + (3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4) (0.10) + (9) (0.01) = 0.8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00" y="4368960"/>
              <a:ext cx="252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2. Second method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3520" y="6121440"/>
                  <a:ext cx="2895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3352680" y="612144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87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76320" y="152280"/>
            <a:ext cx="8839080" cy="2517120"/>
            <a:chOff x="76320" y="152280"/>
            <a:chExt cx="8839080" cy="2517120"/>
          </a:xfrm>
        </p:grpSpPr>
        <p:sp>
          <p:nvSpPr>
            <p:cNvPr id="145" name=""/>
            <p:cNvSpPr/>
            <p:nvPr/>
          </p:nvSpPr>
          <p:spPr>
            <a:xfrm>
              <a:off x="76320" y="152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0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with the following pd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371600" y="1193760"/>
                  <a:ext cx="3200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76320" y="2209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mean and the variance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320" y="2778120"/>
            <a:ext cx="8229600" cy="2479680"/>
            <a:chOff x="76320" y="2778120"/>
            <a:chExt cx="8229600" cy="2479680"/>
          </a:xfrm>
        </p:grpSpPr>
        <p:sp>
          <p:nvSpPr>
            <p:cNvPr id="149" name=""/>
            <p:cNvSpPr/>
            <p:nvPr/>
          </p:nvSpPr>
          <p:spPr>
            <a:xfrm>
              <a:off x="76320" y="2778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3311640"/>
              <a:ext cx="99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3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03640"/>
              <a:ext cx="99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/6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09480" y="3083040"/>
              <a:ext cx="6705720" cy="2174760"/>
              <a:chOff x="609480" y="3083040"/>
              <a:chExt cx="6705720" cy="217476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083040"/>
                <a:ext cx="2719440" cy="8254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3352680" y="3083040"/>
                    <a:ext cx="1981440" cy="83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" name=""/>
                  <p:cNvSpPr txBox="1"/>
                  <p:nvPr/>
                </p:nvSpPr>
                <p:spPr>
                  <a:xfrm>
                    <a:off x="5351400" y="3095640"/>
                    <a:ext cx="196380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480" y="3921120"/>
                <a:ext cx="2514600" cy="812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3124080" y="3938760"/>
                    <a:ext cx="197028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105520" y="3921120"/>
                    <a:ext cx="2057400" cy="80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09480" y="4759200"/>
                    <a:ext cx="373392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"/>
              <p:cNvSpPr/>
              <p:nvPr/>
            </p:nvSpPr>
            <p:spPr>
              <a:xfrm>
                <a:off x="4343400" y="4789440"/>
                <a:ext cx="2819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/6 –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5/3)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/8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152280"/>
            <a:ext cx="8915400" cy="3423960"/>
            <a:chOff x="76320" y="152280"/>
            <a:chExt cx="8915400" cy="3423960"/>
          </a:xfrm>
        </p:grpSpPr>
        <p:sp>
          <p:nvSpPr>
            <p:cNvPr id="162" name=""/>
            <p:cNvSpPr/>
            <p:nvPr/>
          </p:nvSpPr>
          <p:spPr>
            <a:xfrm>
              <a:off x="76320" y="152280"/>
              <a:ext cx="89154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3 Means and Variances of Linear Combinations of Random Variab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 the random variabl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523880" y="1841400"/>
                  <a:ext cx="52578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76320" y="2619000"/>
              <a:ext cx="88390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called a linear combination of the random variabl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…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6320" y="3429000"/>
            <a:ext cx="8839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 is a random variable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E(X), and if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b are consta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= a 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±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b) = 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(aX) = a E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320" y="152280"/>
            <a:ext cx="8915400" cy="2669760"/>
            <a:chOff x="76320" y="152280"/>
            <a:chExt cx="8915400" cy="2669760"/>
          </a:xfrm>
        </p:grpSpPr>
        <p:sp>
          <p:nvSpPr>
            <p:cNvPr id="167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the following probability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995480" y="1082520"/>
                  <a:ext cx="3110040" cy="129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76320" y="23623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E(4X+3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320" y="2895480"/>
            <a:ext cx="8991360" cy="3429000"/>
            <a:chOff x="76320" y="2895480"/>
            <a:chExt cx="8991360" cy="3429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28195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6320" y="2895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971800" y="3124080"/>
                  <a:ext cx="175248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24280" y="3124080"/>
                  <a:ext cx="1600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324480" y="3124080"/>
                  <a:ext cx="20574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8381880" y="33066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4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20" y="4038480"/>
              <a:ext cx="586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4 E(X)+3 = 4(5/4) + 3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other 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80880" y="4727160"/>
                  <a:ext cx="303372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3505320" y="49370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g(X) = 4X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20" y="5708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600200" y="5479920"/>
                  <a:ext cx="22096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886200" y="5489280"/>
                  <a:ext cx="328284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⋯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6320" y="155520"/>
            <a:ext cx="8839080" cy="2587680"/>
            <a:chOff x="76320" y="155520"/>
            <a:chExt cx="8839080" cy="2587680"/>
          </a:xfrm>
        </p:grpSpPr>
        <p:sp>
          <p:nvSpPr>
            <p:cNvPr id="184" name=""/>
            <p:cNvSpPr/>
            <p:nvPr/>
          </p:nvSpPr>
          <p:spPr>
            <a:xfrm>
              <a:off x="76320" y="155520"/>
              <a:ext cx="883908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… 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048120" y="1976400"/>
                  <a:ext cx="29574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76320" y="2666880"/>
            <a:ext cx="8762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Y) = E(X) ± E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6320" y="3875040"/>
            <a:ext cx="8915400" cy="2297160"/>
            <a:chOff x="76320" y="3875040"/>
            <a:chExt cx="8915400" cy="2297160"/>
          </a:xfrm>
        </p:grpSpPr>
        <p:sp>
          <p:nvSpPr>
            <p:cNvPr id="188" name=""/>
            <p:cNvSpPr/>
            <p:nvPr/>
          </p:nvSpPr>
          <p:spPr>
            <a:xfrm>
              <a:off x="76320" y="3875040"/>
              <a:ext cx="891540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 is a random variable with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if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b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ar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410080" y="4253040"/>
                  <a:ext cx="18288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648240" y="5700960"/>
                  <a:ext cx="18381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6320" y="284040"/>
            <a:ext cx="8839080" cy="3830760"/>
            <a:chOff x="76320" y="284040"/>
            <a:chExt cx="8839080" cy="3830760"/>
          </a:xfrm>
        </p:grpSpPr>
        <p:sp>
          <p:nvSpPr>
            <p:cNvPr id="192" name=""/>
            <p:cNvSpPr/>
            <p:nvPr/>
          </p:nvSpPr>
          <p:spPr>
            <a:xfrm>
              <a:off x="76320" y="284040"/>
              <a:ext cx="8839080" cy="26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    Var 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…+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209680" y="1731960"/>
                  <a:ext cx="385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886200" y="1808280"/>
                  <a:ext cx="3859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048360" y="1808280"/>
                  <a:ext cx="4287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819520" y="2489040"/>
                  <a:ext cx="3490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ar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676520" y="3554280"/>
                  <a:ext cx="70102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…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4285800" y="317988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28600" y="42544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+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) = Var(X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30780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, and Y be two independent random variables such that E(X)=2, Var(X)=4, E(Y)=7, and Var(Y)=1.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3X+7) and Var(3X+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and 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251784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3X+7) = 3E(X)+7 = 3(2)+7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3X+7)=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4) 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5E(X) + 2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= (5)(2) + (2)(7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=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Var(5X+2Y)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(25)(4)+(4)(1) = 1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29200" y="942840"/>
            <a:ext cx="3990960" cy="34768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76320" y="228600"/>
            <a:ext cx="5181480" cy="4876920"/>
            <a:chOff x="76320" y="228600"/>
            <a:chExt cx="5181480" cy="4876920"/>
          </a:xfrm>
        </p:grpSpPr>
        <p:sp>
          <p:nvSpPr>
            <p:cNvPr id="204" name=""/>
            <p:cNvSpPr/>
            <p:nvPr/>
          </p:nvSpPr>
          <p:spPr>
            <a:xfrm>
              <a:off x="76320" y="228600"/>
              <a:ext cx="518148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4 Chebyshev's 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Suppose that X is any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variance Var(X)=      and standard devia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Chebyshev's Theorem gives a conservative estimate of the probability  that the random variable X assumes a value within k standard deviations (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of its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ich is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48080" y="1295280"/>
                  <a:ext cx="42372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711600" y="4267080"/>
                  <a:ext cx="4795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76320" y="228600"/>
            <a:ext cx="8915400" cy="1969920"/>
            <a:chOff x="76320" y="228600"/>
            <a:chExt cx="8915400" cy="1969920"/>
          </a:xfrm>
        </p:grpSpPr>
        <p:sp>
          <p:nvSpPr>
            <p:cNvPr id="208" name=""/>
            <p:cNvSpPr/>
            <p:nvPr/>
          </p:nvSpPr>
          <p:spPr>
            <a:xfrm>
              <a:off x="76320" y="2286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11:(Chebyshev's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for k&gt;1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724880" y="1447920"/>
                  <a:ext cx="42840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3990960" y="1447920"/>
                  <a:ext cx="42876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2266920"/>
            <a:ext cx="3605040" cy="1390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320" y="3813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having an unknown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9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. Find the following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&lt;X&lt;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76320" y="368280"/>
            <a:ext cx="8839080" cy="5426640"/>
            <a:chOff x="76320" y="368280"/>
            <a:chExt cx="8839080" cy="5426640"/>
          </a:xfrm>
        </p:grpSpPr>
        <p:sp>
          <p:nvSpPr>
            <p:cNvPr id="214" name=""/>
            <p:cNvSpPr/>
            <p:nvPr/>
          </p:nvSpPr>
          <p:spPr>
            <a:xfrm>
              <a:off x="76320" y="368280"/>
              <a:ext cx="8839080" cy="41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a) P(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4 &lt;X&lt; 20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&lt;X&lt; 20)=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k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3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k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505320" y="1066680"/>
                  <a:ext cx="40932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28600" y="3765240"/>
                  <a:ext cx="25812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76320" y="46036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, and hence,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96252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845820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735120"/>
            <a:ext cx="3886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52480" y="1720800"/>
          <a:ext cx="3810240" cy="132696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57600" y="2228760"/>
            <a:ext cx="35712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3527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385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52280" y="120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= the number of defective computers purch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3, we found that 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3425760"/>
                <a:ext cx="468648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6320" y="171360"/>
            <a:ext cx="6781680" cy="5624640"/>
            <a:chOff x="76320" y="171360"/>
            <a:chExt cx="6781680" cy="5624640"/>
          </a:xfrm>
        </p:grpSpPr>
        <p:sp>
          <p:nvSpPr>
            <p:cNvPr id="222" name=""/>
            <p:cNvSpPr/>
            <p:nvPr/>
          </p:nvSpPr>
          <p:spPr>
            <a:xfrm>
              <a:off x="76320" y="171360"/>
              <a:ext cx="624816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b) P(|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= 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=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=3k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665440" y="1235160"/>
                  <a:ext cx="3826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76320" y="3416400"/>
              <a:ext cx="678168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13560" y="3392640"/>
                  <a:ext cx="2300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648400" y="39243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029200" y="44211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581280" y="4952880"/>
                  <a:ext cx="230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131920" y="3429000"/>
                  <a:ext cx="230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4120" y="692280"/>
            <a:ext cx="35049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6320" y="152280"/>
            <a:ext cx="8076960" cy="5865840"/>
            <a:chOff x="76320" y="152280"/>
            <a:chExt cx="8076960" cy="5865840"/>
          </a:xfrm>
        </p:grpSpPr>
        <p:sp>
          <p:nvSpPr>
            <p:cNvPr id="234" name=""/>
            <p:cNvSpPr/>
            <p:nvPr/>
          </p:nvSpPr>
          <p:spPr>
            <a:xfrm>
              <a:off x="76320" y="152280"/>
              <a:ext cx="8076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Another solution for part (b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| &lt; 6) 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+8&lt;X &lt; 6+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2&lt;X &lt; 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&lt;X &lt;14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36" name=""/>
            <p:cNvGrpSpPr/>
            <p:nvPr/>
          </p:nvGrpSpPr>
          <p:grpSpPr>
            <a:xfrm>
              <a:off x="76320" y="3355920"/>
              <a:ext cx="6933960" cy="2662200"/>
              <a:chOff x="76320" y="3355920"/>
              <a:chExt cx="6933960" cy="2662200"/>
            </a:xfrm>
          </p:grpSpPr>
          <p:sp>
            <p:nvSpPr>
              <p:cNvPr id="237" name=""/>
              <p:cNvSpPr/>
              <p:nvPr/>
            </p:nvSpPr>
            <p:spPr>
              <a:xfrm>
                <a:off x="76320" y="3355920"/>
                <a:ext cx="6933960" cy="25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2&lt;X &lt; 14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refore,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2131920" y="3355920"/>
                    <a:ext cx="23040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6018120" y="388764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4800600" y="3355920"/>
                    <a:ext cx="23004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5562720" y="441972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5103720" y="495468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3579840" y="541008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8915400" cy="3340080"/>
            <a:chOff x="76320" y="152280"/>
            <a:chExt cx="8915400" cy="334008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value of the number of defective computers purchased is the mean (or the expected value) of X, whic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895320" y="882720"/>
                  <a:ext cx="25336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76320" y="152388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917640" y="1905120"/>
                  <a:ext cx="31971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14400" y="2666880"/>
                  <a:ext cx="288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4343400" y="2819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omputers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3552840"/>
            <a:ext cx="8915400" cy="2942640"/>
            <a:chOff x="76320" y="3552840"/>
            <a:chExt cx="8915400" cy="2942640"/>
          </a:xfrm>
        </p:grpSpPr>
        <p:sp>
          <p:nvSpPr>
            <p:cNvPr id="60" name=""/>
            <p:cNvSpPr/>
            <p:nvPr/>
          </p:nvSpPr>
          <p:spPr>
            <a:xfrm>
              <a:off x="76320" y="355284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that represents the life (in hours) of a certain electronic device. The pdf of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143000" y="4648320"/>
                  <a:ext cx="3276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76320" y="603576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expected life of this type of devi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1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460440"/>
            <a:ext cx="6933960" cy="5114880"/>
            <a:chOff x="533520" y="460440"/>
            <a:chExt cx="6933960" cy="511488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33520" y="460440"/>
                  <a:ext cx="3138480" cy="91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905120" y="1314360"/>
                  <a:ext cx="1904760" cy="104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905120" y="2359080"/>
                  <a:ext cx="249876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905120" y="3429000"/>
                  <a:ext cx="327636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905120" y="4495680"/>
              <a:ext cx="5562360" cy="1079640"/>
              <a:chOff x="1905120" y="4495680"/>
              <a:chExt cx="5562360" cy="1079640"/>
            </a:xfrm>
          </p:grpSpPr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1905120" y="4495680"/>
                    <a:ext cx="4151160" cy="107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" name=""/>
              <p:cNvSpPr/>
              <p:nvPr/>
            </p:nvSpPr>
            <p:spPr>
              <a:xfrm>
                <a:off x="6172200" y="4800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our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73656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we expect that this type of electronic devices to last, on average, 200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89154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, and let g(X) be a function of the random variable X. The mean (or expected value) of the random variable g(X)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[g(X)]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057400"/>
                <a:ext cx="58104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6320" y="33526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9520" y="4540320"/>
          <a:ext cx="2743200" cy="13269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57600" y="5048280"/>
                <a:ext cx="3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527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385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320" y="59594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704880"/>
            <a:ext cx="7543800" cy="3562200"/>
            <a:chOff x="228600" y="704880"/>
            <a:chExt cx="7543800" cy="3562200"/>
          </a:xfrm>
        </p:grpSpPr>
        <p:sp>
          <p:nvSpPr>
            <p:cNvPr id="84" name=""/>
            <p:cNvSpPr/>
            <p:nvPr/>
          </p:nvSpPr>
          <p:spPr>
            <a:xfrm>
              <a:off x="228600" y="704880"/>
              <a:ext cx="518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(X)=(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04560" y="1420920"/>
              <a:ext cx="7467840" cy="2846160"/>
              <a:chOff x="304560" y="1420920"/>
              <a:chExt cx="7467840" cy="2846160"/>
            </a:xfrm>
          </p:grpSpPr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304560" y="1420920"/>
                    <a:ext cx="5334120" cy="73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80880" y="2152800"/>
                <a:ext cx="739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(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f(0) +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1) +(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2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166760" y="2610000"/>
                <a:ext cx="4242600" cy="838080"/>
                <a:chOff x="1166760" y="2610000"/>
                <a:chExt cx="4242600" cy="8380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9" name=""/>
                    <p:cNvSpPr txBox="1"/>
                    <p:nvPr/>
                  </p:nvSpPr>
                  <p:spPr>
                    <a:xfrm>
                      <a:off x="2209680" y="2610000"/>
                      <a:ext cx="435960" cy="838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0" name=""/>
                <p:cNvSpPr/>
                <p:nvPr/>
              </p:nvSpPr>
              <p:spPr>
                <a:xfrm>
                  <a:off x="1166760" y="2762280"/>
                  <a:ext cx="101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= 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)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2749680" y="2685960"/>
                  <a:ext cx="1409040" cy="720720"/>
                  <a:chOff x="2749680" y="2685960"/>
                  <a:chExt cx="1409040" cy="7207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2749680" y="2779560"/>
                    <a:ext cx="100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 (0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3" name=""/>
                      <p:cNvSpPr txBox="1"/>
                      <p:nvPr/>
                    </p:nvSpPr>
                    <p:spPr>
                      <a:xfrm>
                        <a:off x="3744360" y="2685960"/>
                        <a:ext cx="414360" cy="720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147200" y="2685960"/>
                  <a:ext cx="1262160" cy="722160"/>
                  <a:chOff x="4147200" y="2685960"/>
                  <a:chExt cx="1262160" cy="7221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147200" y="2781000"/>
                    <a:ext cx="916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(1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6" name=""/>
                      <p:cNvSpPr txBox="1"/>
                      <p:nvPr/>
                    </p:nvSpPr>
                    <p:spPr>
                      <a:xfrm>
                        <a:off x="4996800" y="2685960"/>
                        <a:ext cx="412560" cy="722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1143000" y="3402000"/>
                    <a:ext cx="259056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52280" y="162000"/>
            <a:ext cx="4800600" cy="1057320"/>
            <a:chOff x="152280" y="162000"/>
            <a:chExt cx="4800600" cy="1057320"/>
          </a:xfrm>
        </p:grpSpPr>
        <p:sp>
          <p:nvSpPr>
            <p:cNvPr id="99" name=""/>
            <p:cNvSpPr/>
            <p:nvPr/>
          </p:nvSpPr>
          <p:spPr>
            <a:xfrm>
              <a:off x="152280" y="16200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4.3, fi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178080" y="488880"/>
                  <a:ext cx="56376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152280" y="1189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1622520"/>
            <a:ext cx="7391160" cy="4625640"/>
            <a:chOff x="533520" y="1622520"/>
            <a:chExt cx="7391160" cy="46256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33520" y="1622520"/>
                  <a:ext cx="2895480" cy="11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33520" y="2801880"/>
                  <a:ext cx="119520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58720" y="3627360"/>
                  <a:ext cx="10414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0200" y="3627360"/>
                  <a:ext cx="5410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00200" y="4465440"/>
                  <a:ext cx="37339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334120" y="4465440"/>
                  <a:ext cx="259056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600200" y="5379840"/>
                  <a:ext cx="434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0000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6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6320" y="228600"/>
            <a:ext cx="8915400" cy="1371600"/>
            <a:chOff x="76320" y="228600"/>
            <a:chExt cx="8915400" cy="1371600"/>
          </a:xfrm>
        </p:grpSpPr>
        <p:sp>
          <p:nvSpPr>
            <p:cNvPr id="111" name=""/>
            <p:cNvSpPr/>
            <p:nvPr/>
          </p:nvSpPr>
          <p:spPr>
            <a:xfrm>
              <a:off x="76320" y="228600"/>
              <a:ext cx="891540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2 Variance (of a Random Variable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ost important measure of variability of a random variable X is called the variance of X and is denoted by Var(X)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7810560" y="1066680"/>
                  <a:ext cx="495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76320" y="1600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 and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variance of X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5800" y="2724120"/>
                <a:ext cx="73915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76320" y="3933720"/>
            <a:ext cx="8839080" cy="1191240"/>
            <a:chOff x="76320" y="3933720"/>
            <a:chExt cx="8839080" cy="1191240"/>
          </a:xfrm>
        </p:grpSpPr>
        <p:sp>
          <p:nvSpPr>
            <p:cNvPr id="116" name=""/>
            <p:cNvSpPr/>
            <p:nvPr/>
          </p:nvSpPr>
          <p:spPr>
            <a:xfrm>
              <a:off x="76320" y="393372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ositive square root of the variance of X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,is called the standard deviation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6248520" y="426708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76320" y="513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280" y="76320"/>
            <a:ext cx="8305920" cy="2655720"/>
            <a:chOff x="152280" y="76320"/>
            <a:chExt cx="8305920" cy="2655720"/>
          </a:xfrm>
        </p:grpSpPr>
        <p:sp>
          <p:nvSpPr>
            <p:cNvPr id="120" name=""/>
            <p:cNvSpPr/>
            <p:nvPr/>
          </p:nvSpPr>
          <p:spPr>
            <a:xfrm>
              <a:off x="152280" y="7632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random variable 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295280" y="838440"/>
                  <a:ext cx="33530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1295640"/>
                  <a:ext cx="4648320" cy="14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ll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</m:sub>
                                <m:sup/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screte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28600" y="17528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52280" y="26668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3886200"/>
          <a:ext cx="4495680" cy="1104840"/>
        </p:xfrm>
        <a:graphic>
          <a:graphicData uri="http://schemas.openxmlformats.org/drawingml/2006/table">
            <a:tbl>
              <a:tblPr/>
              <a:tblGrid>
                <a:gridCol w="898920"/>
                <a:gridCol w="899280"/>
                <a:gridCol w="898920"/>
                <a:gridCol w="899280"/>
                <a:gridCol w="8992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52280" y="5105520"/>
            <a:ext cx="4419720" cy="609480"/>
            <a:chOff x="152280" y="5105520"/>
            <a:chExt cx="4419720" cy="609480"/>
          </a:xfrm>
        </p:grpSpPr>
        <p:sp>
          <p:nvSpPr>
            <p:cNvPr id="127" name=""/>
            <p:cNvSpPr/>
            <p:nvPr/>
          </p:nvSpPr>
          <p:spPr>
            <a:xfrm>
              <a:off x="152280" y="519732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057400" y="5105520"/>
                  <a:ext cx="568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20:52:19Z</dcterms:created>
  <dc:creator> </dc:creator>
  <dc:description/>
  <dc:language>en-US</dc:language>
  <cp:lastModifiedBy> </cp:lastModifiedBy>
  <dcterms:modified xsi:type="dcterms:W3CDTF">2004-06-20T22:04:17Z</dcterms:modified>
  <cp:revision>4</cp:revision>
  <dc:subject/>
  <dc:title>PowerPoint Presentation</dc:title>
</cp:coreProperties>
</file>