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565-FB19-4156-AAF2-619EB485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6DA-1701-41E2-A774-3BA66C65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5A7-FABA-4FBF-9D14-8D440B2B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F9A-108D-4FEA-A56D-2DA7C380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9F6-A511-4575-AD8F-61E3A50F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416-38E3-45CC-A920-7761F0D2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1EC-FD1D-4E18-ACE0-01DAD31F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BB6-38BF-4FB8-83E9-1B4A4649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749-64A4-4163-B628-67EDBD46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FCB-E155-4B14-B3DA-81238FE4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3ED-616C-471D-8A08-BB26A8FF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10C-7046-43B9-AF57-B2662B64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6AD3-7516-47C6-ADC6-72B7E0B81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41280"/>
            <a:ext cx="8534520" cy="27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Chapter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Random Variables and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1 Concept of a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In a statistical experiment, it is often very important to allocate numerical values to the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77812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testing two components. (D=defective, N=non-defe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,DN,ND,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 = number of defective components when two components are te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ssigned numerical values to the outcom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838080"/>
          <a:ext cx="4648320" cy="1346040"/>
        </p:xfrm>
        <a:graphic>
          <a:graphicData uri="http://schemas.openxmlformats.org/drawingml/2006/table">
            <a:tbl>
              <a:tblPr/>
              <a:tblGrid>
                <a:gridCol w="1752840"/>
                <a:gridCol w="685800"/>
                <a:gridCol w="685800"/>
                <a:gridCol w="685800"/>
                <a:gridCol w="8380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 P(X=x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4290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1148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006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380880" y="2438280"/>
            <a:ext cx="8001000" cy="1892520"/>
            <a:chOff x="380880" y="2438280"/>
            <a:chExt cx="8001000" cy="189252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80880" y="2438280"/>
                  <a:ext cx="4648320" cy="189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/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867280" y="3048120"/>
              <a:ext cx="251460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ergeometric Distrib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6320" y="4467240"/>
            <a:ext cx="8839080" cy="2076480"/>
            <a:chOff x="76320" y="4467240"/>
            <a:chExt cx="8839080" cy="2076480"/>
          </a:xfrm>
        </p:grpSpPr>
        <p:sp>
          <p:nvSpPr>
            <p:cNvPr id="114" name=""/>
            <p:cNvSpPr/>
            <p:nvPr/>
          </p:nvSpPr>
          <p:spPr>
            <a:xfrm>
              <a:off x="76320" y="4467240"/>
              <a:ext cx="883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umulative distribution function (CDF), F(x), of a discrete random variable X with the probability function f(x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143000" y="5791320"/>
                  <a:ext cx="502920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 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6324480" y="57913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69040" y="1523880"/>
            <a:ext cx="7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20016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CDF of the random variable X with the probability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2743200" cy="12697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2120"/>
                <a:gridCol w="6094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362320" y="1828800"/>
                <a:ext cx="396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052800" y="1828800"/>
                <a:ext cx="376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733920" y="1828800"/>
                <a:ext cx="380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00600" y="3122640"/>
            <a:ext cx="4191120" cy="12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24" name=""/>
          <p:cNvGrpSpPr/>
          <p:nvPr/>
        </p:nvGrpSpPr>
        <p:grpSpPr>
          <a:xfrm>
            <a:off x="152280" y="2743200"/>
            <a:ext cx="8077320" cy="3216240"/>
            <a:chOff x="152280" y="2743200"/>
            <a:chExt cx="8077320" cy="3216240"/>
          </a:xfrm>
        </p:grpSpPr>
        <p:sp>
          <p:nvSpPr>
            <p:cNvPr id="125" name=""/>
            <p:cNvSpPr/>
            <p:nvPr/>
          </p:nvSpPr>
          <p:spPr>
            <a:xfrm>
              <a:off x="152280" y="2743200"/>
              <a:ext cx="73152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) 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&lt;0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1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4022640" y="3886200"/>
                  <a:ext cx="3970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5111640" y="4537080"/>
                  <a:ext cx="15940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152280" y="4689360"/>
              <a:ext cx="746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2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+P(X=1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5334120"/>
              <a:ext cx="77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+P(X=1)+P(X=2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6307200" y="5222880"/>
                  <a:ext cx="19224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6320" y="152280"/>
            <a:ext cx="6095880" cy="2913120"/>
            <a:chOff x="76320" y="152280"/>
            <a:chExt cx="6095880" cy="2913120"/>
          </a:xfrm>
        </p:grpSpPr>
        <p:sp>
          <p:nvSpPr>
            <p:cNvPr id="132" name=""/>
            <p:cNvSpPr/>
            <p:nvPr/>
          </p:nvSpPr>
          <p:spPr>
            <a:xfrm>
              <a:off x="76320" y="15228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DF of the random variable X i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99880" y="609480"/>
                  <a:ext cx="4043520" cy="245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410080" y="577800"/>
            <a:ext cx="3353040" cy="239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5" name=""/>
          <p:cNvGrpSpPr/>
          <p:nvPr/>
        </p:nvGrpSpPr>
        <p:grpSpPr>
          <a:xfrm>
            <a:off x="152280" y="3111480"/>
            <a:ext cx="6172200" cy="1770120"/>
            <a:chOff x="152280" y="3111480"/>
            <a:chExt cx="6172200" cy="1770120"/>
          </a:xfrm>
        </p:grpSpPr>
        <p:sp>
          <p:nvSpPr>
            <p:cNvPr id="136" name=""/>
            <p:cNvSpPr/>
            <p:nvPr/>
          </p:nvSpPr>
          <p:spPr>
            <a:xfrm>
              <a:off x="152280" y="3111480"/>
              <a:ext cx="617220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) = 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1.5)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)=F(1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3.8) 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8)=F(2)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3581280" y="3733920"/>
                  <a:ext cx="4730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"/>
          <p:cNvSpPr/>
          <p:nvPr/>
        </p:nvSpPr>
        <p:spPr>
          <a:xfrm>
            <a:off x="152280" y="4952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a 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+ P(X=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 +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&lt;  X &lt; b) = P(a 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=b) = F(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1522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probability func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143000"/>
          <a:ext cx="5029200" cy="112860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080"/>
                <a:gridCol w="8384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76320" y="2362320"/>
            <a:ext cx="685800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… &lt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…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;  i=1, 2, …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;  i=2, …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320" y="3994200"/>
            <a:ext cx="8076960" cy="2025720"/>
            <a:chOff x="76320" y="3994200"/>
            <a:chExt cx="8076960" cy="2025720"/>
          </a:xfrm>
        </p:grpSpPr>
        <p:sp>
          <p:nvSpPr>
            <p:cNvPr id="143" name=""/>
            <p:cNvSpPr/>
            <p:nvPr/>
          </p:nvSpPr>
          <p:spPr>
            <a:xfrm>
              <a:off x="76320" y="3994200"/>
              <a:ext cx="807696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0.5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.5) = F(1.5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.5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1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) = F(2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F(1) =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4952880" y="4543560"/>
                  <a:ext cx="171936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3962520" y="5187960"/>
                  <a:ext cx="182880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320" y="152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3.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ontinuous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ny continuous random variable, X, there exists a non-negative function f(x), called the probability density function (p.d.f) through which we can find probabilities of events expressed in term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2514600"/>
            <a:ext cx="7543440" cy="3429000"/>
            <a:chOff x="762120" y="2514600"/>
            <a:chExt cx="7543440" cy="34290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838080" y="2514600"/>
              <a:ext cx="3505320" cy="26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600200" y="513540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: R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[0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800600" y="2666880"/>
              <a:ext cx="3504960" cy="3218760"/>
              <a:chOff x="4800600" y="2666880"/>
              <a:chExt cx="3504960" cy="3218760"/>
            </a:xfrm>
          </p:grpSpPr>
          <p:sp>
            <p:nvSpPr>
              <p:cNvPr id="151" name=""/>
              <p:cNvSpPr/>
              <p:nvPr/>
            </p:nvSpPr>
            <p:spPr>
              <a:xfrm>
                <a:off x="4800600" y="2895480"/>
                <a:ext cx="350496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a &lt; X &lt; b) =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area under the 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f(x) and over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val (a,b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X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) =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area under the 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f(x) and over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ion A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2" name=""/>
                  <p:cNvSpPr txBox="1"/>
                  <p:nvPr/>
                </p:nvSpPr>
                <p:spPr>
                  <a:xfrm>
                    <a:off x="6553080" y="2666880"/>
                    <a:ext cx="990720" cy="81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3" name=""/>
                  <p:cNvSpPr txBox="1"/>
                  <p:nvPr/>
                </p:nvSpPr>
                <p:spPr>
                  <a:xfrm>
                    <a:off x="6019560" y="4425840"/>
                    <a:ext cx="990720" cy="60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54" name=""/>
            <p:cNvSpPr/>
            <p:nvPr/>
          </p:nvSpPr>
          <p:spPr>
            <a:xfrm>
              <a:off x="762120" y="2666880"/>
              <a:ext cx="739116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0" y="26668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04920" y="152280"/>
            <a:ext cx="8839080" cy="3343320"/>
            <a:chOff x="304920" y="152280"/>
            <a:chExt cx="8839080" cy="3343320"/>
          </a:xfrm>
        </p:grpSpPr>
        <p:sp>
          <p:nvSpPr>
            <p:cNvPr id="157" name=""/>
            <p:cNvSpPr/>
            <p:nvPr/>
          </p:nvSpPr>
          <p:spPr>
            <a:xfrm>
              <a:off x="304920" y="152280"/>
              <a:ext cx="88390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unction f(x) is a probability density function (pdf) for a continuous random variable X, defined on the set of real numbers,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    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 =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, b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; 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85800" y="1905120"/>
                  <a:ext cx="17528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3100680" y="2514600"/>
                  <a:ext cx="1090440" cy="98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" name=""/>
          <p:cNvGrpSpPr/>
          <p:nvPr/>
        </p:nvGrpSpPr>
        <p:grpSpPr>
          <a:xfrm>
            <a:off x="380880" y="3279600"/>
            <a:ext cx="8381880" cy="2959200"/>
            <a:chOff x="380880" y="3279600"/>
            <a:chExt cx="8381880" cy="2959200"/>
          </a:xfrm>
        </p:grpSpPr>
        <p:sp>
          <p:nvSpPr>
            <p:cNvPr id="161" name=""/>
            <p:cNvSpPr/>
            <p:nvPr/>
          </p:nvSpPr>
          <p:spPr>
            <a:xfrm>
              <a:off x="380880" y="3279600"/>
              <a:ext cx="8381880" cy="29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a continuous random variable X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X=x)  (in genera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P(X=a) = 0   for any 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   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= P(a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=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&lt; b)= P(a &lt; X &lt; 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2133360" y="5334120"/>
                  <a:ext cx="13716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pHide m:val="1"/>
                        </m:naryPr>
                        <m:sub>
                          <m:r>
                            <m:t xml:space="preserve">A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533520" y="3240"/>
            <a:ext cx="7696080" cy="6702480"/>
            <a:chOff x="533520" y="3240"/>
            <a:chExt cx="7696080" cy="670248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838080" y="20520"/>
              <a:ext cx="3205440" cy="23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4724280" y="3240"/>
              <a:ext cx="3200400" cy="24350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90720" y="2209680"/>
                  <a:ext cx="3124080" cy="49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otal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rea</m:t>
                      </m:r>
                      <m:r>
                        <m:rPr>
                          <m:lit/>
                          <m:nor/>
                        </m:rPr>
                        <m:t xml:space="preserve">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5214960" y="2274840"/>
                  <a:ext cx="2252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838080" y="3203640"/>
              <a:ext cx="3200400" cy="23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4724280" y="3200400"/>
              <a:ext cx="3200400" cy="2392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523880" y="5410080"/>
                  <a:ext cx="179100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486400" y="5410080"/>
                  <a:ext cx="18288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a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533520" y="152280"/>
              <a:ext cx="7696080" cy="655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152280"/>
              <a:ext cx="0" cy="65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33520" y="327672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76320" y="0"/>
            <a:ext cx="8839080" cy="3600360"/>
            <a:chOff x="76320" y="0"/>
            <a:chExt cx="8839080" cy="3600360"/>
          </a:xfrm>
        </p:grpSpPr>
        <p:sp>
          <p:nvSpPr>
            <p:cNvPr id="176" name=""/>
            <p:cNvSpPr/>
            <p:nvPr/>
          </p:nvSpPr>
          <p:spPr>
            <a:xfrm>
              <a:off x="76320" y="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3.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the error in the reaction temperature, in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, for a controlled laboratory experiment is a continuous random variable X having the following probability  density fun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700200" y="1447920"/>
                  <a:ext cx="303372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152280" y="2774880"/>
              <a:ext cx="777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Verify that (a)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and (b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Find 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4648320" y="2590920"/>
                  <a:ext cx="16002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0" name=""/>
          <p:cNvGrpSpPr/>
          <p:nvPr/>
        </p:nvGrpSpPr>
        <p:grpSpPr>
          <a:xfrm>
            <a:off x="76320" y="3552840"/>
            <a:ext cx="6858000" cy="2859120"/>
            <a:chOff x="76320" y="3552840"/>
            <a:chExt cx="6858000" cy="2859120"/>
          </a:xfrm>
        </p:grpSpPr>
        <p:sp>
          <p:nvSpPr>
            <p:cNvPr id="181" name=""/>
            <p:cNvSpPr/>
            <p:nvPr/>
          </p:nvSpPr>
          <p:spPr>
            <a:xfrm>
              <a:off x="76320" y="3552840"/>
              <a:ext cx="685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= the error in the re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erature in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is continuous r. 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533520" y="5105520"/>
                  <a:ext cx="3124080" cy="13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52880" y="4081320"/>
            <a:ext cx="3505320" cy="23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152280" y="152280"/>
            <a:ext cx="7315200" cy="2979720"/>
            <a:chOff x="152280" y="152280"/>
            <a:chExt cx="7315200" cy="2979720"/>
          </a:xfrm>
        </p:grpSpPr>
        <p:sp>
          <p:nvSpPr>
            <p:cNvPr id="185" name=""/>
            <p:cNvSpPr/>
            <p:nvPr/>
          </p:nvSpPr>
          <p:spPr>
            <a:xfrm>
              <a:off x="152280" y="152280"/>
              <a:ext cx="73152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because f(x) is a quadratic func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1389240" y="633240"/>
                  <a:ext cx="413208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1371600" y="1523880"/>
                  <a:ext cx="3124080" cy="8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71600" y="2362320"/>
                  <a:ext cx="203508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5880" y="912960"/>
            <a:ext cx="2514600" cy="19825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152280" y="2987640"/>
            <a:ext cx="4876920" cy="3336840"/>
            <a:chOff x="152280" y="2987640"/>
            <a:chExt cx="4876920" cy="3336840"/>
          </a:xfrm>
        </p:grpSpPr>
        <p:sp>
          <p:nvSpPr>
            <p:cNvPr id="191" name=""/>
            <p:cNvSpPr/>
            <p:nvPr/>
          </p:nvSpPr>
          <p:spPr>
            <a:xfrm>
              <a:off x="152280" y="31813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 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2362320" y="2987640"/>
                  <a:ext cx="243828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057400" y="3962520"/>
                  <a:ext cx="165744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2057400" y="4832280"/>
                  <a:ext cx="1460520" cy="76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2057400" y="5518080"/>
                  <a:ext cx="546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095880" y="3819600"/>
            <a:ext cx="25146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76320" y="304920"/>
            <a:ext cx="8839080" cy="2133000"/>
            <a:chOff x="76320" y="304920"/>
            <a:chExt cx="8839080" cy="2133000"/>
          </a:xfrm>
        </p:grpSpPr>
        <p:sp>
          <p:nvSpPr>
            <p:cNvPr id="198" name=""/>
            <p:cNvSpPr/>
            <p:nvPr/>
          </p:nvSpPr>
          <p:spPr>
            <a:xfrm>
              <a:off x="76320" y="304920"/>
              <a:ext cx="883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7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umulative distribution function (CDF), F(x), of a continuous random variable X with probability density function f(x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)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173400" y="1514520"/>
                  <a:ext cx="1017720" cy="92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"/>
          <p:cNvSpPr/>
          <p:nvPr/>
        </p:nvSpPr>
        <p:spPr>
          <a:xfrm>
            <a:off x="76320" y="2438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36291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3.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Find the C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Using the CDF, find  P(0&lt;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52280" y="228600"/>
          <a:ext cx="5486400" cy="2641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 poi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Outcome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ig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erical Value (x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971800" cy="251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52280" y="3078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that, the set of all possible values of the random variable X is {0, 1, 2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39337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3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andom variable X is a function that associates each element in the sample space with a real number (i.e., X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52894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 X " denotes the random variabl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 x " denotes a value of the random variable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76320" y="152280"/>
            <a:ext cx="7467480" cy="5791320"/>
            <a:chOff x="76320" y="152280"/>
            <a:chExt cx="7467480" cy="5791320"/>
          </a:xfrm>
        </p:grpSpPr>
        <p:sp>
          <p:nvSpPr>
            <p:cNvPr id="203" name=""/>
            <p:cNvSpPr/>
            <p:nvPr/>
          </p:nvSpPr>
          <p:spPr>
            <a:xfrm>
              <a:off x="76320" y="152280"/>
              <a:ext cx="73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700200" y="365040"/>
                  <a:ext cx="2881080" cy="12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"/>
            <p:cNvSpPr/>
            <p:nvPr/>
          </p:nvSpPr>
          <p:spPr>
            <a:xfrm>
              <a:off x="152280" y="1600200"/>
              <a:ext cx="7315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1371600" y="1981080"/>
                  <a:ext cx="2424240" cy="89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152280" y="2911320"/>
              <a:ext cx="7391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371600" y="3284640"/>
                  <a:ext cx="327672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219320" y="4114800"/>
                  <a:ext cx="121896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19320" y="5018040"/>
                  <a:ext cx="502920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562720" y="1411200"/>
            <a:ext cx="3047760" cy="255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152280" y="152280"/>
            <a:ext cx="7239240" cy="1287720"/>
            <a:chOff x="152280" y="152280"/>
            <a:chExt cx="7239240" cy="1287720"/>
          </a:xfrm>
        </p:grpSpPr>
        <p:sp>
          <p:nvSpPr>
            <p:cNvPr id="213" name=""/>
            <p:cNvSpPr/>
            <p:nvPr/>
          </p:nvSpPr>
          <p:spPr>
            <a:xfrm>
              <a:off x="152280" y="152280"/>
              <a:ext cx="72392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371600" y="457200"/>
                  <a:ext cx="411480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+</m:t>
                          </m:r>
                        </m:e>
                      </m:nary>
                      <m:nary>
                        <m:naryPr>
                          <m:chr m:val="∫"/>
                        </m:naryPr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5486400" y="533520"/>
                  <a:ext cx="137160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"/>
          <p:cNvGrpSpPr/>
          <p:nvPr/>
        </p:nvGrpSpPr>
        <p:grpSpPr>
          <a:xfrm>
            <a:off x="76320" y="1295280"/>
            <a:ext cx="5943600" cy="2044800"/>
            <a:chOff x="76320" y="1295280"/>
            <a:chExt cx="5943600" cy="2044800"/>
          </a:xfrm>
        </p:grpSpPr>
        <p:sp>
          <p:nvSpPr>
            <p:cNvPr id="217" name=""/>
            <p:cNvSpPr/>
            <p:nvPr/>
          </p:nvSpPr>
          <p:spPr>
            <a:xfrm>
              <a:off x="76320" y="129528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refore, the CDF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914400" y="1600200"/>
                  <a:ext cx="5105520" cy="173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9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05120" y="3352680"/>
            <a:ext cx="472428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20" name=""/>
          <p:cNvGrpSpPr/>
          <p:nvPr/>
        </p:nvGrpSpPr>
        <p:grpSpPr>
          <a:xfrm>
            <a:off x="76320" y="5638680"/>
            <a:ext cx="5333760" cy="1047960"/>
            <a:chOff x="76320" y="5638680"/>
            <a:chExt cx="5333760" cy="1047960"/>
          </a:xfrm>
        </p:grpSpPr>
        <p:sp>
          <p:nvSpPr>
            <p:cNvPr id="221" name=""/>
            <p:cNvSpPr/>
            <p:nvPr/>
          </p:nvSpPr>
          <p:spPr>
            <a:xfrm>
              <a:off x="76320" y="5638680"/>
              <a:ext cx="533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Using the CDF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 = F(1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4038480" y="5867280"/>
                  <a:ext cx="1295640" cy="81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58920"/>
            <a:ext cx="8458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ypes of Random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random variable X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 if its set of possible values is countable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 or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random variable X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 if it can take values on a continuous scale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: a &lt; x &lt; b; a,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practical probl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crete random variable represents count data, such as the number of defectives in a samp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inuous random variable represents measured data, such as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5228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2 Discrete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discrete random variable X assumes each of its values with a certain 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37160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Experiment: tossing a non-balance coin 2 times independ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H= head ,  T=t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HH, HT, TH, T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Suppose P(H)=½P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H)=1/3  and P(T)=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Let X= number of hea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3714840"/>
          <a:ext cx="7925040" cy="2990880"/>
        </p:xfrm>
        <a:graphic>
          <a:graphicData uri="http://schemas.openxmlformats.org/drawingml/2006/table">
            <a:tbl>
              <a:tblPr/>
              <a:tblGrid>
                <a:gridCol w="1676520"/>
                <a:gridCol w="4495680"/>
                <a:gridCol w="175284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poi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utcom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 of 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HH)=P(H) P(H)=1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 = 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HT)=P(H) P(T)=1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3 = 2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H)=P(T) P(H)=2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 = 2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T)=P(T) P(T)=2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3 = 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152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ossible values of X are: 0, 1, an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 is a discrete random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473120"/>
          <a:ext cx="6858000" cy="1955520"/>
        </p:xfrm>
        <a:graphic>
          <a:graphicData uri="http://schemas.openxmlformats.org/drawingml/2006/table">
            <a:tbl>
              <a:tblPr/>
              <a:tblGrid>
                <a:gridCol w="2227320"/>
                <a:gridCol w="46306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= P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0)={TT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0) = P(TT)=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1)={HT,TH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1) =P(HT)+P(TH)=2/9+2/9=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2)={HH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2) = P(HH)= 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52280" y="35211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ossible values of X with their probabiliti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120" y="4146480"/>
          <a:ext cx="6095880" cy="882720"/>
        </p:xfrm>
        <a:graphic>
          <a:graphicData uri="http://schemas.openxmlformats.org/drawingml/2006/table">
            <a:tbl>
              <a:tblPr/>
              <a:tblGrid>
                <a:gridCol w="1676160"/>
                <a:gridCol w="762120"/>
                <a:gridCol w="1218960"/>
                <a:gridCol w="1219320"/>
                <a:gridCol w="1219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x)=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76320" y="51973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unction f(x)=P(X=x) is called the probability function (probability distribution) of the discrete random variable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52280"/>
            <a:ext cx="8610480" cy="2654280"/>
            <a:chOff x="76320" y="152280"/>
            <a:chExt cx="8610480" cy="2654280"/>
          </a:xfrm>
        </p:grpSpPr>
        <p:sp>
          <p:nvSpPr>
            <p:cNvPr id="58" name=""/>
            <p:cNvSpPr/>
            <p:nvPr/>
          </p:nvSpPr>
          <p:spPr>
            <a:xfrm>
              <a:off x="76320" y="152280"/>
              <a:ext cx="86104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unction f(x) is a probability function of a discrete random variable X if, for each possible values x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= P(X=x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57200" y="1676520"/>
                  <a:ext cx="148104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all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152280" y="2895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3276720"/>
                <a:ext cx="46227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6320" y="3886200"/>
            <a:ext cx="7010280" cy="2133720"/>
            <a:chOff x="76320" y="3886200"/>
            <a:chExt cx="7010280" cy="2133720"/>
          </a:xfrm>
        </p:grpSpPr>
        <p:sp>
          <p:nvSpPr>
            <p:cNvPr id="63" name=""/>
            <p:cNvSpPr/>
            <p:nvPr/>
          </p:nvSpPr>
          <p:spPr>
            <a:xfrm>
              <a:off x="76320" y="3886200"/>
              <a:ext cx="70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62720" y="5353200"/>
              <a:ext cx="144756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5353200"/>
              <a:ext cx="6858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45040" y="5353200"/>
              <a:ext cx="7318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29000" y="5353200"/>
              <a:ext cx="7160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23880" y="5353200"/>
              <a:ext cx="190512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f(x)= P(X=x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62720" y="4927680"/>
              <a:ext cx="14475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920" y="4927680"/>
              <a:ext cx="6858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45040" y="4927680"/>
              <a:ext cx="7318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4927680"/>
              <a:ext cx="7160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4927680"/>
              <a:ext cx="19051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4927680"/>
              <a:ext cx="548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23880" y="535320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23880" y="6019920"/>
              <a:ext cx="548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23880" y="4927680"/>
              <a:ext cx="0" cy="1092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2900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4504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6272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10280" y="4927680"/>
              <a:ext cx="0" cy="1092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5638680" y="5334120"/>
                  <a:ext cx="11908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1522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lt;1) = P(X=0)=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= P(X=0) + P(X=1) = 4/9+4/9 = 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5) = P(X=1) + P(X=2) = 4/9+1/9 = 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gt;8) =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lt;10) = P(X=0) + P(X=1) + P(X=2) 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5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477120" y="2190600"/>
            <a:ext cx="2057400" cy="2286000"/>
            <a:chOff x="6477120" y="2190600"/>
            <a:chExt cx="2057400" cy="2286000"/>
          </a:xfrm>
        </p:grpSpPr>
        <p:sp>
          <p:nvSpPr>
            <p:cNvPr id="87" name=""/>
            <p:cNvSpPr/>
            <p:nvPr/>
          </p:nvSpPr>
          <p:spPr>
            <a:xfrm>
              <a:off x="6477120" y="2190600"/>
              <a:ext cx="205740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6629400" y="2343240"/>
              <a:ext cx="1785960" cy="20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76320" y="1981080"/>
            <a:ext cx="609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3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ipment of 8 similar micro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 retail outlet contains 3 tha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ctive and 5 are non-def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school makes a random purchase of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se computers, find the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ion of the number of defective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320" y="4572000"/>
            <a:ext cx="8839080" cy="2214720"/>
            <a:chOff x="76320" y="4572000"/>
            <a:chExt cx="8839080" cy="2214720"/>
          </a:xfrm>
        </p:grpSpPr>
        <p:sp>
          <p:nvSpPr>
            <p:cNvPr id="91" name=""/>
            <p:cNvSpPr/>
            <p:nvPr/>
          </p:nvSpPr>
          <p:spPr>
            <a:xfrm>
              <a:off x="76320" y="4572000"/>
              <a:ext cx="883908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need to find the probability distribution of the random variable: X = the number of defective computers purchas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perimen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ing 2 computers at random out of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       equally likely outco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916280" y="6019920"/>
                  <a:ext cx="44604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8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320" y="152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ossible values of X are:  x=0, 1,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480" y="762120"/>
            <a:ext cx="5943600" cy="2971800"/>
            <a:chOff x="609480" y="762120"/>
            <a:chExt cx="5943600" cy="297180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609480" y="762120"/>
                  <a:ext cx="5943600" cy="95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0D and 2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09480" y="1752480"/>
                  <a:ext cx="583740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D and 1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609480" y="2774880"/>
                  <a:ext cx="594360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2D and 0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9480" y="3809880"/>
                <a:ext cx="586764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50760" y="76320"/>
            <a:ext cx="5892840" cy="3886200"/>
            <a:chOff x="50760" y="76320"/>
            <a:chExt cx="5892840" cy="38862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114480" y="76320"/>
                  <a:ext cx="5676840" cy="19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0760" y="1994040"/>
                  <a:ext cx="5892840" cy="19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"/>
          <p:cNvSpPr/>
          <p:nvPr/>
        </p:nvSpPr>
        <p:spPr>
          <a:xfrm>
            <a:off x="0" y="3854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 general, for x=0,1, 2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2280" y="4419720"/>
                <a:ext cx="573084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3035160" cy="34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18:48:22Z</dcterms:created>
  <dc:creator> </dc:creator>
  <dc:description/>
  <dc:language>en-US</dc:language>
  <cp:lastModifiedBy> </cp:lastModifiedBy>
  <dcterms:modified xsi:type="dcterms:W3CDTF">2004-07-02T20:29:34Z</dcterms:modified>
  <cp:revision>10</cp:revision>
  <dc:subject/>
  <dc:title>PowerPoint Presentation</dc:title>
</cp:coreProperties>
</file>