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A4A-F5E6-4AB4-A26C-C3B92769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398-E9C8-43EF-9ABC-06C66764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8AD-734C-4E20-B940-30FF89A8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977-95A0-40CB-A5A5-3336EAED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E25-E20D-4BFD-BBC0-61E97BA7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DA4-73AB-4F2D-A824-93EAE828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E04-2670-42B7-875A-76E61CE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BBC-B247-4CF6-A8FA-957EF263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E6C-AE80-4D31-9201-34E4CD35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770-6213-40A7-8E58-5BFF6C4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8C1-3A62-4C94-9D0E-49F67F1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1B8-AB42-42A3-9E0A-02D8163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496-9EB4-4869-BBA6-769106F9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uilder claims that heat pumps are installed in 70% of all homes being constructed today in the city of Richmond. Would you agree with this claim if a random survey of new homes in the city shows that 8 out of 15 homes had heat pumps installed? Use a 0.10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589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Proportion of homes with heat pumps installed in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o. of homes with heat pumps installed in the sample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roportion of homes with heat pumps installe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8760" y="4056120"/>
                <a:ext cx="298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828800" y="4419720"/>
                <a:ext cx="3886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pl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33920" cy="32144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76320" y="0"/>
            <a:ext cx="8686800" cy="6921000"/>
            <a:chOff x="76320" y="0"/>
            <a:chExt cx="8686800" cy="6921000"/>
          </a:xfrm>
        </p:grpSpPr>
        <p:sp>
          <p:nvSpPr>
            <p:cNvPr id="47" name=""/>
            <p:cNvSpPr/>
            <p:nvPr/>
          </p:nvSpPr>
          <p:spPr>
            <a:xfrm>
              <a:off x="165960" y="0"/>
              <a:ext cx="380196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0.7    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evel of significanc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" y="2286000"/>
                  <a:ext cx="43434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33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06360" y="3276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457200" y="3740040"/>
                  <a:ext cx="52959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76320" y="4800600"/>
              <a:ext cx="86868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.6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7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.7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1. Therefore, we agree with the clai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0" y="60948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10.12 Two Samples: Tests o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1143000"/>
            <a:ext cx="6248520" cy="4800600"/>
            <a:chOff x="1066680" y="1143000"/>
            <a:chExt cx="6248520" cy="4800600"/>
          </a:xfrm>
        </p:grpSpPr>
        <p:graphicFrame>
          <p:nvGraphicFramePr>
            <p:cNvPr id="55" name=""/>
            <p:cNvGraphicFramePr/>
            <p:nvPr/>
          </p:nvGraphicFramePr>
          <p:xfrm>
            <a:off x="1066680" y="1143000"/>
            <a:ext cx="6172200" cy="240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61722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1066680" y="3505320"/>
            <a:ext cx="6248520" cy="24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505320"/>
                      <a:ext cx="62485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624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33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378000"/>
            <a:ext cx="8915400" cy="5413320"/>
            <a:chOff x="76320" y="378000"/>
            <a:chExt cx="8915400" cy="5413320"/>
          </a:xfrm>
        </p:grpSpPr>
        <p:sp>
          <p:nvSpPr>
            <p:cNvPr id="62" name=""/>
            <p:cNvSpPr/>
            <p:nvPr/>
          </p:nvSpPr>
          <p:spPr>
            <a:xfrm>
              <a:off x="76320" y="378000"/>
              <a:ext cx="891540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457200" y="4121280"/>
                  <a:ext cx="106668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480" y="428940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4289400"/>
              <a:ext cx="44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1-st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57200" y="4899240"/>
                  <a:ext cx="121932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1681560" y="5051520"/>
              <a:ext cx="45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0" y="512784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38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108000"/>
            <a:ext cx="9067680" cy="2635200"/>
            <a:chOff x="76320" y="108000"/>
            <a:chExt cx="9067680" cy="2635200"/>
          </a:xfrm>
        </p:grpSpPr>
        <p:sp>
          <p:nvSpPr>
            <p:cNvPr id="71" name=""/>
            <p:cNvSpPr/>
            <p:nvPr/>
          </p:nvSpPr>
          <p:spPr>
            <a:xfrm>
              <a:off x="76320" y="108000"/>
              <a:ext cx="906768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33520" y="1371600"/>
                  <a:ext cx="337644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4005360" y="1523880"/>
              <a:ext cx="37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 N(0,1)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8120" y="2743200"/>
            <a:ext cx="3620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we need to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9880" y="2743200"/>
            <a:ext cx="2743200" cy="1687680"/>
            <a:chOff x="3809880" y="2743200"/>
            <a:chExt cx="2743200" cy="168768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4343400" y="3135240"/>
                  <a:ext cx="3110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"/>
            <p:cNvGrpSpPr/>
            <p:nvPr/>
          </p:nvGrpSpPr>
          <p:grpSpPr>
            <a:xfrm>
              <a:off x="3809880" y="2743200"/>
              <a:ext cx="2743200" cy="1374840"/>
              <a:chOff x="3809880" y="2743200"/>
              <a:chExt cx="2743200" cy="1374840"/>
            </a:xfrm>
          </p:grpSpPr>
          <p:sp>
            <p:nvSpPr>
              <p:cNvPr id="78" name=""/>
              <p:cNvSpPr/>
              <p:nvPr/>
            </p:nvSpPr>
            <p:spPr>
              <a:xfrm>
                <a:off x="3809880" y="2743200"/>
                <a:ext cx="6858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95680" y="2743200"/>
                <a:ext cx="20574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122040" y="4419720"/>
            <a:ext cx="2382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9880" y="4721400"/>
            <a:ext cx="2743200" cy="1374480"/>
            <a:chOff x="3809880" y="4721400"/>
            <a:chExt cx="2743200" cy="13744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378320" y="4732200"/>
                  <a:ext cx="31104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"/>
            <p:cNvGrpSpPr/>
            <p:nvPr/>
          </p:nvGrpSpPr>
          <p:grpSpPr>
            <a:xfrm>
              <a:off x="3809880" y="4721400"/>
              <a:ext cx="2743200" cy="1374480"/>
              <a:chOff x="3809880" y="4721400"/>
              <a:chExt cx="2743200" cy="13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3809880" y="4721400"/>
                <a:ext cx="6858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95680" y="4721400"/>
                <a:ext cx="20574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3840" y="152280"/>
            <a:ext cx="90201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under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ooled estimate of the propor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813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866880"/>
            <a:ext cx="4038480" cy="961920"/>
            <a:chOff x="990720" y="866880"/>
            <a:chExt cx="4038480" cy="9619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90720" y="866880"/>
                  <a:ext cx="190476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740040" y="1095480"/>
                  <a:ext cx="1289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" name=""/>
          <p:cNvSpPr/>
          <p:nvPr/>
        </p:nvSpPr>
        <p:spPr>
          <a:xfrm>
            <a:off x="121680" y="1828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(T.S.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62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286000"/>
                <a:ext cx="24382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31520" y="2438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N(0,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22:21:57Z</dcterms:created>
  <dc:creator> </dc:creator>
  <dc:description/>
  <dc:language>en-US</dc:language>
  <cp:lastModifiedBy> </cp:lastModifiedBy>
  <dcterms:modified xsi:type="dcterms:W3CDTF">2004-08-01T22:48:05Z</dcterms:modified>
  <cp:revision>2</cp:revision>
  <dc:subject/>
  <dc:title>عرض تقديمي من PowerPoint</dc:title>
</cp:coreProperties>
</file>