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E12-D9DB-4E08-A922-4BC97B41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785-B3DA-48A3-A283-0AECFCE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E456-6FB0-4C78-BD22-5782AA3D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680-3E12-4E4E-9B09-18BC37C5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504-C530-4BEE-9657-A6346DD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620-F983-4D25-9BC9-61AF89F2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39D-C1CA-421E-88D7-B19F441E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2AB-B152-49E6-A3A4-390D09C1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623-B39C-424D-A11C-8A106DF3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4F7-6487-431B-92A6-3AC6E930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96F-059D-4803-BED0-9359C2D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D42-42E6-4645-8C96-81DF028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9309-8BA7-49EE-AC09-221AE4473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uilder claims that heat pumps are installed in 70% of all homes being constructed today in the city of Richmond. Would you agree with this claim if a random survey of new homes in the city shows that 8 out of 15 homes had heat pumps installed? Use a 0.10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2589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Proportion of homes with heat pumps installed in the 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o. of homes with heat pumps installed in the sample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roportion of homes with heat pumps installed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58760" y="4056120"/>
                <a:ext cx="298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828800" y="4419720"/>
                <a:ext cx="38862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mpl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304920"/>
            <a:ext cx="3733920" cy="32144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76320" y="0"/>
            <a:ext cx="8686800" cy="6921000"/>
            <a:chOff x="76320" y="0"/>
            <a:chExt cx="8686800" cy="6921000"/>
          </a:xfrm>
        </p:grpSpPr>
        <p:sp>
          <p:nvSpPr>
            <p:cNvPr id="47" name=""/>
            <p:cNvSpPr/>
            <p:nvPr/>
          </p:nvSpPr>
          <p:spPr>
            <a:xfrm>
              <a:off x="165960" y="0"/>
              <a:ext cx="3801960" cy="24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0.7    (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Level of significanc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457200" y="2286000"/>
                  <a:ext cx="4343400" cy="12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33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5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" name=""/>
            <p:cNvSpPr/>
            <p:nvPr/>
          </p:nvSpPr>
          <p:spPr>
            <a:xfrm>
              <a:off x="306360" y="3276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457200" y="3740040"/>
                  <a:ext cx="529596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)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76320" y="4800600"/>
              <a:ext cx="86868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1.6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4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7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.7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1. Therefore, we agree with the clai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6320" y="76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0" y="60948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</a:rPr>
              <a:t>10.12 Two Samples: Tests o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66680" y="1143000"/>
            <a:ext cx="6248520" cy="4800600"/>
            <a:chOff x="1066680" y="1143000"/>
            <a:chExt cx="6248520" cy="4800600"/>
          </a:xfrm>
        </p:grpSpPr>
        <p:graphicFrame>
          <p:nvGraphicFramePr>
            <p:cNvPr id="55" name=""/>
            <p:cNvGraphicFramePr/>
            <p:nvPr/>
          </p:nvGraphicFramePr>
          <p:xfrm>
            <a:off x="1066680" y="1143000"/>
            <a:ext cx="6172200" cy="2400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66680" y="1143000"/>
                      <a:ext cx="617220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" name=""/>
            <p:cNvGraphicFramePr/>
            <p:nvPr/>
          </p:nvGraphicFramePr>
          <p:xfrm>
            <a:off x="1066680" y="3505320"/>
            <a:ext cx="6248520" cy="24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505320"/>
                      <a:ext cx="62485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2624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33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378000"/>
            <a:ext cx="8915400" cy="5413320"/>
            <a:chOff x="76320" y="378000"/>
            <a:chExt cx="8915400" cy="5413320"/>
          </a:xfrm>
        </p:grpSpPr>
        <p:sp>
          <p:nvSpPr>
            <p:cNvPr id="62" name=""/>
            <p:cNvSpPr/>
            <p:nvPr/>
          </p:nvSpPr>
          <p:spPr>
            <a:xfrm>
              <a:off x="76320" y="378000"/>
              <a:ext cx="891540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457200" y="4121280"/>
                  <a:ext cx="1066680" cy="85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78480" y="428940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47920" y="4289400"/>
              <a:ext cx="44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1-st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57200" y="4899240"/>
                  <a:ext cx="121932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7" name=""/>
            <p:cNvSpPr/>
            <p:nvPr/>
          </p:nvSpPr>
          <p:spPr>
            <a:xfrm>
              <a:off x="1681560" y="5051520"/>
              <a:ext cx="450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8480" y="5127840"/>
              <a:ext cx="4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63384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6320" y="108000"/>
            <a:ext cx="9067680" cy="2635200"/>
            <a:chOff x="76320" y="108000"/>
            <a:chExt cx="9067680" cy="2635200"/>
          </a:xfrm>
        </p:grpSpPr>
        <p:sp>
          <p:nvSpPr>
            <p:cNvPr id="71" name=""/>
            <p:cNvSpPr/>
            <p:nvPr/>
          </p:nvSpPr>
          <p:spPr>
            <a:xfrm>
              <a:off x="76320" y="108000"/>
              <a:ext cx="9067680" cy="168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533520" y="1371600"/>
                  <a:ext cx="337644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4005360" y="1523880"/>
              <a:ext cx="37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 N(0,1)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78120" y="2743200"/>
            <a:ext cx="36205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ppose we need to t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809880" y="2743200"/>
            <a:ext cx="2743200" cy="1687680"/>
            <a:chOff x="3809880" y="2743200"/>
            <a:chExt cx="2743200" cy="1687680"/>
          </a:xfrm>
        </p:grpSpPr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4343400" y="3135240"/>
                  <a:ext cx="31104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77" name=""/>
            <p:cNvGrpSpPr/>
            <p:nvPr/>
          </p:nvGrpSpPr>
          <p:grpSpPr>
            <a:xfrm>
              <a:off x="3809880" y="2743200"/>
              <a:ext cx="2743200" cy="1374840"/>
              <a:chOff x="3809880" y="2743200"/>
              <a:chExt cx="2743200" cy="1374840"/>
            </a:xfrm>
          </p:grpSpPr>
          <p:sp>
            <p:nvSpPr>
              <p:cNvPr id="78" name=""/>
              <p:cNvSpPr/>
              <p:nvPr/>
            </p:nvSpPr>
            <p:spPr>
              <a:xfrm>
                <a:off x="3809880" y="2743200"/>
                <a:ext cx="6858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495680" y="2743200"/>
                <a:ext cx="2057400" cy="13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122040" y="4419720"/>
            <a:ext cx="238284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equivalent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809880" y="4721400"/>
            <a:ext cx="2743200" cy="1374480"/>
            <a:chOff x="3809880" y="4721400"/>
            <a:chExt cx="2743200" cy="1374480"/>
          </a:xfrm>
        </p:grpSpPr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378320" y="4732200"/>
                  <a:ext cx="311040" cy="129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83" name=""/>
            <p:cNvGrpSpPr/>
            <p:nvPr/>
          </p:nvGrpSpPr>
          <p:grpSpPr>
            <a:xfrm>
              <a:off x="3809880" y="4721400"/>
              <a:ext cx="2743200" cy="1374480"/>
              <a:chOff x="3809880" y="4721400"/>
              <a:chExt cx="2743200" cy="1374480"/>
            </a:xfrm>
          </p:grpSpPr>
          <p:sp>
            <p:nvSpPr>
              <p:cNvPr id="84" name=""/>
              <p:cNvSpPr/>
              <p:nvPr/>
            </p:nvSpPr>
            <p:spPr>
              <a:xfrm>
                <a:off x="3809880" y="4721400"/>
                <a:ext cx="6858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5680" y="4721400"/>
                <a:ext cx="205740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3840" y="152280"/>
            <a:ext cx="902016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, under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pooled estimate of the propor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813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90720" y="866880"/>
            <a:ext cx="4038480" cy="961920"/>
            <a:chOff x="990720" y="866880"/>
            <a:chExt cx="4038480" cy="96192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90720" y="866880"/>
                  <a:ext cx="190476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3740040" y="1095480"/>
                  <a:ext cx="1289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q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" name=""/>
          <p:cNvSpPr/>
          <p:nvPr/>
        </p:nvSpPr>
        <p:spPr>
          <a:xfrm>
            <a:off x="121680" y="182880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statistic (T.S.)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62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914400" y="2286000"/>
                <a:ext cx="243828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431520" y="24382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N(0,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22:21:57Z</dcterms:created>
  <dc:creator> </dc:creator>
  <dc:description/>
  <dc:language>en-US</dc:language>
  <cp:lastModifiedBy> </cp:lastModifiedBy>
  <dcterms:modified xsi:type="dcterms:W3CDTF">2004-08-01T22:48:05Z</dcterms:modified>
  <cp:revision>2</cp:revision>
  <dc:subject/>
  <dc:title>عرض تقديمي من PowerPoint</dc:title>
</cp:coreProperties>
</file>