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0C44-19EF-4A17-B19C-9E7C855F3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AA11-81FB-4507-A6C1-BB6105421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1BB2-1B8F-437C-A90F-3DB40F962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08E0-D67E-4276-843B-8F26F5CF1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E72A-13FA-4E6C-8197-75D00C1B1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D0FC-E34F-4836-8C0D-AE04A4C79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A3C7-F9F9-4400-9FF9-BF428899D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68E0-394C-49B5-AD06-AC3C60E1D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83B0-8928-4F3F-889E-0E35DD4FD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03E7-C116-47D6-ACED-680E80CF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2DDC-47EB-446B-91F3-1A106804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A895-A279-4CC4-AD97-6697C11E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D07DD-68C6-4912-8627-000C903055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89154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Chapter 10: One- and Two-Sample Tests of Hypothes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1143000"/>
            <a:ext cx="8915400" cy="16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sider a population with some unknown paramet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We are interested in testing (confirming or denying) some conjectures abou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For example, we might be interested in testing the conjecture tha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w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a given value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2743200"/>
            <a:ext cx="8686800" cy="38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10.1-10.3: Introduction +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 A statistical hypothesis is a conjecture concerning (or a statement about) the popu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 For example, i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an unknown parameter of the population, we may be interested in testing the conjecture tha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&g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or some specific valu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 We usually test the null hypothe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Null Hypothes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gainst one of the following alternative hypothe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76320" y="152280"/>
            <a:ext cx="8915400" cy="23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10.7: Single Sample: Tests on a Single Mean (Variance Unknow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that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…, X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a random sample of siz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from normal distribution with me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unknown varian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Recal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59000" y="2057400"/>
            <a:ext cx="4265280" cy="939960"/>
            <a:chOff x="459000" y="2057400"/>
            <a:chExt cx="4265280" cy="939960"/>
          </a:xfrm>
        </p:grpSpPr>
        <mc:AlternateContent>
          <mc:Choice xmlns:a14="http://schemas.microsoft.com/office/drawing/2010/main" Requires="a14">
            <p:sp>
              <p:nvSpPr>
                <p:cNvPr id="132" name=""/>
                <p:cNvSpPr txBox="1"/>
                <p:nvPr/>
              </p:nvSpPr>
              <p:spPr>
                <a:xfrm>
                  <a:off x="1197000" y="2057400"/>
                  <a:ext cx="3527280" cy="93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S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rPr>
                          <m:lit/>
                          <m:nor/>
                        </m:rPr>
                        <m:t xml:space="preserve"> t</m:t>
                      </m:r>
                      <m:r>
                        <m:t xml:space="preserve">(</m:t>
                      </m:r>
                      <m:r>
                        <m:t xml:space="preserve">ν</m:t>
                      </m:r>
                      <m:r>
                        <m:t xml:space="preserve">)</m:t>
                      </m:r>
                      <m:r>
                        <m:t xml:space="preserve">;</m:t>
                      </m:r>
                      <m:r>
                        <m:t xml:space="preserve">v</m:t>
                      </m:r>
                      <m:r>
                        <m:t xml:space="preserve">=</m:t>
                      </m:r>
                      <m:r>
                        <m:t xml:space="preserve">n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33" name=""/>
            <p:cNvSpPr/>
            <p:nvPr/>
          </p:nvSpPr>
          <p:spPr>
            <a:xfrm>
              <a:off x="459000" y="228600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457560" y="3048120"/>
            <a:ext cx="4190760" cy="922320"/>
            <a:chOff x="457560" y="3048120"/>
            <a:chExt cx="4190760" cy="922320"/>
          </a:xfrm>
        </p:grpSpPr>
        <mc:AlternateContent>
          <mc:Choice xmlns:a14="http://schemas.microsoft.com/office/drawing/2010/main" Requires="a14">
            <p:sp>
              <p:nvSpPr>
                <p:cNvPr id="135" name=""/>
                <p:cNvSpPr txBox="1"/>
                <p:nvPr/>
              </p:nvSpPr>
              <p:spPr>
                <a:xfrm>
                  <a:off x="1185840" y="3048120"/>
                  <a:ext cx="3462480" cy="92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  <m:f>
                                <m:fPr>
                                  <m:type m:val="lin"/>
                                </m:fPr>
                                <m:num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num>
                                <m:den>
                                  <m:r>
                                    <m:t xml:space="preserve">(</m:t>
                                  </m:r>
                                </m:den>
                              </m:f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</m:nary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136" name=""/>
            <p:cNvSpPr/>
            <p:nvPr/>
          </p:nvSpPr>
          <p:spPr>
            <a:xfrm>
              <a:off x="457560" y="327672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57560" y="4114800"/>
            <a:ext cx="3352320" cy="459720"/>
            <a:chOff x="457560" y="4114800"/>
            <a:chExt cx="3352320" cy="459720"/>
          </a:xfrm>
        </p:grpSpPr>
        <p:sp>
          <p:nvSpPr>
            <p:cNvPr id="138" name=""/>
            <p:cNvSpPr/>
            <p:nvPr/>
          </p:nvSpPr>
          <p:spPr>
            <a:xfrm>
              <a:off x="1371600" y="411480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st Procedur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7560" y="411480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52280" y="152280"/>
            <a:ext cx="8763120" cy="647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4440" y="228600"/>
            <a:ext cx="1660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ypothe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57400" y="152280"/>
            <a:ext cx="0" cy="647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57400" y="228600"/>
            <a:ext cx="1600200" cy="10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48320" y="228600"/>
            <a:ext cx="1523880" cy="10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&gt;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43400" y="1522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629400" y="1522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162920" y="289080"/>
            <a:ext cx="1523880" cy="10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&lt;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144792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est Statistic (T.S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2280" y="228600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2727360"/>
            <a:ext cx="19051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R.R.and A.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f H</a:t>
            </a:r>
            <a:r>
              <a:rPr b="0" lang="en-US" sz="22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43400" y="22860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629400" y="22860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2280" y="411480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0480" y="419112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178000" y="4191120"/>
            <a:ext cx="666108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ject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and accept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at the significance level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280" y="510552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18880" y="5213520"/>
            <a:ext cx="23979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&gt; 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T &l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Sided Te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343400" y="51055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629400" y="51055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629400" y="5181480"/>
            <a:ext cx="23194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&l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Sided Te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345200" y="5181480"/>
            <a:ext cx="23997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&gt; 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Sided Te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3962520" y="1420920"/>
                <a:ext cx="259056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den>
                    </m:f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rPr>
                        <m:lit/>
                        <m:nor/>
                      </m:rPr>
                      <m:t xml:space="preserve"> t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64" name=""/>
          <p:cNvGraphicFramePr/>
          <p:nvPr/>
        </p:nvGraphicFramePr>
        <p:xfrm>
          <a:off x="2133720" y="2316240"/>
          <a:ext cx="2209680" cy="172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316240"/>
                    <a:ext cx="2209680" cy="17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4419720" y="2332080"/>
          <a:ext cx="2209680" cy="163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332080"/>
                    <a:ext cx="2209680" cy="16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6705720" y="2362320"/>
          <a:ext cx="2133360" cy="167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05720" y="2362320"/>
                    <a:ext cx="213336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76320" y="152280"/>
            <a:ext cx="8915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10.5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a random sample of 12 homes included in a planned study indicates that vacuum cleaners expend an average of 42 kilowatt-hours per year with a standard deviation of 11.9 kilowatt-hours, does this suggest at the 0.05 level of significance that the vacuum cleaners expend, on the average, less than 46 kilowatt-hours annually? Assume the population of kilowatt-hours to be nor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19160" y="3191040"/>
            <a:ext cx="6433920" cy="3583440"/>
            <a:chOff x="119160" y="3191040"/>
            <a:chExt cx="6433920" cy="3583440"/>
          </a:xfrm>
        </p:grpSpPr>
        <p:sp>
          <p:nvSpPr>
            <p:cNvPr id="172" name=""/>
            <p:cNvSpPr/>
            <p:nvPr/>
          </p:nvSpPr>
          <p:spPr>
            <a:xfrm>
              <a:off x="119160" y="3191040"/>
              <a:ext cx="6433920" cy="358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.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12,      =42, S=11.9,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0.0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average (mean) kilowatt-hours annual expense of a vacuum clean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4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ypothese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4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&lt; 4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T.S. 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3" name=""/>
                <p:cNvSpPr txBox="1"/>
                <p:nvPr/>
              </p:nvSpPr>
              <p:spPr>
                <a:xfrm>
                  <a:off x="1219320" y="3581280"/>
                  <a:ext cx="328320" cy="32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943600" y="3471840"/>
            <a:ext cx="289548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76320" y="235080"/>
            <a:ext cx="8915400" cy="3683520"/>
            <a:chOff x="76320" y="235080"/>
            <a:chExt cx="8915400" cy="3683520"/>
          </a:xfrm>
        </p:grpSpPr>
        <mc:AlternateContent>
          <mc:Choice xmlns:a14="http://schemas.microsoft.com/office/drawing/2010/main" Requires="a14">
            <p:sp>
              <p:nvSpPr>
                <p:cNvPr id="176" name=""/>
                <p:cNvSpPr txBox="1"/>
                <p:nvPr/>
              </p:nvSpPr>
              <p:spPr>
                <a:xfrm>
                  <a:off x="533520" y="235080"/>
                  <a:ext cx="4038480" cy="86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S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42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46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9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  <m:r>
                        <m:t xml:space="preserve">;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77" name=""/>
            <p:cNvSpPr/>
            <p:nvPr/>
          </p:nvSpPr>
          <p:spPr>
            <a:xfrm>
              <a:off x="76320" y="1219320"/>
              <a:ext cx="8915400" cy="269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df=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 n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=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Garamond"/>
                </a:rPr>
                <a:t>/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t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0.05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79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Decis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nce T=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16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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.R. (T=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16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.R.), we do not reject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at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0.05 (i.e, accept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46) and reject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&lt; 46. Therefore, we conclude that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is not less than 46 kilowatt-hou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76320" y="22860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10.8: Two Samples: Tests on Two Mea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Recal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For two independent s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52640" y="1066680"/>
            <a:ext cx="6933960" cy="2057400"/>
            <a:chOff x="152640" y="1066680"/>
            <a:chExt cx="6933960" cy="2057400"/>
          </a:xfrm>
        </p:grpSpPr>
        <p:sp>
          <p:nvSpPr>
            <p:cNvPr id="180" name=""/>
            <p:cNvSpPr/>
            <p:nvPr/>
          </p:nvSpPr>
          <p:spPr>
            <a:xfrm>
              <a:off x="990720" y="1096920"/>
              <a:ext cx="609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      and       are known, then we hav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1" name=""/>
                <p:cNvSpPr txBox="1"/>
                <p:nvPr/>
              </p:nvSpPr>
              <p:spPr>
                <a:xfrm>
                  <a:off x="1295280" y="1066680"/>
                  <a:ext cx="46044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2" name=""/>
                <p:cNvSpPr txBox="1"/>
                <p:nvPr/>
              </p:nvSpPr>
              <p:spPr>
                <a:xfrm>
                  <a:off x="2435400" y="1066680"/>
                  <a:ext cx="46008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183" name=""/>
            <p:cNvSpPr/>
            <p:nvPr/>
          </p:nvSpPr>
          <p:spPr>
            <a:xfrm>
              <a:off x="152640" y="114300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4" name=""/>
                <p:cNvSpPr txBox="1"/>
                <p:nvPr/>
              </p:nvSpPr>
              <p:spPr>
                <a:xfrm>
                  <a:off x="1295280" y="1619280"/>
                  <a:ext cx="4572000" cy="150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rad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0,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5" name=""/>
          <p:cNvGrpSpPr/>
          <p:nvPr/>
        </p:nvGrpSpPr>
        <p:grpSpPr>
          <a:xfrm>
            <a:off x="152640" y="3124080"/>
            <a:ext cx="8991360" cy="3581640"/>
            <a:chOff x="152640" y="3124080"/>
            <a:chExt cx="8991360" cy="3581640"/>
          </a:xfrm>
        </p:grpSpPr>
        <p:sp>
          <p:nvSpPr>
            <p:cNvPr id="186" name=""/>
            <p:cNvSpPr/>
            <p:nvPr/>
          </p:nvSpPr>
          <p:spPr>
            <a:xfrm>
              <a:off x="152640" y="320040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990720" y="3200400"/>
              <a:ext cx="815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      and       are unknown but      =      =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then we hav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8" name=""/>
                <p:cNvSpPr txBox="1"/>
                <p:nvPr/>
              </p:nvSpPr>
              <p:spPr>
                <a:xfrm>
                  <a:off x="1368360" y="3124080"/>
                  <a:ext cx="46044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9" name=""/>
                <p:cNvSpPr txBox="1"/>
                <p:nvPr/>
              </p:nvSpPr>
              <p:spPr>
                <a:xfrm>
                  <a:off x="2438280" y="3124080"/>
                  <a:ext cx="46044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0" name=""/>
                <p:cNvSpPr txBox="1"/>
                <p:nvPr/>
              </p:nvSpPr>
              <p:spPr>
                <a:xfrm>
                  <a:off x="5257800" y="3124080"/>
                  <a:ext cx="46044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1" name=""/>
                <p:cNvSpPr txBox="1"/>
                <p:nvPr/>
              </p:nvSpPr>
              <p:spPr>
                <a:xfrm>
                  <a:off x="5940360" y="3124080"/>
                  <a:ext cx="46044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2" name=""/>
                <p:cNvSpPr txBox="1"/>
                <p:nvPr/>
              </p:nvSpPr>
              <p:spPr>
                <a:xfrm>
                  <a:off x="1324080" y="3657600"/>
                  <a:ext cx="5533920" cy="148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rad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t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3" name=""/>
            <p:cNvSpPr/>
            <p:nvPr/>
          </p:nvSpPr>
          <p:spPr>
            <a:xfrm>
              <a:off x="457920" y="5181480"/>
              <a:ext cx="440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the pooled estimate of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4" name=""/>
                <p:cNvSpPr txBox="1"/>
                <p:nvPr/>
              </p:nvSpPr>
              <p:spPr>
                <a:xfrm>
                  <a:off x="1295280" y="5643720"/>
                  <a:ext cx="4114800" cy="106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sSubSup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sSubSup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76320" y="76320"/>
            <a:ext cx="8305560" cy="2498760"/>
            <a:chOff x="76320" y="76320"/>
            <a:chExt cx="8305560" cy="2498760"/>
          </a:xfrm>
        </p:grpSpPr>
        <p:sp>
          <p:nvSpPr>
            <p:cNvPr id="196" name=""/>
            <p:cNvSpPr/>
            <p:nvPr/>
          </p:nvSpPr>
          <p:spPr>
            <a:xfrm>
              <a:off x="76320" y="88920"/>
              <a:ext cx="8305560" cy="24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degrees of freedom of      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w, suppose we need to test the null hypothesi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nerally, suppose we need to t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for some specific valu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gainst one of the following alternative hypothe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7" name=""/>
                <p:cNvSpPr txBox="1"/>
                <p:nvPr/>
              </p:nvSpPr>
              <p:spPr>
                <a:xfrm>
                  <a:off x="4343400" y="76320"/>
                  <a:ext cx="36684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8" name=""/>
          <p:cNvGrpSpPr/>
          <p:nvPr/>
        </p:nvGrpSpPr>
        <p:grpSpPr>
          <a:xfrm>
            <a:off x="2057400" y="2362320"/>
            <a:ext cx="3241440" cy="1374480"/>
            <a:chOff x="2057400" y="2362320"/>
            <a:chExt cx="3241440" cy="1374480"/>
          </a:xfrm>
        </p:grpSpPr>
        <mc:AlternateContent>
          <mc:Choice xmlns:a14="http://schemas.microsoft.com/office/drawing/2010/main" Requires="a14">
            <p:sp>
              <p:nvSpPr>
                <p:cNvPr id="199" name=""/>
                <p:cNvSpPr txBox="1"/>
                <p:nvPr/>
              </p:nvSpPr>
              <p:spPr>
                <a:xfrm>
                  <a:off x="2670120" y="2449440"/>
                  <a:ext cx="343080" cy="121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/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/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/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200" name=""/>
            <p:cNvGrpSpPr/>
            <p:nvPr/>
          </p:nvGrpSpPr>
          <p:grpSpPr>
            <a:xfrm>
              <a:off x="2057400" y="2362320"/>
              <a:ext cx="3241440" cy="1374480"/>
              <a:chOff x="2057400" y="2362320"/>
              <a:chExt cx="3241440" cy="1374480"/>
            </a:xfrm>
          </p:grpSpPr>
          <p:sp>
            <p:nvSpPr>
              <p:cNvPr id="201" name=""/>
              <p:cNvSpPr/>
              <p:nvPr/>
            </p:nvSpPr>
            <p:spPr>
              <a:xfrm>
                <a:off x="2057400" y="2362320"/>
                <a:ext cx="972360" cy="137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cc"/>
                    </a:solidFill>
                    <a:latin typeface="Arial"/>
                    <a:ea typeface="Arial"/>
                  </a:rPr>
                  <a:t>H</a:t>
                </a:r>
                <a:r>
                  <a:rPr b="0" lang="en-US" sz="2400" spc="-1" strike="noStrike" baseline="-30000">
                    <a:solidFill>
                      <a:srgbClr val="3333cc"/>
                    </a:solidFill>
                    <a:latin typeface="Arial"/>
                    <a:ea typeface="Arial"/>
                  </a:rPr>
                  <a:t>1</a:t>
                </a:r>
                <a:r>
                  <a:rPr b="0" lang="en-US" sz="2400" spc="-1" strike="noStrike">
                    <a:solidFill>
                      <a:srgbClr val="3333cc"/>
                    </a:solidFill>
                    <a:latin typeface="Arial"/>
                    <a:ea typeface="Arial"/>
                  </a:rPr>
                  <a:t>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029760" y="2362320"/>
                <a:ext cx="2269080" cy="137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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&gt;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&lt;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"/>
          <p:cNvGrpSpPr/>
          <p:nvPr/>
        </p:nvGrpSpPr>
        <p:grpSpPr>
          <a:xfrm>
            <a:off x="76320" y="1143000"/>
            <a:ext cx="8991000" cy="3886200"/>
            <a:chOff x="76320" y="1143000"/>
            <a:chExt cx="8991000" cy="3886200"/>
          </a:xfrm>
        </p:grpSpPr>
        <p:sp>
          <p:nvSpPr>
            <p:cNvPr id="204" name=""/>
            <p:cNvSpPr/>
            <p:nvPr/>
          </p:nvSpPr>
          <p:spPr>
            <a:xfrm>
              <a:off x="76320" y="1143000"/>
              <a:ext cx="8762760" cy="3886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68120" y="1219320"/>
              <a:ext cx="16603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ypothes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981080" y="1143000"/>
              <a:ext cx="0" cy="388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057400" y="1219320"/>
              <a:ext cx="213300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GB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343400" y="1219320"/>
              <a:ext cx="213300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&gt;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GB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267080" y="114300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553080" y="114300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705360" y="1219320"/>
              <a:ext cx="198108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&lt;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GB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2280" y="2438280"/>
              <a:ext cx="1828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st Statistic (T.S.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320" y="2362320"/>
              <a:ext cx="8762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4" name=""/>
                <p:cNvSpPr txBox="1"/>
                <p:nvPr/>
              </p:nvSpPr>
              <p:spPr>
                <a:xfrm>
                  <a:off x="2128680" y="2405160"/>
                  <a:ext cx="3052440" cy="12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d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rad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0,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5" name=""/>
                <p:cNvSpPr txBox="1"/>
                <p:nvPr/>
              </p:nvSpPr>
              <p:spPr>
                <a:xfrm>
                  <a:off x="2095560" y="3733920"/>
                  <a:ext cx="3771360" cy="122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d</m:t>
                          </m:r>
                        </m:num>
                        <m:den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rad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t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216" name=""/>
            <p:cNvGrpSpPr/>
            <p:nvPr/>
          </p:nvGrpSpPr>
          <p:grpSpPr>
            <a:xfrm>
              <a:off x="4952880" y="4327560"/>
              <a:ext cx="4114440" cy="475560"/>
              <a:chOff x="4952880" y="4327560"/>
              <a:chExt cx="4114440" cy="475560"/>
            </a:xfrm>
          </p:grpSpPr>
          <p:sp>
            <p:nvSpPr>
              <p:cNvPr id="217" name=""/>
              <p:cNvSpPr/>
              <p:nvPr/>
            </p:nvSpPr>
            <p:spPr>
              <a:xfrm>
                <a:off x="4952880" y="4343400"/>
                <a:ext cx="411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{if      =       =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is unknown}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18" name=""/>
                  <p:cNvSpPr txBox="1"/>
                  <p:nvPr/>
                </p:nvSpPr>
                <p:spPr>
                  <a:xfrm>
                    <a:off x="5382720" y="4327560"/>
                    <a:ext cx="407520" cy="473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19" name=""/>
                  <p:cNvSpPr txBox="1"/>
                  <p:nvPr/>
                </p:nvSpPr>
                <p:spPr>
                  <a:xfrm>
                    <a:off x="6171840" y="4327560"/>
                    <a:ext cx="407520" cy="473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220" name=""/>
            <p:cNvGrpSpPr/>
            <p:nvPr/>
          </p:nvGrpSpPr>
          <p:grpSpPr>
            <a:xfrm>
              <a:off x="5257800" y="2498760"/>
              <a:ext cx="3809520" cy="475560"/>
              <a:chOff x="5257800" y="2498760"/>
              <a:chExt cx="3809520" cy="475560"/>
            </a:xfrm>
          </p:grpSpPr>
          <p:sp>
            <p:nvSpPr>
              <p:cNvPr id="221" name=""/>
              <p:cNvSpPr/>
              <p:nvPr/>
            </p:nvSpPr>
            <p:spPr>
              <a:xfrm>
                <a:off x="5257800" y="2514600"/>
                <a:ext cx="380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{if       and      are known}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22" name=""/>
                  <p:cNvSpPr txBox="1"/>
                  <p:nvPr/>
                </p:nvSpPr>
                <p:spPr>
                  <a:xfrm>
                    <a:off x="5736960" y="2498760"/>
                    <a:ext cx="407520" cy="473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23" name=""/>
                  <p:cNvSpPr txBox="1"/>
                  <p:nvPr/>
                </p:nvSpPr>
                <p:spPr>
                  <a:xfrm>
                    <a:off x="6830640" y="2498760"/>
                    <a:ext cx="407520" cy="473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152280" y="457200"/>
            <a:ext cx="8839440" cy="5791320"/>
            <a:chOff x="152280" y="457200"/>
            <a:chExt cx="8839440" cy="5791320"/>
          </a:xfrm>
        </p:grpSpPr>
        <p:sp>
          <p:nvSpPr>
            <p:cNvPr id="225" name=""/>
            <p:cNvSpPr/>
            <p:nvPr/>
          </p:nvSpPr>
          <p:spPr>
            <a:xfrm>
              <a:off x="228600" y="594000"/>
              <a:ext cx="1905120" cy="99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.R.and A.R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f 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19720" y="457200"/>
              <a:ext cx="0" cy="403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05720" y="457200"/>
              <a:ext cx="0" cy="403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52280" y="4496040"/>
              <a:ext cx="883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40480" y="4572000"/>
              <a:ext cx="14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cis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178000" y="4496040"/>
              <a:ext cx="6661080" cy="89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ject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(and accept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at the significance level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f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52280" y="5334120"/>
              <a:ext cx="883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52280" y="457200"/>
              <a:ext cx="8839440" cy="5791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057400" y="457200"/>
              <a:ext cx="0" cy="579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4" name=""/>
            <p:cNvGraphicFramePr/>
            <p:nvPr/>
          </p:nvGraphicFramePr>
          <p:xfrm>
            <a:off x="2114640" y="519120"/>
            <a:ext cx="2228760" cy="1690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14640" y="519120"/>
                      <a:ext cx="2228760" cy="169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6" name=""/>
            <p:cNvGraphicFramePr/>
            <p:nvPr/>
          </p:nvGraphicFramePr>
          <p:xfrm>
            <a:off x="4457880" y="533520"/>
            <a:ext cx="2171520" cy="1676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3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457880" y="533520"/>
                      <a:ext cx="2171520" cy="167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8" name=""/>
            <p:cNvGraphicFramePr/>
            <p:nvPr/>
          </p:nvGraphicFramePr>
          <p:xfrm>
            <a:off x="6858000" y="533520"/>
            <a:ext cx="2114640" cy="1673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3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858000" y="533520"/>
                      <a:ext cx="2114640" cy="167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0" name=""/>
            <p:cNvGraphicFramePr/>
            <p:nvPr/>
          </p:nvGraphicFramePr>
          <p:xfrm>
            <a:off x="2124000" y="2748240"/>
            <a:ext cx="2219400" cy="16714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4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124000" y="2748240"/>
                      <a:ext cx="2219400" cy="1671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2" name=""/>
            <p:cNvGraphicFramePr/>
            <p:nvPr/>
          </p:nvGraphicFramePr>
          <p:xfrm>
            <a:off x="4495680" y="2743200"/>
            <a:ext cx="2132280" cy="16765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4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495680" y="2743200"/>
                      <a:ext cx="2132280" cy="167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44" name=""/>
            <p:cNvGraphicFramePr/>
            <p:nvPr/>
          </p:nvGraphicFramePr>
          <p:xfrm>
            <a:off x="6858000" y="2743200"/>
            <a:ext cx="2133720" cy="16732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45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858000" y="2743200"/>
                      <a:ext cx="2133720" cy="167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6" name=""/>
            <p:cNvSpPr/>
            <p:nvPr/>
          </p:nvSpPr>
          <p:spPr>
            <a:xfrm>
              <a:off x="2133720" y="2210040"/>
              <a:ext cx="45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95680" y="2210040"/>
              <a:ext cx="45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781680" y="2210040"/>
              <a:ext cx="45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094840" y="5361120"/>
              <a:ext cx="2397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.S.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R.R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wo-Sided Test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456440" y="5349960"/>
              <a:ext cx="2399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.S.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R.R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ne-Sided Test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672240" y="5334120"/>
              <a:ext cx="2319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.S.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R.R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ne-Sided Test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419720" y="5334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705720" y="53341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76320" y="419040"/>
            <a:ext cx="8915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10.6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 experiment was performed to compare the abrasive wear of two different laminated materials. Twelve pieces of material 1 were tested by exposing each piece to a machine measuring wear. Teen pieces of material 2 were similarly tested. In each case, the depth of wear was observed. The samples of material 1 gave an average wear of 85 units with a sample standard deviation of 4, while the samples of materials 2 gave an average wear of 81 and a sample standard deviation of 5. Can we conclude at the 0.05 level of significance that the mean abrasive wear of material 1 exceeds that of material 2 by more than 2 units? Assume populations to be approximately normal with equal varia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"/>
          <p:cNvGrpSpPr/>
          <p:nvPr/>
        </p:nvGrpSpPr>
        <p:grpSpPr>
          <a:xfrm>
            <a:off x="112680" y="76320"/>
            <a:ext cx="8040600" cy="5975640"/>
            <a:chOff x="112680" y="76320"/>
            <a:chExt cx="8040600" cy="5975640"/>
          </a:xfrm>
        </p:grpSpPr>
        <p:sp>
          <p:nvSpPr>
            <p:cNvPr id="256" name=""/>
            <p:cNvSpPr/>
            <p:nvPr/>
          </p:nvSpPr>
          <p:spPr>
            <a:xfrm>
              <a:off x="112680" y="76320"/>
              <a:ext cx="3781800" cy="59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aterial 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material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1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85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=8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4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Hypothese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+ 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+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r equivalently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&gt;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Calcula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0.0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7" name=""/>
                <p:cNvSpPr txBox="1"/>
                <p:nvPr/>
              </p:nvSpPr>
              <p:spPr>
                <a:xfrm>
                  <a:off x="304920" y="1219320"/>
                  <a:ext cx="385560" cy="43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8" name=""/>
                <p:cNvSpPr txBox="1"/>
                <p:nvPr/>
              </p:nvSpPr>
              <p:spPr>
                <a:xfrm>
                  <a:off x="2895480" y="1219320"/>
                  <a:ext cx="433440" cy="43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9" name=""/>
                <p:cNvSpPr txBox="1"/>
                <p:nvPr/>
              </p:nvSpPr>
              <p:spPr>
                <a:xfrm>
                  <a:off x="228600" y="4876920"/>
                  <a:ext cx="792468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sSubSup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sSubSup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4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5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5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4800600" y="768240"/>
            <a:ext cx="358128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1371600" y="-76320"/>
            <a:ext cx="5257080" cy="1828800"/>
            <a:chOff x="1371600" y="-76320"/>
            <a:chExt cx="5257080" cy="1828800"/>
          </a:xfrm>
        </p:grpSpPr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1981080" y="228600"/>
                  <a:ext cx="316080" cy="152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/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/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/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46" name=""/>
            <p:cNvGrpSpPr/>
            <p:nvPr/>
          </p:nvGrpSpPr>
          <p:grpSpPr>
            <a:xfrm>
              <a:off x="1371600" y="-76320"/>
              <a:ext cx="5257080" cy="1599840"/>
              <a:chOff x="1371600" y="-76320"/>
              <a:chExt cx="5257080" cy="1599840"/>
            </a:xfrm>
          </p:grpSpPr>
          <p:sp>
            <p:nvSpPr>
              <p:cNvPr id="47" name=""/>
              <p:cNvSpPr/>
              <p:nvPr/>
            </p:nvSpPr>
            <p:spPr>
              <a:xfrm>
                <a:off x="1371600" y="-76320"/>
                <a:ext cx="813960" cy="159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: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2185560" y="-76320"/>
                <a:ext cx="1220760" cy="159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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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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Times New Roman"/>
                  </a:rPr>
                  <a:t>o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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&gt;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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Times New Roman"/>
                  </a:rPr>
                  <a:t>o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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&lt;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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Times New Roman"/>
                  </a:rPr>
                  <a:t>o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3406320" y="-76320"/>
                <a:ext cx="3222360" cy="159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Alternative Hypothesi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or Research Hypothesis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" name=""/>
          <p:cNvSpPr/>
          <p:nvPr/>
        </p:nvSpPr>
        <p:spPr>
          <a:xfrm>
            <a:off x="228600" y="1828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ituations in testing a statistical hypothe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219320" y="2362320"/>
          <a:ext cx="6019560" cy="2298600"/>
        </p:xfrm>
        <a:graphic>
          <a:graphicData uri="http://schemas.openxmlformats.org/drawingml/2006/table">
            <a:tbl>
              <a:tblPr/>
              <a:tblGrid>
                <a:gridCol w="1752480"/>
                <a:gridCol w="2133720"/>
                <a:gridCol w="2133360"/>
              </a:tblGrid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H</a:t>
                      </a:r>
                      <a:r>
                        <a:rPr b="0" lang="en-US" sz="2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o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is tru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H</a:t>
                      </a:r>
                      <a:r>
                        <a:rPr b="0" lang="en-US" sz="2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o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is fal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Accepting H</a:t>
                      </a:r>
                      <a:r>
                        <a:rPr b="0" lang="en-US" sz="2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o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Correct Deci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Type II err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(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Rejecting H</a:t>
                      </a:r>
                      <a:r>
                        <a:rPr b="0" lang="en-US" sz="2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Type I err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(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Correct Deci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76320" y="4711680"/>
            <a:ext cx="7696080" cy="18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e I error =  Rejecting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when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e II error = Accepting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when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Type I error) = P(Rejecting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|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true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Type II error) = P(Accepting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|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false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"/>
          <p:cNvGrpSpPr/>
          <p:nvPr/>
        </p:nvGrpSpPr>
        <p:grpSpPr>
          <a:xfrm>
            <a:off x="76320" y="371520"/>
            <a:ext cx="8915400" cy="3954960"/>
            <a:chOff x="76320" y="371520"/>
            <a:chExt cx="8915400" cy="3954960"/>
          </a:xfrm>
        </p:grpSpPr>
        <p:sp>
          <p:nvSpPr>
            <p:cNvPr id="262" name=""/>
            <p:cNvSpPr/>
            <p:nvPr/>
          </p:nvSpPr>
          <p:spPr>
            <a:xfrm>
              <a:off x="76320" y="371520"/>
              <a:ext cx="7696080" cy="175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4.47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=12+10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 = 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0.05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1.7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T.S.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3" name=""/>
                <p:cNvSpPr txBox="1"/>
                <p:nvPr/>
              </p:nvSpPr>
              <p:spPr>
                <a:xfrm>
                  <a:off x="609480" y="1908360"/>
                  <a:ext cx="5181840" cy="122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d</m:t>
                          </m:r>
                        </m:num>
                        <m:den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rad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85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81</m:t>
                          </m:r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4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478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den>
                              </m:f>
                            </m:e>
                          </m:rad>
                        </m:den>
                      </m:f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4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64" name=""/>
            <p:cNvSpPr/>
            <p:nvPr/>
          </p:nvSpPr>
          <p:spPr>
            <a:xfrm>
              <a:off x="76320" y="3003480"/>
              <a:ext cx="891540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Decis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ince T=1.04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.R. (T=1.04&lt; t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0.05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1.725), we accept (do not reject)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reject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&gt; 2 at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0.05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76320" y="15228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10.11 One Sample: Tests on a Single Propor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1219320" y="762120"/>
          <a:ext cx="5486400" cy="21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762120"/>
                    <a:ext cx="5486400" cy="21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68" name=""/>
          <p:cNvGrpSpPr/>
          <p:nvPr/>
        </p:nvGrpSpPr>
        <p:grpSpPr>
          <a:xfrm>
            <a:off x="152640" y="2833560"/>
            <a:ext cx="8991360" cy="3948120"/>
            <a:chOff x="152640" y="2833560"/>
            <a:chExt cx="8991360" cy="3948120"/>
          </a:xfrm>
        </p:grpSpPr>
        <p:sp>
          <p:nvSpPr>
            <p:cNvPr id="269" name=""/>
            <p:cNvSpPr/>
            <p:nvPr/>
          </p:nvSpPr>
          <p:spPr>
            <a:xfrm>
              <a:off x="228600" y="2833560"/>
              <a:ext cx="8381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Recall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	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p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Population proportion of elements of Typ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n t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pul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0" name=""/>
                <p:cNvSpPr txBox="1"/>
                <p:nvPr/>
              </p:nvSpPr>
              <p:spPr>
                <a:xfrm>
                  <a:off x="1214280" y="3994200"/>
                  <a:ext cx="4805640" cy="88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A</m:t>
                          </m:r>
                        </m:num>
                        <m:den>
                          <m:r>
                            <m:t xml:space="preserve">A</m:t>
                          </m:r>
                          <m:r>
                            <m:t xml:space="preserve">+</m:t>
                          </m:r>
                          <m:r>
                            <m:t xml:space="preserve">B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no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of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elements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of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type</m:t>
                          </m:r>
                          <m:r>
                            <m:t xml:space="preserve"> </m:t>
                          </m:r>
                          <m:r>
                            <m:t xml:space="preserve">A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Total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no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of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elements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71" name=""/>
            <p:cNvSpPr/>
            <p:nvPr/>
          </p:nvSpPr>
          <p:spPr>
            <a:xfrm>
              <a:off x="152640" y="320040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52640" y="419112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143000" y="4800600"/>
              <a:ext cx="8001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sample si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no. of elements of typ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in the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Sample proportion elements of Typ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in the sample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4" name=""/>
                <p:cNvSpPr txBox="1"/>
                <p:nvPr/>
              </p:nvSpPr>
              <p:spPr>
                <a:xfrm>
                  <a:off x="1219320" y="5486400"/>
                  <a:ext cx="31104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p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5" name=""/>
                <p:cNvSpPr txBox="1"/>
                <p:nvPr/>
              </p:nvSpPr>
              <p:spPr>
                <a:xfrm>
                  <a:off x="1600200" y="5931000"/>
                  <a:ext cx="657360" cy="85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X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76" name=""/>
            <p:cNvSpPr/>
            <p:nvPr/>
          </p:nvSpPr>
          <p:spPr>
            <a:xfrm>
              <a:off x="154440" y="480060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52640" y="518148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52640" y="556272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"/>
          <p:cNvGrpSpPr/>
          <p:nvPr/>
        </p:nvGrpSpPr>
        <p:grpSpPr>
          <a:xfrm>
            <a:off x="154440" y="152280"/>
            <a:ext cx="8303760" cy="1797120"/>
            <a:chOff x="154440" y="152280"/>
            <a:chExt cx="8303760" cy="1797120"/>
          </a:xfrm>
        </p:grpSpPr>
        <p:sp>
          <p:nvSpPr>
            <p:cNvPr id="280" name=""/>
            <p:cNvSpPr/>
            <p:nvPr/>
          </p:nvSpPr>
          <p:spPr>
            <a:xfrm>
              <a:off x="762120" y="152280"/>
              <a:ext cx="480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larg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we have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54440" y="15228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2" name=""/>
                <p:cNvSpPr txBox="1"/>
                <p:nvPr/>
              </p:nvSpPr>
              <p:spPr>
                <a:xfrm>
                  <a:off x="762120" y="685800"/>
                  <a:ext cx="2590560" cy="126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p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t xml:space="preserve">p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pq</m:t>
                                  </m:r>
                                </m:num>
                                <m:den>
                                  <m:r>
                                    <m:t xml:space="preserve">n</m:t>
                                  </m:r>
                                </m:den>
                              </m:f>
                            </m:e>
                          </m:rad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np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pq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83" name=""/>
            <p:cNvSpPr/>
            <p:nvPr/>
          </p:nvSpPr>
          <p:spPr>
            <a:xfrm>
              <a:off x="3352680" y="838080"/>
              <a:ext cx="510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~ N(0,1)     (Approximately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q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152280" y="152280"/>
            <a:ext cx="8796600" cy="6688800"/>
            <a:chOff x="152280" y="152280"/>
            <a:chExt cx="8796600" cy="6688800"/>
          </a:xfrm>
        </p:grpSpPr>
        <p:sp>
          <p:nvSpPr>
            <p:cNvPr id="285" name=""/>
            <p:cNvSpPr/>
            <p:nvPr/>
          </p:nvSpPr>
          <p:spPr>
            <a:xfrm>
              <a:off x="152280" y="152280"/>
              <a:ext cx="8763120" cy="655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44440" y="228600"/>
              <a:ext cx="16606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ypothes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057400" y="152280"/>
              <a:ext cx="0" cy="647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057400" y="228600"/>
              <a:ext cx="160020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GB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648320" y="228600"/>
              <a:ext cx="152388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&gt;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343400" y="1522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629400" y="1522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162920" y="289080"/>
              <a:ext cx="152388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&lt; 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28600" y="1447920"/>
              <a:ext cx="1828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st Statistic (T.S.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52280" y="2590920"/>
              <a:ext cx="876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52280" y="1371600"/>
              <a:ext cx="876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28600" y="3032280"/>
              <a:ext cx="1905120" cy="99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.R.and A.R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f 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343400" y="259092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29400" y="259092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52280" y="4419720"/>
              <a:ext cx="876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40480" y="4495680"/>
              <a:ext cx="14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cis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178000" y="4495680"/>
              <a:ext cx="6661080" cy="89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ject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(and accept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at the significance level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f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52280" y="5410080"/>
              <a:ext cx="876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018880" y="5518080"/>
              <a:ext cx="239796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Z &gt; Z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/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 Z &l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Z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/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wo-Sided Test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343400" y="5410080"/>
              <a:ext cx="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629400" y="5410080"/>
              <a:ext cx="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29400" y="5486400"/>
              <a:ext cx="2319480" cy="12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Z &l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Z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ne-Sided T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345920" y="5486400"/>
              <a:ext cx="2314440" cy="12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Z &gt; Z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ne-Sided T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8" name=""/>
                <p:cNvSpPr txBox="1"/>
                <p:nvPr/>
              </p:nvSpPr>
              <p:spPr>
                <a:xfrm>
                  <a:off x="2743200" y="1413000"/>
                  <a:ext cx="2743200" cy="117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p</m:t>
                              </m:r>
                            </m:e>
                          </m:acc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o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  <m:sub>
                                      <m:r>
                                        <m:t xml:space="preserve">o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n</m:t>
                                  </m:r>
                                </m:den>
                              </m:f>
                            </m:e>
                          </m:rad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p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p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09" name=""/>
            <p:cNvSpPr/>
            <p:nvPr/>
          </p:nvSpPr>
          <p:spPr>
            <a:xfrm>
              <a:off x="5683320" y="1600200"/>
              <a:ext cx="282348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~N(0,1)   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10" name=""/>
            <p:cNvGraphicFramePr/>
            <p:nvPr/>
          </p:nvGraphicFramePr>
          <p:xfrm>
            <a:off x="2057400" y="2666880"/>
            <a:ext cx="2209680" cy="1676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1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57400" y="2666880"/>
                      <a:ext cx="2209680" cy="167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2" name=""/>
            <p:cNvGraphicFramePr/>
            <p:nvPr/>
          </p:nvGraphicFramePr>
          <p:xfrm>
            <a:off x="4343400" y="2666880"/>
            <a:ext cx="2209680" cy="1676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343400" y="2666880"/>
                      <a:ext cx="2209680" cy="167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4" name=""/>
            <p:cNvGraphicFramePr/>
            <p:nvPr/>
          </p:nvGraphicFramePr>
          <p:xfrm>
            <a:off x="6705720" y="2743200"/>
            <a:ext cx="2133360" cy="1622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1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705720" y="2743200"/>
                      <a:ext cx="2133360" cy="162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152280" y="152280"/>
            <a:ext cx="8839440" cy="6245640"/>
            <a:chOff x="152280" y="152280"/>
            <a:chExt cx="8839440" cy="6245640"/>
          </a:xfrm>
        </p:grpSpPr>
        <p:sp>
          <p:nvSpPr>
            <p:cNvPr id="54" name=""/>
            <p:cNvSpPr/>
            <p:nvPr/>
          </p:nvSpPr>
          <p:spPr>
            <a:xfrm>
              <a:off x="152280" y="152280"/>
              <a:ext cx="8839440" cy="457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The level of significance of the test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P(Type I error) = P(Rejecting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|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tru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One-sided alternative hypothes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&g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&l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Two-sided alternative hypothes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The test procedure for rejecting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(accepting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or accepting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(rejecting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involves the following step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04920" y="4343400"/>
              <a:ext cx="8686800" cy="20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968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    Determining a test statistic (T.S.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968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    Determining the significance level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968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.    Determining the rejection region (R.R.) and the acceptance region (A.R.) of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968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.R. of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depends on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52280" y="152280"/>
            <a:ext cx="739152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96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determines the direction of the R.R. of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96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etermines the size of the R.R. of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76320" y="1066680"/>
            <a:ext cx="9067680" cy="3063960"/>
            <a:chOff x="76320" y="1066680"/>
            <a:chExt cx="9067680" cy="3063960"/>
          </a:xfrm>
        </p:grpSpPr>
        <p:graphicFrame>
          <p:nvGraphicFramePr>
            <p:cNvPr id="58" name=""/>
            <p:cNvGraphicFramePr/>
            <p:nvPr/>
          </p:nvGraphicFramePr>
          <p:xfrm>
            <a:off x="228600" y="1079640"/>
            <a:ext cx="2590920" cy="2197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1079640"/>
                      <a:ext cx="2590920" cy="219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" name=""/>
            <p:cNvGraphicFramePr/>
            <p:nvPr/>
          </p:nvGraphicFramePr>
          <p:xfrm>
            <a:off x="3200400" y="1066680"/>
            <a:ext cx="2590920" cy="2179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200400" y="1066680"/>
                      <a:ext cx="2590920" cy="217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2" name=""/>
            <p:cNvGraphicFramePr/>
            <p:nvPr/>
          </p:nvGraphicFramePr>
          <p:xfrm>
            <a:off x="6172200" y="1066680"/>
            <a:ext cx="2590920" cy="2179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172200" y="1066680"/>
                      <a:ext cx="2590920" cy="217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4" name=""/>
            <p:cNvSpPr/>
            <p:nvPr/>
          </p:nvSpPr>
          <p:spPr>
            <a:xfrm>
              <a:off x="76320" y="3306600"/>
              <a:ext cx="2971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wo-sided alternative</a:t>
              </a:r>
              <a:r>
                <a:rPr b="0" lang="en-GB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124080" y="3306600"/>
              <a:ext cx="3048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&gt;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ne-sided alternative</a:t>
              </a:r>
              <a:r>
                <a:rPr b="0" lang="en-GB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095880" y="3276720"/>
              <a:ext cx="3048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&lt;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ne-sided alternative</a:t>
              </a:r>
              <a:r>
                <a:rPr b="0" lang="en-GB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228600" y="4086360"/>
            <a:ext cx="8763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   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8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reject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accept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if the value of the T.S. falls in the R.R. of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, and vice ver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6320" y="152280"/>
            <a:ext cx="8915400" cy="16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10.5: Single Sample: Tests Concerning a Single Mean (Variance Know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that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…, X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a random sample of siz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from distribution with me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(known) varian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320" y="17524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Recal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33880" y="2133720"/>
            <a:ext cx="2599920" cy="519120"/>
            <a:chOff x="533880" y="2133720"/>
            <a:chExt cx="2599920" cy="519120"/>
          </a:xfrm>
        </p:grpSpPr>
        <mc:AlternateContent>
          <mc:Choice xmlns:a14="http://schemas.microsoft.com/office/drawing/2010/main" Requires="a14">
            <p:sp>
              <p:nvSpPr>
                <p:cNvPr id="71" name=""/>
                <p:cNvSpPr txBox="1"/>
                <p:nvPr/>
              </p:nvSpPr>
              <p:spPr>
                <a:xfrm>
                  <a:off x="1219320" y="2209680"/>
                  <a:ext cx="1914480" cy="44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(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</m:sSub>
                      <m:r>
                        <m:t xml:space="preserve">=</m:t>
                      </m:r>
                      <m:r>
                        <m:t xml:space="preserve">μ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2" name=""/>
            <p:cNvSpPr/>
            <p:nvPr/>
          </p:nvSpPr>
          <p:spPr>
            <a:xfrm>
              <a:off x="533880" y="213372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533880" y="2590920"/>
            <a:ext cx="3047400" cy="823680"/>
            <a:chOff x="533880" y="2590920"/>
            <a:chExt cx="3047400" cy="823680"/>
          </a:xfrm>
        </p:grpSpPr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1219320" y="2590920"/>
                  <a:ext cx="2361960" cy="82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Var</m:t>
                      </m:r>
                      <m:r>
                        <m:t xml:space="preserve">(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)</m:t>
                      </m:r>
                      <m:r>
                        <m:t xml:space="preserve">=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σ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75" name=""/>
            <p:cNvSpPr/>
            <p:nvPr/>
          </p:nvSpPr>
          <p:spPr>
            <a:xfrm>
              <a:off x="533880" y="274320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533880" y="3429000"/>
            <a:ext cx="4495320" cy="824040"/>
            <a:chOff x="533880" y="3429000"/>
            <a:chExt cx="4495320" cy="824040"/>
          </a:xfrm>
        </p:grpSpPr>
        <p:grpSp>
          <p:nvGrpSpPr>
            <p:cNvPr id="77" name=""/>
            <p:cNvGrpSpPr/>
            <p:nvPr/>
          </p:nvGrpSpPr>
          <p:grpSpPr>
            <a:xfrm>
              <a:off x="1143000" y="3429000"/>
              <a:ext cx="3886200" cy="824040"/>
              <a:chOff x="1143000" y="3429000"/>
              <a:chExt cx="3886200" cy="824040"/>
            </a:xfrm>
          </p:grpSpPr>
          <mc:AlternateContent>
            <mc:Choice xmlns:a14="http://schemas.microsoft.com/office/drawing/2010/main" Requires="a14">
              <p:sp>
                <p:nvSpPr>
                  <p:cNvPr id="78" name=""/>
                  <p:cNvSpPr txBox="1"/>
                  <p:nvPr/>
                </p:nvSpPr>
                <p:spPr>
                  <a:xfrm>
                    <a:off x="1143000" y="3429000"/>
                    <a:ext cx="1852560" cy="824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μ</m:t>
                            </m:r>
                            <m:r>
                              <m:t xml:space="preserve">,</m:t>
                            </m:r>
                            <m:f>
                              <m:num>
                                <m:r>
                                  <m:t xml:space="preserve">σ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n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9" name=""/>
                  <p:cNvSpPr txBox="1"/>
                  <p:nvPr/>
                </p:nvSpPr>
                <p:spPr>
                  <a:xfrm>
                    <a:off x="3684600" y="3429000"/>
                    <a:ext cx="1344600" cy="806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Z</m:t>
                        </m:r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σ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n</m:t>
                                    </m:r>
                                  </m:e>
                                </m:rad>
                              </m:den>
                            </m:f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80" name=""/>
              <p:cNvSpPr/>
              <p:nvPr/>
            </p:nvSpPr>
            <p:spPr>
              <a:xfrm>
                <a:off x="3124080" y="3581640"/>
                <a:ext cx="60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533880" y="358128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533880" y="4343400"/>
            <a:ext cx="3123720" cy="459720"/>
            <a:chOff x="533880" y="4343400"/>
            <a:chExt cx="3123720" cy="459720"/>
          </a:xfrm>
        </p:grpSpPr>
        <p:sp>
          <p:nvSpPr>
            <p:cNvPr id="83" name=""/>
            <p:cNvSpPr/>
            <p:nvPr/>
          </p:nvSpPr>
          <p:spPr>
            <a:xfrm>
              <a:off x="1066680" y="434340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st Procedure: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3880" y="434340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152280" y="152280"/>
            <a:ext cx="8796600" cy="6477120"/>
            <a:chOff x="152280" y="152280"/>
            <a:chExt cx="8796600" cy="6477120"/>
          </a:xfrm>
        </p:grpSpPr>
        <p:sp>
          <p:nvSpPr>
            <p:cNvPr id="86" name=""/>
            <p:cNvSpPr/>
            <p:nvPr/>
          </p:nvSpPr>
          <p:spPr>
            <a:xfrm>
              <a:off x="152280" y="152280"/>
              <a:ext cx="8763120" cy="647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44440" y="228600"/>
              <a:ext cx="16606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ypothes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057400" y="152280"/>
              <a:ext cx="0" cy="647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057400" y="228600"/>
              <a:ext cx="160020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648320" y="228600"/>
              <a:ext cx="152388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&gt;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343400" y="1522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629400" y="1522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162920" y="289080"/>
              <a:ext cx="152388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&lt;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600" y="1447920"/>
              <a:ext cx="1828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st Statistic (T.S.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52280" y="2286000"/>
              <a:ext cx="876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52280" y="1371600"/>
              <a:ext cx="876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7" name=""/>
                <p:cNvSpPr txBox="1"/>
                <p:nvPr/>
              </p:nvSpPr>
              <p:spPr>
                <a:xfrm>
                  <a:off x="3352680" y="1411200"/>
                  <a:ext cx="2590920" cy="87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σ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0,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8" name=""/>
            <p:cNvSpPr/>
            <p:nvPr/>
          </p:nvSpPr>
          <p:spPr>
            <a:xfrm>
              <a:off x="228600" y="2727360"/>
              <a:ext cx="1905120" cy="99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.R.and A.R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f H</a:t>
              </a:r>
              <a:r>
                <a:rPr b="0" lang="en-US" sz="22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9" name=""/>
            <p:cNvGraphicFramePr/>
            <p:nvPr/>
          </p:nvGraphicFramePr>
          <p:xfrm>
            <a:off x="2085840" y="2325600"/>
            <a:ext cx="2257560" cy="1712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85840" y="2325600"/>
                      <a:ext cx="2257560" cy="171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1" name=""/>
            <p:cNvSpPr/>
            <p:nvPr/>
          </p:nvSpPr>
          <p:spPr>
            <a:xfrm>
              <a:off x="4343400" y="228600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4381560" y="2333520"/>
            <a:ext cx="2247840" cy="1657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381560" y="2333520"/>
                      <a:ext cx="2247840" cy="165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6705720" y="2365200"/>
            <a:ext cx="2133360" cy="1673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705720" y="2365200"/>
                      <a:ext cx="2133360" cy="167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6" name=""/>
            <p:cNvSpPr/>
            <p:nvPr/>
          </p:nvSpPr>
          <p:spPr>
            <a:xfrm>
              <a:off x="6629400" y="228600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2280" y="4114800"/>
              <a:ext cx="876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40480" y="4191120"/>
              <a:ext cx="14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cis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78000" y="4191120"/>
              <a:ext cx="6661080" cy="89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ject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(and accept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at the significance level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f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2280" y="5105520"/>
              <a:ext cx="876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18880" y="5213520"/>
              <a:ext cx="239796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Z &gt; Z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/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 Z &l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Z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/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wo-Sided Test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343400" y="51055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629400" y="51055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629400" y="5181480"/>
              <a:ext cx="2319480" cy="12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Z &l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Z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ne-Sided T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345920" y="5181480"/>
              <a:ext cx="2314440" cy="12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Z &gt; Z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ne-Sided T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76320" y="152280"/>
            <a:ext cx="8915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10.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random sample of 100 recorded deaths in the United States during the past year showed an average of 71.8 years. Assuming a population standard deviation of 8.9 year, does this seem to indicate that the mean life span today is greater than 70 years? Use a 0.05 level of signific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76320" y="2433600"/>
            <a:ext cx="6095880" cy="3890880"/>
            <a:chOff x="76320" y="2433600"/>
            <a:chExt cx="6095880" cy="3890880"/>
          </a:xfrm>
        </p:grpSpPr>
        <p:sp>
          <p:nvSpPr>
            <p:cNvPr id="118" name=""/>
            <p:cNvSpPr/>
            <p:nvPr/>
          </p:nvSpPr>
          <p:spPr>
            <a:xfrm>
              <a:off x="76320" y="2433600"/>
              <a:ext cx="6095880" cy="358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100,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71.8,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8.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average (mean) life sp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7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Hypothese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7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&gt; 7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T.S.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9" name=""/>
                <p:cNvSpPr txBox="1"/>
                <p:nvPr/>
              </p:nvSpPr>
              <p:spPr>
                <a:xfrm>
                  <a:off x="1676520" y="2814480"/>
                  <a:ext cx="38088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>
                  <a:off x="838080" y="5405400"/>
                  <a:ext cx="4267440" cy="91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σ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7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8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70</m:t>
                          </m:r>
                        </m:num>
                        <m:den>
                          <m:r>
                            <m:t xml:space="preserve">8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9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0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2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486400" y="2970360"/>
            <a:ext cx="3124080" cy="27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6320" y="152280"/>
            <a:ext cx="8915400" cy="36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Level of significa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0.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.R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.0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.6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 &gt; 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.0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.6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nce Z=2.0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.R., i.e., Z=2.02&gt;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.0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we reject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0.05 and accept 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&gt; 70. Therefore, we conclude that the mean life span today is greater than 70 years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0080" y="3581280"/>
            <a:ext cx="8891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10.4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manufacturer of sports equipment has developed a new synthetic fishing line that he claims has a mean breaking strength of 8 kilograms with a standard deviation of 0.5 kilograms. Test the hypothesis tha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8 kg against the alternative tha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 kg if a random sample of 50 lines is tested and found to have a  mean breaking strength of 7.8 kg. Use a 0.01 level of signific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76320" y="142920"/>
            <a:ext cx="8915400" cy="6460560"/>
            <a:chOff x="76320" y="142920"/>
            <a:chExt cx="8915400" cy="6460560"/>
          </a:xfrm>
        </p:grpSpPr>
        <p:sp>
          <p:nvSpPr>
            <p:cNvPr id="125" name=""/>
            <p:cNvSpPr/>
            <p:nvPr/>
          </p:nvSpPr>
          <p:spPr>
            <a:xfrm>
              <a:off x="135000" y="142920"/>
              <a:ext cx="5732280" cy="39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50,       =7.8,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0.5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0.01,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/2 = 0.00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mean breaking strengt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ypothese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.S.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6" name=""/>
                <p:cNvSpPr txBox="1"/>
                <p:nvPr/>
              </p:nvSpPr>
              <p:spPr>
                <a:xfrm>
                  <a:off x="990720" y="3352680"/>
                  <a:ext cx="4114800" cy="87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σ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7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8</m:t>
                          </m:r>
                          <m:r>
                            <m:t xml:space="preserve">−</m:t>
                          </m:r>
                          <m:r>
                            <m:t xml:space="preserve">8</m:t>
                          </m:r>
                        </m:num>
                        <m:den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5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50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83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7" name=""/>
                <p:cNvSpPr txBox="1"/>
                <p:nvPr/>
              </p:nvSpPr>
              <p:spPr>
                <a:xfrm>
                  <a:off x="1447920" y="509760"/>
                  <a:ext cx="328320" cy="32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28" name=""/>
            <p:cNvSpPr/>
            <p:nvPr/>
          </p:nvSpPr>
          <p:spPr>
            <a:xfrm>
              <a:off x="76320" y="4483080"/>
              <a:ext cx="8915400" cy="21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Z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/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Z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0.005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2.575 and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Z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/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Z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0.005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57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cis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ince Z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83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.R., i.e., Z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83 &l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Z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0.005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we reject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t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0.01 and accept H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: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8. Therefore, we conclude that the claim is not correc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257800" y="241200"/>
            <a:ext cx="358128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20:50:00Z</dcterms:created>
  <dc:creator> </dc:creator>
  <dc:description/>
  <dc:language>en-US</dc:language>
  <cp:lastModifiedBy> </cp:lastModifiedBy>
  <dcterms:modified xsi:type="dcterms:W3CDTF">2004-08-01T22:20:34Z</dcterms:modified>
  <cp:revision>6</cp:revision>
  <dc:subject/>
  <dc:title>عرض تقديمي من PowerPoint</dc:title>
</cp:coreProperties>
</file>