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98B-8338-4E00-B368-A91C4493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F18-EF06-4E45-9092-54816F0F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7AE6-FB76-48D9-AA2E-5FC1793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4A2-02E0-4B72-9790-31F5E935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DD4-2183-4BCD-A005-BC4FBEAE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961-DA0E-495F-8FF9-1A718E38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D875-7B68-468B-B817-9E5EFDC9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B9C-087A-4C6C-9229-8BB85F6F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E02-413E-410A-A6CC-51920C34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904-CAA1-4F8F-ABEB-5C438B05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6EB-B2F6-41A2-9DBD-E2A11855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12C2-4E1C-435E-8BCB-ADE3128D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B0D0-B4EB-4897-952F-EDB75965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280"/>
            <a:ext cx="861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5 Additive Ru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any two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05740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3324240"/>
            <a:ext cx="89154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utually exclusive (disjoint)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…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2286000" y="4583160"/>
                <a:ext cx="25146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limLow>
                          <m:e>
                            <m:limUpp>
                              <m:e/>
                              <m:lim>
                                <m:r>
                                  <m:t xml:space="preserve">n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no effect on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In this c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g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&lt;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means that know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creases the probability of occurrenc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2895480"/>
            <a:ext cx="906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Independent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  and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Otherwi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320" y="4724280"/>
            <a:ext cx="876276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we found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 Therefore,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dependent, i.e., they are not independent. Also, we can verify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228600" y="76320"/>
            <a:ext cx="87631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7 Multiplicative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 an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213372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we have a fuse box containing 20 fuses of which 5 are defective (D) and 15 are non-defective (N). If 2 fuses are selected at random and removed from the box in succession without replacing the first, what is the probability that both fuses are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20" y="44197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first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cond fuse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the first fuse is defective and the second fus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} = {both fuses are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76320" y="152280"/>
            <a:ext cx="8153280" cy="3353040"/>
            <a:chOff x="76320" y="152280"/>
            <a:chExt cx="8153280" cy="3353040"/>
          </a:xfrm>
        </p:grpSpPr>
        <p:sp>
          <p:nvSpPr>
            <p:cNvPr id="209" name=""/>
            <p:cNvSpPr/>
            <p:nvPr/>
          </p:nvSpPr>
          <p:spPr>
            <a:xfrm>
              <a:off x="76320" y="152280"/>
              <a:ext cx="81532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calculate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73320" y="2706840"/>
                  <a:ext cx="276516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  <m:r>
                        <m:t xml:space="preserve">×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263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"/>
                <p:cNvSpPr txBox="1"/>
                <p:nvPr/>
              </p:nvSpPr>
              <p:spPr>
                <a:xfrm>
                  <a:off x="1447920" y="1447920"/>
                  <a:ext cx="3808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1143000" y="733320"/>
                  <a:ext cx="40176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914400" y="3641760"/>
            <a:ext cx="5638680" cy="2151360"/>
            <a:chOff x="914400" y="3641760"/>
            <a:chExt cx="5638680" cy="215136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000080" y="3641760"/>
              <a:ext cx="4181400" cy="14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914400" y="508932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 Selec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514600" y="5089320"/>
              <a:ext cx="403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cond Selection: given t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irst is defective (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228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and only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(Multiplicative Rule for independent ev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6320" y="1828800"/>
            <a:ext cx="8839080" cy="26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dependent if one of the following conditions is satisfi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4191120"/>
            <a:ext cx="883944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3 independent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6320" y="152280"/>
            <a:ext cx="883908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3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cards are drawn in succession, without replacement, from an ordinary deck of playing cards. Fined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where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re define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1-st card is a red ac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2-nd card is a 10 or a j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3-rd card is a number greater than 3 but less than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2838600"/>
            <a:ext cx="8305560" cy="29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/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8/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2/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39640" y="5138640"/>
                <a:ext cx="1974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630520" y="5151600"/>
                <a:ext cx="31608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26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4479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4" name=""/>
          <p:cNvGrpSpPr/>
          <p:nvPr/>
        </p:nvGrpSpPr>
        <p:grpSpPr>
          <a:xfrm>
            <a:off x="5867280" y="2819520"/>
            <a:ext cx="2895840" cy="3962160"/>
            <a:chOff x="5867280" y="2819520"/>
            <a:chExt cx="2895840" cy="396216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6019920" y="2971440"/>
              <a:ext cx="2247840" cy="36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5867280" y="2819520"/>
              <a:ext cx="2895840" cy="396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6320" y="152280"/>
            <a:ext cx="8839080" cy="18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8  Bayes'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761400" y="1774800"/>
            <a:ext cx="4572720" cy="1417680"/>
            <a:chOff x="761400" y="1774800"/>
            <a:chExt cx="4572720" cy="1417680"/>
          </a:xfrm>
        </p:grpSpPr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371600" y="1774800"/>
                  <a:ext cx="396252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limUpp>
                            <m:e/>
                            <m:lim>
                              <m:r>
                                <m:t xml:space="preserve">n</m:t>
                              </m:r>
                            </m:lim>
                          </m:limUpp>
                        </m:e>
                        <m:lim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lim>
                      </m:limLow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∪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∪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0" name=""/>
            <p:cNvSpPr/>
            <p:nvPr/>
          </p:nvSpPr>
          <p:spPr>
            <a:xfrm>
              <a:off x="1676520" y="2666880"/>
              <a:ext cx="34290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1400" y="198108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61400" y="2697120"/>
              <a:ext cx="505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6320" y="3200400"/>
            <a:ext cx="80769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otal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238400" y="4965840"/>
            <a:ext cx="3409920" cy="1752480"/>
            <a:chOff x="1238400" y="4965840"/>
            <a:chExt cx="3409920" cy="1752480"/>
          </a:xfrm>
        </p:grpSpPr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1905120" y="5767560"/>
                  <a:ext cx="2133360" cy="95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∩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1238400" y="4965840"/>
                  <a:ext cx="3409920" cy="89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6629400" y="3505320"/>
            <a:ext cx="2057400" cy="3124080"/>
            <a:chOff x="6629400" y="3505320"/>
            <a:chExt cx="2057400" cy="3124080"/>
          </a:xfrm>
        </p:grpSpPr>
        <p:pic>
          <p:nvPicPr>
            <p:cNvPr id="238" name="" descr=""/>
            <p:cNvPicPr/>
            <p:nvPr/>
          </p:nvPicPr>
          <p:blipFill>
            <a:blip r:embed="rId1"/>
            <a:stretch/>
          </p:blipFill>
          <p:spPr>
            <a:xfrm>
              <a:off x="6778440" y="3657600"/>
              <a:ext cx="1755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29400" y="3505320"/>
              <a:ext cx="2057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43000" y="76320"/>
            <a:ext cx="6629400" cy="3124080"/>
            <a:chOff x="1143000" y="76320"/>
            <a:chExt cx="6629400" cy="31240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1295280" y="76320"/>
              <a:ext cx="6477120" cy="30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43000" y="76320"/>
              <a:ext cx="66294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76320" y="3371760"/>
            <a:ext cx="883908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machin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20%, 30%, and 50%, respectively, of the products. It is known that 1%, 4%, and 7% of the products made by each machine, respectively, are defective. If a finished product is randomly selected, what is the probability that it is defe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6320" y="76320"/>
            <a:ext cx="883908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= {the selected product is defectiv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the selected produc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901800" y="2233440"/>
            <a:ext cx="5651280" cy="2273400"/>
            <a:chOff x="901800" y="2233440"/>
            <a:chExt cx="5651280" cy="2273400"/>
          </a:xfrm>
        </p:grpSpPr>
        <p:grpSp>
          <p:nvGrpSpPr>
            <p:cNvPr id="246" name=""/>
            <p:cNvGrpSpPr/>
            <p:nvPr/>
          </p:nvGrpSpPr>
          <p:grpSpPr>
            <a:xfrm>
              <a:off x="901800" y="2233440"/>
              <a:ext cx="5651280" cy="1538640"/>
              <a:chOff x="901800" y="2233440"/>
              <a:chExt cx="5651280" cy="1538640"/>
            </a:xfrm>
          </p:grpSpPr>
          <mc:AlternateContent>
            <mc:Choice xmlns:a14="http://schemas.microsoft.com/office/drawing/2010/main" Requires="a14">
              <p:sp>
                <p:nvSpPr>
                  <p:cNvPr id="247" name=""/>
                  <p:cNvSpPr txBox="1"/>
                  <p:nvPr/>
                </p:nvSpPr>
                <p:spPr>
                  <a:xfrm>
                    <a:off x="914400" y="2233440"/>
                    <a:ext cx="5638680" cy="801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8" name=""/>
                  <p:cNvSpPr txBox="1"/>
                  <p:nvPr/>
                </p:nvSpPr>
                <p:spPr>
                  <a:xfrm>
                    <a:off x="901800" y="2971800"/>
                    <a:ext cx="565128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;    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   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14400" y="3708360"/>
                  <a:ext cx="563868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;    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A3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  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7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4421160"/>
                <a:ext cx="38098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457200" y="5321160"/>
            <a:ext cx="75438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P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2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1 + 0.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4  + 0.5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0.0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02      + 0.012       + 0.03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= 0.04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8920" y="198360"/>
            <a:ext cx="540540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76320" y="2971800"/>
            <a:ext cx="87627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Ques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known that the selected product is defective, what is the probability that it is made by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6320" y="4278240"/>
            <a:ext cx="7427880" cy="1744560"/>
            <a:chOff x="76320" y="4278240"/>
            <a:chExt cx="7427880" cy="1744560"/>
          </a:xfrm>
        </p:grpSpPr>
        <p:grpSp>
          <p:nvGrpSpPr>
            <p:cNvPr id="255" name=""/>
            <p:cNvGrpSpPr/>
            <p:nvPr/>
          </p:nvGrpSpPr>
          <p:grpSpPr>
            <a:xfrm>
              <a:off x="685800" y="4278240"/>
              <a:ext cx="6818400" cy="903240"/>
              <a:chOff x="685800" y="4278240"/>
              <a:chExt cx="6818400" cy="903240"/>
            </a:xfrm>
          </p:grpSpPr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685800" y="4309920"/>
                    <a:ext cx="3084480" cy="871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3829320" y="4278240"/>
                    <a:ext cx="367488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8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8" name=""/>
            <p:cNvSpPr/>
            <p:nvPr/>
          </p:nvSpPr>
          <p:spPr>
            <a:xfrm>
              <a:off x="76320" y="519732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is rule is called Bayes' ru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6320" y="216000"/>
            <a:ext cx="883908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yes' r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itute a partition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, 2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for any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ch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448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820800" y="1757520"/>
                <a:ext cx="68752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∩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76320" y="2743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 i = 1, 2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752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85800" y="3441600"/>
            <a:ext cx="7696080" cy="30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 Two event Probl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area= P(S)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In Venn diagrams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an event A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ea of the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ing to the event A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Total area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2405160"/>
            <a:ext cx="883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c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334120" y="1046160"/>
            <a:ext cx="3276360" cy="2840040"/>
            <a:chOff x="5334120" y="1046160"/>
            <a:chExt cx="3276360" cy="2840040"/>
          </a:xfrm>
        </p:grpSpPr>
        <p:sp>
          <p:nvSpPr>
            <p:cNvPr id="48" name=""/>
            <p:cNvSpPr/>
            <p:nvPr/>
          </p:nvSpPr>
          <p:spPr>
            <a:xfrm>
              <a:off x="5334120" y="1046160"/>
              <a:ext cx="3276360" cy="28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 area= P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5410080" y="1122480"/>
              <a:ext cx="3057120" cy="21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291960"/>
            <a:ext cx="876276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</a:rPr>
              <a:t>Example 2.3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2.38, if it is known that the selected product is defective, what is the probability that it is made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mach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5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2590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90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3048120"/>
            <a:ext cx="6173640" cy="2209680"/>
            <a:chOff x="762120" y="3048120"/>
            <a:chExt cx="6173640" cy="2209680"/>
          </a:xfrm>
        </p:grpSpPr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762120" y="3048120"/>
                  <a:ext cx="6173640" cy="119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|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k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nary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2209680" y="4426200"/>
                  <a:ext cx="3848400" cy="83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12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44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2" name=""/>
          <p:cNvSpPr/>
          <p:nvPr/>
        </p:nvSpPr>
        <p:spPr>
          <a:xfrm>
            <a:off x="213840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562720" cy="334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73280" y="3906720"/>
                <a:ext cx="614988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71880" y="5022720"/>
                <a:ext cx="39240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4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01472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6320" y="380880"/>
            <a:ext cx="8534160" cy="3593880"/>
            <a:chOff x="76320" y="380880"/>
            <a:chExt cx="8534160" cy="3593880"/>
          </a:xfrm>
        </p:grpSpPr>
        <p:sp>
          <p:nvSpPr>
            <p:cNvPr id="278" name=""/>
            <p:cNvSpPr/>
            <p:nvPr/>
          </p:nvSpPr>
          <p:spPr>
            <a:xfrm>
              <a:off x="76320" y="380880"/>
              <a:ext cx="853416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0408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2449, 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0.71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609480" y="1338120"/>
                  <a:ext cx="208116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k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|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6320" y="2286000"/>
              <a:ext cx="853416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selected product was found defective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irst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f it is ok, we should check mach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760" y="1600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760" y="22860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228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7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Paula passes Mathematics is 2/3, and the probability that she passes English is 4/9. If the probability that she passes both courses is 1/4, what is the probability that she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at least one cou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Mathematics and fail Englis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 both courses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6320" y="3263760"/>
            <a:ext cx="8762760" cy="2984760"/>
            <a:chOff x="76320" y="3263760"/>
            <a:chExt cx="8762760" cy="2984760"/>
          </a:xfrm>
        </p:grpSpPr>
        <p:sp>
          <p:nvSpPr>
            <p:cNvPr id="52" name=""/>
            <p:cNvSpPr/>
            <p:nvPr/>
          </p:nvSpPr>
          <p:spPr>
            <a:xfrm>
              <a:off x="76320" y="3263760"/>
              <a:ext cx="876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s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Mathematic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{Paula passes English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know that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2/3,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4/9, and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1/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robability of passing at least one course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+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676520" y="5432400"/>
                  <a:ext cx="22096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76320" y="152280"/>
            <a:ext cx="8915400" cy="1614600"/>
            <a:chOff x="76320" y="152280"/>
            <a:chExt cx="8915400" cy="1614600"/>
          </a:xfrm>
        </p:grpSpPr>
        <p:sp>
          <p:nvSpPr>
            <p:cNvPr id="55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passing Mathematics and failing Englis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494000" y="1008000"/>
                  <a:ext cx="156672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" name=""/>
          <p:cNvGrpSpPr/>
          <p:nvPr/>
        </p:nvGrpSpPr>
        <p:grpSpPr>
          <a:xfrm>
            <a:off x="76320" y="1752480"/>
            <a:ext cx="8762760" cy="1524240"/>
            <a:chOff x="76320" y="1752480"/>
            <a:chExt cx="8762760" cy="1524240"/>
          </a:xfrm>
        </p:grpSpPr>
        <p:sp>
          <p:nvSpPr>
            <p:cNvPr id="58" name=""/>
            <p:cNvSpPr/>
            <p:nvPr/>
          </p:nvSpPr>
          <p:spPr>
            <a:xfrm>
              <a:off x="76320" y="17524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c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obability of failing both courses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523880" y="2500200"/>
                  <a:ext cx="16765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76320" y="332424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1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complementary eve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483080"/>
            <a:ext cx="883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6 Conditional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probability of occurring an event A when it is known that some event B has occur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onditional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of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given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and is denoted P(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|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320" y="228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iven the ev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defined by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990720" y="1447920"/>
                <a:ext cx="46242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4" name=""/>
          <p:cNvGrpSpPr/>
          <p:nvPr/>
        </p:nvGrpSpPr>
        <p:grpSpPr>
          <a:xfrm>
            <a:off x="5791320" y="762120"/>
            <a:ext cx="3200400" cy="2298600"/>
            <a:chOff x="5791320" y="762120"/>
            <a:chExt cx="3200400" cy="2298600"/>
          </a:xfrm>
        </p:grpSpPr>
        <p:sp>
          <p:nvSpPr>
            <p:cNvPr id="65" name=""/>
            <p:cNvSpPr/>
            <p:nvPr/>
          </p:nvSpPr>
          <p:spPr>
            <a:xfrm>
              <a:off x="5791320" y="762120"/>
              <a:ext cx="3200400" cy="229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Total area=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918040" y="927000"/>
              <a:ext cx="292104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76320" y="22096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04920" y="2514600"/>
                <a:ext cx="82296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∩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B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∩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kel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28600" y="4202280"/>
                <a:ext cx="26668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∩</m:t>
                            </m:r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" name=""/>
          <p:cNvGrpSpPr/>
          <p:nvPr/>
        </p:nvGrpSpPr>
        <p:grpSpPr>
          <a:xfrm>
            <a:off x="228600" y="5027760"/>
            <a:ext cx="8915400" cy="839520"/>
            <a:chOff x="228600" y="5027760"/>
            <a:chExt cx="8915400" cy="8395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228600" y="5027760"/>
                  <a:ext cx="350532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∩</m:t>
                              </m:r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  <m:r>
                                <m:t xml:space="preserve">|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B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|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4038480" y="510552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Multiplicative Rule=Theorem 2.1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37152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39 physicians are classified as given in the table below. A physician is to be selecte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d the probability that the selected physician is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– 49 given that the physician smokes occasion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762120"/>
            <a:ext cx="9067320" cy="4800600"/>
            <a:chOff x="0" y="762120"/>
            <a:chExt cx="9067320" cy="4800600"/>
          </a:xfrm>
        </p:grpSpPr>
        <p:grpSp>
          <p:nvGrpSpPr>
            <p:cNvPr id="75" name=""/>
            <p:cNvGrpSpPr/>
            <p:nvPr/>
          </p:nvGrpSpPr>
          <p:grpSpPr>
            <a:xfrm>
              <a:off x="7920" y="764640"/>
              <a:ext cx="9050040" cy="4794840"/>
              <a:chOff x="7920" y="764640"/>
              <a:chExt cx="9050040" cy="4794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7920" y="764640"/>
                <a:ext cx="851760" cy="379080"/>
                <a:chOff x="7920" y="764640"/>
                <a:chExt cx="851760" cy="379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160" y="764640"/>
                  <a:ext cx="61092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920" y="764640"/>
                  <a:ext cx="85176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60040" y="764640"/>
                <a:ext cx="1999800" cy="379080"/>
                <a:chOff x="860040" y="764640"/>
                <a:chExt cx="1999800" cy="379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980280" y="764640"/>
                  <a:ext cx="175968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60040" y="764640"/>
                  <a:ext cx="19998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60560" y="764640"/>
                <a:ext cx="6197400" cy="379080"/>
                <a:chOff x="2860560" y="764640"/>
                <a:chExt cx="6197400" cy="3790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980800" y="764640"/>
                  <a:ext cx="5956560" cy="37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Smoking Habi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0560" y="764640"/>
                  <a:ext cx="6197400" cy="379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7920" y="1143720"/>
                <a:ext cx="851760" cy="688680"/>
                <a:chOff x="7920" y="1143720"/>
                <a:chExt cx="851760" cy="6886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8160" y="1143720"/>
                  <a:ext cx="610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920" y="1143720"/>
                  <a:ext cx="851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860040" y="1143720"/>
                <a:ext cx="1999800" cy="688680"/>
                <a:chOff x="860040" y="1143720"/>
                <a:chExt cx="1999800" cy="6886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80280" y="1143720"/>
                  <a:ext cx="1759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60040" y="1143720"/>
                  <a:ext cx="1999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860560" y="1143720"/>
                <a:ext cx="1343520" cy="688680"/>
                <a:chOff x="2860560" y="1143720"/>
                <a:chExt cx="1343520" cy="6886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980800" y="1143720"/>
                  <a:ext cx="110340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ai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056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204440" y="1143720"/>
                <a:ext cx="1994760" cy="688680"/>
                <a:chOff x="4204440" y="1143720"/>
                <a:chExt cx="1994760" cy="688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324680" y="1143720"/>
                  <a:ext cx="175392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ccasional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204440" y="1143720"/>
                  <a:ext cx="199476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199920" y="1143720"/>
                <a:ext cx="1513800" cy="688680"/>
                <a:chOff x="6199920" y="1143720"/>
                <a:chExt cx="1513800" cy="6886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320160" y="1143720"/>
                  <a:ext cx="127296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ot at al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199920" y="1143720"/>
                  <a:ext cx="151380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714080" y="1143720"/>
                <a:ext cx="1343520" cy="688680"/>
                <a:chOff x="7714080" y="1143720"/>
                <a:chExt cx="1343520" cy="688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834320" y="1143720"/>
                  <a:ext cx="1102680" cy="68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4080" y="1143720"/>
                  <a:ext cx="1343520" cy="68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7920" y="1832760"/>
                <a:ext cx="851760" cy="3321000"/>
                <a:chOff x="7920" y="1832760"/>
                <a:chExt cx="851760" cy="3321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28160" y="1832760"/>
                  <a:ext cx="610920" cy="332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g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920" y="1832760"/>
                  <a:ext cx="851760" cy="332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860040" y="1832760"/>
                <a:ext cx="1999800" cy="547200"/>
                <a:chOff x="860040" y="1832760"/>
                <a:chExt cx="1999800" cy="5472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980280" y="1832760"/>
                  <a:ext cx="1759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 - 2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860040" y="1832760"/>
                  <a:ext cx="1999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860560" y="1832760"/>
                <a:ext cx="1343520" cy="547200"/>
                <a:chOff x="2860560" y="1832760"/>
                <a:chExt cx="1343520" cy="5472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980800" y="1832760"/>
                  <a:ext cx="110340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056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4204440" y="1832760"/>
                <a:ext cx="1994760" cy="547200"/>
                <a:chOff x="4204440" y="1832760"/>
                <a:chExt cx="1994760" cy="5472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4324680" y="1832760"/>
                  <a:ext cx="175392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204440" y="1832760"/>
                  <a:ext cx="199476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199920" y="1832760"/>
                <a:ext cx="1513800" cy="547200"/>
                <a:chOff x="6199920" y="1832760"/>
                <a:chExt cx="1513800" cy="5472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320160" y="1832760"/>
                  <a:ext cx="127296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99920" y="1832760"/>
                  <a:ext cx="151380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7714080" y="1832760"/>
                <a:ext cx="1343520" cy="547200"/>
                <a:chOff x="7714080" y="1832760"/>
                <a:chExt cx="1343520" cy="547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7834320" y="1832760"/>
                  <a:ext cx="1102680" cy="54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714080" y="1832760"/>
                  <a:ext cx="1343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860040" y="2379960"/>
                <a:ext cx="1999800" cy="971640"/>
                <a:chOff x="860040" y="2379960"/>
                <a:chExt cx="1999800" cy="971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980280" y="237996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 - 3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60040" y="237996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860560" y="2379960"/>
                <a:ext cx="1343520" cy="971640"/>
                <a:chOff x="2860560" y="2379960"/>
                <a:chExt cx="1343520" cy="971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980800" y="237996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056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204440" y="2379960"/>
                <a:ext cx="1994760" cy="971640"/>
                <a:chOff x="4204440" y="2379960"/>
                <a:chExt cx="1994760" cy="9716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324680" y="237996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204440" y="237996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199920" y="2379960"/>
                <a:ext cx="1513800" cy="971640"/>
                <a:chOff x="6199920" y="2379960"/>
                <a:chExt cx="1513800" cy="9716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320160" y="237996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99920" y="237996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714080" y="2379960"/>
                <a:ext cx="1343520" cy="971640"/>
                <a:chOff x="7714080" y="2379960"/>
                <a:chExt cx="1343520" cy="97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834320" y="237996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714080" y="237996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860040" y="3351600"/>
                <a:ext cx="1999800" cy="971640"/>
                <a:chOff x="860040" y="3351600"/>
                <a:chExt cx="1999800" cy="9716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980280" y="3351600"/>
                  <a:ext cx="1759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 - 49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60040" y="3351600"/>
                  <a:ext cx="1999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2860560" y="3351600"/>
                <a:ext cx="1343520" cy="971640"/>
                <a:chOff x="2860560" y="3351600"/>
                <a:chExt cx="1343520" cy="971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980800" y="3351600"/>
                  <a:ext cx="110340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056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204440" y="3351600"/>
                <a:ext cx="1994760" cy="971640"/>
                <a:chOff x="4204440" y="3351600"/>
                <a:chExt cx="1994760" cy="97164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324680" y="3351600"/>
                  <a:ext cx="175392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04440" y="3351600"/>
                  <a:ext cx="199476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199920" y="3351600"/>
                <a:ext cx="1513800" cy="971640"/>
                <a:chOff x="6199920" y="3351600"/>
                <a:chExt cx="1513800" cy="971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320160" y="3351600"/>
                  <a:ext cx="127296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99920" y="3351600"/>
                  <a:ext cx="151380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7714080" y="3351600"/>
                <a:ext cx="1343520" cy="971640"/>
                <a:chOff x="7714080" y="3351600"/>
                <a:chExt cx="1343520" cy="971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7834320" y="3351600"/>
                  <a:ext cx="1102680" cy="9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14080" y="3351600"/>
                  <a:ext cx="1343520" cy="97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860040" y="4323600"/>
                <a:ext cx="1999800" cy="830160"/>
                <a:chOff x="860040" y="4323600"/>
                <a:chExt cx="1999800" cy="8301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980280" y="4323600"/>
                  <a:ext cx="1759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+       (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20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60040" y="4323600"/>
                  <a:ext cx="1999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860560" y="4323600"/>
                <a:ext cx="1343520" cy="830160"/>
                <a:chOff x="2860560" y="4323600"/>
                <a:chExt cx="1343520" cy="8301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980800" y="4323600"/>
                  <a:ext cx="110340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056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4204440" y="4323600"/>
                <a:ext cx="1994760" cy="830160"/>
                <a:chOff x="4204440" y="4323600"/>
                <a:chExt cx="1994760" cy="8301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4324680" y="4323600"/>
                  <a:ext cx="175392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204440" y="4323600"/>
                  <a:ext cx="199476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99920" y="4323600"/>
                <a:ext cx="1513800" cy="830160"/>
                <a:chOff x="6199920" y="4323600"/>
                <a:chExt cx="1513800" cy="8301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320160" y="4323600"/>
                  <a:ext cx="127296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99920" y="4323600"/>
                  <a:ext cx="151380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714080" y="4323600"/>
                <a:ext cx="1343520" cy="830160"/>
                <a:chOff x="7714080" y="4323600"/>
                <a:chExt cx="1343520" cy="8301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834320" y="4323600"/>
                  <a:ext cx="1102680" cy="83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714080" y="4323600"/>
                  <a:ext cx="1343520" cy="83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7920" y="5153760"/>
                <a:ext cx="851760" cy="405720"/>
                <a:chOff x="7920" y="5153760"/>
                <a:chExt cx="851760" cy="4057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28160" y="5153760"/>
                  <a:ext cx="610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920" y="5153760"/>
                  <a:ext cx="851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860040" y="5153760"/>
                <a:ext cx="1999800" cy="405720"/>
                <a:chOff x="860040" y="5153760"/>
                <a:chExt cx="1999800" cy="4057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980280" y="5153760"/>
                  <a:ext cx="1759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To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60040" y="5153760"/>
                  <a:ext cx="1999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2860560" y="5153760"/>
                <a:ext cx="1343520" cy="405720"/>
                <a:chOff x="2860560" y="5153760"/>
                <a:chExt cx="1343520" cy="4057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2980800" y="5153760"/>
                  <a:ext cx="1103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7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056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4204440" y="5153760"/>
                <a:ext cx="1994760" cy="405720"/>
                <a:chOff x="4204440" y="5153760"/>
                <a:chExt cx="1994760" cy="405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324680" y="5153760"/>
                  <a:ext cx="175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204440" y="5153760"/>
                  <a:ext cx="199476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6199920" y="5153760"/>
                <a:ext cx="1513800" cy="405720"/>
                <a:chOff x="6199920" y="5153760"/>
                <a:chExt cx="1513800" cy="4057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320160" y="5153760"/>
                  <a:ext cx="1272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199920" y="5153760"/>
                  <a:ext cx="151380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7714080" y="5153760"/>
                <a:ext cx="1343520" cy="405720"/>
                <a:chOff x="7714080" y="5153760"/>
                <a:chExt cx="1343520" cy="4057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7834320" y="5153760"/>
                  <a:ext cx="1102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3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14080" y="5153760"/>
                  <a:ext cx="1343520" cy="405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4" name=""/>
            <p:cNvSpPr/>
            <p:nvPr/>
          </p:nvSpPr>
          <p:spPr>
            <a:xfrm>
              <a:off x="0" y="762120"/>
              <a:ext cx="9067320" cy="4800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320" y="76320"/>
            <a:ext cx="853416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339   equally likely outcom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smokes 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and smo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ca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320" y="2666880"/>
            <a:ext cx="8839080" cy="1287720"/>
            <a:chOff x="76320" y="2666880"/>
            <a:chExt cx="8839080" cy="1287720"/>
          </a:xfrm>
        </p:grpSpPr>
        <p:sp>
          <p:nvSpPr>
            <p:cNvPr id="187" name=""/>
            <p:cNvSpPr/>
            <p:nvPr/>
          </p:nvSpPr>
          <p:spPr>
            <a:xfrm>
              <a:off x="76320" y="266688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3121200"/>
                  <a:ext cx="37339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33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9" name=""/>
          <p:cNvGrpSpPr/>
          <p:nvPr/>
        </p:nvGrpSpPr>
        <p:grpSpPr>
          <a:xfrm>
            <a:off x="76320" y="3825720"/>
            <a:ext cx="8839080" cy="1279800"/>
            <a:chOff x="76320" y="3825720"/>
            <a:chExt cx="8839080" cy="1279800"/>
          </a:xfrm>
        </p:grpSpPr>
        <p:sp>
          <p:nvSpPr>
            <p:cNvPr id="190" name=""/>
            <p:cNvSpPr/>
            <p:nvPr/>
          </p:nvSpPr>
          <p:spPr>
            <a:xfrm>
              <a:off x="76320" y="3825720"/>
              <a:ext cx="88390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smokes occasionall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1371600" y="4284720"/>
                  <a:ext cx="3733920" cy="82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7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76320" y="5029200"/>
            <a:ext cx="8839080" cy="1600200"/>
            <a:chOff x="76320" y="5029200"/>
            <a:chExt cx="8839080" cy="1600200"/>
          </a:xfrm>
        </p:grpSpPr>
        <p:sp>
          <p:nvSpPr>
            <p:cNvPr id="193" name=""/>
            <p:cNvSpPr/>
            <p:nvPr/>
          </p:nvSpPr>
          <p:spPr>
            <a:xfrm>
              <a:off x="76320" y="5029200"/>
              <a:ext cx="8839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the selected physician is aged 40 – 49 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mokes occasional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371600" y="5794200"/>
                  <a:ext cx="52578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∩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3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19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76320" y="457200"/>
            <a:ext cx="89154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selected physician is aged 40 – 49 given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ian smokes occasion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76320" y="1447920"/>
            <a:ext cx="8762760" cy="2286000"/>
            <a:chOff x="76320" y="1447920"/>
            <a:chExt cx="8762760" cy="2286000"/>
          </a:xfrm>
        </p:grpSpPr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52280" y="2286000"/>
                  <a:ext cx="5334120" cy="81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i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619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77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52280" y="1447920"/>
                  <a:ext cx="4496040" cy="80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∩</m:t>
                              </m:r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>
              <a:off x="76320" y="304812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ii) We can use the restricted table directl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6019920" y="2928960"/>
                  <a:ext cx="2819160" cy="80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" name=""/>
          <p:cNvSpPr/>
          <p:nvPr/>
        </p:nvSpPr>
        <p:spPr>
          <a:xfrm>
            <a:off x="76320" y="3903840"/>
            <a:ext cx="8915400" cy="16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35 &gt;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0.23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ditional probability does not equal unconditional probability; i.e.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! What does this me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21:15:56Z</dcterms:created>
  <dc:creator> </dc:creator>
  <dc:description/>
  <dc:language>en-US</dc:language>
  <cp:lastModifiedBy> </cp:lastModifiedBy>
  <dcterms:modified xsi:type="dcterms:W3CDTF">2004-07-02T20:27:49Z</dcterms:modified>
  <cp:revision>6</cp:revision>
  <dc:subject/>
  <dc:title>PowerPoint Presentation</dc:title>
</cp:coreProperties>
</file>