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0C53-E554-4721-8AB6-FDDF8F67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A70-EC5D-46E3-A1D4-C615A8C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8A8-2EFD-4425-9FF0-4BC9D80E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CEF-9BB6-46E7-B107-F144D279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B8E-283A-4C07-87F6-6239304D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C32-6B2A-4C28-A633-E098348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45B-027E-457E-BA54-ABBC821C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4A6-341B-45FC-A4E3-39823739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DEFE-FF2E-4C5C-80D3-2C3FEEAC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572-B268-464C-B274-FA4A5E9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9CB-510E-41D5-9C2C-3DD84D6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55F-ACF6-46CA-9269-B98798B7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3EDD-797B-49D4-87C0-1CC48D9CD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11:44Z</dcterms:modified>
  <cp:revision>14</cp:revision>
  <dc:subject/>
  <dc:title>PowerPoint Presentation</dc:title>
</cp:coreProperties>
</file>