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9E8-76B4-4C68-970E-DE3F2CAF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139-9D31-4227-A379-A5C48656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BA3-F29F-4540-8493-90982F60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B0A-6373-4489-BB2C-1EEFD13D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1F5A-7B8D-4115-9B69-96B70BB3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0104-D169-45C2-ACBE-0D702816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E343-CC57-4F54-BF6C-A0454F9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698-FCAF-458E-A2CF-9964C65F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5B2-7C4C-4801-945B-D8386096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CE7-120E-4C7C-8AB2-622AA526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6B9A-8486-4751-99F6-76E7DCB6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757-C09A-4E82-B1BB-C16A6360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1E27-FEA7-4C5F-BC14-BBD74308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08D7-7EA0-4371-B1D5-6AC4A4F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9331-0E1B-47C7-8173-D9F2C05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3B41-3155-4CB1-8891-75C8F2B6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EE7E-58A2-41E3-8F18-22CA0DD6A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BCE-2AC1-4952-AC23-956C3D3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4E5-526B-4064-84EF-BDACAF41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B67-F12C-4390-AE35-2DEC9893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FBF-24E5-4449-A13E-8E7718C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CAE-149A-484E-AE8E-5DD5A65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E4D-5D19-4352-8597-CE5AE58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E62-9986-4840-85F0-3545FB7F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F245-6DC7-4E8F-A9A4-7FDDA74BD50E}" type="datetime">
              <a:rPr b="0" lang="ar-SA" sz="1000" spc="-1" strike="noStrike">
                <a:solidFill>
                  <a:srgbClr val="000000"/>
                </a:solidFill>
                <a:latin typeface="Verdana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9CD-EBD4-43F5-BE01-0178B42B19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9D8E-3DE7-4D6A-AFDD-B88D754601EE}" type="datetime">
              <a:rPr b="0" lang="ar-SA" sz="1000" spc="-1" strike="noStrike">
                <a:solidFill>
                  <a:srgbClr val="000000"/>
                </a:solidFill>
                <a:latin typeface="Verdana"/>
              </a:rPr>
              <a:t>١٤٤٨/٠٢/١٤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56A0-FFD2-4060-A762-016AD62063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923920"/>
            <a:ext cx="7628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6526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00000" y="1125360"/>
            <a:ext cx="659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cc3300"/>
                </a:solidFill>
                <a:latin typeface="Verdana"/>
              </a:rPr>
              <a:t>تنكير الاسم وتعريف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3645000"/>
            <a:ext cx="72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Verdana"/>
              </a:rPr>
              <a:t>الاسم : نورة بنت فهد بن صالح بن بخي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9900"/>
                </a:solidFill>
                <a:latin typeface="Verdana"/>
              </a:rPr>
              <a:t>الرقم الجامعي: </a:t>
            </a:r>
            <a:r>
              <a:rPr b="0" lang="en-US" sz="4400" spc="-1" strike="noStrike">
                <a:solidFill>
                  <a:srgbClr val="ff9900"/>
                </a:solidFill>
                <a:latin typeface="Verdana"/>
              </a:rPr>
              <a:t>4289220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15A9-F634-4E35-AF0E-C3812BCDDD2A}" type="slidenum">
              <a:t>1</a:t>
            </a:fld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أ- النكرة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هو مايشيع في جميع افراد جنسه ولا يختص به واحد معين دون آخر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ثل: رجل ,انسان , إمرأ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نوعا النكرة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قبل ال وتؤثر فيه التعريف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قع موقع مايقبل ال التي تؤثر التعريف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4360" y="4292640"/>
            <a:ext cx="40320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41-F3A3-44AF-92CE-A90A6C8C9F88}" type="slidenum">
              <a:t>2</a:t>
            </a:fld>
          </a:p>
        </p:txBody>
      </p:sp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ب- المعرفة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هو مادل على محدد معين معروف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ثل :محمد , مكة , الفتا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أقسامها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ضمير, اسم الاشارة , اسم الموصول 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علم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مايتم تعريفه بوسيلة لغوية خاصة , المعرف بال , المعرف بالإضاف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3492360" cy="19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A11-7B2D-4C2B-A8A9-064C49BFC22A}" type="slidenum">
              <a:t>3</a:t>
            </a:fld>
          </a:p>
        </p:txBody>
      </p:sp>
    </p:spTree>
  </p:cSld>
  <p:transition spd="med"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9900"/>
                </a:solidFill>
                <a:latin typeface="Garamond"/>
              </a:rPr>
              <a:t>أنواع المعرفة :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ضمير:هو الإسم الذي يدل على متكلم او مخاطب او غائب مثل:انا , انت , هو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سم اللإشارة:هو ماوضع لمشار إلي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إسم الموصول: هو كل اسم احتاج إلى صلة وعائد, ويعين مسماه بواسطة الصلة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علم : هو الاسم الذي يعين مسماه تعييناً مطلقاً من غير وسيلة وذلك باتفاق ابناء اللغوية عليه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941720"/>
            <a:ext cx="5472000" cy="16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583-B5BC-49A7-9FDA-BAB10ACE8584}" type="slidenum">
              <a:t>4</a:t>
            </a:fld>
          </a:p>
        </p:txBody>
      </p:sp>
    </p:spTree>
  </p:cSld>
  <p:transition spd="med"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9900"/>
                </a:solidFill>
                <a:latin typeface="Garamond"/>
              </a:rPr>
              <a:t>انواع العلم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اسم: محمد , زينب , سيبويه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لقب: الصديق, الفارق , الجاحظ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الكنية: أبو القاسم, أبو بكر, ام كلثو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المعرف بأداة التعريف: يتعرف الاسم إذا دخلت عليه أداة التعريف ال مثل: الكتاب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 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المعرف بالإضافة إلى أحد انواع المعرفة: المضاف إلى المعرفة معرفة ايضا, ولذلك يتعرف  الاسم المضاف إذا كان المضاف إليه معرف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16000" y="5084640"/>
            <a:ext cx="3492360" cy="15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D589-2135-4806-AACD-9C0DD7FD7E42}" type="slidenum">
              <a:t>5</a:t>
            </a:fld>
          </a:p>
        </p:txBody>
      </p:sp>
    </p:spTree>
  </p:cSld>
  <p:transition spd="med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9:13Z</dcterms:created>
  <dc:creator>www.arabswell.com</dc:creator>
  <dc:description/>
  <dc:language>en-US</dc:language>
  <cp:lastModifiedBy>www.arabswell.com</cp:lastModifiedBy>
  <dcterms:modified xsi:type="dcterms:W3CDTF">2009-11-15T17:33:13Z</dcterms:modified>
  <cp:revision>4</cp:revision>
  <dc:subject/>
  <dc:title>تنكير الإسم وتعريفه</dc:title>
</cp:coreProperties>
</file>