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753C-963E-4871-AA28-8AE1667C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1F9-A17F-4F93-BCBF-6918C16B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E86-FB12-4610-B281-EAFAC1C8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D9E-AD09-4EBF-9014-3884A018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194F-1C34-40D6-9C18-4896394B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5352-38BC-4F26-8DC0-ABEA46AB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EFE5-B045-40EA-8C4F-B90FFDE3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F5DB-3799-4245-82E9-A9A7D7DD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029C-3E76-48A5-A006-BE907E63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FE39-14AF-4C33-B158-0CDD98BB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2273-2A07-4C76-A556-1B255580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E5E-46F0-429D-9F58-973F7A35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1BA5-C2BF-4F4A-B6FF-D9AFA7C0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919C-9802-4EAE-85C6-40687717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84A5-6DD2-454A-8AE5-F296CF17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7DC6-2899-40CE-BDFA-70C343C1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B0C5-128E-427B-818D-6DCF821A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97B-D4B9-4E51-8A3E-58458629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119-B9E7-4AB8-925C-8B9FCA27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3390-F5F2-4367-B300-2B7F55F5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331F-D537-490A-B3AC-05DAB2F6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6E0-2DE2-418E-B123-0FBEAFCD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645-1A24-4454-BFDB-F1CC32AF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E186-E72F-4241-ACC1-4C774884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B9E7-A437-4470-B0E1-62F4C4980E06}" type="datetime">
              <a:rPr b="0" lang="ar-SA" sz="1000" spc="-1" strike="noStrike">
                <a:solidFill>
                  <a:srgbClr val="000000"/>
                </a:solidFill>
                <a:latin typeface="Verdana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42CD-852A-4C49-A596-9FE882EDFFB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E4F0-07AE-4325-B0D9-EF2C241AB05E}" type="datetime">
              <a:rPr b="0" lang="ar-SA" sz="1000" spc="-1" strike="noStrike">
                <a:solidFill>
                  <a:srgbClr val="000000"/>
                </a:solidFill>
                <a:latin typeface="Verdana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BBD8-4743-4210-A307-636EBE22F2B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 rtl="1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 rtl="1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 rtl="1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280" y="2923920"/>
            <a:ext cx="76280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465264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1125360"/>
            <a:ext cx="6593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cc3300"/>
                </a:solidFill>
                <a:latin typeface="Verdana"/>
              </a:rPr>
              <a:t>تنكير الاسم وتعريف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3645000"/>
            <a:ext cx="72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9900"/>
                </a:solidFill>
                <a:latin typeface="Verdana"/>
              </a:rPr>
              <a:t>الاسم : نورة بنت فهد بن صالح بن بخيت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9900"/>
                </a:solidFill>
                <a:latin typeface="Verdana"/>
              </a:rPr>
              <a:t>الرقم الجامعي: </a:t>
            </a: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4289220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153C-5432-4604-B1E2-4A06C1C37B16}" type="slidenum">
              <a:t>1</a:t>
            </a:fld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9900"/>
                </a:solidFill>
                <a:latin typeface="Garamond"/>
              </a:rPr>
              <a:t>أ- النكرة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هو مايشيع في جميع افراد جنسه ولا يختص به واحد معين دون آخ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مثل: رجل ,انسان , إمرأة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نوعا النكرة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مايقبل ال وتؤثر فيه التعريف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مايقع موقع مايقبل ال التي تؤثر التعريف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4292640"/>
            <a:ext cx="4032000" cy="230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0DFA-3078-470C-AAE8-A79CBB724A03}" type="slidenum">
              <a:t>2</a:t>
            </a:fld>
          </a:p>
        </p:txBody>
      </p:sp>
    </p:spTree>
  </p:cSld>
  <p:transition spd="med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9900"/>
                </a:solidFill>
                <a:latin typeface="Garamond"/>
              </a:rPr>
              <a:t>ب- المعرفة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هو مادل على محدد معين معروف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مثل :محمد , مكة , الفتا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أقسامها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الضمير, اسم الاشارة , اسم الموصول 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العلم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مايتم تعريفه بوسيلة لغوية خاصة , المعرف بال , المعرف بالإضافة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3492360" cy="19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E289-3BFB-4F9D-80F1-ADD0510176EB}" type="slidenum">
              <a:t>3</a:t>
            </a:fld>
          </a:p>
        </p:txBody>
      </p:sp>
    </p:spTree>
  </p:cSld>
  <p:transition spd="med"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999900"/>
                </a:solidFill>
                <a:latin typeface="Garamond"/>
              </a:rPr>
              <a:t>أنواع المعرفة 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الضمير:هو الإسم الذي يدل على متكلم او مخاطب او غائب مثل:انا , انت , هو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اسم اللإشارة:هو ماوضع لمشار إلي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الإسم الموصول: هو كل اسم احتاج إلى صلة وعائد, ويعين مسماه بواسطة الصلة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العلم : هو الاسم الذي يعين مسماه تعييناً مطلقاً من غير وسيلة وذلك باتفاق ابناء اللغوية عليه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4941720"/>
            <a:ext cx="5472000" cy="16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063-7F89-49D7-918B-8179F9A8023D}" type="slidenum">
              <a:t>4</a:t>
            </a:fld>
          </a:p>
        </p:txBody>
      </p:sp>
    </p:spTree>
  </p:cSld>
  <p:transition spd="med"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9900"/>
                </a:solidFill>
                <a:latin typeface="Garamond"/>
              </a:rPr>
              <a:t>انواع العلم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الاسم: محمد , زينب , سيبويه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اللقب: الصديق, الفارق , الجاحظ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الكنية: أبو القاسم, أبو بكر, ام كلثو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المعرف بأداة التعريف: يتعرف الاسم إذا دخلت عليه أداة التعريف ال مثل: الكتاب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6</a:t>
            </a: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 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المعرف بالإضافة إلى أحد انواع المعرفة: المضاف إلى المعرفة معرفة ايضا, ولذلك يتعرف  الاسم المضاف إذا كان المضاف إليه معرف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16000" y="5084640"/>
            <a:ext cx="3492360" cy="15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56CE-A43A-4D21-85CD-98AE91B4AEDA}" type="slidenum">
              <a:t>5</a:t>
            </a:fld>
          </a:p>
        </p:txBody>
      </p:sp>
    </p:spTree>
  </p:cSld>
  <p:transition spd="med">
    <p:zoom dir="in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6:39:13Z</dcterms:created>
  <dc:creator>www.arabswell.com</dc:creator>
  <dc:description/>
  <dc:language>en-US</dc:language>
  <cp:lastModifiedBy>www.arabswell.com</cp:lastModifiedBy>
  <dcterms:modified xsi:type="dcterms:W3CDTF">2009-11-15T17:33:13Z</dcterms:modified>
  <cp:revision>4</cp:revision>
  <dc:subject/>
  <dc:title>تنكير الإسم وتعريفه</dc:title>
</cp:coreProperties>
</file>