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8D9-5FC1-4DE5-AF07-111D6707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727-9304-4DDD-BAE8-A7566007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55B-FB42-4E7C-9072-245BC752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AEF-8D05-49ED-856E-8E1B8773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A16-AE43-4607-92BA-591F8B78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99E-96A9-4D1A-A8E3-1F9F7F46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069-8403-4059-8C69-6647038B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682-412A-463E-A966-FFED2028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9F8-7883-4597-9612-5E0C4EDD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3C3-558B-43F0-B0D0-92F28165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B18-ED3A-4831-9677-D7320F4B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C32-5B73-48EC-BAC5-2553CD01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240A-601E-44E9-AB4A-50B508C5F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88056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abic Typesetting"/>
                <a:cs typeface="Akhbar MT"/>
              </a:rPr>
              <a:t>كلم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هو قول دال على معنى مفرد لايدل جزؤه على جزء معن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abic Typesetting"/>
                <a:cs typeface="Akhbar MT"/>
              </a:rPr>
              <a:t>نظام اللغه في التأليف الجمله</a:t>
            </a: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للكلمات في تأليف الجمله نظام مع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abic Typesetting"/>
                <a:cs typeface="Akhbar MT"/>
              </a:rPr>
              <a:t>مثال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تتفتح الازهار في الربيع </a:t>
            </a:r>
            <a:r>
              <a:rPr b="1" lang="en-US" sz="2800" spc="-1" strike="noStrike">
                <a:solidFill>
                  <a:srgbClr val="ff0066"/>
                </a:solidFill>
                <a:latin typeface="Arabic Typesetting"/>
                <a:ea typeface="Akhbar MT"/>
              </a:rPr>
              <a:t>==</a:t>
            </a:r>
            <a:r>
              <a:rPr b="1" lang="ar-SA" sz="2800" spc="-1" strike="noStrike">
                <a:solidFill>
                  <a:srgbClr val="ff0066"/>
                </a:solidFill>
                <a:latin typeface="Arabic Typesetting"/>
                <a:ea typeface="Akhbar MT"/>
              </a:rPr>
              <a:t>&gt;</a:t>
            </a: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 جمله مفيد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 العلم نور </a:t>
            </a:r>
            <a:r>
              <a:rPr b="1" lang="ar-SA" sz="2800" spc="-1" strike="noStrike">
                <a:solidFill>
                  <a:srgbClr val="ff0066"/>
                </a:solidFill>
                <a:latin typeface="Arabic Typesetting"/>
                <a:ea typeface="Akhbar MT"/>
              </a:rPr>
              <a:t>==&gt;</a:t>
            </a: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  جمله اسمي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سافر احمد الي الطائف </a:t>
            </a:r>
            <a:r>
              <a:rPr b="1" lang="en-US" sz="2800" spc="-1" strike="noStrike">
                <a:solidFill>
                  <a:srgbClr val="ff0066"/>
                </a:solidFill>
                <a:latin typeface="Arabic Typesetting"/>
                <a:ea typeface="Akhbar MT"/>
              </a:rPr>
              <a:t>==</a:t>
            </a:r>
            <a:r>
              <a:rPr b="1" lang="ar-SA" sz="2800" spc="-1" strike="noStrike">
                <a:solidFill>
                  <a:srgbClr val="ff0066"/>
                </a:solidFill>
                <a:latin typeface="Arabic Typesetting"/>
                <a:ea typeface="Akhbar MT"/>
              </a:rPr>
              <a:t>&gt;</a:t>
            </a: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 جمله فعلي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abic Typesetting"/>
                <a:cs typeface="Akhbar MT"/>
              </a:rPr>
              <a:t>نوع الجمله:</a:t>
            </a: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*جمله اسمي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*جمله فعلي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620640"/>
            <a:ext cx="65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اقسام الكلام وعلامات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40000" y="836280"/>
            <a:ext cx="32036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3399"/>
                </a:solidFill>
                <a:latin typeface="Arabic Typesetting"/>
                <a:cs typeface="Arabic Typesetting"/>
              </a:rPr>
              <a:t>انواع الكلم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khbar MT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khbar MT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khbar MT"/>
              </a:rPr>
              <a:t>) الاس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khbar MT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khbar MT"/>
              </a:rPr>
              <a:t>) الحر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khbar MT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khbar MT"/>
              </a:rPr>
              <a:t>3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khbar MT"/>
              </a:rPr>
              <a:t>) الفع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cc3399"/>
                </a:solidFill>
                <a:latin typeface="Arial"/>
                <a:cs typeface="Akhbar MT"/>
              </a:rPr>
              <a:t>مثال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r>
              <a:rPr b="0" lang="hi-IN" sz="2800" spc="-1" strike="noStrike">
                <a:solidFill>
                  <a:srgbClr val="00ffff"/>
                </a:solidFill>
                <a:latin typeface="Arial"/>
                <a:cs typeface="Akhbar MT"/>
              </a:rPr>
              <a:t>الاعمال بالني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  <a:ea typeface="Akhbar MT"/>
              </a:rPr>
              <a:t>1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  <a:ea typeface="Akhbar MT"/>
              </a:rPr>
              <a:t>)الاسم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r>
              <a:rPr b="0" lang="hi-IN" sz="2800" spc="-1" strike="noStrike">
                <a:solidFill>
                  <a:srgbClr val="00ffff"/>
                </a:solidFill>
                <a:latin typeface="Arial"/>
                <a:cs typeface="Akhbar MT"/>
              </a:rPr>
              <a:t>هو كلمه دلت على معني في نفسها وليس الزمن جزء من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ffff"/>
                </a:solidFill>
                <a:latin typeface="Arial"/>
                <a:cs typeface="Akhbar MT"/>
              </a:rPr>
              <a:t>مثال القلم واليد ......وغير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cc3399"/>
                </a:solidFill>
                <a:latin typeface="Arial"/>
                <a:cs typeface="Akhbar MT"/>
              </a:rPr>
              <a:t>علامات الاس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  <a:ea typeface="Akhbar MT"/>
              </a:rPr>
              <a:t>1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  <a:ea typeface="Akhbar MT"/>
              </a:rPr>
              <a:t>)قبول (آل)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r>
              <a:rPr b="0" lang="hi-IN" sz="2000" spc="-1" strike="noStrike">
                <a:solidFill>
                  <a:srgbClr val="00ffff"/>
                </a:solidFill>
                <a:latin typeface="Arial"/>
              </a:rPr>
              <a:t>نون ساكنه زائده تلحق أخر الاسم في النطق لا الكتاب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) قبوله التنوين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2800" spc="-1" strike="noStrike">
                <a:solidFill>
                  <a:srgbClr val="00ffff"/>
                </a:solidFill>
                <a:latin typeface="Arial"/>
                <a:cs typeface="Akhbar MT"/>
              </a:rPr>
              <a:t>مدرسه = المدرسه , رجل = الرج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ffff"/>
                </a:solidFill>
                <a:latin typeface="Arial"/>
              </a:rPr>
              <a:t>رجل= رجل" , محمد = محمد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9900"/>
                </a:solidFill>
                <a:latin typeface="Arial"/>
                <a:cs typeface="Akhbar MT"/>
              </a:rPr>
              <a:t>انواع التنوي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ea typeface="Arabic Typesetting"/>
              </a:rPr>
              <a:t>1</a:t>
            </a: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ea typeface="Arabic Typesetting"/>
              </a:rPr>
              <a:t>)توين تمكين : </a:t>
            </a:r>
            <a:r>
              <a:rPr b="1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وهو يلحق اخر الاسماء المعرب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cs typeface="Arabic Typesetting"/>
              </a:rPr>
              <a:t>مثل :</a:t>
            </a: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محمد ومدرسه واحمد .... وغيرها</a:t>
            </a:r>
            <a:r>
              <a:rPr b="1" lang="ar-SA" sz="3200" spc="-1" strike="noStrike">
                <a:solidFill>
                  <a:srgbClr val="ffff66"/>
                </a:solidFill>
                <a:latin typeface="Arabic Typesetting"/>
                <a:ea typeface="Arabic Typesetting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ea typeface="Arabic Typesetting"/>
              </a:rPr>
              <a:t>2</a:t>
            </a: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ea typeface="Arabic Typesetting"/>
              </a:rPr>
              <a:t>)تنوين تنكير :</a:t>
            </a: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يلحق الاسماء المبنيه المحشوومه بـ (ويه) وبعض الاسماء الافع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cs typeface="Arabic Typesetting"/>
              </a:rPr>
              <a:t>مثال:</a:t>
            </a: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سلمت على عمرويه وعمرويه آخ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ea typeface="Arabic Typesetting"/>
              </a:rPr>
              <a:t>3</a:t>
            </a: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ea typeface="Arabic Typesetting"/>
              </a:rPr>
              <a:t>) تنوين مقابله :</a:t>
            </a: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ويدخل على جمع المؤنث السالم في مقابله النون في جمع المذكر السالم</a:t>
            </a: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cs typeface="Arabic Typesetting"/>
              </a:rPr>
              <a:t>مثال :</a:t>
            </a: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طالبات ومسلمات</a:t>
            </a: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ea typeface="Arabic Typesetting"/>
              </a:rPr>
              <a:t>3</a:t>
            </a: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ea typeface="Arabic Typesetting"/>
              </a:rPr>
              <a:t>)تنوين العوض :</a:t>
            </a: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يدخل على بعض الكلمات ويكون عوضا عن أما جمله او كلمه او حرف</a:t>
            </a: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هناك اسماء لاتنون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28036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اذا دخلت عليه آل 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مثل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99ff"/>
                </a:solidFill>
                <a:latin typeface="Arial"/>
              </a:rPr>
              <a:t>الكتاب مفي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اذا اضيفت / مثل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99ff"/>
                </a:solidFill>
                <a:latin typeface="Arial"/>
              </a:rPr>
              <a:t>كتاب الطال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اذا اثنى الاسم / مثل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99ff"/>
                </a:solidFill>
                <a:latin typeface="Arial"/>
              </a:rPr>
              <a:t>كتاب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اذا جمع مذكر سالم / مثل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99ff"/>
                </a:solidFill>
                <a:latin typeface="Arial"/>
              </a:rPr>
              <a:t>مسلمو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ممنوع الصرف =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99ff"/>
                </a:solidFill>
                <a:latin typeface="Arial"/>
              </a:rPr>
              <a:t>يوسف , ابراهي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اذا كان موصوف بكلمه (ابن) مثل 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99ff"/>
                </a:solidFill>
                <a:latin typeface="Arial"/>
              </a:rPr>
              <a:t>محمد بن عبدا ل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 قبوله ياء النداء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cc3300"/>
                </a:solidFill>
                <a:latin typeface="Arial"/>
              </a:rPr>
              <a:t>مثل : يامحمد , ياطال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9999"/>
                </a:solidFill>
                <a:latin typeface="Arial"/>
              </a:rPr>
              <a:t>الاسناد اليه (( الحديث عنه)) :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cc3300"/>
                </a:solidFill>
                <a:latin typeface="Arial"/>
              </a:rPr>
              <a:t>مثل : اقترب الامتحا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9999"/>
                </a:solidFill>
                <a:latin typeface="Arial"/>
              </a:rPr>
              <a:t>قبوله الجر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cc3300"/>
                </a:solidFill>
                <a:latin typeface="Arial"/>
              </a:rPr>
              <a:t>الاضاف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cc3300"/>
                </a:solidFill>
                <a:latin typeface="Arial"/>
              </a:rPr>
              <a:t>حرف الج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9999"/>
                </a:solidFill>
                <a:latin typeface="Arial"/>
              </a:rPr>
              <a:t>مثل :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رأس العقل مدارات الناس =&gt; علامتها الجر بالاضاف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9999"/>
                </a:solidFill>
                <a:latin typeface="Arial"/>
              </a:rPr>
              <a:t>مثل :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انت تؤدي عملك بإخلاص =&gt; علامتها جر بحرف الج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66"/>
                </a:solidFill>
                <a:latin typeface="Arial"/>
              </a:rPr>
              <a:t>الفعل وعلامات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66"/>
                </a:solidFill>
                <a:latin typeface="Arial"/>
              </a:rPr>
              <a:t>تعريف الفعل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هوكلمه التى تدل على الحدث مقترن بالزمن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66"/>
                </a:solidFill>
                <a:latin typeface="Arial"/>
              </a:rPr>
              <a:t>انواع الفع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اض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م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ضار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92360" y="691920"/>
            <a:ext cx="79408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khbar M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khbar MT"/>
              </a:rPr>
              <a:t>)الفعل الماضي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هو مادل  على حدث وقع في زمن مضى قبل زمن المتكل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ثل : </a:t>
            </a: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كتب ربكم على نفسه الرح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علامات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قبول تاءالفاعل =&gt; كتبت الدر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قبول تاءالتأنيث=&gt; كتبت هند الدر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005360"/>
            <a:ext cx="263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4653000"/>
            <a:ext cx="54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khbar MT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khbar MT"/>
              </a:rPr>
              <a:t>)الفعل الامر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515772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</a:rPr>
              <a:t>هو مايطلب له حدوث شيء بعد زمن المتكل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ثل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</a:rPr>
              <a:t>أقر بإسم ربك الذي خل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دلالته على الطلب بصيغه مع قبوله ياء المخاطب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7280" y="549360"/>
            <a:ext cx="267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  <a:ea typeface="Akhbar MT"/>
              </a:rPr>
              <a:t>3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  <a:ea typeface="Akhbar MT"/>
              </a:rPr>
              <a:t>)الفعل المضارع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هو مادل على حدوث تقع في زمن المتكلم او بعده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ثل : يسقط الطير حيث يلتقط الح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0099"/>
                </a:solidFill>
                <a:latin typeface="Arial"/>
              </a:rPr>
              <a:t>علاماته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قبل دخول لم الجازمه / مثل: لم يلد ولم يول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قبل دخول لن الناصبه/ مثل: لن ينجح الكس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دخول السين وسوف /مثل:سوف يعطيك ربك فترض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دخول حروف المضارعه/ أ,ن,ي,ت =&gt; مثل أكتب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در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16720" y="836640"/>
            <a:ext cx="26272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3300"/>
                </a:solidFill>
                <a:latin typeface="Arial"/>
                <a:cs typeface="Akhbar MT"/>
              </a:rPr>
              <a:t>الحــرف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كلمه دلت على معنى غير مستقل بنفسه ولايظهر إلا مع غيره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cc00"/>
                </a:solidFill>
                <a:latin typeface="Arial"/>
              </a:rPr>
              <a:t>من/ عن/ في ===&gt; مثل : جلست في الحديق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3300"/>
                </a:solidFill>
                <a:latin typeface="Arial"/>
              </a:rPr>
              <a:t>علاماته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cc00"/>
                </a:solidFill>
                <a:latin typeface="Arial"/>
              </a:rPr>
              <a:t>لاتقبل علامات الفعل والأس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3300"/>
                </a:solidFill>
                <a:latin typeface="Arial"/>
              </a:rPr>
              <a:t>مثل /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دع عن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عــاليه ناصر آل مسـلـ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5:33:01Z</dcterms:created>
  <dc:creator>ABUMADA</dc:creator>
  <dc:description/>
  <dc:language>en-US</dc:language>
  <cp:lastModifiedBy>ABUMADA</cp:lastModifiedBy>
  <dcterms:modified xsi:type="dcterms:W3CDTF">2009-11-12T17:11:25Z</dcterms:modified>
  <cp:revision>3</cp:revision>
  <dc:subject/>
  <dc:title>اقسام الكلام وعلاماته</dc:title>
</cp:coreProperties>
</file>