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437E-251A-4FEC-B0FB-3A3F5DBA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4404-78C9-4734-8B80-0E02F4C0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92895-EBA8-42A2-B2A7-E93B2B01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5E367-626A-4A48-9A87-8F694BFD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8CD44-9712-469B-8502-D3071D34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A360D-088B-444E-A642-AA2E7F6D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97C4A-A360-4A2A-A195-F3DA4BB0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FB47C-3CFC-4DB1-83DC-4A4541A1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8C5BE-28D8-4BB8-B824-0E68E0E1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A390C-45C8-4B11-9020-26EFEB9D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CD591-A62C-4E93-9115-FC264710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712C3-43DF-4638-9B67-484E2EAD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05B3-E4AF-40CF-A2A4-F045678A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57A61-77CD-4E9F-9BF3-FA3766AC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7E764-7BA9-499D-9D4D-CDD9D0E2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7F7AE-E69C-4CC6-8633-A3A0F77A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25B91-7371-4D93-88F7-42BABB20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BD445-3FB4-4E65-A59D-4C295C05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39172-2548-4C10-8178-9BABCC0B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5F1DA-C29A-4098-86EB-F0A75833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A3F1F-A7C0-4A0F-894A-0766281E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C6931-8C71-4306-9BF4-17CA316D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78AA97-0CAA-40F4-9F99-587F332D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241D-978D-48E3-9DFA-D52EB873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2240F-98AE-4131-A810-580AA516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51107-22C4-4E34-A23B-DC04DDD2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0735B-5E34-443F-8F34-07D2A2C4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10F39-0D35-4146-81C2-818DE6DD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2D42A-E8D9-4615-8D61-71A2E2BE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90B63-A861-4466-B658-81588B9D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67AD6-DA64-4BF4-B5AF-8CACE81D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C98F5-132A-4F28-AE89-C91A08F7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3F7DA-1EEE-412D-AAE5-0D0E8357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3795C-DC7C-44A2-BDC3-424879DB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75F8-E089-4B18-AA44-AFA9532E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44B61-3F46-4A21-8777-E9DCF21D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AB5B5-1F13-46B6-85E9-532F5F4B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7842A-3412-416F-AA50-4F42BDBCE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6AFC62-4DE2-4BDF-BB35-4D779CF4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CFF016-A08B-4EB6-9AF0-5C439FDF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A9D85D-158C-478C-87CF-3E80FD53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2E10E8-C6AF-4B9F-9F93-1AEE421F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14E76C-316C-48AE-9CAC-BA59382D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67E2C7-4C96-42D4-B9CC-68A141FE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CAA5FA-14FC-4342-8D12-538D4E92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C528-17F0-4EAB-94F3-5EC84439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D23FD9-594D-4A8B-BEFD-A49680CC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25A5F3-B395-4CEC-A757-ACC8DD8B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591A7C-9542-439C-8AB9-3B1DEB40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BDE771-80B5-4498-9F51-D97D1435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640473-2067-4963-986E-EA93B46A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CD561E-4AB0-4864-86FD-0FC38DF3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5CAAAE-8FEC-4A5E-BDB2-EEADDCCA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7442DA-1D7C-4309-AD83-BEDDAD26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92B3AA-CDD5-42EE-A81B-877FA269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C07ED7-05ED-4239-8215-0A2293E6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73B8-66C8-4949-8A54-D79F9180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E520E3-261E-4608-A230-8CD5BFC9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72D145-5FA6-4D4B-A8BA-664AA987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8EE4CB-5832-4735-814A-5A191092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6748A2-B9A5-4A81-BB50-F8D78C9F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E7E2D9-6770-40D7-BAB4-8D0C5386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BBB0D0-FF94-42D0-A3BD-12D5D03E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D2B655-29C3-48F2-8DB6-53C53DC0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348EBB-C49A-478D-9E1A-314994B0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F9CE86-CC2A-4EE8-B4F7-5922E074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624F1D-ABA4-4520-8AB8-F75F4AC4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8AA6-2EBC-4397-808B-05D8C043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CDC378-CFDD-4B2B-A402-C43E6BD5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121304-4854-4067-BCBA-92ED74E1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7BD7CB-7477-41F4-97AD-BE63834C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418FA8-1E58-48F7-BF18-816D63BD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544220-D22A-491C-B213-98706657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A4E8AC-6867-4B54-BB5D-BBDA9096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AE0594-884F-4A11-B881-133647FC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81E527-618C-4B3A-86ED-5F49B2CC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F461D2-7B0D-4548-8DBE-D4891E5D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51C4B41-E096-4A11-AF78-38E743E2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863C-1415-4323-9331-21AD73D7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15BD722-E88C-45A4-9602-2EFFB91D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A10297C-9A43-4E7F-85A3-F3E21D78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5E34CAC-504B-444B-A58F-F95E128A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59612BC-CB60-46E0-80F4-FE5AEBF5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0AE6898-D8ED-4816-A4BE-DD025C1D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EDB4AF-57C4-4662-BF61-7C227B61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74AF9F1-0839-44B7-B565-76AA6AC6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7370E6-FDE2-4297-882C-B21543D7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52139F2-4E06-457E-A2FE-5941475C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DBD449D-1831-4051-9E6C-A2DE5C56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A50D-A1D5-4E3A-BDF8-A588D779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2524F8A-7DBD-4F1C-9210-4269D4BE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65791C-5253-4EE0-931E-DAE11BDE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D94043-1660-48D6-9759-0B8E6CA0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43B5DF-A6F3-438E-A809-DA150F65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D9796C-DC18-4CC7-AF22-BE355F52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1C725B-10D2-4ACC-A482-4A1CEC88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DC1DF5-B243-4557-A616-7F1B15F7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3C397E-F037-441A-A7F5-E1CC45BD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BF86B3-8AE2-4ADA-B050-8ACAF6E7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1C6A33-E846-4AC5-96F0-0955CD4E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D68A-68EF-450C-A4C6-92A4343E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28F492-C5FC-4527-835F-1F0ABFBB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B08A52-9A90-49A6-881A-EE3833D8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1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2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40FAE8-49B0-4EFA-9C10-3F215495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3DFECD-90E3-49E1-8B02-D524A12F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237227-2CF8-4EB1-9941-1CDFDDD3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D526CA-4451-4CF5-B91E-E8B8E7F7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8BEEA7-EDEF-4BB9-A763-458E240A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3E9BB6-2888-4FF9-9AC6-E686A2FB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B9AB3F-B6DA-4268-B270-A597D687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66559D-03E3-498B-A46D-94A2B8B3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5248-E5B4-4CAC-B9E7-842CF414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CE2A-BDD7-423F-8276-032C7E19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E9CB34-60DB-42D3-A969-EDAC9EA9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B49E5C-10A1-4C93-8FE8-EA2590F0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004500-78F7-47F9-A181-8A8F6D48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40DB50-E572-4BA5-AC55-26AEA271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6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6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3DE5EB-95FF-476B-B2DD-D66B6DC1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888C71-CEA0-4152-9C5C-DFE52A8A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BCB309-5216-4A9E-85C8-6B446AC3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D0296A-0C56-4F0E-A753-67A51B65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F04760-571F-4FD8-ABBA-51228578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2ABAEF-5869-41B6-9B91-32755535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F2FF-AE9E-4C71-AA8B-13E5ECA6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CFD686-7249-4011-B5C7-9E4DC6D1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6D02E8-22BD-4B7C-A462-EE0FA2C3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EDD4E2-417C-4B18-9E47-592F123A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23C8CB-8BC0-4B5D-AE01-C4C28699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1D4EB8-41AB-4BDA-8B5C-DE798584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509F1F-48EA-4FD1-BB32-84CBB3E2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E1F997-612F-4560-9B54-72A45B68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638E54-C3EC-4865-8687-E2967A24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13ECBA-235A-46D7-BC76-F20BF872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CF240A-C71D-4B1B-9616-CAFF1159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771E-91B0-4C36-BE28-32AFE593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B2FCF5-0ABB-4898-A068-8DA07622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6D9224-B201-44DF-8571-10D0019A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346821-FC13-453D-BEAE-A0CAE31E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36CEFE-182A-4F54-8045-E05BCF1F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385218-D3B3-4D07-A38D-2DA74197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AEA09E-C788-459A-BFF2-E364D2FF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5A321A-2573-4085-AF33-BB765729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82A971-4331-4ABA-911F-6FD31102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0F55D6-8340-4BAA-BD98-9EDEE12B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484FA22-2C16-463D-95DD-B296A87B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B420-ACC6-4901-AFF4-B28E307E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05A6832-C17B-47E1-A198-61AAB894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D44A755-8AA6-477F-A55B-4F94FE2A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F678E7A-7E98-47CF-BFD4-A543921A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2E08AF8-7A28-4757-A774-0B2846E9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EAB10AD-D38A-4A89-9AF0-096B658E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788A749-459B-449E-843A-0BD56301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419DE10-DE0D-4E04-B7B9-DD58875B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9ADCE54-AF1F-4319-9CE4-D0AD6D33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15FEFD6-7485-4383-9EBD-7EC94CC7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1540C54-0BA6-46BE-9873-B49A3FD1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3F25-6899-48F3-8F79-23DEC4E7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731DFE1-A8D4-4D42-870C-D1145339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5E48EC-1731-4A5C-AAFF-33B6E5CF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A643C7-EA2C-408C-9FF5-40E6772C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640FA5-DEBC-4428-AE86-206D3F21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BC2CBB-2144-4645-A2A1-E608C6EC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253F00-84E1-412E-95B1-9BA68E8B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79D7DA-6B76-4FF1-AA29-0EB9B9BE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E0E560-1904-4715-ABCE-C52C6863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D027AE-DA8D-46D9-88BA-83146114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DE7462-E0BE-4BF6-B6BA-6BF29EE0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20BDF-593F-4BAF-A122-A836CC0B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E132FB-03FE-4538-BFE7-3EA2CAC6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3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68CFF3-5E3D-4DC9-8DD2-3024E582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3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3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3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78E5EC-8FE1-4AFE-B0DD-6F5D4036C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C464E1-7F3A-41B0-A23E-AA007DC1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553B90-B1AB-439D-8306-435EAF98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D6F48D-EE0D-4510-A061-A404C6A0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8132B2-3AC6-4110-87D1-8AC29B8A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91EFA2-DC1F-4C13-9FED-C083375A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52EFD0-9C16-450C-9B80-C76299A6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475723-B0A5-4B24-BDCD-B14752C2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037F3-B8EA-4FA6-9BB1-259B6B80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FDFEC7-C13A-4853-9E71-8E780DEF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7F0885-F018-49B0-A389-4B20E41C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7E1590-1E25-4963-8BB0-0BCB3F26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7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D0A57F-81B9-41DA-A629-62AA12F2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DA8A77-0587-4ED1-8908-C5EE1C36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01AFAC-EB9E-4928-886F-45885044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0014F5-B150-424C-A64B-5C3012CD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68F86A-486C-4559-87E2-ECECA2E7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EBB083-4ACC-41CD-A38D-98425D1D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B11589-546E-42A7-AF70-3B62BCB2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64A41-E11B-49E9-AE4C-BB1183ED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3F8C03-CC7B-4B8E-B68D-5D300133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2452E1-E690-4C90-AE0F-EB7A318E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1C5181-B2F4-43B0-AC63-71F7BF76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6FE96A-E918-43B5-8201-FCB81992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A9327B-505A-457C-B324-CA58297C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6FD16C-482F-4BA3-A263-F29B4FD7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FDBBD5-B7BB-42FB-92D6-94640B29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D08EC3-4B2E-45E9-B9CE-EFF99E41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2989FB-B961-4FB3-A1B8-C941E363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745B49-35CB-4F02-B581-C4498F4D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2661D-C6DC-4EA2-AD16-5A95CA4B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FE19D4-9A70-4F89-BE98-26B54EC5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797EBD-886C-4EF7-B68E-36B9BDA8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FC86EE-62C7-470F-B52F-0D0CC6CD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03739B-7E6E-4554-9248-8A90A648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6CD1B8-EA27-4010-9F74-D1418D04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8D17D7-FF96-4A2E-A94F-8DECD56E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0CB3FE-A9B1-4777-BCC9-03C67595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149AE3-96D3-4AE4-ADCC-620CE099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6E4FD0-06FF-410B-A84A-17A8EAAE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F681B26-E0BC-4E58-97B5-CE8B2ABA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3BEC1-B65B-4E4F-9E21-B79A52EB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017141B-89B3-4402-BFD3-FF27646D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4BF5C57-84F8-4A30-B673-B06F05D5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3C70601-4403-4B6D-8684-E9AF7FAB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2DEBF5E-7BD3-4149-B2D8-E490C2E9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E9C3C91-6D5C-43BA-BD0C-1B368B25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FC0A97F-4DFA-4B9C-85B7-DCEE2981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C4DAE6B-5C91-4D69-BFC0-BD8122FB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485F035-0EED-4E3C-B745-89CFDDF5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D75A31B-A4B4-4BB6-9D1B-5F9B19BD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383F29A-0FA9-4EE7-B7A5-2D7B31FB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D26C-C1F9-4CD9-8417-16B601FA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D9714-8A44-4F62-8C06-EF3D5FF5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8F7D2F5-DF4D-47B5-A5FA-558B1A56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AAE6D9-8504-48A6-A409-408195F4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42928F-4862-4730-980A-D47764D6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457B0D-FCB3-4381-8252-9FA69777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96A0EE-FF8B-4B3C-A796-56D1A864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67C8E2-1827-48C8-9A2A-455CF4C7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4C645A-2DDD-4030-B8E6-45DC66FF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38A1A84-4A3A-4F1A-BB4E-70E4D868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D8B967-6D75-420A-8CA8-AE06D648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B2D3B4-1A60-40DB-96FA-38850326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A4B41-A062-4718-8248-01F07606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C28366-C8CD-4A67-8722-FEFAC05A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86F17D7-3C82-4852-B0FE-06A71C1A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C96A10-BE52-4BF6-899F-9C0DB0E9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55623C-E3F1-46ED-AE78-9C9EC934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CD171C-2EFD-4322-9DBD-BF27ABFD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E6BDA6-C4BB-4204-8B2D-28CFA243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4A832E-B900-4D85-8AC7-6075FA5F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11E52E-3916-43D3-9BCD-96E718CC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978880-47FA-4E13-B45E-BA3AF7FE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D71997-BCAF-419D-9646-8A7CEE61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E7E93-9677-4DFC-BB92-4340703F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FE29DE-962E-4B70-947B-A8B457AF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F25EF4-E4D0-40F5-ADB7-92C2FBD0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6FD7F7-DA4B-486C-AA6D-08C6675A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DEDBE2-23A0-430A-8C32-524F6489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A36EFC-6AA4-4C96-9B85-5875465A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237CCD-4E20-4E47-9233-45582144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3075C0-4300-448A-A75C-CFA555BF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90D404-D7EB-457B-AD36-3F3090F6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F1660C-295D-43BC-AAD1-BB43850B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F44BE8-F54B-4A49-B809-A9DFB977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3E8EF-AFC2-4F3E-B211-D8B08F07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CEB28E-72F9-4AC5-9DA4-5AA5B873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C6D333-3190-43C5-B550-BA3F9F81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EA883D-3814-4955-A661-D7249C52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CDD0D4-E6F2-47C0-9AED-A559CC3C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BCADA7-F4A8-4750-A47A-9FBFADE9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366C0F-DD3C-4F78-8BFF-83DD0FF8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8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9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5B4504-D6EF-4457-B46D-FE34B806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BAA19-BDCE-4E4B-8880-D13D7DD6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DED11-D940-4339-898C-1B351BE1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470F3-1EEB-46B0-A9A8-B63A2399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2F101-0948-4D9B-8D7A-0DE511E4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55409-9A35-4725-B100-BDA13F0D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7D205-937C-46A6-A426-CDF44228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7425-9687-4AC8-A88F-36CCBD81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D6D82-506D-4BB9-A07D-C913C150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1FB88-095A-43CD-9008-8DB42F14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8D196-800D-4708-9A48-BAE227D3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59F42-D435-482C-BCF2-DA2AEFB4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66C75-AA30-42FC-9E56-9F87F085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FFB35-CDE8-47A1-B0B3-D4A3BBCE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D66D9-7D75-4087-9D1E-555F5324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DF6D8-ED9A-4FD3-8243-AF1360F5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F17E9-BCD6-4E43-9DBD-20CA28F9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B55E5-7A5F-47C5-A159-ACCB5ED0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2D36-CAD2-448B-ABE2-288C3D61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FACD3-CA3A-4A12-B188-3AA6A6AC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77279-D8B7-4D6F-8346-2412FE81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6A499-9D5A-4551-B96B-8FC0676E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537B6-B761-4425-A0DC-D03B4EAB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AC533-3D3A-490B-BB6B-7048AE4D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FCEF9-5DC0-4FD0-8ECA-3F62C8D7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729B5-69F3-4156-95CC-B97EF87E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0550C-EEBC-475B-ACCE-B084266C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26538-CF60-448D-A4B8-6AB4B6A7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C66A5-1DD2-427D-8BE2-77C7AE5D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3052-C0B0-456A-B142-B5A3E174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42AB7-3DFD-4946-9A1C-6A9A8C31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1082D-5B41-4DC8-AB0B-1BCC04D0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F538B-24A7-4384-A926-7A7F4B19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FD2E8-2965-4217-B2E3-DDF9FBCC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DF877-D1B6-48B4-8629-E3919DC7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363EB-A31F-44CF-8A66-694C6BE0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D4EA2-BC81-4015-AC99-6CEB4F0C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DDFE1-541D-4F92-9087-48C39160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96461-675C-4217-93C8-FE9436B1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31E52-6DE5-499A-A756-F573AC2D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F8A4-FFB4-4F82-BC3C-9124214E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24A91-718D-42F3-A276-5F036CF2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4A7F2-82CF-4D3C-9415-AB3BC5CB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D8452-3959-478E-9CA0-874BFA05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375B35-85AA-4062-AA3F-A6CEAB5F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803229-76BD-4820-95D5-E701E0A5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E202D3-FDA6-4101-8D7C-FAC90AE8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F02B84-625E-467E-B32D-03CFCE37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CC1179-7940-4CC7-B435-C8C6C47A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94AA47-0953-4E3C-9EC9-49BC826E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991BA4-47A6-4B66-A641-41B6D6A0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7DE1-C0AC-45FA-AA59-E1143B4C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9EBA83-1715-4D25-A26F-5311D532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810A4F-ACEA-43A4-A438-2C91BA67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BBFA54-1A0A-4485-8B83-2BDFB885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F921A1-351A-4652-8FCE-88B64744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8BE73C-7A20-487A-850B-2C7D562B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DC309-375B-47A6-82B2-AEC1574B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682E3-4F27-4BAA-9630-32DCE811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E5F80-8D30-4405-81EB-7190C399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B88CC-AE1A-44DF-9267-57E6B2A0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EDFD9-B8A8-4A94-9C01-26A7D667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5FC8-2761-4A95-9DE4-A7395CD8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30DEA-0BCC-45D9-9BB6-1A38DA42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9A36B-09C9-4636-8623-79E50563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BC608-A3A7-4DD4-B823-2E2CFE2B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2E4C5-FC33-42BC-9AD4-BD321282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561DC-E7A4-4BAB-8FA3-879FA7E7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4BDD9-0B62-49E7-866A-C4E144B6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A3DC9-EAE9-4E8C-A840-CA6300B7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00FA5-8EC5-4438-808B-DA5FDAF3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0B7A2-4DA7-4714-9A0C-918207E4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76E6D-399B-48B9-82CC-8E3594F1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2C79-4ED9-4BAE-A942-AFBCC25DB2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1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022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024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70FD-1B58-4517-A9DB-E3FDA38D956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65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067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069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70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071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1076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7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450D-F48C-4836-95E5-AD1FBE13E3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126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128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130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131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132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1137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3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EF41-00B5-41EA-9155-CD8C64DB42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5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186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187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88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1213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9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230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233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2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dt" idx="3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 type="ftr" idx="3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 type="sldNum" idx="3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AA21-B002-42DE-8B06-16F3CA47A5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92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29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294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1319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5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8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339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8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dt" idx="4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 type="ftr" idx="4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2F22-8BB2-4A4F-B962-36FAE4B393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9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C062-F733-4FFE-860D-C380C30F64F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 type="dt" idx="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6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669F-5174-49AC-BFF6-E4A0E7051BB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52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152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 type="dt" idx="4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 type="sldNum" idx="5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9761-6C1A-437F-8304-BAB9D7957B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566" name="PlaceHolder 1"/>
          <p:cNvSpPr>
            <a:spLocks noGrp="1"/>
          </p:cNvSpPr>
          <p:nvPr>
            <p:ph type="dt" idx="52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 type="sldNum" idx="5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6751-8A9D-45D3-80A3-7B53904F52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82C5-A83B-4BE3-B05E-A3DABC000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78AB-6521-4F02-955F-96F8D2274B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ftr" idx="5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 type="sldNum" idx="5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5FB4-19A3-43B9-8A49-1B39072C1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 type="dt" idx="6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8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697" name="PlaceHolder 1"/>
          <p:cNvSpPr>
            <a:spLocks noGrp="1"/>
          </p:cNvSpPr>
          <p:nvPr>
            <p:ph type="dt" idx="6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ftr" idx="6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 type="sldNum" idx="6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3F9A-9DCA-40E7-945D-07AFD93E4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73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dt" idx="6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 type="ftr" idx="6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6302-DFD3-48F0-ACC3-5C09ECE6E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5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786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63AA-0DEE-42DC-89CB-829CEDB9CA0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84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B62E-1A79-4D7C-A535-E3CB651EAB0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 type="ftr" idx="7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 type="sldNum" idx="7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CE31-6552-4DCD-9AA5-987EC855DD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04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905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918" name="PlaceHolder 5"/>
          <p:cNvSpPr>
            <a:spLocks noGrp="1"/>
          </p:cNvSpPr>
          <p:nvPr>
            <p:ph type="dt" idx="7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51DE-DD4F-4CD1-A628-1BAF5B48AF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961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97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1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2012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013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2014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grpSp>
              <p:nvGrpSpPr>
                <p:cNvPr id="2015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2016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7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8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19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2020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021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2022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023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2024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5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6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7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8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9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0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1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2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3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4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5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6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7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8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9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0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1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2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3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4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5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6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7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8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9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0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1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2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3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4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5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6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7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8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9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060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2061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62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63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64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65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66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67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68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69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70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71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72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073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4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5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6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7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8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9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0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1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2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3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4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5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6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7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8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9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0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1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2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3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4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5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6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7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8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9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0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1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2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3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4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5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6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7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8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109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2110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grpSp>
              <p:nvGrpSpPr>
                <p:cNvPr id="2112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2113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4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5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6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7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8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9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0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1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22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2123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29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2130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35" name="PlaceHolder 1"/>
          <p:cNvSpPr>
            <a:spLocks noGrp="1"/>
          </p:cNvSpPr>
          <p:nvPr>
            <p:ph type="dt" idx="7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 type="sldNum" idx="8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CCFF-4676-44E1-9C9E-FF40EE040DB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6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2177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2178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2179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grpSp>
              <p:nvGrpSpPr>
                <p:cNvPr id="2180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2181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2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3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84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2185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186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2187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2f1311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188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2189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0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1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2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3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4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5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6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7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8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99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0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1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2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3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4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5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6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7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8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09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0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1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2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3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4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5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6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7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8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19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20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21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22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23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24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225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226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7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8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9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0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1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2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3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4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5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6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7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2f1311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38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9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0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1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2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3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4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5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6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7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8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9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0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1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2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3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4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5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6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7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8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9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0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1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2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3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4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5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6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7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8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9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70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71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72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73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2f1311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274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275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grpSp>
              <p:nvGrpSpPr>
                <p:cNvPr id="2277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278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9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0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1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2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3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4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5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6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87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288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94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295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 type="dt" idx="8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 type="sldNum" idx="8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EE77-9FE7-4614-9DFA-5FDE4FB500D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93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6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0210-DA52-4825-96A3-5B709EA67BD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73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86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93EF-E8E3-4E6E-AF1D-6FF10AC5F71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5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1AA8-F262-4E49-A411-BF26DF2A4F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0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A411-8136-499F-8C6C-9F9CDCC3E4B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465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sldNum" idx="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6F3D-4A97-4BAE-939B-1A2F8DA4E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dt" idx="2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2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722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25DC-F6FD-4E61-AB11-7EB996C2C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978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1C95-2ECD-4E16-A97C-40A9FC7558F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1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9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6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685800" y="1370160"/>
            <a:ext cx="69660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684360" y="1341360"/>
            <a:ext cx="6696000" cy="2808360"/>
          </a:xfrm>
          <a:custGeom>
            <a:avLst/>
            <a:gdLst>
              <a:gd name="textAreaLeft" fmla="*/ 25200 w 6696000"/>
              <a:gd name="textAreaRight" fmla="*/ 6721560 w 6696000"/>
              <a:gd name="textAreaTop" fmla="*/ 363960 h 2808360"/>
              <a:gd name="textAreaBottom" fmla="*/ 2444400 h 2808360"/>
            </a:gdLst>
            <a:ahLst/>
            <a:rect l="textAreaLeft" t="textAreaTop" r="textAreaRight" b="textAreaBottom"/>
            <a:pathLst>
              <a:path w="21600" h="21600">
                <a:moveTo>
                  <a:pt x="82" y="1400"/>
                </a:moveTo>
                <a:cubicBezTo>
                  <a:pt x="3641" y="-3560"/>
                  <a:pt x="7282" y="6360"/>
                  <a:pt x="10841" y="1400"/>
                </a:cubicBezTo>
                <a:cubicBezTo>
                  <a:pt x="14400" y="-3560"/>
                  <a:pt x="18041" y="6360"/>
                  <a:pt x="21600" y="1400"/>
                </a:cubicBezTo>
                <a:lnTo>
                  <a:pt x="21518" y="20200"/>
                </a:lnTo>
                <a:cubicBezTo>
                  <a:pt x="17959" y="25160"/>
                  <a:pt x="14318" y="15240"/>
                  <a:pt x="10759" y="20200"/>
                </a:cubicBezTo>
                <a:cubicBezTo>
                  <a:pt x="7200" y="25160"/>
                  <a:pt x="3559" y="15240"/>
                  <a:pt x="0" y="20200"/>
                </a:cubicBezTo>
                <a:close/>
              </a:path>
            </a:pathLst>
          </a:cu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9900"/>
                </a:solidFill>
                <a:latin typeface="Arial"/>
              </a:rPr>
              <a:t>حسان بن ثابت يمدح الرسول صلى الله عليه وسلم وصحابته مرتجلاً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(نص من العصر الإسلامي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3" name="plant"/>
          <p:cNvSpPr/>
          <p:nvPr/>
        </p:nvSpPr>
        <p:spPr>
          <a:xfrm>
            <a:off x="468360" y="443700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4" name="plant"/>
          <p:cNvSpPr/>
          <p:nvPr/>
        </p:nvSpPr>
        <p:spPr>
          <a:xfrm>
            <a:off x="5940360" y="472428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إن كان في الناس سباقون بعدهم      فكل سبق لأدنى سبقهم تب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ثم قام الشاعر بموازنة بينهم وبين غيرهم,فذكر أنهم سابقون وليس هناك من يستطيع اللحاق بهم وإذا حاول فإن أقوى ما يبلغه أقل من أقل قوة لديه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4" name=""/>
          <p:cNvSpPr/>
          <p:nvPr/>
        </p:nvSpPr>
        <p:spPr>
          <a:xfrm>
            <a:off x="2411280" y="404640"/>
            <a:ext cx="5113440" cy="936720"/>
          </a:xfrm>
          <a:custGeom>
            <a:avLst/>
            <a:gdLst>
              <a:gd name="textAreaLeft" fmla="*/ 1278360 w 5113440"/>
              <a:gd name="textAreaRight" fmla="*/ 3835080 w 5113440"/>
              <a:gd name="textAreaTop" fmla="*/ 0 h 936720"/>
              <a:gd name="textAreaBottom" fmla="*/ 819720 h 9367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Verdana"/>
              </a:rPr>
              <a:t>البيت السادس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4284720" y="2781360"/>
            <a:ext cx="1942920" cy="1224000"/>
          </a:xfrm>
          <a:custGeom>
            <a:avLst/>
            <a:gdLst>
              <a:gd name="textAreaLeft" fmla="*/ 443520 w 1942920"/>
              <a:gd name="textAreaRight" fmla="*/ 1499400 w 1942920"/>
              <a:gd name="textAreaTop" fmla="*/ 279360 h 1224000"/>
              <a:gd name="textAreaBottom" fmla="*/ 9446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33cc"/>
                </a:solidFill>
                <a:latin typeface="Verdana"/>
              </a:rPr>
              <a:t>تبع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33cc"/>
                </a:solidFill>
                <a:latin typeface="Verdana"/>
              </a:rPr>
              <a:t>تابع لهم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2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7921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5050"/>
                </a:solidFill>
                <a:latin typeface="Arial"/>
              </a:rPr>
              <a:t>لايجهلون وإن حاولت جهلهم    في فضل أحلامهم عن ذاك متس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أي أنهم لايتصفون بالطيش أو الحمق في تعاملهم مع النا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5050"/>
                </a:solidFill>
                <a:latin typeface="Arial"/>
              </a:rPr>
              <a:t>أعفة ذكرت في الوحي عفتهم    لايطمعون ولا يزري بهم طم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ذكرهم الوحي بالعفة والبعد عن الدنس,والطمع ليس من طباعهم ولايستهويه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2627280" y="260280"/>
            <a:ext cx="3600360" cy="1008000"/>
          </a:xfrm>
          <a:prstGeom prst="wedgeEllipseCallout">
            <a:avLst>
              <a:gd name="adj1" fmla="val -39287"/>
              <a:gd name="adj2" fmla="val 71101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Verdana"/>
              </a:rPr>
              <a:t>البيت السابع والثامن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4643280" y="3500280"/>
            <a:ext cx="2808360" cy="1152720"/>
          </a:xfrm>
          <a:custGeom>
            <a:avLst/>
            <a:gdLst>
              <a:gd name="textAreaLeft" fmla="*/ 641160 w 2808360"/>
              <a:gd name="textAreaRight" fmla="*/ 2167200 w 2808360"/>
              <a:gd name="textAreaTop" fmla="*/ 263160 h 1152720"/>
              <a:gd name="textAreaBottom" fmla="*/ 88956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Verdana"/>
              </a:rPr>
              <a:t>يزري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Verdana"/>
              </a:rPr>
              <a:t>يعيب ويحتقر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7" dur="500"/>
                                        <p:tgtEl>
                                          <p:spTgt spid="2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6" dur="500"/>
                                        <p:tgtEl>
                                          <p:spTgt spid="2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7993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كم من صديق لهم نالوا كرامته  ومن عدوٍ عليهم جاهد جدع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5050"/>
                </a:solidFill>
                <a:latin typeface="Arial"/>
              </a:rPr>
              <a:t>أن صديقهم ينال منهم القوة والعزة, وبالعكس عدوهم يكسب الضعف والهوا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أعطوا نبي الهدى والبر طاعتهم         فما ونى نصرهم عنه وما نزعو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5050"/>
                </a:solidFill>
                <a:latin typeface="Arial"/>
              </a:rPr>
              <a:t>أي أنهم أطاعوا رسول الله طاعة لايشوبها تردد أوعصيان, ولم يقصروا يوماً في طاعتهم ونصرتهم ل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3708360" y="549360"/>
            <a:ext cx="3456000" cy="79200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Verdana"/>
              </a:rPr>
              <a:t>البيت التاسع والعاشر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4284720" y="3716280"/>
            <a:ext cx="2303280" cy="576360"/>
          </a:xfrm>
          <a:custGeom>
            <a:avLst/>
            <a:gdLst>
              <a:gd name="textAreaLeft" fmla="*/ 525600 w 2303280"/>
              <a:gd name="textAreaRight" fmla="*/ 1777680 w 230328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2f1311"/>
                </a:solidFill>
                <a:latin typeface="Verdana"/>
              </a:rPr>
              <a:t>نزعوا:انفضوا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83" dur="2000"/>
                                        <p:tgtEl>
                                          <p:spTgt spid="2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8" dur="500"/>
                                        <p:tgtEl>
                                          <p:spTgt spid="2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2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2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2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2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Garamond"/>
              </a:rPr>
              <a:t>إن قال: سيروا أجدوا السير جهدهم    أو قال:عوجوا علينا ساعة ربعوا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33cc"/>
                </a:solidFill>
                <a:latin typeface="Garamond"/>
              </a:rPr>
              <a:t>ووصل الأمر إلى أنهم إذا قال لهم الرسول سيروا واجتهدوا ويذلوا طاقتهم في سيرهم وإن طلب منهم الإقامة أقاموا,فهم لايعصون له أمراً مهما كلفهم ذل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Garamond"/>
              </a:rPr>
              <a:t>لا فخر إن هم أصابوا من عدوهم             وإن أصيبوا فلا خور ولا جز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33cc"/>
                </a:solidFill>
                <a:latin typeface="Garamond"/>
              </a:rPr>
              <a:t>يصف تواضعهم وأنهم لايركبهم الغرور في النصر , ولا يجزعون إذا أصيبوا بمصيبة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6" name=""/>
          <p:cNvSpPr/>
          <p:nvPr/>
        </p:nvSpPr>
        <p:spPr>
          <a:xfrm>
            <a:off x="2700360" y="476280"/>
            <a:ext cx="4319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33cc"/>
                </a:solidFill>
                <a:latin typeface="Verdana"/>
              </a:rPr>
              <a:t>البيت الحادي عشر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33cc"/>
                </a:solidFill>
                <a:latin typeface="Verdana"/>
              </a:rPr>
              <a:t>والثاني عشر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2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2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2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2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c4c3aa"/>
                </a:solidFill>
                <a:latin typeface="Arial"/>
              </a:rPr>
              <a:t>البيت الثالث عشر والرابع عشر والخامس عشر.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Verdana"/>
              </a:rPr>
              <a:t>أكرم بقوم رسول الله شيعتهم    إذا تفرقت الأهواء والشي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cc"/>
                </a:solidFill>
                <a:latin typeface="Verdana"/>
              </a:rPr>
              <a:t>أنهم أفضل الأقوام لأنهم من اتباع سنة محمد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Verdana"/>
              </a:rPr>
              <a:t>أهدى لهم قلب يؤازره            فيما أراد لسان حائك صن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cc"/>
                </a:solidFill>
                <a:latin typeface="Verdana"/>
              </a:rPr>
              <a:t>يختتم قصيدته ببيان أن ماقاله فيهم نابع عن الصدق في وصفه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Verdana"/>
              </a:rPr>
              <a:t>فإنهم أفضل الأحياء كلهم      أن جد بالناس جد القول أو شمعو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16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cc3300"/>
                </a:solidFill>
                <a:latin typeface="Verdana"/>
              </a:rPr>
              <a:t>شمعوا: هزلو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33cc"/>
                </a:solidFill>
                <a:latin typeface="Verdana"/>
              </a:rPr>
              <a:t>أنهم أفضل الناس,سواء في الجد أول الهزل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2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2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2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2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2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تتميز لغته بالفصاحة والجزالة,كما أن القصيدة جاءت متنوعة الأساليب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أ- استخدم الجمل الإنشائية والخبرية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- التعجب مثل:“أكرم بقوم..., كم من صديق..“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- الشرط مثل:إذا حاربوا..إن كان في الناس..إن هم أصابوا..وإن أصيبوا..إذا تفرقت الأهواء...إن جدّ بالناس..“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استخدم حرفان من أدوات الشرط هما: أن,إذا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- النفي مثل:“لايرقع..لايجهلون..ولا يطمعون..ولا يزري..“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4</a:t>
            </a: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- الامر مثل:“ سيروا...عوجوا..“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ب- تنوع الأساليب البيانية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- الاستعارة في قولة:“إن الذوائب من فهر“ شبه أعيان المسلمين وسادتهم بالنواصي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- مجاز مرسل في قولة:“ ذكرت في الوحي“ ويقصد به الموحى وهو القرآن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- مجاز عقلي في قولة:“ فما ونى ونصرهم“ والعلاقة سببية والأصل:ماونوا عنه بسبب نصرهم إياه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844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4</a:t>
            </a:r>
            <a:r>
              <a:rPr b="0" lang="ar-SA" sz="2000" spc="-1" strike="noStrike">
                <a:solidFill>
                  <a:srgbClr val="2f1311"/>
                </a:solidFill>
                <a:latin typeface="Arial"/>
              </a:rPr>
              <a:t>- الكناية في قولة:“ومن عدو..جدعوا“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1763640" y="333360"/>
            <a:ext cx="3313080" cy="934920"/>
          </a:xfrm>
          <a:prstGeom prst="flowChartDocumen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2f1311"/>
                </a:solidFill>
                <a:latin typeface="Verdana"/>
              </a:rPr>
              <a:t>اللغة والأسلوب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539640" y="6093000"/>
            <a:ext cx="2376720" cy="576000"/>
          </a:xfrm>
          <a:prstGeom prst="leftArrowCallout">
            <a:avLst>
              <a:gd name="adj1" fmla="val 25002"/>
              <a:gd name="adj2" fmla="val 25000"/>
              <a:gd name="adj3" fmla="val 68771"/>
              <a:gd name="adj4" fmla="val 66673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2f1311"/>
                </a:solidFill>
                <a:latin typeface="Verdana"/>
              </a:rPr>
              <a:t>يتبع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2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7" dur="500"/>
                                        <p:tgtEl>
                                          <p:spTgt spid="2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2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7" dur="500"/>
                                        <p:tgtEl>
                                          <p:spTgt spid="2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2" dur="500"/>
                                        <p:tgtEl>
                                          <p:spTgt spid="2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7" dur="500"/>
                                        <p:tgtEl>
                                          <p:spTgt spid="2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2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7" dur="500"/>
                                        <p:tgtEl>
                                          <p:spTgt spid="2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2" dur="500"/>
                                        <p:tgtEl>
                                          <p:spTgt spid="2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7" dur="500"/>
                                        <p:tgtEl>
                                          <p:spTgt spid="2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2" dur="500"/>
                                        <p:tgtEl>
                                          <p:spTgt spid="2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7" dur="500"/>
                                        <p:tgtEl>
                                          <p:spTgt spid="24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1311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2f1311"/>
                </a:solidFill>
                <a:latin typeface="Arial"/>
              </a:rPr>
              <a:t>- التشبيه في قولة:“خور“حيث نفا أن يكونوا خوراً تشبيهاُ بالصفة التي تتصف بها النساء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1311"/>
                </a:solidFill>
                <a:latin typeface="Arial"/>
              </a:rPr>
              <a:t>ج- التنوع في البديع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1311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2f1311"/>
                </a:solidFill>
                <a:latin typeface="Arial"/>
              </a:rPr>
              <a:t>- الطباق في قولة:“ضروا – نفعوا“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2f1311"/>
                </a:solidFill>
                <a:latin typeface="Arial"/>
              </a:rPr>
              <a:t>- الجناس الاشتقاقي في قولة:“النفع- نفعوا“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1311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2f1311"/>
                </a:solidFill>
                <a:latin typeface="Arial"/>
              </a:rPr>
              <a:t>- الترادف وهو تكرار اللفظ والمعنى واحد في قولة:“الهدى-البر“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f1311"/>
                </a:solidFill>
                <a:latin typeface="Arial"/>
              </a:rPr>
              <a:t>&amp;&amp;ماتبقى من أمثلة على المحسنات البديعية أنظري الكتاب صــ</a:t>
            </a:r>
            <a:r>
              <a:rPr b="0" lang="ar-SA" sz="2400" spc="-1" strike="noStrike">
                <a:solidFill>
                  <a:srgbClr val="2f1311"/>
                </a:solidFill>
                <a:latin typeface="Arial"/>
              </a:rPr>
              <a:t>50</a:t>
            </a:r>
            <a:r>
              <a:rPr b="0" lang="ar-SA" sz="2400" spc="-1" strike="noStrike">
                <a:solidFill>
                  <a:srgbClr val="2f1311"/>
                </a:solidFill>
                <a:latin typeface="Arial"/>
              </a:rPr>
              <a:t>ـــــ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324000" y="4581360"/>
            <a:ext cx="3887640" cy="1440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1311"/>
                </a:solidFill>
                <a:latin typeface="Verdana"/>
              </a:rPr>
              <a:t>عزيزاتي انتهت المحاضرة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2f1311"/>
                </a:solidFill>
                <a:latin typeface="Verdana"/>
              </a:rPr>
              <a:t>كل الدعوات لكن بالتوفي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2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2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2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2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2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2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2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إنَّ الذَّوائِبَ من فهر وإخوتهم          قد بيَّنوا سنَّةً للناس تتـَّــبع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يرضى بها كل من كانت سريرته    تقوى الإله وبالأمر الذي شرعُوا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قوم إذا حاربوا  ضرو  عدوهم       أو حاولوا النفع في أشياعهم نفعُوا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سجية تلك منهم غير محدثة           إن الخلائق-فاعلم- شرها البدع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لا يرفع الناس ما أوهت أكفهم        عند الدفاع ولا يوهون مار قعوا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إن كان في الناس سباقون بعدهم      فكل سبق لأدنى سبقهم تبع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لا يجهلون وإن حاولت جهلهم         في فضل أحلامهم عن ذاك متسع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أعفة ذكرت في الوحي عفتهم         لا يطمعون ولا يزري بهم طمع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كم من صديق لهم نالوا كرامته        ومن عدوُّ عليهم جاهد جدعُوا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أعطوا نبيَّ الهدى والبر طاعتهم     فما ونى نصرهم عنه وما نزعُوا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إن قال:سيروا أجدًّوا السَّير جهدهم   أو قال:عوجوا علينا ساعةً ربعُوا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لا فخر إن هم أصابوا من عدوهم    وإن أُصيبوا فلا خورٌ ولا جزع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أكرم بقوم رسول الله شيعتهم         إذا تفرَّقتِ الأهواء والشيع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أهدى لهم مِدحي قلبُ يؤازرُهُ         فيما أراد لسان حائكٌ صنع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فإنهم أفضل الأحياء كلُّهم             إن جدَّ بالناس جدُّ القول أو شمعُوا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7" name=""/>
          <p:cNvSpPr/>
          <p:nvPr/>
        </p:nvSpPr>
        <p:spPr>
          <a:xfrm>
            <a:off x="755640" y="5734080"/>
            <a:ext cx="914400" cy="914400"/>
          </a:xfrm>
          <a:prstGeom prst="irregularSeal1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826920" y="4437000"/>
            <a:ext cx="914400" cy="914400"/>
          </a:xfrm>
          <a:prstGeom prst="irregularSeal1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395280" y="3141720"/>
            <a:ext cx="914400" cy="914400"/>
          </a:xfrm>
          <a:prstGeom prst="irregularSeal2">
            <a:avLst/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2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2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2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0" dur="500"/>
                                        <p:tgtEl>
                                          <p:spTgt spid="2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2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2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2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2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2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2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2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2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2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2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2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2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2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2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2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500"/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0" dur="500"/>
                                        <p:tgtEl>
                                          <p:spTgt spid="2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2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2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2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2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2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2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" dur="500"/>
                                        <p:tgtEl>
                                          <p:spTgt spid="2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2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2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2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2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2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2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2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2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2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2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2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2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2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2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2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2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2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2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2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2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2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23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23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2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23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23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23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23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2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2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23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9900"/>
                </a:solidFill>
                <a:latin typeface="Arial"/>
              </a:rPr>
              <a:t>اسمه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حسان بن ثابت بن المنذر الخزرجي الأنصار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9900"/>
                </a:solidFill>
                <a:latin typeface="Arial"/>
              </a:rPr>
              <a:t>كنيته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: أبو الولي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شاعر مخضرم عاش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سنة في الجاهلية و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سنة في الإسلام,شاعر النبي ,أصيب بالعمى قبل وفاته,توفي سنة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54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بالمدين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*</a:t>
            </a:r>
            <a:r>
              <a:rPr b="0" lang="ar-SA" sz="2800" spc="-1" strike="noStrike">
                <a:solidFill>
                  <a:srgbClr val="009900"/>
                </a:solidFill>
                <a:latin typeface="Arial"/>
              </a:rPr>
              <a:t>ينسب إلى شعر حسان الضعف أو اللين في شعره بعد الإسلام,لماذا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بسبب كثرة الوضع في شعره بعد الإسلام, وبسبب تقدم سنه وكب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2627280" y="333360"/>
            <a:ext cx="3673440" cy="1008000"/>
          </a:xfrm>
          <a:custGeom>
            <a:avLst/>
            <a:gdLst>
              <a:gd name="textAreaLeft" fmla="*/ 0 w 3673440"/>
              <a:gd name="textAreaRight" fmla="*/ 3673800 w 3673440"/>
              <a:gd name="textAreaTop" fmla="*/ 130680 h 1008000"/>
              <a:gd name="textAreaBottom" fmla="*/ 8773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2f1311"/>
                </a:solidFill>
                <a:latin typeface="Verdana"/>
              </a:rPr>
              <a:t>قائل الن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2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2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9" dur="2000"/>
                                        <p:tgtEl>
                                          <p:spTgt spid="2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4" dur="2000"/>
                                        <p:tgtEl>
                                          <p:spTgt spid="2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2000"/>
                                        <p:tgtEl>
                                          <p:spTgt spid="2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4" dur="2000"/>
                                        <p:tgtEl>
                                          <p:spTgt spid="2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9" dur="2000"/>
                                        <p:tgtEl>
                                          <p:spTgt spid="2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4" dur="2000"/>
                                        <p:tgtEl>
                                          <p:spTgt spid="2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500"/>
                                        <p:tgtEl>
                                          <p:spTgt spid="2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500"/>
                                        <p:tgtEl>
                                          <p:spTgt spid="2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500"/>
                                        <p:tgtEl>
                                          <p:spTgt spid="2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500"/>
                                        <p:tgtEl>
                                          <p:spTgt spid="2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500"/>
                                        <p:tgtEl>
                                          <p:spTgt spid="2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4" dur="500"/>
                                        <p:tgtEl>
                                          <p:spTgt spid="2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eaeaea"/>
                </a:solidFill>
                <a:latin typeface="Verdana"/>
              </a:rPr>
              <a:t>قدم وفد تميم سنة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9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فدخلوا المسجد النبوي ونادوا الرسول قائلين:“يامحمد جئناك لنفاخرك فأذن لشاعرنا وخطيبنا فقام عطاربن زرارة فألقى خطبته ثم جلس فدعى الرسول ثابت بن قيس الأنصاري وقال له:قم فأجب الرجل ,فقام وأجابه,ثم قام الزبرقان بن بدر وألقى قصيدته ولما بدأ في أبياته,تفقد الرسول حسان فلم يجده , فبعث إليه, فلما فرغ الزبرقان قال:الرسول:“قم ياحسان فأجب الرجل“ فوقف حسان وارتجل قصيدته فلما انتهى اعترف الأقرع بن حابس التميمي ببلاغة حسان إذ قال: ”والله إن هذا الرجل-يعني رسول الله- لمؤتى له,لخطيبه أخطب من خطيبنا , ولشاعره أشعر من شاعرنا,ولأصواتهم أعلى من أصواتنا“ وانتهت المناضرة بدخول الإسلام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5" name=""/>
          <p:cNvSpPr/>
          <p:nvPr/>
        </p:nvSpPr>
        <p:spPr>
          <a:xfrm>
            <a:off x="2411280" y="333360"/>
            <a:ext cx="3673440" cy="934920"/>
          </a:xfrm>
          <a:custGeom>
            <a:avLst/>
            <a:gdLst>
              <a:gd name="textAreaLeft" fmla="*/ 918360 w 3673440"/>
              <a:gd name="textAreaRight" fmla="*/ 2755080 w 3673440"/>
              <a:gd name="textAreaTop" fmla="*/ 2736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2f1311"/>
                </a:solidFill>
                <a:latin typeface="Verdana"/>
              </a:rPr>
              <a:t>المناسبة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2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7" name=""/>
          <p:cNvSpPr/>
          <p:nvPr/>
        </p:nvSpPr>
        <p:spPr>
          <a:xfrm>
            <a:off x="2627280" y="260280"/>
            <a:ext cx="3602160" cy="1079640"/>
          </a:xfrm>
          <a:prstGeom prst="flowChartMultidocumen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2f1311"/>
                </a:solidFill>
                <a:latin typeface="Verdana"/>
              </a:rPr>
              <a:t>شرح الأبيات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8" name="Cloud"/>
          <p:cNvSpPr/>
          <p:nvPr/>
        </p:nvSpPr>
        <p:spPr>
          <a:xfrm>
            <a:off x="7164360" y="2492280"/>
            <a:ext cx="1979640" cy="1424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8000"/>
                </a:solidFill>
                <a:latin typeface="Arial Unicode MS"/>
                <a:cs typeface="Arial Unicode MS"/>
              </a:rPr>
              <a:t>الذوائب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8000"/>
                </a:solidFill>
                <a:latin typeface="Arial Unicode MS"/>
                <a:cs typeface="Arial Unicode MS"/>
              </a:rPr>
              <a:t>جمع ذؤابة,الناصية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9" name="Cloud"/>
          <p:cNvSpPr/>
          <p:nvPr/>
        </p:nvSpPr>
        <p:spPr>
          <a:xfrm>
            <a:off x="5148360" y="2492280"/>
            <a:ext cx="1703160" cy="1513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8000"/>
                </a:solidFill>
                <a:latin typeface="Verdana"/>
              </a:rPr>
              <a:t>فهر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8000"/>
                </a:solidFill>
                <a:latin typeface="Verdana"/>
              </a:rPr>
              <a:t>قريــــش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0" name="Cloud"/>
          <p:cNvSpPr/>
          <p:nvPr/>
        </p:nvSpPr>
        <p:spPr>
          <a:xfrm>
            <a:off x="2987640" y="2637000"/>
            <a:ext cx="1627200" cy="13665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8000"/>
                </a:solidFill>
                <a:latin typeface="Verdana"/>
              </a:rPr>
              <a:t>بينوا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8000"/>
                </a:solidFill>
                <a:latin typeface="Verdana"/>
              </a:rPr>
              <a:t>وضحوا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1" name="Cloud"/>
          <p:cNvSpPr/>
          <p:nvPr/>
        </p:nvSpPr>
        <p:spPr>
          <a:xfrm>
            <a:off x="611280" y="2509920"/>
            <a:ext cx="1873080" cy="13507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8000"/>
                </a:solidFill>
                <a:latin typeface="Verdana"/>
              </a:rPr>
              <a:t>تتبع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8000"/>
                </a:solidFill>
                <a:latin typeface="Verdana"/>
              </a:rPr>
              <a:t>يجب اتباعها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ahoma"/>
              </a:rPr>
              <a:t>إن هؤلاء السادة من المهاجرين والأنصار قد وضحوا للناس سنة يجب أن تتبع لأنها تصلح لهم ولحياته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4" dur="500"/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9" dur="500"/>
                                        <p:tgtEl>
                                          <p:spTgt spid="2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4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9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رضى بها كل من كانت سريرته    تقوى الإله وبالأمر الذي شرع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هذه السنة يرضى عنها كل عاقل يخشى ربه ويتقيه لنقاء سريرته وصفاء فؤاد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4788000" y="2708280"/>
            <a:ext cx="3313080" cy="1008000"/>
          </a:xfrm>
          <a:prstGeom prst="wedgeEllipseCallout">
            <a:avLst>
              <a:gd name="adj1" fmla="val -11138"/>
              <a:gd name="adj2" fmla="val 70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000000"/>
                </a:solidFill>
                <a:uFillTx/>
                <a:latin typeface="Verdana"/>
              </a:rPr>
              <a:t>سريرته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000000"/>
                </a:solidFill>
                <a:uFillTx/>
                <a:latin typeface="Verdana"/>
              </a:rPr>
              <a:t>ما يكتمه المرء في نفسه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2627280" y="189000"/>
            <a:ext cx="3313080" cy="1079280"/>
          </a:xfrm>
          <a:prstGeom prst="irregularSeal2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Verdana"/>
              </a:rPr>
              <a:t>البيت الثاني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2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2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2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eaeaea"/>
                </a:solidFill>
                <a:latin typeface="Arial"/>
              </a:rPr>
              <a:t>قوم إذا حاربوا ضروا عدوهم    أوحاربوا النفع في أشياعهم نفعوا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eaeaea"/>
                </a:solidFill>
                <a:latin typeface="Arial"/>
              </a:rPr>
              <a:t>أنهم إذا حاربوا نال العدو على أيديهم الويل والنكال,وأن ينفعوا أنصارهم نفعوهم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2627280" y="260280"/>
            <a:ext cx="4033800" cy="1008000"/>
          </a:xfrm>
          <a:prstGeom prst="horizontalScroll">
            <a:avLst>
              <a:gd name="adj" fmla="val 125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660066"/>
                </a:solidFill>
                <a:latin typeface="Verdana"/>
              </a:rPr>
              <a:t>البيت الثالث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4356000" y="2637000"/>
            <a:ext cx="3311640" cy="1152360"/>
          </a:xfrm>
          <a:prstGeom prst="cloudCallout">
            <a:avLst>
              <a:gd name="adj1" fmla="val -88736"/>
              <a:gd name="adj2" fmla="val 6143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660066"/>
                </a:solidFill>
                <a:latin typeface="Verdana"/>
              </a:rPr>
              <a:t>أشياعهم:جمع شيعة,وهو اتباع الإنسان وفرقته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2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2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8" dur="500"/>
                                        <p:tgtEl>
                                          <p:spTgt spid="2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ahoma"/>
              </a:rPr>
              <a:t>سجية تلك منهم غير محدثة   إن الخلائق-فا علم- شرها البد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ahoma"/>
              </a:rPr>
              <a:t>وتلك طبيعتهم فيهم وخليقة غير مبتدعة ولا مستحدثة, وإن أشد الأمور شراً ما يبتدعه الناس لذا فقوتهم طبيعة فيه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3" name=""/>
          <p:cNvSpPr/>
          <p:nvPr/>
        </p:nvSpPr>
        <p:spPr>
          <a:xfrm>
            <a:off x="3492360" y="333360"/>
            <a:ext cx="2592360" cy="1008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Verdana"/>
              </a:rPr>
              <a:t>البيت الراب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6443640" y="2421000"/>
            <a:ext cx="1728720" cy="143964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Verdana"/>
              </a:rPr>
              <a:t>سجية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Verdana"/>
              </a:rPr>
              <a:t>طبيعة وخلق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4284720" y="2924280"/>
            <a:ext cx="1655640" cy="15127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Verdana"/>
              </a:rPr>
              <a:t>غير محدثة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Verdana"/>
              </a:rPr>
              <a:t>غير مبتدعة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1547640" y="2421000"/>
            <a:ext cx="2233800" cy="165564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Verdana"/>
              </a:rPr>
              <a:t>الخلائق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Verdana"/>
                <a:cs typeface="Arial Unicode MS"/>
              </a:rPr>
              <a:t>جمع خليقة وهي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 الخلق والطبيعة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0" dur="5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2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2" dur="500"/>
                                        <p:tgtEl>
                                          <p:spTgt spid="2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7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e4005c"/>
                </a:solidFill>
                <a:latin typeface="Arial"/>
              </a:rPr>
              <a:t>لايرقع الناس ماأوهت أكفهم    عند الدفاع ولايوهون مار قعو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e4005c"/>
                </a:solidFill>
                <a:latin typeface="Arial"/>
              </a:rPr>
              <a:t>أنهم نالوا عدوهم وأصابوهم ولم يستطع أحد أن يدفع إصابتهم وإذا أصلحوا أمر فلن يستطيع أحد أن يفسده أو يضعف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2987640" y="404640"/>
            <a:ext cx="4537080" cy="792360"/>
          </a:xfrm>
          <a:prstGeom prst="ellipse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cc3300"/>
                </a:solidFill>
                <a:latin typeface="Verdana"/>
              </a:rPr>
              <a:t>البيت الخامس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7020000" y="2349360"/>
            <a:ext cx="1728720" cy="863640"/>
          </a:xfrm>
          <a:prstGeom prst="wedgeRoundRectCallout">
            <a:avLst>
              <a:gd name="adj1" fmla="val -87097"/>
              <a:gd name="adj2" fmla="val 54226"/>
              <a:gd name="adj3" fmla="val 1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e4005c"/>
                </a:solidFill>
                <a:latin typeface="Verdana"/>
              </a:rPr>
              <a:t>يرقع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e4005c"/>
                </a:solidFill>
                <a:latin typeface="Verdana"/>
              </a:rPr>
              <a:t>يصلح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3059280" y="2349360"/>
            <a:ext cx="2017440" cy="863640"/>
          </a:xfrm>
          <a:prstGeom prst="wedgeRoundRectCallout">
            <a:avLst>
              <a:gd name="adj1" fmla="val -42842"/>
              <a:gd name="adj2" fmla="val 72976"/>
              <a:gd name="adj3" fmla="val 1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4005c"/>
                </a:solidFill>
                <a:latin typeface="Verdana"/>
              </a:rPr>
              <a:t>أوهت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e4005c"/>
                </a:solidFill>
                <a:latin typeface="Verdana"/>
              </a:rPr>
              <a:t>شققت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0" dur="500"/>
                                        <p:tgtEl>
                                          <p:spTgt spid="2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5" dur="500"/>
                                        <p:tgtEl>
                                          <p:spTgt spid="2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2" dur="500"/>
                                        <p:tgtEl>
                                          <p:spTgt spid="2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7" dur="500"/>
                                        <p:tgtEl>
                                          <p:spTgt spid="2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62" dur="500"/>
                                        <p:tgtEl>
                                          <p:spTgt spid="2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9" dur="500"/>
                                        <p:tgtEl>
                                          <p:spTgt spid="2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4" dur="500"/>
                                        <p:tgtEl>
                                          <p:spTgt spid="2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5:08:28Z</dcterms:created>
  <dc:creator>sada</dc:creator>
  <dc:description/>
  <dc:language>en-US</dc:language>
  <cp:lastModifiedBy>sada</cp:lastModifiedBy>
  <dcterms:modified xsi:type="dcterms:W3CDTF">2009-01-10T22:56:18Z</dcterms:modified>
  <cp:revision>6</cp:revision>
  <dc:subject/>
  <dc:title>الشريحة 1</dc:title>
</cp:coreProperties>
</file>