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DED-E85D-4270-BC06-D40BB09F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0AD-24A5-4C64-A127-4CEAA58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6CEA0-C7E1-4EC9-B4C1-400FDFCC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06A6C-ADB2-45F2-A73D-9422A8B7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E19DA-9F5D-4EEE-8F4C-841EBA43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63F86-CA66-4363-A1D0-B73BD44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9C358-C897-478C-B035-7F3EAD9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F7FDA-97E9-40D2-ADF4-35623AB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0E2C8-BEC1-4D0D-B42E-488B37D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9E28C-2CCE-4C80-936D-C426D8C9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2E56C-1BAE-4655-B80A-EADCDE39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18D6B-92DE-4056-8632-4807ADF9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A75-B413-448B-A370-2A96F4E0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2109A-3E6C-41FF-B4C8-8FFDDAF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1B4C9-ECA2-4DDD-AFD7-E19B2B58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26CEB-65B7-4711-A1F2-A0C0CEBA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4F6FF-F4DC-4717-B97B-CA5FE931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E2F6F-E956-4E64-AAB4-70B8DBE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4BA5D-6E8A-4FFB-A5B3-E7ADEA85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2ECF-3B2D-47B6-B698-329BF4C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D0B41-4DB8-4B9E-906A-83AD52F2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824F8-3F96-433A-BEDD-E4DFD53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08FA0-1C4F-43A5-891E-D8254DE1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6CE-4079-4BFF-9838-67D2012D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B76AA-8CFD-4E2B-8D5D-053CDF05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D9DCD-5741-4627-9D86-69094394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8F604-477D-4122-95B0-ADFEF1B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EA31C-638E-4D53-9C3A-3BF4961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A2BD5-137C-4A5A-BA79-0F400F96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D0FED-AB5A-49E7-9E98-C56F4E89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1FA9E-27CA-4AE6-B589-19E3D41E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CCC1-3AEC-4FB3-B41C-825A54A9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E2287-171E-4DFF-8925-37A1669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60E51-00D3-4C9F-AAD6-1D9A179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118B-C5A1-47C3-9562-6EB1051D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12892-94BD-490C-A80F-00A0FB59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BCFB3-52B4-4F3F-8C74-F19A33D1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7B8A5-7464-4C5B-AD0E-D5DA51E0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80F4CC-C8AD-4892-9626-6012D795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7E7A59-AD33-40D0-B1F1-17B3E347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3EA3C5-650D-482D-9120-417EA15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143D6E-5A5C-45AE-B058-0C043761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C83B9-CDC2-461E-A77C-C147E8B4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558617-E02D-4FD6-8DD7-0FB0C53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D5AC06-4C50-4EC8-980A-CAE00BF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9B56-299D-4965-8CED-3CB0CA2C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0513C-5324-461F-90B4-AB77415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A57A9E-FEF0-476B-825C-3847FDD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1C3765-CC57-4E1C-8839-9ABF118C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C7507D-2019-4060-8788-393F97AA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22E136-3E3C-4EF8-A3C7-1D87F718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D2AE3-92DF-4C7C-AE28-2B3B5012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836F0-5ACC-4EAD-A2C6-EA97661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44ACC-2B24-4F2D-890F-C6581BA3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84AD4-8529-4E9F-9179-B04F812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3B781-AF08-4ED4-A679-E6F2AB9F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4E18-6A7A-4EA2-B0D4-05091022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163FD-DDE4-49B1-ADB7-B2A39D2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14BDC-BB7C-4AE5-BA61-A753E3F0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355CE-66FC-43A4-9744-52D52710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48F14-98EA-4D97-8C90-AC107330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73A7B-000D-403E-89B9-A4516872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5DE57-B9FF-4388-941D-E2E0253E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B5184-9CC6-4F69-85C1-AE30FBDF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637A1-460A-44C2-87A0-2E947D15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44DA4-64D5-4895-A2D4-6ED4B50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9971C-2CD1-4485-913F-A8F42ADE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B38-6BD3-4738-A81E-7F4290B1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F4314-7DFC-48B0-8A8C-A142417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8B448-FF3F-48EC-8467-76742C68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AAD85-268B-4092-B220-69D248D1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8BD07-8FBD-4259-9720-53743BB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603FC-9266-4287-9DFF-FBE0C6F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6D9E8-7CD8-4ACA-8934-17CCEB1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74C68-AEF1-48B8-813C-AE347DC0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0A97C-9D64-4961-AB8D-12D9CB67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790D0-384A-4F76-B11D-889A99A2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3ECF32-CB0E-4B37-BD64-BB046848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7785-06F9-4EFC-BD3D-F1E9AA3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88E202-1F6F-448E-893E-64BBA07D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A2FFB9-F182-4EF7-880D-EA0BB551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1850FC-D944-4CAA-8DF0-08051394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6B4088-E6C2-44EE-A4C3-EEE90BAD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9D4C07-EE92-46CD-A4BB-A61E5CE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EA9832-0FCC-4917-9A0B-FCDC06B8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48FE80-084B-4037-9638-53188D8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01FE6D-9FED-4FF2-A993-E43C975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A01C90-C834-48FF-AA94-74ECDC6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21210E-BD97-4596-8CD0-043FA717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7E9-3368-4C2D-BB90-F770464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8096B9-55D0-48FF-B173-E602FDB5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CD146-E76F-4A60-8FAF-5649383D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E9728-6186-4CD5-AF56-3F1370F6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868C8-F049-492E-96E7-EB43837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639DE-962E-4D43-AEE9-10DD497E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680C9-7AB9-4998-905F-804B7553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3FEB7-0B4F-4FB1-B676-F6CBBCE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4F0A3-AD38-4196-95E9-7F603FC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F9973-D571-49EE-B00D-5520F43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F7DF3-B75B-409A-8BEE-19426BC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D40-0957-454D-AF12-5FF619B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49C64-6491-4E4F-9919-195547CA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C1E59-B0FB-41EC-83DE-7A075244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40B98-B8EB-4242-86FC-C58E463C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6CF75-54D6-4F1A-A9D6-4E1E1B05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A56BC-D652-4EFB-A1D2-878E144F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831F6-9014-4542-A396-735E092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07A99-BA39-4921-9501-CC60997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4E15F-0607-40ED-8D56-F072B922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3B116-A23B-4BBC-AFFD-2A7365F7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8CAA7-D3EC-4692-A946-955CA6B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1C6-B0D5-481C-9175-0C0336A6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368-E754-46BB-A8AA-F38CC7A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D8D11-3E4F-4F7E-B385-A0B0B10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64D1B-35AA-474E-9C96-6C447E2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BB191-78CC-428A-8399-AEA4CA61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1588D-8CDF-4773-8405-968D684E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E69AA-F238-494A-B3E4-F825CB51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684AE-3776-4698-99FE-3EA84C60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318F8-5EF1-4BF2-8C2E-ADD6BA30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31AD2-87DA-434E-976B-19BE4E5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5D05F-760E-4F0B-AEEB-9A06FEE7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AC293-07E5-4347-B899-4B5C0B04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593-C964-4FDB-8D8F-4FE996AD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CCF0A-9787-4F5C-AD88-02C8B46D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24A0E2-30DF-4C7B-9332-16888A5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0DEAA-363B-4A3A-9A21-2251731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1811B-A7B6-4FA9-80E6-18C8FC0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329EC-BBD4-4D76-B73F-76E0D979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DDF65-6B55-4D7C-8FC7-F7AF5DF7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024BD-E335-440A-9A4A-F7DE65EA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F2406-DAD7-44EE-BBFA-55DC25F9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20064-F8ED-4258-8E5D-2078FA03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CD190-57B2-4187-9760-A6E4EFD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6580-2916-4EB9-BCF9-CC8B151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56287-1257-4E8D-AF84-04806600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D40CB-B821-4BA9-AB2F-6B2FB64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137DA-63B8-4701-A8D7-937510A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5A8F7-7FDD-4B05-8B8E-016FF304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174548-DA1D-42C7-AEAD-A9FFF48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990DD-0737-4ACD-A4FA-70915FA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A038F-9F6A-4656-AFB0-12F5C854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5DCDA-DE95-4036-808F-CFF8523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7CA02-BF99-4E12-A9FC-7EDCC60C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BBC794-5B19-44B3-97F3-8A71E772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0EE4-2958-4DC0-B789-9B64EF9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765D647-375E-4B6C-813C-767EA0A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3F7DA8-98F3-4AA6-AD82-33457F9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2977EC-9979-4867-AFCD-5F33DDDE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21E11F-9B20-46FB-BCD5-E9B0AA4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E26AD72-8EAA-46B9-AFCF-1C40135F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147218-40E7-40F6-9E17-292B80A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82604C-EB3F-42C5-BD38-8F420B8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D89293-86E9-4021-B20A-CD9D850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8A962F-BEDB-4AB8-BF86-9FB5955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920D700-F9DD-4365-B8BE-F955C38D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7E4D-FBBF-4988-A839-49B1A01B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FE0ED1-68BD-4CDE-A247-EF38848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99271-92AD-41F4-B347-F1599ED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018DF-3AD3-4B37-9830-23BD9FA8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588A90-841F-42DF-965B-79C9DCF7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B707E-5E06-4076-92EB-127823E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C1FBF-282E-413B-99B5-8B1D0DFD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A4D20-E945-4648-9812-40A69249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EF548-18BA-4C37-9F1D-668C359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03FEB-6109-468C-BB16-5993D0C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212DC-4381-4034-86EE-CCB3E44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D4D6-BEED-428F-838D-07AA99BB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A3456-D286-4748-9CDF-313953E1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B867A-C310-4063-AE41-2C66B095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AD55C-E95B-429E-B288-AD5C3A0F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5DA909-23DE-4A0C-A1E1-8E3976BC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5D7528-E63B-4A6D-950E-A9F93644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C419BD-8176-426B-8A6E-E42319C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3E0AD-A7ED-4ED0-AA5E-B87C694B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81FAA7-4122-4E01-9560-722F7BA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56BFEB-0D4E-4068-91C0-3C742BA7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5EB37-5B8E-4FC9-AE92-6DEC3EF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A97D-14DE-4341-8DAF-99B3D04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6FC87-256D-4699-9A3D-388DC1D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91CEE9-EBDA-45CA-936A-9470228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FB842-68D2-44CE-AEF0-187E55F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7314BE-C460-429E-B319-14978D07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2E339-C9BB-445B-B583-37D0F3B5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BD3FF-FBBA-49B8-8C27-FB318BA0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24ACFA-099F-43C9-936D-756CCE3D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A437A-4A6C-4672-ACDD-33118128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8F1B15-3486-4139-B861-65F25E06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B4471-9BBC-4408-8EF5-231C547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2790-2FCF-4269-842B-AC2978F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3E46F-B562-4DBD-8904-F55623CC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E20AF-0C29-456B-9D8C-3EA6C33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0D0495-5A8A-48A5-9D93-1F09B01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D524ED-429A-492C-A721-2471CD7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516F3-775B-45B1-8F5F-7DCFF33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6D1CD8-FCF5-46FE-B5AF-3405C24B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263EE-C8D4-4268-9568-A0981590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C2BF3B-9C24-4B2D-9F9D-BF456D4E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B6E200-2B6F-4941-8253-65717A3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78297-846C-473F-8028-AC892C84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CC0C-776C-430F-868F-95132BEA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E9B119-94EE-43AB-87AF-8920CB66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4199FA-BE63-48FF-BE45-474F9A75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493CAC-6CF8-42F2-AD90-1D8BDFF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606BF9-B4D4-4656-8337-55DF50F3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586FC1-CA1F-4DCB-9B90-8844B2E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3D5E96-2DC7-4011-9BF2-3D446D1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AAC82D-B045-4AA7-B7D6-0B9AF665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A826AF-66AE-4448-B47F-9A9AABCC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F6ABA-8FE6-468F-ACCF-F6484A64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2115D6-CDAE-4C02-AFCD-27EE5330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2947-EA53-4D04-9E98-F671A477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1F0B4D-2CF6-4471-BC47-4651B9FB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E82973A-C4D1-459B-AC60-C687F56F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7A2E58-BDAC-4FD1-81CC-0BB4F1D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7986ECC-7E18-463C-A0D7-93DC02BA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E97933-52AA-4940-B1BC-6CE85F4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3D5175-93E1-433A-8558-41E95954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807874-F822-43F0-90CF-6CA449DF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056F30-A462-48E1-9F21-12C324D8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A52DF8-30AA-411F-9B3D-E79C05A0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116651-BD34-4A42-B982-07D39F37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888-5681-4120-AE53-098F54E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AB31-7B08-4A7B-A4C3-F6A702D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7A1EE3-ECEB-427C-A402-B3AE8978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686171-D4FA-424A-9229-C158570D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3623F-4A21-4F85-B6E8-CA1F67FC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FB28B1-A248-4A5B-ACC5-0E2BBAA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1A9877-8CB8-446D-890D-91EDC668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39557C-8445-44F9-BC66-2578B5C5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67C497-3F30-45D7-A3BA-D6BAEAA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1A3A73-2C0D-471A-86EA-0C707A3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B54B8F-83D6-46D2-91C1-B8A398B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708CBB-61F3-489B-A267-D147E3D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8D37-3E8B-49D4-B3F9-2EC56C9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19ED5A-5710-424B-A818-63D0FA52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1AB99B-0219-450F-9814-24945115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8D61D9-909D-48D0-961C-DA08DA9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8D6460-0605-48AC-8CD7-4E809687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E94068-FCB7-47C7-BFED-17675429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E1DC98-61E3-4490-B269-924BBCB6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7E528D-FB08-4D72-BAC4-763FBA8F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6B2A28-4ED1-4084-BB2D-72DD188B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AD4CBE-FCFE-4D43-A186-6289DC6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37D08E-6DC5-4106-8EDF-B40A607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5D33-9AD9-4124-93EB-90B49CC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6DAE14-5A90-412D-BF8C-A6F8640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5A3787-0317-4113-B8BC-76026C1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CEC97A-DB91-4D7D-B3F4-ECA38196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97D498-1FAC-40D3-8B65-002F2E0B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310088-0F6B-4A59-B19D-F08ABFE1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735C3B-9B4F-42A3-8583-63F30C9B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31F939-E4A3-46FB-8DFF-22DF034E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C259C3-334A-4FBA-8AFB-0820308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2CC038-9D6F-4FCA-A73B-3BFA3A17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BF0646-6D6E-4484-A870-E357E48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1AE8-7107-45FB-A595-692C248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09C30D-507E-4F4A-AA4E-8963339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CD341B-1037-41E1-A7D8-6181D18E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9CE2A2-188C-4B88-A62F-3D01B7D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B2FE8B-29E4-492B-ADB4-6747444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C571D2-6A18-48B9-803A-90338B66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EFBB3F-BC57-4BA3-9B37-38DFD2ED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9BC155-ACB7-4FE8-9B67-FBD71232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5291-4AB0-445A-970E-FDB7C3BB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E7F4-0B1F-45E0-B6E8-AFC1D37C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1C11-3F6D-43A7-ABB8-387BC1F2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9015-0D17-45A9-AD00-0D1D877B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C06CC-62CA-4878-A11A-17C68C5A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A567-FFB6-4083-AC61-7E16B77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B5C-F8D6-4B23-92A4-71C44B51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D5F3F-865F-435D-8AD0-80443DE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E34B-C430-4ACB-9214-5C05A8E4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A4F5-0BBF-4E1E-8AE1-9A63AD4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7EB88-5FE5-475A-8BDF-3F07302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33A4-2005-4AA7-89E7-47CA2CA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5954-D370-420F-B6F5-F9B992C4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602E-57DB-41FD-B141-05A8111F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A79AA-67AF-4A90-9014-8436A8CF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90B8-D8E2-450B-928B-264177B6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3921-6692-48CD-B440-D73C942B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1F7-9C23-4EAB-8994-CA8AFA9B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14C6-1C39-4C95-9D3E-BB41E208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0E1D-3921-4C6A-B92E-48E549E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3E1C-5C38-4397-A942-D9CA7F3D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816FF-6A41-40FC-B664-64ED6C88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395A-6075-49CC-93A0-04B5AFE0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3A56-8CEE-4AB9-B803-71847A5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EAF6E-1D1B-43A5-805B-1B2A2ACF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212A-437A-41C3-923A-48E064E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79EA-EC8A-425B-BB8B-9C467EE6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6BA81-3FFB-499A-8179-9BBC1FE8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B94-5777-4631-94B8-594BDA1D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F494-72CA-45C7-A89D-1C0870BF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8C99C-4FDB-4E56-A4D0-D4D9AD3C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996E1-5F3F-40A5-9382-4AF56A6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10C2-898F-482A-9E7C-30C3A0A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F71D-0748-47E4-B425-2E650F4A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1E5E-D9DF-4E56-93FF-4BF1D03D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9134-5C99-4201-8689-8FA5AA28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5EFA-7B90-4DC7-A863-8FBFF94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5555-6119-42D5-98BB-E54A757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64C9D-571E-45C7-9427-1A25E1E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60C-46CE-4FB1-8D04-7FDC3094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3312-5035-4475-8298-C960A76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2C09-9C83-428B-80E4-C0FD45B4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A7F4B-20E5-46F8-A215-18473BC6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B8F6E7-4F09-4320-8038-FC2BA6E9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1C7C1E-D51D-4B5D-8A92-BF16BCFE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50404-95A3-4600-B3DC-F636D1E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D68A2-DD2C-4606-AC61-8F2F4989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E11B4A-0A15-4C9C-88DE-C8BF0D60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3DF3A5-74C4-483A-A0E7-B8F51099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2E23E-9361-4B97-8CF1-C9B3C9D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8B0-8ABE-4A3A-8B4A-61BB6AEF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F2489E-91B0-4D49-9E87-D96B0EB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D45449-7A52-4C78-83F1-7DBD36F9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20A8F3-52A1-4E8C-A3B3-B20B9E9F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EA60BE-902F-432F-9183-F4416F08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9AF771-2D97-469B-93BE-D8358971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2F71-C11E-492B-B807-1E002B6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1D87-E6B6-4707-8608-B1DA157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AB865-5341-43C6-A9E1-781C50A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DC364-94FD-43A7-ACCF-0B8F9B2A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5729C-F8DA-469A-86FA-619A3DBC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AA8-646E-4BEC-B420-AD6F5DB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ED90-5790-496D-96F2-9AFCD5D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3D3F6-F989-4DA5-B158-C85D5B8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C558-2D56-4D26-B58B-AA5AFEB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6BB73-51C5-4B02-8549-7F42564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BF09B-9BCE-45FF-8A43-DA5FB0AF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D5F9-75EB-4556-967C-E0B91F7C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97FA2-A9C8-4ED9-AD28-9B5D7ABB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A2504-E6BD-4850-AD28-F91096D6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CAD99-CD80-456A-9145-56C8B01B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96DF5-0446-49ED-9CBD-4D1B15B3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CF77-0E09-4877-9C91-D197F8A6FA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2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CAE8-54B2-4C51-BC7B-97AB7FAF37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6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7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E2C-86FE-4414-B78A-158E2D60B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2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3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3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D21F-1053-4C91-B8E4-8AC5BB1A8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8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8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6D1-FAE2-4532-B946-1F2B4DCDCE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9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9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244F-6B55-4072-8377-5DA0C723AB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174F-A61E-4086-BC46-005FB33CE7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10B-0BD7-4B2D-B8D7-4B4AE702C4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15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DA1C-EBC0-455C-A8FC-E3C128E4D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66" name="PlaceHolder 1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E913-0826-4C19-9413-B7B6250615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0856-D7DB-4652-B828-A16AC70BB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6553-D153-4631-9294-21CF3A7D0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1717-1948-499C-A928-5D5E3840C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8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697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C73-26E7-4E2F-B71B-4D2C8159C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0047-B325-4226-9608-81C46C29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8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31D-5CC7-45CD-8416-3E6D46CFFE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4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9A21-F471-4EEA-865C-7256A69BA0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7ED-5709-4ECD-A423-A4E225A6E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0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18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56D8-3632-4234-B4C7-6BFA5E7B57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96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01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01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2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02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2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02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6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06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0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1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11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12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2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3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35" name="PlaceHolder 1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C5B-3972-4E21-8180-D52DCA4F8AB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17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17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18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18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8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8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18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18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18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2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22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3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27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27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27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27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28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9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29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265E-45EF-4986-BB9F-42A44FAE798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43C-5F13-42F3-9924-82D2ECD3EC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460D-0EEA-48A1-9B64-637014CAB8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FA4-392A-4588-90A6-AC2CB6CEAA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77DE-C7A9-4325-875F-B569A2183B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464-013D-44EF-B15F-FAD435C6E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49A-4250-496D-A6F7-EE73E7E4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7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347-0CF7-42BA-8F80-A5662F3F55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5800" y="1370160"/>
            <a:ext cx="6966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84360" y="1341360"/>
            <a:ext cx="6696000" cy="2808360"/>
          </a:xfrm>
          <a:custGeom>
            <a:avLst/>
            <a:gdLst>
              <a:gd name="textAreaLeft" fmla="*/ 25200 w 6696000"/>
              <a:gd name="textAreaRight" fmla="*/ 6721560 w 6696000"/>
              <a:gd name="textAreaTop" fmla="*/ 363960 h 2808360"/>
              <a:gd name="textAreaBottom" fmla="*/ 2444400 h 2808360"/>
            </a:gdLst>
            <a:ahLst/>
            <a:rect l="textAreaLeft" t="textAreaTop" r="textAreaRight" b="textAreaBottom"/>
            <a:pathLst>
              <a:path w="21600" h="21600">
                <a:moveTo>
                  <a:pt x="82" y="1400"/>
                </a:moveTo>
                <a:cubicBezTo>
                  <a:pt x="3641" y="-3560"/>
                  <a:pt x="7282" y="6360"/>
                  <a:pt x="10841" y="1400"/>
                </a:cubicBezTo>
                <a:cubicBezTo>
                  <a:pt x="14400" y="-3560"/>
                  <a:pt x="18041" y="6360"/>
                  <a:pt x="21600" y="1400"/>
                </a:cubicBezTo>
                <a:lnTo>
                  <a:pt x="21518" y="20200"/>
                </a:lnTo>
                <a:cubicBezTo>
                  <a:pt x="17959" y="25160"/>
                  <a:pt x="14318" y="15240"/>
                  <a:pt x="10759" y="20200"/>
                </a:cubicBezTo>
                <a:cubicBezTo>
                  <a:pt x="7200" y="25160"/>
                  <a:pt x="3559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00"/>
                </a:solidFill>
                <a:latin typeface="Arial"/>
              </a:rPr>
              <a:t>حسان بن ثابت يمدح الرسول صلى الله عليه وسلم وصحابته مرتجلا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نص من العصر الإسلامي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3" name="plant"/>
          <p:cNvSpPr/>
          <p:nvPr/>
        </p:nvSpPr>
        <p:spPr>
          <a:xfrm>
            <a:off x="468360" y="4437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4" name="plant"/>
          <p:cNvSpPr/>
          <p:nvPr/>
        </p:nvSpPr>
        <p:spPr>
          <a:xfrm>
            <a:off x="5940360" y="47242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إن كان في الناس سباقون بعدهم      فكل سبق لأدنى سبقهم تب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ثم قام الشاعر بموازنة بينهم وبين غيرهم,فذكر أنهم سابقون وليس هناك من يستطيع اللحاق بهم وإذا حاول فإن أقوى ما يبلغه أقل من أقل قوة لديه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2411280" y="404640"/>
            <a:ext cx="5113440" cy="936720"/>
          </a:xfrm>
          <a:custGeom>
            <a:avLst/>
            <a:gdLst>
              <a:gd name="textAreaLeft" fmla="*/ 1278360 w 5113440"/>
              <a:gd name="textAreaRight" fmla="*/ 3835080 w 5113440"/>
              <a:gd name="textAreaTop" fmla="*/ 0 h 936720"/>
              <a:gd name="textAreaBottom" fmla="*/ 819720 h 93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Verdana"/>
              </a:rPr>
              <a:t>البيت الساد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4284720" y="2781360"/>
            <a:ext cx="1942920" cy="1224000"/>
          </a:xfrm>
          <a:custGeom>
            <a:avLst/>
            <a:gdLst>
              <a:gd name="textAreaLeft" fmla="*/ 443520 w 1942920"/>
              <a:gd name="textAreaRight" fmla="*/ 1499400 w 194292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Verdana"/>
              </a:rPr>
              <a:t>تب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Verdana"/>
              </a:rPr>
              <a:t>تابع لهم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921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5050"/>
                </a:solidFill>
                <a:latin typeface="Arial"/>
              </a:rPr>
              <a:t>لايجهلون وإن حاولت جهلهم    في فضل أحلامهم عن ذاك متس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أي أنهم لايتصفون بالطيش أو الحمق في تعاملهم مع النا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5050"/>
                </a:solidFill>
                <a:latin typeface="Arial"/>
              </a:rPr>
              <a:t>أعفة ذكرت في الوحي عفتهم    لايطمعون ولا يزري بهم ط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ذكرهم الوحي بالعفة والبعد عن الدنس,والطمع ليس من طباعهم ولايستهويه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627280" y="260280"/>
            <a:ext cx="3600360" cy="1008000"/>
          </a:xfrm>
          <a:prstGeom prst="wedgeEllipseCallout">
            <a:avLst>
              <a:gd name="adj1" fmla="val -39287"/>
              <a:gd name="adj2" fmla="val 71101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Verdana"/>
              </a:rPr>
              <a:t>البيت السابع والثامن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643280" y="3500280"/>
            <a:ext cx="2808360" cy="1152720"/>
          </a:xfrm>
          <a:custGeom>
            <a:avLst/>
            <a:gdLst>
              <a:gd name="textAreaLeft" fmla="*/ 641160 w 2808360"/>
              <a:gd name="textAreaRight" fmla="*/ 2167200 w 2808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يزري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يعيب ويحتق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كم من صديق لهم نالوا كرامته  ومن عدوٍ عليهم جاهد جدع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5050"/>
                </a:solidFill>
                <a:latin typeface="Arial"/>
              </a:rPr>
              <a:t>أن صديقهم ينال منهم القوة والعزة, وبالعكس عدوهم يكسب الضعف والهو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أعطوا نبي الهدى والبر طاعتهم         فما ونى نصرهم عنه وما نزعو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5050"/>
                </a:solidFill>
                <a:latin typeface="Arial"/>
              </a:rPr>
              <a:t>أي أنهم أطاعوا رسول الله طاعة لايشوبها تردد أوعصيان, ولم يقصروا يوماً في طاعتهم ونصرتهم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708360" y="549360"/>
            <a:ext cx="3456000" cy="792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البيت التاسع والعاش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284720" y="3716280"/>
            <a:ext cx="2303280" cy="576360"/>
          </a:xfrm>
          <a:custGeom>
            <a:avLst/>
            <a:gdLst>
              <a:gd name="textAreaLeft" fmla="*/ 525600 w 2303280"/>
              <a:gd name="textAreaRight" fmla="*/ 1777680 w 23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2f1311"/>
                </a:solidFill>
                <a:latin typeface="Verdana"/>
              </a:rPr>
              <a:t>نزعوا:انفضوا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3" dur="20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8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2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Garamond"/>
              </a:rPr>
              <a:t>إن قال: سيروا أجدوا السير جهدهم    أو قال:عوجوا علينا ساعة ربعو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Garamond"/>
              </a:rPr>
              <a:t>ووصل الأمر إلى أنهم إذا قال لهم الرسول سيروا واجتهدوا ويذلوا طاقتهم في سيرهم وإن طلب منهم الإقامة أقاموا,فهم لايعصون له أمراً مهما كلفهم ذل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Garamond"/>
              </a:rPr>
              <a:t>لا فخر إن هم أصابوا من عدوهم             وإن أصيبوا فلا خور ولا جز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Garamond"/>
              </a:rPr>
              <a:t>يصف تواضعهم وأنهم لايركبهم الغرور في النصر , ولا يجزعون إذا أصيبوا بمصيبة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6" name=""/>
          <p:cNvSpPr/>
          <p:nvPr/>
        </p:nvSpPr>
        <p:spPr>
          <a:xfrm>
            <a:off x="2700360" y="476280"/>
            <a:ext cx="43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Verdana"/>
              </a:rPr>
              <a:t>البيت الحادي عش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Verdana"/>
              </a:rPr>
              <a:t>والثاني عش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c3aa"/>
                </a:solidFill>
                <a:latin typeface="Arial"/>
              </a:rPr>
              <a:t>البيت الثالث عشر والرابع عشر والخامس عشر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أكرم بقوم رسول الله شيعتهم    إذا تفرقت الأهواء والشي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Verdana"/>
              </a:rPr>
              <a:t>أنهم أفضل الأقوام لأنهم من اتباع سنة محم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أهدى لهم قلب يؤازره            فيما أراد لسان حائك صن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Verdana"/>
              </a:rPr>
              <a:t>يختتم قصيدته ببيان أن ماقاله فيهم نابع عن الصدق في وصفه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فإنهم أفضل الأحياء كلهم      أن جد بالناس جد القول أو شمعو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Verdana"/>
              </a:rPr>
              <a:t>شمعوا: هزلو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Verdana"/>
              </a:rPr>
              <a:t>أنهم أفضل الناس,سواء في الجد أول الهزل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تتميز لغته بالفصاحة والجزالة,كما أن القصيدة جاءت متنوعة الأساليب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أ- استخدم الجمل الإنشائية والخبري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تعجب مثل:“أكرم بقوم..., كم من صديق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شرط مثل:إذا حاربوا..إن كان في الناس..إن هم أصابوا..وإن أصيبوا..إذا تفرقت الأهواء...إن جدّ بالناس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استخدم حرفان من أدوات الشرط هما: أن,إذا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نفي مثل:“لايرقع..لايجهلون..ولا يطمعون..ولا يزري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امر مثل:“ سيروا...عوجوا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ب- تنوع الأساليب البياني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استعارة في قولة:“إن الذوائب من فهر“ شبه أعيان المسلمين وسادتهم بالنواصي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مجاز مرسل في قولة:“ ذكرت في الوحي“ ويقصد به الموحى وهو القرآ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مجاز عقلي في قولة:“ فما ونى ونصرهم“ والعلاقة سببية والأصل:ماونوا عنه بسبب نصرهم إياه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كناية في قولة:“ومن عدو..جدعوا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763640" y="333360"/>
            <a:ext cx="3313080" cy="934920"/>
          </a:xfrm>
          <a:prstGeom prst="flowChartDocumen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اللغة والأسلو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39640" y="6093000"/>
            <a:ext cx="2376720" cy="576000"/>
          </a:xfrm>
          <a:prstGeom prst="leftArrowCallout">
            <a:avLst>
              <a:gd name="adj1" fmla="val 25002"/>
              <a:gd name="adj2" fmla="val 25000"/>
              <a:gd name="adj3" fmla="val 68771"/>
              <a:gd name="adj4" fmla="val 66673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2f1311"/>
                </a:solidFill>
                <a:latin typeface="Verdana"/>
              </a:rPr>
              <a:t>يتب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2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2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تشبيه في قولة:“خور“حيث نفا أن يكونوا خوراً تشبيهاُ بالصفة التي تتصف بها النساء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ج- التنوع في البدي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طباق في قولة:“ضروا – نفعوا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جناس الاشتقاقي في قولة:“النفع- نفعوا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ترادف وهو تكرار اللفظ والمعنى واحد في قولة:“الهدى-البر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&amp;&amp;ماتبقى من أمثلة على المحسنات البديعية أنظري الكتاب صــ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ــــ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24000" y="4581360"/>
            <a:ext cx="388764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Verdana"/>
              </a:rPr>
              <a:t>عزيزاتي انتهت المحاضرة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Verdana"/>
              </a:rPr>
              <a:t>كل الدعوات لكن بالتوفي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إنَّ الذَّوائِبَ من فهر وإخوتهم          قد بيَّنوا سنَّةً للناس تتـَّــب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يرضى بها كل من كانت سريرته    تقوى الإله وبالأمر الذي شر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قوم إذا حاربوا  ضرو  عدوهم       أو حاولوا النفع في أشياعهم نف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سجية تلك منهم غير محدثة           إن الخلائق-فاعلم- شرها البد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لا يرفع الناس ما أوهت أكفهم        عند الدفاع ولا يوهون مار قع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إن كان في الناس سباقون بعدهم      فكل سبق لأدنى سبقهم تب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لا يجهلون وإن حاولت جهلهم         في فضل أحلامهم عن ذاك متس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عفة ذكرت في الوحي عفتهم         لا يطمعون ولا يزري بهم طم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كم من صديق لهم نالوا كرامته        ومن عدوُّ عليهم جاهد جد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عطوا نبيَّ الهدى والبر طاعتهم     فما ونى نصرهم عنه وما نز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إن قال:سيروا أجدًّوا السَّير جهدهم   أو قال:عوجوا علينا ساعةً رب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لا فخر إن هم أصابوا من عدوهم    وإن أُصيبوا فلا خورٌ ولا جز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كرم بقوم رسول الله شيعتهم         إذا تفرَّقتِ الأهواء والشي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هدى لهم مِدحي قلبُ يؤازرُهُ         فيما أراد لسان حائكٌ صن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فإنهم أفضل الأحياء كلُّهم             إن جدَّ بالناس جدُّ القول أو شم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"/>
          <p:cNvSpPr/>
          <p:nvPr/>
        </p:nvSpPr>
        <p:spPr>
          <a:xfrm>
            <a:off x="755640" y="5734080"/>
            <a:ext cx="914400" cy="91440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826920" y="4437000"/>
            <a:ext cx="914400" cy="91440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95280" y="3141720"/>
            <a:ext cx="914400" cy="914400"/>
          </a:xfrm>
          <a:prstGeom prst="irregularSeal2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00"/>
                </a:solidFill>
                <a:latin typeface="Arial"/>
              </a:rPr>
              <a:t>اسم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حسان بن ثابت بن المنذر الخزرجي الأنصار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9900"/>
                </a:solidFill>
                <a:latin typeface="Arial"/>
              </a:rPr>
              <a:t>كنيته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: أبو الول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شاعر مخضرم عاش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نة في الجاهلية و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نة في الإسلام,شاعر النبي ,أصيب بالعمى قبل وفاته,توفي سن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لمدين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0" lang="ar-SA" sz="2800" spc="-1" strike="noStrike">
                <a:solidFill>
                  <a:srgbClr val="009900"/>
                </a:solidFill>
                <a:latin typeface="Arial"/>
              </a:rPr>
              <a:t>ينسب إلى شعر حسان الضعف أو اللين في شعره بعد الإسلام,لماذا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سبب كثرة الوضع في شعره بعد الإسلام, وبسبب تقدم سنه وكب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627280" y="333360"/>
            <a:ext cx="3673440" cy="1008000"/>
          </a:xfrm>
          <a:custGeom>
            <a:avLst/>
            <a:gdLst>
              <a:gd name="textAreaLeft" fmla="*/ 0 w 3673440"/>
              <a:gd name="textAreaRight" fmla="*/ 3673800 w 367344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قائل الن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500"/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500"/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aeaea"/>
                </a:solidFill>
                <a:latin typeface="Verdana"/>
              </a:rPr>
              <a:t>قدم وفد تميم سنة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فدخلوا المسجد النبوي ونادوا الرسول قائلين:“يامحمد جئناك لنفاخرك فأذن لشاعرنا وخطيبنا فقام عطاربن زرارة فألقى خطبته ثم جلس فدعى الرسول ثابت بن قيس الأنصاري وقال له:قم فأجب الرجل ,فقام وأجابه,ثم قام الزبرقان بن بدر وألقى قصيدته ولما بدأ في أبياته,تفقد الرسول حسان فلم يجده , فبعث إليه, فلما فرغ الزبرقان قال:الرسول:“قم ياحسان فأجب الرجل“ فوقف حسان وارتجل قصيدته فلما انتهى اعترف الأقرع بن حابس التميمي ببلاغة حسان إذ قال: ”والله إن هذا الرجل-يعني رسول الله- لمؤتى له,لخطيبه أخطب من خطيبنا , ولشاعره أشعر من شاعرنا,ولأصواتهم أعلى من أصواتنا“ وانتهت المناضرة بدخول الإسلا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5" name=""/>
          <p:cNvSpPr/>
          <p:nvPr/>
        </p:nvSpPr>
        <p:spPr>
          <a:xfrm>
            <a:off x="2411280" y="333360"/>
            <a:ext cx="3673440" cy="934920"/>
          </a:xfrm>
          <a:custGeom>
            <a:avLst/>
            <a:gdLst>
              <a:gd name="textAreaLeft" fmla="*/ 918360 w 3673440"/>
              <a:gd name="textAreaRight" fmla="*/ 2755080 w 3673440"/>
              <a:gd name="textAreaTop" fmla="*/ 2736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المناسب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7" name=""/>
          <p:cNvSpPr/>
          <p:nvPr/>
        </p:nvSpPr>
        <p:spPr>
          <a:xfrm>
            <a:off x="2627280" y="260280"/>
            <a:ext cx="3602160" cy="1079640"/>
          </a:xfrm>
          <a:prstGeom prst="flowChartMultidocumen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شرح الأبيات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8" name="Cloud"/>
          <p:cNvSpPr/>
          <p:nvPr/>
        </p:nvSpPr>
        <p:spPr>
          <a:xfrm>
            <a:off x="7164360" y="2492280"/>
            <a:ext cx="1979640" cy="1424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8000"/>
                </a:solidFill>
                <a:latin typeface="Arial Unicode MS"/>
                <a:cs typeface="Arial Unicode MS"/>
              </a:rPr>
              <a:t>الذوائب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8000"/>
                </a:solidFill>
                <a:latin typeface="Arial Unicode MS"/>
                <a:cs typeface="Arial Unicode MS"/>
              </a:rPr>
              <a:t>جمع ذؤابة,الناصية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9" name="Cloud"/>
          <p:cNvSpPr/>
          <p:nvPr/>
        </p:nvSpPr>
        <p:spPr>
          <a:xfrm>
            <a:off x="5148360" y="2492280"/>
            <a:ext cx="1703160" cy="1513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Verdana"/>
              </a:rPr>
              <a:t>فهر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Verdana"/>
              </a:rPr>
              <a:t>قريــــ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0" name="Cloud"/>
          <p:cNvSpPr/>
          <p:nvPr/>
        </p:nvSpPr>
        <p:spPr>
          <a:xfrm>
            <a:off x="2987640" y="2637000"/>
            <a:ext cx="1627200" cy="13665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Verdana"/>
              </a:rPr>
              <a:t>بينوا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Verdana"/>
              </a:rPr>
              <a:t>وضحوا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1" name="Cloud"/>
          <p:cNvSpPr/>
          <p:nvPr/>
        </p:nvSpPr>
        <p:spPr>
          <a:xfrm>
            <a:off x="611280" y="2509920"/>
            <a:ext cx="1873080" cy="1350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Verdana"/>
              </a:rPr>
              <a:t>تتب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8000"/>
                </a:solidFill>
                <a:latin typeface="Verdana"/>
              </a:rPr>
              <a:t>يجب اتباعها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إن هؤلاء السادة من المهاجرين والأنصار قد وضحوا للناس سنة يجب أن تتبع لأنها تصلح لهم ولحيا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ضى بها كل من كانت سريرته    تقوى الإله وبالأمر الذي شرع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السنة يرضى عنها كل عاقل يخشى ربه ويتقيه لنقاء سريرته وصفاء فؤا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788000" y="2708280"/>
            <a:ext cx="3313080" cy="1008000"/>
          </a:xfrm>
          <a:prstGeom prst="wedgeEllipseCallout">
            <a:avLst>
              <a:gd name="adj1" fmla="val -11138"/>
              <a:gd name="adj2" fmla="val 7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00"/>
                </a:solidFill>
                <a:uFillTx/>
                <a:latin typeface="Verdana"/>
              </a:rPr>
              <a:t>سريرته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00"/>
                </a:solidFill>
                <a:uFillTx/>
                <a:latin typeface="Verdana"/>
              </a:rPr>
              <a:t>ما يكتمه المرء في نفس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627280" y="189000"/>
            <a:ext cx="3313080" cy="107928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البيت الثان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aeaea"/>
                </a:solidFill>
                <a:latin typeface="Arial"/>
              </a:rPr>
              <a:t>قوم إذا حاربوا ضروا عدوهم    أوحاربوا النفع في أشياعهم نفعوا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eaeaea"/>
                </a:solidFill>
                <a:latin typeface="Arial"/>
              </a:rPr>
              <a:t>أنهم إذا حاربوا نال العدو على أيديهم الويل والنكال,وأن ينفعوا أنصارهم نفعوه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627280" y="260280"/>
            <a:ext cx="4033800" cy="1008000"/>
          </a:xfrm>
          <a:prstGeom prst="horizontalScrol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660066"/>
                </a:solidFill>
                <a:latin typeface="Verdana"/>
              </a:rPr>
              <a:t>البيت الثالث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4356000" y="2637000"/>
            <a:ext cx="3311640" cy="1152360"/>
          </a:xfrm>
          <a:prstGeom prst="cloudCallout">
            <a:avLst>
              <a:gd name="adj1" fmla="val -88736"/>
              <a:gd name="adj2" fmla="val 6143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0066"/>
                </a:solidFill>
                <a:latin typeface="Verdana"/>
              </a:rPr>
              <a:t>أشياعهم:جمع شيعة,وهو اتباع الإنسان وفرقته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سجية تلك منهم غير محدثة   إن الخلائق-فا علم- شرها البد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وتلك طبيعتهم فيهم وخليقة غير مبتدعة ولا مستحدثة, وإن أشد الأمور شراً ما يبتدعه الناس لذا فقوتهم طبيعة في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3492360" y="333360"/>
            <a:ext cx="2592360" cy="10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Verdana"/>
              </a:rPr>
              <a:t>البيت الراب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6443640" y="2421000"/>
            <a:ext cx="1728720" cy="1439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سجي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طبيعة وخل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284720" y="2924280"/>
            <a:ext cx="1655640" cy="15127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غير محدث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غير مبتدعة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547640" y="2421000"/>
            <a:ext cx="2233800" cy="1655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الخلائق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Verdana"/>
                <a:cs typeface="Arial Unicode MS"/>
              </a:rPr>
              <a:t>جمع خليقة وهي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الخلق والطبيعة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e4005c"/>
                </a:solidFill>
                <a:latin typeface="Arial"/>
              </a:rPr>
              <a:t>لايرقع الناس ماأوهت أكفهم    عند الدفاع ولايوهون مار قعو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e4005c"/>
                </a:solidFill>
                <a:latin typeface="Arial"/>
              </a:rPr>
              <a:t>أنهم نالوا عدوهم وأصابوهم ولم يستطع أحد أن يدفع إصابتهم وإذا أصلحوا أمر فلن يستطيع أحد أن يفسده أو يضعف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87640" y="404640"/>
            <a:ext cx="4537080" cy="792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Verdana"/>
              </a:rPr>
              <a:t>البيت الخام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7020000" y="2349360"/>
            <a:ext cx="1728720" cy="863640"/>
          </a:xfrm>
          <a:prstGeom prst="wedgeRoundRectCallout">
            <a:avLst>
              <a:gd name="adj1" fmla="val -87097"/>
              <a:gd name="adj2" fmla="val 54226"/>
              <a:gd name="adj3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e4005c"/>
                </a:solidFill>
                <a:latin typeface="Verdana"/>
              </a:rPr>
              <a:t>يرق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e4005c"/>
                </a:solidFill>
                <a:latin typeface="Verdana"/>
              </a:rPr>
              <a:t>يصلح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059280" y="2349360"/>
            <a:ext cx="2017440" cy="863640"/>
          </a:xfrm>
          <a:prstGeom prst="wedgeRoundRectCallout">
            <a:avLst>
              <a:gd name="adj1" fmla="val -42842"/>
              <a:gd name="adj2" fmla="val 72976"/>
              <a:gd name="adj3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4005c"/>
                </a:solidFill>
                <a:latin typeface="Verdana"/>
              </a:rPr>
              <a:t>أوهت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4005c"/>
                </a:solidFill>
                <a:latin typeface="Verdana"/>
              </a:rPr>
              <a:t>شققت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500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9" dur="500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5:08:28Z</dcterms:created>
  <dc:creator>sada</dc:creator>
  <dc:description/>
  <dc:language>en-US</dc:language>
  <cp:lastModifiedBy>sada</cp:lastModifiedBy>
  <dcterms:modified xsi:type="dcterms:W3CDTF">2009-01-10T22:56:18Z</dcterms:modified>
  <cp:revision>6</cp:revision>
  <dc:subject/>
  <dc:title>الشريحة 1</dc:title>
</cp:coreProperties>
</file>